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58386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93440" y="744120"/>
            <a:ext cx="5210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C99F-159B-4F24-8B9C-FE7D70213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793800" y="744480"/>
            <a:ext cx="5210280" cy="37227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7323-67B0-424D-9C6E-40D3959DB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793800" y="744480"/>
            <a:ext cx="521028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3121-3FA7-4138-AF3D-54FC5AE0A3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3800" y="744480"/>
            <a:ext cx="521028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ложк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3726-D6B0-468A-8E94-827952F92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793800" y="744480"/>
            <a:ext cx="521028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5135-42B9-48A7-B816-42700CFAF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B78-5B0A-4462-B951-15A943E5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952848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480" y="4370040"/>
            <a:ext cx="952848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186-3B34-415E-8313-34C65D70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116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8480" y="43700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1160" y="43700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C75-34EB-4B85-AE3A-1A7668ED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0120" y="17636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7636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8480" y="43700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0120" y="43700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4370040"/>
            <a:ext cx="306792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345-A069-4303-8F80-1765A533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8480" y="1763640"/>
            <a:ext cx="9528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537-BB27-4F4B-9721-38D7E486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952848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A42-92FE-4831-B63B-A1A4284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464976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1160" y="1763640"/>
            <a:ext cx="464976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40C-F541-4640-8168-51E1E98C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67B-62A2-4A07-86F7-7EB093B8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8480" y="303120"/>
            <a:ext cx="9528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454-5937-411A-BBC7-15D1B0FF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1160" y="1763640"/>
            <a:ext cx="464976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8480" y="43700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C9A-4414-4D85-B3B5-3298B8F3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464976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116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1160" y="43700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BB4-2254-401C-B126-CEE325F5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848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1160" y="1763640"/>
            <a:ext cx="464976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480" y="4370040"/>
            <a:ext cx="9528480" cy="2379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782-8A22-4B64-839B-7D820F45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8480" y="303120"/>
            <a:ext cx="9528480" cy="126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8480" y="1763640"/>
            <a:ext cx="9528480" cy="4989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7000"/>
          </a:bodyPr>
          <a:p>
            <a:pPr marL="417240" indent="-4172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05400" indent="-34812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276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949400" indent="-2772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506680" indent="-2772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506680" indent="-2772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506680" indent="-2772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8480" y="7008840"/>
            <a:ext cx="2471760" cy="4017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16200" y="7008840"/>
            <a:ext cx="3353040" cy="4017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85200" y="7008840"/>
            <a:ext cx="2471760" cy="4017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979A-5155-4912-8262-7134128066DA}" type="slidenum">
              <a:rPr b="0" lang="ru-RU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infourok.ru/go.html?href=https%3A%2F%2Fru.wikipedia.org%2Fwiki%2F%25D0%259C%25D0%25B5%25D1%2581%25D1%2581%25D0%25B5%25D0%25BD%25D0%25B4%25D0%25B6%25D0%25B5%25D1%2580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2360" y="3420720"/>
            <a:ext cx="9651960" cy="237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1000"/>
          </a:bodyPr>
          <a:p>
            <a:pPr marL="391320" indent="-391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1320" indent="-391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1320" indent="-39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12ad"/>
                </a:solidFill>
                <a:latin typeface="Times New Roman"/>
                <a:ea typeface="Times New Roman"/>
              </a:rPr>
              <a:t>Презентация выполн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1320" indent="-39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12ad"/>
                </a:solidFill>
                <a:latin typeface="Times New Roman"/>
                <a:ea typeface="Times New Roman"/>
              </a:rPr>
              <a:t>учителем ис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1320" indent="-39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12ad"/>
                </a:solidFill>
                <a:latin typeface="Times New Roman"/>
                <a:ea typeface="Times New Roman"/>
              </a:rPr>
              <a:t>Филипповской И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7927200" y="640224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30200" indent="-430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12ad"/>
                </a:solidFill>
                <a:latin typeface="Calibri"/>
              </a:rPr>
              <a:t>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332000" y="1044720"/>
            <a:ext cx="834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циальных сетей при дистанционном обуч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28120" y="612360"/>
            <a:ext cx="9372600" cy="6141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6000"/>
          </a:bodyPr>
          <a:p>
            <a:pPr marL="412920" indent="-4129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лассных руководителей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родителей -проведение общих собраний обучающихся/родителей в Discord с возможностью видео/аудио/текстовой фиксации хода, содержания и результатов родительских собраний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3445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ая связь обучающихся/родителей друг с другом и с классным руководителем возможность приглашения в группу учителей-предметников/школьных психолог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3445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 информирование родителей о событиях класса (документы, фото, новости)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28480" y="612360"/>
            <a:ext cx="9539280" cy="6141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7000"/>
          </a:bodyPr>
          <a:p>
            <a:pPr marL="417240" indent="-417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дминистрации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ru-RU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я цифрового педагогического сообщества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905400" indent="-3481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педсоветов, совещаний с возможностью видео/аудио/текстовой фиксации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905400" indent="-3481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педагогами - коммуникация с определенными педагогами/группами требуемого состава для тематической работы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905400" indent="-3481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нутришкольных/межшкольных педагогических конференций, с возможностью привлечения внешних участников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905400" indent="-3481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 информирование педагогов о событиях школы (новости, приказы, документы.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672840" cy="1620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let — это бесплатный сервис, который позволяет легко запоминать любую информацию, которую можно представить в виде учебных карточе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252360" y="5005440"/>
            <a:ext cx="1933560" cy="2340000"/>
          </a:xfrm>
          <a:prstGeom prst="rect">
            <a:avLst/>
          </a:prstGeom>
          <a:ln w="0">
            <a:noFill/>
          </a:ln>
        </p:spPr>
      </p:pic>
      <p:pic>
        <p:nvPicPr>
          <p:cNvPr id="75" name="Объект 2" descr=""/>
          <p:cNvPicPr/>
          <p:nvPr/>
        </p:nvPicPr>
        <p:blipFill>
          <a:blip r:embed="rId2"/>
          <a:stretch/>
        </p:blipFill>
        <p:spPr>
          <a:xfrm>
            <a:off x="784080" y="2073240"/>
            <a:ext cx="91728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24000" y="612360"/>
            <a:ext cx="9864720" cy="6141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9000"/>
          </a:bodyPr>
          <a:p>
            <a:pPr marL="425880" indent="-42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то требуется – это найти в базе или создать интерактивный материал – собственные карточки, добавляя к ним картинки и аудиофайлы и затем выполнять упражнения и играть в игры, чтобы запомнить данный материал. Для входа в сервис необходимо зарегистрироваться или произвести вход через Google или Facebook. В Quizlet можно отправлять ученикам ссылку на модуль/курс, либо они сами могут найти их по имени преподавател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720" y="396720"/>
            <a:ext cx="9671040" cy="1656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 — это современный и частично бесплатный сервис для создания дизайнерских материалов. В Canva можно создавать баннеры для социальных сетей, делать логотипы, а также заниматься обработкой фотографий и разработкой презент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197080" y="468360"/>
            <a:ext cx="583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74b8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3200" spc="1" strike="noStrike">
              <a:ln w="0">
                <a:noFill/>
              </a:ln>
              <a:solidFill>
                <a:srgbClr val="f74b8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Объект 2" descr=""/>
          <p:cNvPicPr/>
          <p:nvPr/>
        </p:nvPicPr>
        <p:blipFill>
          <a:blip r:embed="rId1"/>
          <a:stretch/>
        </p:blipFill>
        <p:spPr>
          <a:xfrm>
            <a:off x="1320840" y="2268360"/>
            <a:ext cx="75852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523800" y="29844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076720" y="1405080"/>
            <a:ext cx="5292720" cy="5688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marL="430200" indent="-43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т - занят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 – занят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ые уроки, конференции, семинары, деловые игры, лабораторные работы, практикумы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другие формы учебных занятий, проводимых с помощью средств телекоммуникаций и других возможностей Интерн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нфер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96720" y="1836720"/>
            <a:ext cx="453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9528120" cy="1260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74b83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6520" y="1208160"/>
            <a:ext cx="9858240" cy="61452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marL="430200" indent="-430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1" lang="ru-RU" sz="9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 Д А Ч И 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Book_template.gif"/>
          <p:cNvPicPr/>
          <p:nvPr/>
        </p:nvPicPr>
        <p:blipFill>
          <a:blip r:embed="rId1"/>
          <a:stretch/>
        </p:blipFill>
        <p:spPr>
          <a:xfrm>
            <a:off x="8007480" y="5567400"/>
            <a:ext cx="2232000" cy="17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7" descr=""/>
          <p:cNvPicPr/>
          <p:nvPr/>
        </p:nvPicPr>
        <p:blipFill>
          <a:blip r:embed="rId1"/>
          <a:stretch/>
        </p:blipFill>
        <p:spPr>
          <a:xfrm>
            <a:off x="1255680" y="444600"/>
            <a:ext cx="7931160" cy="16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2268360" y="2197080"/>
            <a:ext cx="6199200" cy="4127400"/>
          </a:xfrm>
          <a:prstGeom prst="rect">
            <a:avLst/>
          </a:prstGeom>
          <a:ln w="38160">
            <a:solidFill>
              <a:srgbClr val="f74b83"/>
            </a:solidFill>
            <a:miter/>
          </a:ln>
        </p:spPr>
      </p:pic>
      <p:sp>
        <p:nvSpPr>
          <p:cNvPr id="53" name="Прямоугольник 11"/>
          <p:cNvSpPr/>
          <p:nvPr/>
        </p:nvSpPr>
        <p:spPr>
          <a:xfrm>
            <a:off x="252360" y="6607080"/>
            <a:ext cx="90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 использованием глобальной сети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28360" y="252360"/>
            <a:ext cx="9171000" cy="1728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0000"/>
          </a:bodyPr>
          <a:p>
            <a:pPr marL="387000" indent="-38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угл Классе проста – это многофункциональная онлайн-платформа, которая доступна пользователям абсолютно бесплатно. Набор инструментов предназначен как для учителей, так и учеников и позволяет работать с электронной почтой, хранилищем и докумен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252360" y="2416320"/>
            <a:ext cx="1027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2360" y="252000"/>
            <a:ext cx="9288360" cy="73090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9000"/>
          </a:bodyPr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позволяет Гугл 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но легко добавлять учени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ть в Классрум можно с несколькими курсами сраз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адания в Гугл Классрум могут сопровождаться дополнительными материалами, которые прикрепляются внутри серви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дном курсе могут сотрудничать до 20 преподавател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е задание может быть создано отдельным файлом для каждого ученика – рабочие копии останутся у каждог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 можно персонализировать и настраивать – выберите критерии оценки и категории выставления баллов, установите срок сда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но публиковать материалы для всех учащихся – или для отдельных групп уче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оянный доступ к материалам обеспечивает Гугл Ди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880" indent="-42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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авлять оценки в Классрум легко – доступны предварительные баллы, есть разные системы выставления и импорт оценок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8720" y="324000"/>
            <a:ext cx="9339120" cy="123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hoot — это бесплатная платформа для обучения в игровой форме, которая подходит для любого учебного предмета и любого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468360" y="1733400"/>
            <a:ext cx="9088560" cy="5562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9843840" cy="5616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4000" y="2628720"/>
            <a:ext cx="9372600" cy="56530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marL="430200" indent="-430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324000" y="324000"/>
            <a:ext cx="98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scord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бесплатный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мессендж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 поддержкой VoIP и видеоконференций, изначально ориентированный на пользователей компьютерны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2"/>
          <a:stretch/>
        </p:blipFill>
        <p:spPr>
          <a:xfrm>
            <a:off x="325440" y="2147760"/>
            <a:ext cx="9145440" cy="514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52000" y="612360"/>
            <a:ext cx="9815400" cy="6335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marL="430200" indent="-430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 Discord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- аудио звонки; видео звонки; чаты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файлами любых форматов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 группу стороннего пользователя с внешним адресом (экспертов, родителей, представителей других школ и тд)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становки приложения на устройство пользователя (компьютер, планшет, телефон)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28480" y="612360"/>
            <a:ext cx="9539280" cy="6141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marL="430200" indent="-43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веще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обратиться сразу ко всем пользователям в чате. Для этого следует прописать в чате @everyone. Это позволит разослать оповещения всем пользователям конкретного канала, и они наверняка увидят ваше смс в виде всплывающего сообщения в трее Wind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тдельных серверов для каждой школы и даже класса или паралл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рабочего стола своим друзьям. Ведение онлайн трансля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0200" indent="-43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популярными сервисами (такими, как Twitch, Skype, Facebook и так дале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536400" y="603360"/>
            <a:ext cx="9541080" cy="127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28120" y="612360"/>
            <a:ext cx="9372600" cy="61419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 fontScale="98000"/>
          </a:bodyPr>
          <a:p>
            <a:pPr marL="421560" indent="-421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 Disco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1560" indent="-421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ителя-предмет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/куратора проектной деятельности/куратора группы ученического самоуправления/педагога, ведущего внеурочную деятельность/ психолога/методиста -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я виртуальных «классных комнат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мету для классов, в которых преподает учител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бят, посещающих внеурочные заня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групп обучающихся, занимающихся проектной и исследовательской деятельност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даренных детей/отстающих детей/детей, занимающихся по индивидуальным программам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, осваивающих основную образовательную программу в форме самообразования или семей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76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готовки обучающихся к ГИА, конкурсам, олимпиад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6:20:13Z</dcterms:created>
  <dc:creator>Пользователь Windows</dc:creator>
  <dc:description/>
  <dc:language>en-US</dc:language>
  <cp:lastModifiedBy>Админ</cp:lastModifiedBy>
  <dcterms:modified xsi:type="dcterms:W3CDTF">2021-06-07T16:06:00Z</dcterms:modified>
  <cp:revision>426</cp:revision>
  <dc:subject/>
  <dc:title>Слайд 1</dc:title>
</cp:coreProperties>
</file>