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9CA-6F72-47FD-A0C4-BF4C5882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DAE-6B67-4041-860B-B4EC1658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091-FE65-4D4C-BBA2-A1D45D56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8E9-F861-4A44-95BF-AD57D766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407-CD0C-4189-9403-38349C63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50E3-31AC-40EA-B281-D7EF2F0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1D6A-8548-4124-B6C2-D689E07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3C4C-EBC8-4150-ABCD-1A5BD31F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2921-0CA1-4C31-BF51-5A0406C3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381D-22A5-4B3F-81E0-4F69478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E74-4C44-4364-9D2F-97DC181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F3F-A95E-462A-B861-4CBF23AA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46A-728B-4A63-830A-DE9DF00B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15CB-5298-4824-A8FD-3535AEE3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C9A-B556-4D6E-857F-4473CC47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9AA4-5DA5-4CCD-A558-93A1A468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824-7102-4670-8A6A-79CA7CF8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86D-923D-46E2-851B-CA01ED8C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6F3-507C-4035-96C6-42C2B40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48D-E2FD-45C6-A065-82E3B232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33F-7C87-4588-B253-57E06CB4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BD9-51B9-4830-AA55-E9B164A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048-8C5F-42EC-89A9-0719C1C5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F83-EE28-4AC0-86B9-6E9E5297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498-79CC-4265-A7F6-13F2E18288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0B3-CFB0-4BE7-B740-D3D4C676AE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0033"/>
                </a:solidFill>
                <a:latin typeface="Times New Roman"/>
              </a:rPr>
              <a:t>Die </a:t>
            </a: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Berufswahl der deutschen Jugendlichen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00040" y="1311120"/>
          <a:ext cx="8229600" cy="5573880"/>
        </p:xfrm>
        <a:graphic>
          <a:graphicData uri="http://schemas.openxmlformats.org/drawingml/2006/table">
            <a:tbl>
              <a:tblPr/>
              <a:tblGrid>
                <a:gridCol w="2174760"/>
                <a:gridCol w="592200"/>
                <a:gridCol w="322200"/>
                <a:gridCol w="336600"/>
                <a:gridCol w="336600"/>
                <a:gridCol w="309600"/>
                <a:gridCol w="336600"/>
                <a:gridCol w="336600"/>
                <a:gridCol w="322200"/>
                <a:gridCol w="336600"/>
                <a:gridCol w="323640"/>
                <a:gridCol w="322560"/>
                <a:gridCol w="376200"/>
                <a:gridCol w="363240"/>
                <a:gridCol w="349560"/>
                <a:gridCol w="363240"/>
                <a:gridCol w="351000"/>
                <a:gridCol w="3762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.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. Продав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. Ремеслен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. Инжене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7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5. Рабоч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.Служащ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7. Вр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WordArt 296"/>
          <p:cNvSpPr txBox="1"/>
          <p:nvPr/>
        </p:nvSpPr>
        <p:spPr>
          <a:xfrm>
            <a:off x="1295280" y="228600"/>
            <a:ext cx="58867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Und nun ein Kreuzworträtsel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297"/>
          <p:cNvSpPr txBox="1"/>
          <p:nvPr/>
        </p:nvSpPr>
        <p:spPr>
          <a:xfrm>
            <a:off x="609480" y="762120"/>
            <a:ext cx="6838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Hier sind sieben Berufe versteck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86080" y="3286080"/>
          <a:ext cx="3282840" cy="422280"/>
        </p:xfrm>
        <a:graphic>
          <a:graphicData uri="http://schemas.openxmlformats.org/drawingml/2006/table">
            <a:tbl>
              <a:tblPr/>
              <a:tblGrid>
                <a:gridCol w="322200"/>
                <a:gridCol w="336600"/>
                <a:gridCol w="336600"/>
                <a:gridCol w="309600"/>
                <a:gridCol w="336600"/>
                <a:gridCol w="336600"/>
                <a:gridCol w="322200"/>
                <a:gridCol w="336600"/>
                <a:gridCol w="323640"/>
                <a:gridCol w="322200"/>
              </a:tblGrid>
              <a:tr h="422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214960" y="2500200"/>
          <a:ext cx="2071800" cy="428760"/>
        </p:xfrm>
        <a:graphic>
          <a:graphicData uri="http://schemas.openxmlformats.org/drawingml/2006/table">
            <a:tbl>
              <a:tblPr/>
              <a:tblGrid>
                <a:gridCol w="357120"/>
                <a:gridCol w="357120"/>
                <a:gridCol w="352440"/>
                <a:gridCol w="327240"/>
                <a:gridCol w="320400"/>
                <a:gridCol w="357480"/>
              </a:tblGrid>
              <a:tr h="4287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4929120"/>
          <a:ext cx="3781440" cy="397080"/>
        </p:xfrm>
        <a:graphic>
          <a:graphicData uri="http://schemas.openxmlformats.org/drawingml/2006/table">
            <a:tbl>
              <a:tblPr/>
              <a:tblGrid>
                <a:gridCol w="336600"/>
                <a:gridCol w="336600"/>
                <a:gridCol w="322200"/>
                <a:gridCol w="336600"/>
                <a:gridCol w="323640"/>
                <a:gridCol w="322560"/>
                <a:gridCol w="376200"/>
                <a:gridCol w="363240"/>
                <a:gridCol w="349560"/>
                <a:gridCol w="363240"/>
                <a:gridCol w="3510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572080" y="2143080"/>
          <a:ext cx="336600" cy="3592440"/>
        </p:xfrm>
        <a:graphic>
          <a:graphicData uri="http://schemas.openxmlformats.org/drawingml/2006/table">
            <a:tbl>
              <a:tblPr/>
              <a:tblGrid>
                <a:gridCol w="3366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5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929040" y="2928960"/>
          <a:ext cx="336600" cy="3592440"/>
        </p:xfrm>
        <a:graphic>
          <a:graphicData uri="http://schemas.openxmlformats.org/drawingml/2006/table">
            <a:tbl>
              <a:tblPr/>
              <a:tblGrid>
                <a:gridCol w="3366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929280" y="2143080"/>
          <a:ext cx="363600" cy="1611360"/>
        </p:xfrm>
        <a:graphic>
          <a:graphicData uri="http://schemas.openxmlformats.org/drawingml/2006/table">
            <a:tbl>
              <a:tblPr/>
              <a:tblGrid>
                <a:gridCol w="3636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5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2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43880" y="2928960"/>
          <a:ext cx="363600" cy="3195720"/>
        </p:xfrm>
        <a:graphic>
          <a:graphicData uri="http://schemas.openxmlformats.org/drawingml/2006/table">
            <a:tbl>
              <a:tblPr/>
              <a:tblGrid>
                <a:gridCol w="3636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5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7"/>
          <p:cNvSpPr txBox="1"/>
          <p:nvPr/>
        </p:nvSpPr>
        <p:spPr>
          <a:xfrm>
            <a:off x="380880" y="609480"/>
            <a:ext cx="845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Macht bitte das Assoziogramm komplett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352680"/>
            <a:ext cx="16002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Beruf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 flipV="1">
            <a:off x="5429160" y="321480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4786200" y="27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429000" y="3357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786200" y="428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3929040" y="1857240"/>
            <a:ext cx="1828800" cy="838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6000840" y="2571840"/>
            <a:ext cx="175248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929040" y="4929120"/>
            <a:ext cx="18288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1857240" y="2714760"/>
            <a:ext cx="16002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5"/>
          <p:cNvSpPr/>
          <p:nvPr/>
        </p:nvSpPr>
        <p:spPr>
          <a:xfrm>
            <a:off x="1785960" y="4429080"/>
            <a:ext cx="175248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6"/>
          <p:cNvSpPr/>
          <p:nvPr/>
        </p:nvSpPr>
        <p:spPr>
          <a:xfrm>
            <a:off x="6072120" y="4357800"/>
            <a:ext cx="167652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 flipH="1">
            <a:off x="3357360" y="407196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5500800" y="400068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3929040" y="1857240"/>
            <a:ext cx="1828800" cy="838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auspi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>
            <a:off x="1857240" y="2714760"/>
            <a:ext cx="16002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w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5"/>
          <p:cNvSpPr/>
          <p:nvPr/>
        </p:nvSpPr>
        <p:spPr>
          <a:xfrm>
            <a:off x="1571760" y="4429080"/>
            <a:ext cx="207144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irkuskuns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3929040" y="4929120"/>
            <a:ext cx="18288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Flor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6072120" y="4357800"/>
            <a:ext cx="167652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u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5786280" y="2571840"/>
            <a:ext cx="257184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eb – Programmie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55680" y="1084320"/>
            <a:ext cx="8431200" cy="53164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1547640" y="298440"/>
            <a:ext cx="5486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Können wir das schreiben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755640" y="1628640"/>
            <a:ext cx="705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Ist das Thema für dich aktu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cht beso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Regt das Thema zur Motivation 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motiviert zum Lern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motiviert zur Selbstvervollkommnu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motiviert n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Was fiel dir  sch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n Aufsatz schrei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am Gespräch teilzu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Bist du  mit deiner Arbeit in der Stunde zufr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cht beso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Заголовок 3" descr=""/>
          <p:cNvPicPr/>
          <p:nvPr/>
        </p:nvPicPr>
        <p:blipFill>
          <a:blip r:embed="rId1"/>
          <a:stretch/>
        </p:blipFill>
        <p:spPr>
          <a:xfrm>
            <a:off x="914400" y="281160"/>
            <a:ext cx="77724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rcRect l="34343" t="17010" r="37602" b="31941"/>
          <a:stretch/>
        </p:blipFill>
        <p:spPr>
          <a:xfrm>
            <a:off x="380880" y="25146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rcRect l="32609" t="0" r="32609" b="28577"/>
          <a:stretch/>
        </p:blipFill>
        <p:spPr>
          <a:xfrm>
            <a:off x="380880" y="4114800"/>
            <a:ext cx="2210040" cy="2514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2971800" y="12193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не было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841480" y="3124080"/>
            <a:ext cx="51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971800" y="3200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Мне было не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666880" y="52578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Я остался равнодуш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rcRect l="32689" t="0" r="44216" b="21861"/>
          <a:stretch/>
        </p:blipFill>
        <p:spPr>
          <a:xfrm>
            <a:off x="685800" y="-380880"/>
            <a:ext cx="1447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s gibt viele verschiedene Berufe auf der Erde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7"/>
          <p:cNvSpPr/>
          <p:nvPr/>
        </p:nvSpPr>
        <p:spPr>
          <a:xfrm>
            <a:off x="3419640" y="1989000"/>
            <a:ext cx="2232000" cy="100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ru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5651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1"/>
          <p:cNvSpPr/>
          <p:nvPr/>
        </p:nvSpPr>
        <p:spPr>
          <a:xfrm flipH="1">
            <a:off x="262692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2"/>
          <p:cNvSpPr/>
          <p:nvPr/>
        </p:nvSpPr>
        <p:spPr>
          <a:xfrm>
            <a:off x="5508720" y="270828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3"/>
          <p:cNvSpPr/>
          <p:nvPr/>
        </p:nvSpPr>
        <p:spPr>
          <a:xfrm flipH="1">
            <a:off x="2556000" y="285264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6813360" y="20797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hr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8"/>
          <p:cNvSpPr/>
          <p:nvPr/>
        </p:nvSpPr>
        <p:spPr>
          <a:xfrm>
            <a:off x="6711840" y="337500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eativ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9"/>
          <p:cNvSpPr/>
          <p:nvPr/>
        </p:nvSpPr>
        <p:spPr>
          <a:xfrm>
            <a:off x="431640" y="3448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chbezahlte Beru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249120" y="225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u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5148360" y="2924280"/>
            <a:ext cx="1584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 flipH="1">
            <a:off x="2627280" y="2924280"/>
            <a:ext cx="1440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6170760" y="50324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ährlich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959760" y="4959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är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4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Neue Berufe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8400" y="1482840"/>
            <a:ext cx="40719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eb – Programmie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ultimedia- Elektroni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rketingl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ogist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odelleur ( Stilis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148360" y="747720"/>
            <a:ext cx="287280" cy="571320"/>
          </a:xfrm>
          <a:prstGeom prst="downArrow">
            <a:avLst>
              <a:gd name="adj1" fmla="val 50000"/>
              <a:gd name="adj2" fmla="val 563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https://images.wisegeek.com/man-working-at-desk.jpg"/>
          <p:cNvPicPr/>
          <p:nvPr/>
        </p:nvPicPr>
        <p:blipFill>
          <a:blip r:embed="rId1"/>
          <a:stretch/>
        </p:blipFill>
        <p:spPr>
          <a:xfrm>
            <a:off x="755640" y="1405080"/>
            <a:ext cx="2016000" cy="1603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https://reconomica.ru/wp-content/uploads/2018/11/home-img2.jpg"/>
          <p:cNvPicPr/>
          <p:nvPr/>
        </p:nvPicPr>
        <p:blipFill>
          <a:blip r:embed="rId2"/>
          <a:stretch/>
        </p:blipFill>
        <p:spPr>
          <a:xfrm>
            <a:off x="388800" y="4317840"/>
            <a:ext cx="3494160" cy="233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http://static.hdw.eweb4.com/media/wallpapers_1920x1080/celebrities/1/2/mandy-capristo-celebrity-hd-wallpaper-1920x1080-17470.jpg"/>
          <p:cNvPicPr/>
          <p:nvPr/>
        </p:nvPicPr>
        <p:blipFill>
          <a:blip r:embed="rId3"/>
          <a:stretch/>
        </p:blipFill>
        <p:spPr>
          <a:xfrm>
            <a:off x="4788000" y="4317840"/>
            <a:ext cx="3900240" cy="2194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28560" y="2775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Kreative Berufe 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rifts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uspi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rkuskuns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li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Рисунок8"/>
          <p:cNvPicPr/>
          <p:nvPr/>
        </p:nvPicPr>
        <p:blipFill>
          <a:blip r:embed="rId1"/>
          <a:stretch/>
        </p:blipFill>
        <p:spPr>
          <a:xfrm>
            <a:off x="6877080" y="1557360"/>
            <a:ext cx="182232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Рисунок9"/>
          <p:cNvPicPr/>
          <p:nvPr/>
        </p:nvPicPr>
        <p:blipFill>
          <a:blip r:embed="rId2"/>
          <a:stretch/>
        </p:blipFill>
        <p:spPr>
          <a:xfrm>
            <a:off x="4356000" y="5157720"/>
            <a:ext cx="200196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Рисунок10"/>
          <p:cNvPicPr/>
          <p:nvPr/>
        </p:nvPicPr>
        <p:blipFill>
          <a:blip r:embed="rId3"/>
          <a:stretch/>
        </p:blipFill>
        <p:spPr>
          <a:xfrm>
            <a:off x="6732720" y="5157720"/>
            <a:ext cx="2014560" cy="143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Картинка 24 из 23727"/>
          <p:cNvPicPr/>
          <p:nvPr/>
        </p:nvPicPr>
        <p:blipFill>
          <a:blip r:embed="rId4"/>
          <a:stretch/>
        </p:blipFill>
        <p:spPr>
          <a:xfrm>
            <a:off x="4572000" y="1628640"/>
            <a:ext cx="1763640" cy="26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71760" y="27756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Gefährliche Berufe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40160" y="1918800"/>
            <a:ext cx="314784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uerweh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ä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mon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95640" y="126828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Рисунок11"/>
          <p:cNvPicPr/>
          <p:nvPr/>
        </p:nvPicPr>
        <p:blipFill>
          <a:blip r:embed="rId1"/>
          <a:stretch/>
        </p:blipFill>
        <p:spPr>
          <a:xfrm>
            <a:off x="6516720" y="4581360"/>
            <a:ext cx="1755720" cy="187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Рисунок12"/>
          <p:cNvPicPr/>
          <p:nvPr/>
        </p:nvPicPr>
        <p:blipFill>
          <a:blip r:embed="rId2"/>
          <a:stretch/>
        </p:blipFill>
        <p:spPr>
          <a:xfrm>
            <a:off x="826920" y="1700280"/>
            <a:ext cx="2581560" cy="164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Рисунок13"/>
          <p:cNvPicPr/>
          <p:nvPr/>
        </p:nvPicPr>
        <p:blipFill>
          <a:blip r:embed="rId3"/>
          <a:stretch/>
        </p:blipFill>
        <p:spPr>
          <a:xfrm>
            <a:off x="1116000" y="4437000"/>
            <a:ext cx="2158920" cy="18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Рисунок14"/>
          <p:cNvPicPr/>
          <p:nvPr/>
        </p:nvPicPr>
        <p:blipFill>
          <a:blip r:embed="rId4"/>
          <a:stretch/>
        </p:blipFill>
        <p:spPr>
          <a:xfrm>
            <a:off x="6516720" y="2060640"/>
            <a:ext cx="201924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28560" y="2775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Hochbezahlte Berufe 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68000" y="1628640"/>
            <a:ext cx="6347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hha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uspi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Картинка 1 из 48297"/>
          <p:cNvPicPr/>
          <p:nvPr/>
        </p:nvPicPr>
        <p:blipFill>
          <a:blip r:embed="rId1"/>
          <a:stretch/>
        </p:blipFill>
        <p:spPr>
          <a:xfrm>
            <a:off x="6156360" y="1484280"/>
            <a:ext cx="2797200" cy="185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http://www.volksbank-trier.de/content/home/juk_bankkaufmann_2.png"/>
          <p:cNvPicPr/>
          <p:nvPr/>
        </p:nvPicPr>
        <p:blipFill>
          <a:blip r:embed="rId2"/>
          <a:stretch/>
        </p:blipFill>
        <p:spPr>
          <a:xfrm>
            <a:off x="759636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http://a1.twimg.com/profile_images/458207084/Geld_bigger.jpg"/>
          <p:cNvPicPr/>
          <p:nvPr/>
        </p:nvPicPr>
        <p:blipFill>
          <a:blip r:embed="rId3"/>
          <a:stretch/>
        </p:blipFill>
        <p:spPr>
          <a:xfrm>
            <a:off x="7812000" y="4508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http://www.vb-ruhrmitte.de/wir_fuer_sie/test/bankkaufmann_-frau.-TextPageHeader-Single-Image.TextPageHeader.jpg"/>
          <p:cNvPicPr/>
          <p:nvPr/>
        </p:nvPicPr>
        <p:blipFill>
          <a:blip r:embed="rId4"/>
          <a:stretch/>
        </p:blipFill>
        <p:spPr>
          <a:xfrm>
            <a:off x="5580000" y="3500280"/>
            <a:ext cx="2592360" cy="214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Картинка 6 из 23702"/>
          <p:cNvPicPr/>
          <p:nvPr/>
        </p:nvPicPr>
        <p:blipFill>
          <a:blip r:embed="rId5"/>
          <a:stretch/>
        </p:blipFill>
        <p:spPr>
          <a:xfrm>
            <a:off x="539640" y="1557360"/>
            <a:ext cx="1409760" cy="234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Картинка 177 из 853"/>
          <p:cNvPicPr/>
          <p:nvPr/>
        </p:nvPicPr>
        <p:blipFill>
          <a:blip r:embed="rId6"/>
          <a:stretch/>
        </p:blipFill>
        <p:spPr>
          <a:xfrm>
            <a:off x="250920" y="5157720"/>
            <a:ext cx="2881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Lehrberufe 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ulle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chschulle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ergartn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ulpsychol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kursionsl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the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Рисунок16"/>
          <p:cNvPicPr/>
          <p:nvPr/>
        </p:nvPicPr>
        <p:blipFill>
          <a:blip r:embed="rId1"/>
          <a:stretch/>
        </p:blipFill>
        <p:spPr>
          <a:xfrm>
            <a:off x="5651640" y="4508640"/>
            <a:ext cx="2736720" cy="2044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Рисунок17"/>
          <p:cNvPicPr/>
          <p:nvPr/>
        </p:nvPicPr>
        <p:blipFill>
          <a:blip r:embed="rId2"/>
          <a:stretch/>
        </p:blipFill>
        <p:spPr>
          <a:xfrm>
            <a:off x="5580000" y="1700280"/>
            <a:ext cx="2563920" cy="1868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«DER MENSCH WÄHLT DEN BERUF, NICHT BERUF DEN MENSCHEN»</a:t>
            </a:r>
            <a:br>
              <a:rPr sz="4000"/>
            </a:b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SOKRAT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7650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профессия выбирает человека,  а человек професс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330033"/>
                </a:solidFill>
                <a:latin typeface="Times New Roman"/>
              </a:rPr>
              <a:t>Welche Berufswünsche haben deutsche Jugendliche?</a:t>
            </a:r>
            <a:br>
              <a:rPr sz="2900"/>
            </a:br>
            <a:r>
              <a:rPr b="0" lang="ru-RU" sz="2900" spc="-1" strike="noStrike">
                <a:solidFill>
                  <a:srgbClr val="330033"/>
                </a:solidFill>
                <a:latin typeface="Arial"/>
              </a:rPr>
              <a:t>                   </a:t>
            </a:r>
            <a:r>
              <a:rPr b="0" lang="de-DE" sz="2900" spc="-1" strike="noStrike">
                <a:solidFill>
                  <a:srgbClr val="330033"/>
                </a:solidFill>
                <a:latin typeface="Times New Roman"/>
              </a:rPr>
              <a:t>Hier ein wenig Statistik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Picture 11" descr="Рисунок5"/>
          <p:cNvPicPr/>
          <p:nvPr/>
        </p:nvPicPr>
        <p:blipFill>
          <a:blip r:embed="rId1"/>
          <a:stretch/>
        </p:blipFill>
        <p:spPr>
          <a:xfrm>
            <a:off x="684360" y="1628640"/>
            <a:ext cx="8208720" cy="4959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8:42:57Z</dcterms:created>
  <dc:creator>TRASH</dc:creator>
  <dc:description/>
  <dc:language>en-US</dc:language>
  <cp:lastModifiedBy>1</cp:lastModifiedBy>
  <dcterms:modified xsi:type="dcterms:W3CDTF">2020-03-03T07:40:21Z</dcterms:modified>
  <cp:revision>38</cp:revision>
  <dc:subject/>
  <dc:title>Berufswahl</dc:title>
</cp:coreProperties>
</file>