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454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546a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454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A5F8-E4B6-47D1-8B5D-ADC0CB44ED44}" type="slidenum">
              <a:rPr b="1" lang="ru-RU" sz="1200" spc="-1" strike="noStrike">
                <a:solidFill>
                  <a:srgbClr val="44546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3E18-D36F-4458-98F8-DAD649FCDB84}" type="slidenum">
              <a:rPr b="1" lang="ru-RU" sz="1200" spc="-1" strike="noStrike">
                <a:solidFill>
                  <a:srgbClr val="44546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4617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6784-AE9D-443B-AB5C-897E0F5DA7D6}" type="slidenum">
              <a:rPr b="1" lang="ru-RU" sz="1200" spc="-1" strike="noStrike">
                <a:solidFill>
                  <a:srgbClr val="44546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4617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EF9-8B18-4780-BFF4-EA5D8C16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653-F9D2-456E-9CF2-B0C3F79E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B60-FF76-41EE-898A-9A3A729D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17A-0306-4BFD-B8CB-4F6D41B4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C55D-DAC7-4338-917D-B77A46DE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6D7C-A821-44C1-B448-3BB12C70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022F-7EA0-4664-BF53-EA7E972F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D23F-5BEA-4093-A760-4FF24B75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C50F-154B-4BCA-829B-16C35A37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997A-DDD7-4BE7-AA94-B9BD9F3E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ED72-C2AE-4F54-94E3-660C8E3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A98-168F-49E0-9866-6636C189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8A72-79A6-4C6A-9690-6C9BF013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6043-5CAA-422D-921A-C457864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6932-9BA3-4618-9D42-CAB2D0B0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86B7-3BF3-4225-95DC-351B0DEB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5297-625C-4EBE-96E0-FD35A511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EC3F-3735-4306-9FE1-2068934D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8D4A-C928-45EC-9CFD-24D746DF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33F6-7DD5-4178-94B8-4A07FE5E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470E-961C-4942-B0D6-48C4E178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EDF6-E0E2-45D1-BA49-EC11D397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D5F-4619-4F8F-9027-09B06FE8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F1E1-2C2B-4B98-BFA5-03786408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65F3-9BF0-457C-9496-A1745B84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A2EA6-0361-4073-9664-87A5174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D52A-66E8-4B82-9FEC-54070925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E1F6-81A2-4603-91A2-12275FF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C81D-F089-4105-8201-B7EAB04D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D727-DBB9-43D2-8BD0-8A45A959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A099-44DC-4C5F-907C-F0BF9883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8E00-D87E-4FBC-BDE1-BF1DB61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18F2-3036-4C61-B160-E2CAD010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97E-6692-43E6-9819-EBE51EE3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FD720-E490-46DA-9E00-36105D6A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A1B21-8B81-4909-93F5-13CE3B96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864A-2ACF-4A1E-A6A7-90D6F8B1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9D4A-766A-4496-8C78-CB14D52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2811-A1A0-47D9-97FB-E64EED3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5ACE-E5EE-4BA8-9838-366EF132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C36D-1A66-4516-A474-59913D54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29300-CC89-4115-9311-30DA4A02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6560-D57E-4F1E-8DA4-972FA2B1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D94-F9B3-4A52-B18F-F2211DE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717-6363-4A6D-BB13-23DB1DD8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7AF-9D13-4104-85D2-A7BD75A9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C76-7361-4696-B4BF-AC25FE2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372-D28A-4F76-9A4C-1D5F0E1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3003-1318-4BF4-9FC4-37A403B7A15E}" type="slidenum">
              <a:rPr b="1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9642-13C8-4E82-B7A7-31CF54BEBFB5}" type="slidenum">
              <a:rPr b="1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17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B696-6524-4FCC-AFB2-96094FD806D9}" type="slidenum">
              <a:rPr b="1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274F-0F1F-4E36-9158-439406F6AEF3}" type="slidenum">
              <a:rPr b="1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ccounts.google.com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forms.google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640" y="404280"/>
            <a:ext cx="87850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600"/>
            </a:br>
            <a:r>
              <a:rPr b="0" lang="ru-RU" sz="1600" spc="-1" strike="noStrike">
                <a:solidFill>
                  <a:srgbClr val="08b7bf"/>
                </a:solidFill>
                <a:latin typeface="Calibri"/>
              </a:rPr>
              <a:t> </a:t>
            </a:r>
            <a:br>
              <a:rPr sz="1600"/>
            </a:br>
            <a:br>
              <a:rPr sz="1800"/>
            </a:br>
            <a:r>
              <a:rPr b="0" lang="ru-RU" sz="4500" spc="-1" strike="noStrike">
                <a:solidFill>
                  <a:srgbClr val="08b7bf"/>
                </a:solidFill>
                <a:latin typeface="Calibri"/>
              </a:rPr>
              <a:t> 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640" y="2276640"/>
            <a:ext cx="835344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Создание онлайн-опросов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с  использованием Google Форм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5003640" cy="4508640"/>
          </a:xfrm>
          <a:prstGeom prst="rect">
            <a:avLst/>
          </a:prstGeom>
          <a:ln w="0">
            <a:noFill/>
          </a:ln>
        </p:spPr>
      </p:pic>
      <p:pic>
        <p:nvPicPr>
          <p:cNvPr id="227" name="Объект 2" descr=""/>
          <p:cNvPicPr/>
          <p:nvPr/>
        </p:nvPicPr>
        <p:blipFill>
          <a:blip r:embed="rId2"/>
          <a:stretch/>
        </p:blipFill>
        <p:spPr>
          <a:xfrm>
            <a:off x="0" y="0"/>
            <a:ext cx="6659640" cy="4508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Объект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Объект 4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518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5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39280" y="1197000"/>
            <a:ext cx="799164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 помощью Google Форм можно создавать онлайн-опросы и тесты, а также отправлять их другим пользователя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бы создать гугл-форму, необходимо авторизоваться в аккаунте Google. Если такого нет, его можно создать по ссылке 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accounts.google.com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рейти к созданию гугл-форм можно несколькими способам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240" y="-199440"/>
            <a:ext cx="2142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c4043"/>
                </a:solidFill>
                <a:latin typeface="Roboto"/>
              </a:rPr>
              <a:t>.</a:t>
            </a:r>
            <a:endParaRPr b="1" lang="en-US" sz="1000" spc="-1" strike="noStrike">
              <a:solidFill>
                <a:srgbClr val="04617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4617b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5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5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134136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аг 1. Создайте опрос или тес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Перейдите на страницу </a:t>
            </a:r>
            <a:r>
              <a:rPr b="0" lang="en-US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forms.google.co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Выберите пустой фай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Откроется новая форм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аг 2. Отредактируйте и отформатируйте опрос или тес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аг 3. Отправьте форму для заполн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Объект 4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Объект 1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903600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1844640"/>
            <a:ext cx="44640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Объект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4:52:54Z</dcterms:created>
  <dc:creator>USER</dc:creator>
  <dc:description/>
  <dc:language>en-US</dc:language>
  <cp:lastModifiedBy>ЭВМ</cp:lastModifiedBy>
  <cp:lastPrinted>2014-03-27T17:29:14Z</cp:lastPrinted>
  <dcterms:modified xsi:type="dcterms:W3CDTF">2021-06-07T17:20:28Z</dcterms:modified>
  <cp:revision>219</cp:revision>
  <dc:subject/>
  <dc:title>Применение здоровьесберегающих технологий в работе с детьми в средней группе</dc:title>
</cp:coreProperties>
</file>