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454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454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7E7-98EF-4D9A-BCA9-6913ADA92C11}" type="slidenum"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453D-F13B-4D50-90E9-E0428AC95144}" type="slidenum"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4617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250-2E94-4B8D-8331-D6CA814E41E9}" type="slidenum"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4617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938-5F58-49D4-9A25-F9C3DEA3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F1B-C8AE-4257-A048-41DD5736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5F4-AE68-4BE5-B379-3D12F97D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C9B-A2D7-4B34-9130-7D4A6600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442D-EA07-4CA3-A99A-A8E39191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0B08-91AB-4C8D-8597-292F1C5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33EC-77B3-48A9-8EA4-4CB6928B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794-6D33-44D4-B5D9-2B905746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4EA6-4122-4986-AA58-4DD2371C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24B4-790E-4FF6-ADA7-D8D42E5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3A7-46CB-4CCD-A896-977DBC1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0BD-E932-4400-B3BB-C63570F0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5AF7-5445-46A3-BD8D-9E92AFC9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961-ECC0-43F1-AABC-F99CA92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1E7-2CE8-435B-95E8-11990FF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3666-41D9-403A-BA7E-A923A237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5D5-AA52-4131-B5E7-C747DEF9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13B8-00CA-44C9-91B6-3B454253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4A9A-141F-4B82-A440-C48C65CD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B092-33DD-4E08-A634-3B3D57A6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06FB-A541-463D-8907-17729E64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C06D-4487-4D6B-BF1D-18343F04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F8E-9A32-4C3A-90D5-B23D9D02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7694-12F4-4B90-89E8-6502CBB3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32AA-5518-48F0-9186-D1BE93E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4E31-8E90-475E-8B34-08B4F25C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AA38-0337-4EFD-BEA1-F7F74DF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9600-74AF-48EC-A9C7-8F1CF47F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07B1-7EB7-450B-9EF0-C0B1839D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013E-7B7D-4B8B-9864-61228F5C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DC00C-5AC4-453C-856E-2CC35CF2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E81A-0570-4543-BFE9-67F069EB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0F43-7BEB-4EA0-BFCF-78B4F13E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116-286F-4A2C-BC03-7D8FCEAA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8D87-C5F1-48E3-B68A-4EEB0991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A12D-B3A4-4131-93BE-3EC7120A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9996-B949-4391-B359-5DCDCD23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77AF-3A84-414E-81B6-BB6700E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B888-03A3-4B3E-A4BB-5874009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C9E4-356C-43F5-8657-7DC11AE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2C87-AE5E-4680-9483-7B80E12E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AB83-FF6F-419D-B945-5CDEB296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EECF-6602-4D74-9CE7-CB716C96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278-D10D-435A-A091-71420B68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5F9-B170-4D39-AF93-8436C48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F02-480B-4B97-B602-FCB544E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C9C-6EF6-4993-BDFC-B080C39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707-A563-40FF-B347-BD6E5469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17BA-5346-4B69-8837-8F7266580F91}" type="slidenum">
              <a:rPr b="1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ED95-DFAF-4D54-BB40-8C647C815F92}" type="slidenum">
              <a:rPr b="1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8EBA-47C0-4ACD-92CB-C4063EBC8936}" type="slidenum">
              <a:rPr b="1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811-1990-439D-861F-4FE45A29A3B0}" type="slidenum">
              <a:rPr b="1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ccounts.google.com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forms.google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640" y="40428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600"/>
            </a:br>
            <a:r>
              <a:rPr b="0" lang="ru-RU" sz="1600" spc="-1" strike="noStrike">
                <a:solidFill>
                  <a:srgbClr val="08b7bf"/>
                </a:solidFill>
                <a:latin typeface="Calibri"/>
              </a:rPr>
              <a:t> </a:t>
            </a:r>
            <a:br>
              <a:rPr sz="1600"/>
            </a:br>
            <a:br>
              <a:rPr sz="1800"/>
            </a:br>
            <a:r>
              <a:rPr b="0" lang="ru-RU" sz="4500" spc="-1" strike="noStrike">
                <a:solidFill>
                  <a:srgbClr val="08b7bf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2276640"/>
            <a:ext cx="835344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оздание онлайн-опросов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  использованием Google Форм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5003640" cy="450864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2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51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5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280" y="1197000"/>
            <a:ext cx="799164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 помощью Google Форм можно создавать онлайн-опросы и тесты, а также отправлять их другим пользователя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бы создать гугл-форму, необходимо авторизоваться в аккаунте Google. Если такого нет, его можно создать по ссылке 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accounts.google.com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рейти к созданию гугл-форм можно несколькими способа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40" y="-199440"/>
            <a:ext cx="2142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c4043"/>
                </a:solidFill>
                <a:latin typeface="Roboto"/>
              </a:rPr>
              <a:t>.</a:t>
            </a:r>
            <a:endParaRPr b="1" lang="en-US" sz="1000" spc="-1" strike="noStrike">
              <a:solidFill>
                <a:srgbClr val="04617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4617b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34136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г 1. Создайте опрос или тес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Перейдите на страницу </a:t>
            </a:r>
            <a:r>
              <a:rPr b="0" lang="en-US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forms.google.c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Выберите пустой фай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Откроется новая фор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г 2. Отредактируйте и отформатируйте опрос или тес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г 3. Отправьте форму для заполн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1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903600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844640"/>
            <a:ext cx="44640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Объект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4:52:54Z</dcterms:created>
  <dc:creator>USER</dc:creator>
  <dc:description/>
  <dc:language>en-US</dc:language>
  <cp:lastModifiedBy>ЭВМ</cp:lastModifiedBy>
  <cp:lastPrinted>2014-03-27T17:29:14Z</cp:lastPrinted>
  <dcterms:modified xsi:type="dcterms:W3CDTF">2021-06-07T17:20:28Z</dcterms:modified>
  <cp:revision>219</cp:revision>
  <dc:subject/>
  <dc:title>Применение здоровьесберегающих технологий в работе с детьми в средней группе</dc:title>
</cp:coreProperties>
</file>