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D39-6AC1-4CB9-BA66-0F9247D6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BBB-AE95-4E57-ABBA-DC4B52F2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BED-2B97-4796-AD0A-98AFB806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F17-B968-459F-AB54-C973909B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D02-2CF7-4603-B2B6-39161281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E92-7729-4697-8E0C-7292AA83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662-9043-4131-B896-E2DA97C8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A2A-2CC0-401C-9214-F4CD6EC5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F1F-D25D-4FC9-89E5-02143AE7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E53-A4A4-40B9-B439-52DC630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253-A96E-4031-B017-FC49CB1D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2CD-8AAF-442B-B9EF-B80935AD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27DB-8D38-4232-B9C6-7EC9697F7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48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.Н.Мамин-Сибиря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214360"/>
            <a:ext cx="48578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« Сказка про храброго Зайца- Длинные Уши, Косые Глаза, Короткий Хвост»</a:t>
            </a:r>
            <a:r>
              <a:rPr b="0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09360" y="1413720"/>
            <a:ext cx="7834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) Понравилась ли вам сказка? Че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) Каким изображён заяц вначале сказ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) Прочитать выразительно, как хваст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я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) Почему же смеялись над ним  молод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 старые зайц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1294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900000" y="2276640"/>
          <a:ext cx="3241800" cy="3174840"/>
        </p:xfrm>
        <a:graphic>
          <a:graphicData uri="http://schemas.openxmlformats.org/drawingml/2006/table">
            <a:tbl>
              <a:tblPr/>
              <a:tblGrid>
                <a:gridCol w="324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«Душа в пятки убежала»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«Язык у хвастуна точно примёрз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«Задал такого стрекоч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16360" y="2349360"/>
          <a:ext cx="3816360" cy="314028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он не мог говорить от стра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очень быстро бежал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во весь 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он очень сильно испуг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140360" y="2708280"/>
            <a:ext cx="57600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67280" y="2924280"/>
            <a:ext cx="649080" cy="10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140360" y="3789360"/>
            <a:ext cx="64908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25440" y="975960"/>
            <a:ext cx="396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икнул на весь ле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храбри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зобрался на пенё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селся на задние лап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видел вол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дпрыгнул кверх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пал со страх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верну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л стрекоч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жал; выле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бился из си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ртво свали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тряхну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2400480" cy="4257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89840" y="580392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чал верить, что никого не бо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61080" y="1122480"/>
            <a:ext cx="2768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оди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голода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дум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лыш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танови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нюхал возду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3743280" cy="278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3933720"/>
            <a:ext cx="456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чал подкрадыв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лизко подошё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чал выгляд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жал в другую сторо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му показалось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0920" y="3489120"/>
            <a:ext cx="7373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Это значит, что заяц всего бои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аже листочка с дерева,когда он шевелится.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8000" y="1494000"/>
            <a:ext cx="66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обегает, поймает добычу - будет сы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1480" y="2276640"/>
            <a:ext cx="44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«Волка ноги кормя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86900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«Заяц от ли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 лягушка от зайца бежит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19280" y="2349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780360" y="12430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79640" y="2492280"/>
            <a:ext cx="5472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95640" y="573408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4941720"/>
            <a:ext cx="792360" cy="79236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414972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3357720"/>
            <a:ext cx="79200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335772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3357720"/>
            <a:ext cx="79200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335772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2565360"/>
            <a:ext cx="792360" cy="79236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177336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981000"/>
            <a:ext cx="792360" cy="79236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43892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_________ни корми, он всё в лес смот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9600" y="306756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 до Киева довед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3080" y="4496040"/>
            <a:ext cx="714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двумя ___________погонишься, ни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йма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440" y="13413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7800" y="299736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2160" y="43657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й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1268280"/>
            <a:ext cx="3529080" cy="1943280"/>
          </a:xfrm>
          <a:prstGeom prst="ellipse">
            <a:avLst/>
          </a:prstGeom>
          <a:solidFill>
            <a:srgbClr val="10e0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К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716280"/>
            <a:ext cx="2808360" cy="1511280"/>
          </a:xfrm>
          <a:prstGeom prst="ellipse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Литерату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(автор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3716280"/>
            <a:ext cx="2808360" cy="1511280"/>
          </a:xfrm>
          <a:prstGeom prst="ellipse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На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484360" y="3141720"/>
            <a:ext cx="1224000" cy="576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3141720"/>
            <a:ext cx="115092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282840" cy="431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258920" y="1381680"/>
            <a:ext cx="360036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Наркис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мин - Сибиря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185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одском посёл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из Нижнего Таг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казы и ска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ателя связ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его роман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вестями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нозаводс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232000" cy="28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040120" cy="3147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133080" y="1123200"/>
            <a:ext cx="52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ую широкую извес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ли «Алёнушкины сказки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едё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многие языки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4560" y="4506840"/>
            <a:ext cx="49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и сказки писатель сочиня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больной дочери, котор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 растил и воспитывал од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1973160" cy="2951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492360" y="1125360"/>
            <a:ext cx="2190960" cy="289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084720" y="1125360"/>
            <a:ext cx="2044800" cy="2951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32000" y="4221000"/>
            <a:ext cx="69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гда они вышли отдельной книгой, автор признал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«Это моя любимая книжка - её писала сама любовь, и потому она переживёт всё остально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10520" y="1773360"/>
            <a:ext cx="536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« Сказ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 храброго Зайц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Длинные Уш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Косые Глаз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Короткий Хвос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400" y="835920"/>
            <a:ext cx="68605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ы немножко отдох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нем, глубоко вздох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и в стороны,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опушке зайк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йка прыгал под ку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глашая  нас  в сво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и вниз, на пояс, ввер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бегаем мы от всех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бежим скорее в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м послушаем расс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User</cp:lastModifiedBy>
  <dcterms:modified xsi:type="dcterms:W3CDTF">2013-03-14T18:43:06Z</dcterms:modified>
  <cp:revision>13</cp:revision>
  <dc:subject/>
  <dc:title>Слайд 1</dc:title>
</cp:coreProperties>
</file>