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18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33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.jpeg" ContentType="image/jpeg"/>
  <Override PartName="/ppt/media/image27.gif" ContentType="image/gif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502-61D5-4458-9D73-FA0DB3261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C0B-078F-4EA1-9B57-E8B6BC429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загад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ED15-8F94-40E6-9579-706264665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агаем раскрасить картинку и выделить суффиксы в четверостишии на ли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AA5-2618-489C-A292-389D14E7D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загад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ema shkoli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476360" y="1341360"/>
            <a:ext cx="633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Picture 6" descr="nezn1"/>
          <p:cNvPicPr/>
          <p:nvPr/>
        </p:nvPicPr>
        <p:blipFill>
          <a:blip r:embed="rId3"/>
          <a:stretch/>
        </p:blipFill>
        <p:spPr>
          <a:xfrm>
            <a:off x="3203640" y="2276640"/>
            <a:ext cx="2744640" cy="3898800"/>
          </a:xfrm>
          <a:prstGeom prst="rect">
            <a:avLst/>
          </a:prstGeom>
          <a:ln w="0">
            <a:noFill/>
          </a:ln>
        </p:spPr>
      </p:pic>
      <p:pic>
        <p:nvPicPr>
          <p:cNvPr id="49" name="uchitsja_nado_veselo.MP3" descr=""/>
          <p:cNvPicPr/>
          <p:nvPr/>
        </p:nvPicPr>
        <p:blipFill>
          <a:blip r:embed="rId4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/>
          <p:cNvSpPr/>
          <p:nvPr/>
        </p:nvSpPr>
        <p:spPr>
          <a:xfrm>
            <a:off x="1042920" y="1413000"/>
            <a:ext cx="338472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ятки гладки привя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г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971640" y="4149720"/>
            <a:ext cx="3384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енькие гор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елёной н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4834440" y="620640"/>
            <a:ext cx="2716920" cy="2447640"/>
            <a:chOff x="4834440" y="620640"/>
            <a:chExt cx="2716920" cy="2447640"/>
          </a:xfrm>
        </p:grpSpPr>
        <p:pic>
          <p:nvPicPr>
            <p:cNvPr id="193" name="Picture 6" descr="73e2bcc4c513"/>
            <p:cNvPicPr/>
            <p:nvPr/>
          </p:nvPicPr>
          <p:blipFill>
            <a:blip r:embed="rId1"/>
            <a:stretch/>
          </p:blipFill>
          <p:spPr>
            <a:xfrm>
              <a:off x="5667840" y="620640"/>
              <a:ext cx="10458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7" descr="73e2bcc4c513"/>
            <p:cNvPicPr/>
            <p:nvPr/>
          </p:nvPicPr>
          <p:blipFill>
            <a:blip r:embed="rId2"/>
            <a:stretch/>
          </p:blipFill>
          <p:spPr>
            <a:xfrm rot="17442000">
              <a:off x="5685120" y="758880"/>
              <a:ext cx="1015560" cy="25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9" descr="fd92c60bec4a"/>
          <p:cNvPicPr/>
          <p:nvPr/>
        </p:nvPicPr>
        <p:blipFill>
          <a:blip r:embed="rId3"/>
          <a:stretch/>
        </p:blipFill>
        <p:spPr>
          <a:xfrm>
            <a:off x="5076720" y="3357720"/>
            <a:ext cx="2170080" cy="266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2124000" y="692280"/>
            <a:ext cx="4391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ЛОВ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900000" y="1628640"/>
            <a:ext cx="7488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ождик, будут и грибки, а будут гриб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и куз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826920" y="4076640"/>
            <a:ext cx="748836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жаной хлебушко калачу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Mushrooms_in_handbasket_Houby_v_kosiku"/>
          <p:cNvPicPr/>
          <p:nvPr/>
        </p:nvPicPr>
        <p:blipFill>
          <a:blip r:embed="rId3"/>
          <a:stretch/>
        </p:blipFill>
        <p:spPr>
          <a:xfrm>
            <a:off x="3708360" y="2565360"/>
            <a:ext cx="194328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3995640" y="4221000"/>
            <a:ext cx="431640" cy="214560"/>
            <a:chOff x="3995640" y="4221000"/>
            <a:chExt cx="431640" cy="214560"/>
          </a:xfrm>
        </p:grpSpPr>
        <p:sp>
          <p:nvSpPr>
            <p:cNvPr id="201" name="Line 9"/>
            <p:cNvSpPr/>
            <p:nvPr/>
          </p:nvSpPr>
          <p:spPr>
            <a:xfrm flipH="1">
              <a:off x="3995640" y="4221000"/>
              <a:ext cx="23544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4231080" y="4221000"/>
              <a:ext cx="19620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6084720" y="4221000"/>
            <a:ext cx="431640" cy="214560"/>
            <a:chOff x="6084720" y="4221000"/>
            <a:chExt cx="431640" cy="214560"/>
          </a:xfrm>
        </p:grpSpPr>
        <p:sp>
          <p:nvSpPr>
            <p:cNvPr id="204" name="Line 12"/>
            <p:cNvSpPr/>
            <p:nvPr/>
          </p:nvSpPr>
          <p:spPr>
            <a:xfrm flipH="1">
              <a:off x="6084720" y="4221000"/>
              <a:ext cx="23544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6320160" y="4221000"/>
              <a:ext cx="196200" cy="2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7236000" y="1628640"/>
            <a:ext cx="213840" cy="216000"/>
            <a:chOff x="7236000" y="1628640"/>
            <a:chExt cx="213840" cy="216000"/>
          </a:xfrm>
        </p:grpSpPr>
        <p:sp>
          <p:nvSpPr>
            <p:cNvPr id="207" name="Line 15"/>
            <p:cNvSpPr/>
            <p:nvPr/>
          </p:nvSpPr>
          <p:spPr>
            <a:xfrm flipH="1">
              <a:off x="7236000" y="1628640"/>
              <a:ext cx="116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352640" y="1628640"/>
              <a:ext cx="972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"/>
          <p:cNvGrpSpPr/>
          <p:nvPr/>
        </p:nvGrpSpPr>
        <p:grpSpPr>
          <a:xfrm>
            <a:off x="5148360" y="1628640"/>
            <a:ext cx="213840" cy="216000"/>
            <a:chOff x="5148360" y="1628640"/>
            <a:chExt cx="213840" cy="216000"/>
          </a:xfrm>
        </p:grpSpPr>
        <p:sp>
          <p:nvSpPr>
            <p:cNvPr id="210" name="Line 18"/>
            <p:cNvSpPr/>
            <p:nvPr/>
          </p:nvSpPr>
          <p:spPr>
            <a:xfrm flipH="1">
              <a:off x="5148360" y="1628640"/>
              <a:ext cx="116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>
              <a:off x="5265000" y="1628640"/>
              <a:ext cx="972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0"/>
          <p:cNvGrpSpPr/>
          <p:nvPr/>
        </p:nvGrpSpPr>
        <p:grpSpPr>
          <a:xfrm>
            <a:off x="3058920" y="1628640"/>
            <a:ext cx="289080" cy="216000"/>
            <a:chOff x="3058920" y="1628640"/>
            <a:chExt cx="289080" cy="216000"/>
          </a:xfrm>
        </p:grpSpPr>
        <p:sp>
          <p:nvSpPr>
            <p:cNvPr id="213" name="Line 21"/>
            <p:cNvSpPr/>
            <p:nvPr/>
          </p:nvSpPr>
          <p:spPr>
            <a:xfrm flipH="1">
              <a:off x="3058920" y="1628640"/>
              <a:ext cx="15732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>
              <a:off x="3216600" y="1628640"/>
              <a:ext cx="1314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3"/>
          <p:cNvGrpSpPr/>
          <p:nvPr/>
        </p:nvGrpSpPr>
        <p:grpSpPr>
          <a:xfrm>
            <a:off x="5363640" y="2060640"/>
            <a:ext cx="216360" cy="144360"/>
            <a:chOff x="5363640" y="2060640"/>
            <a:chExt cx="216360" cy="144360"/>
          </a:xfrm>
        </p:grpSpPr>
        <p:sp>
          <p:nvSpPr>
            <p:cNvPr id="216" name="Line 24"/>
            <p:cNvSpPr/>
            <p:nvPr/>
          </p:nvSpPr>
          <p:spPr>
            <a:xfrm flipH="1">
              <a:off x="5363640" y="2060640"/>
              <a:ext cx="1177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>
              <a:off x="5481720" y="2060640"/>
              <a:ext cx="982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6" descr="4d1cfca8fc81"/>
          <p:cNvPicPr/>
          <p:nvPr/>
        </p:nvPicPr>
        <p:blipFill>
          <a:blip r:embed="rId4"/>
          <a:stretch/>
        </p:blipFill>
        <p:spPr>
          <a:xfrm>
            <a:off x="2556000" y="5013360"/>
            <a:ext cx="1725480" cy="125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98c01ccc0b1e"/>
          <p:cNvPicPr/>
          <p:nvPr/>
        </p:nvPicPr>
        <p:blipFill>
          <a:blip r:embed="rId5"/>
          <a:stretch/>
        </p:blipFill>
        <p:spPr>
          <a:xfrm rot="3162000">
            <a:off x="5290560" y="4870440"/>
            <a:ext cx="93996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odor"/>
          <p:cNvPicPr/>
          <p:nvPr/>
        </p:nvPicPr>
        <p:blipFill>
          <a:blip r:embed="rId1"/>
          <a:stretch/>
        </p:blipFill>
        <p:spPr>
          <a:xfrm>
            <a:off x="684360" y="620640"/>
            <a:ext cx="1751040" cy="2311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odushka_800_640x393"/>
          <p:cNvPicPr/>
          <p:nvPr/>
        </p:nvPicPr>
        <p:blipFill>
          <a:blip r:embed="rId2"/>
          <a:stretch/>
        </p:blipFill>
        <p:spPr>
          <a:xfrm rot="1303200">
            <a:off x="2627280" y="980640"/>
            <a:ext cx="2255760" cy="13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SCF3896j"/>
          <p:cNvPicPr/>
          <p:nvPr/>
        </p:nvPicPr>
        <p:blipFill>
          <a:blip r:embed="rId3"/>
          <a:stretch/>
        </p:blipFill>
        <p:spPr>
          <a:xfrm>
            <a:off x="5003640" y="620640"/>
            <a:ext cx="1581480" cy="2425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25402-2008-12-25-095920726676"/>
          <p:cNvPicPr/>
          <p:nvPr/>
        </p:nvPicPr>
        <p:blipFill>
          <a:blip r:embed="rId4"/>
          <a:stretch/>
        </p:blipFill>
        <p:spPr>
          <a:xfrm>
            <a:off x="6948360" y="1341360"/>
            <a:ext cx="150840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2997"/>
          <p:cNvPicPr/>
          <p:nvPr/>
        </p:nvPicPr>
        <p:blipFill>
          <a:blip r:embed="rId5"/>
          <a:stretch/>
        </p:blipFill>
        <p:spPr>
          <a:xfrm>
            <a:off x="684360" y="357336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odstakannik_serebro_kubachi"/>
          <p:cNvPicPr/>
          <p:nvPr/>
        </p:nvPicPr>
        <p:blipFill>
          <a:blip r:embed="rId6"/>
          <a:stretch/>
        </p:blipFill>
        <p:spPr>
          <a:xfrm>
            <a:off x="3203640" y="3716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fter4"/>
          <p:cNvPicPr/>
          <p:nvPr/>
        </p:nvPicPr>
        <p:blipFill>
          <a:blip r:embed="rId7"/>
          <a:stretch/>
        </p:blipFill>
        <p:spPr>
          <a:xfrm>
            <a:off x="5867280" y="3716280"/>
            <a:ext cx="2586240" cy="19400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1"/>
          <p:cNvSpPr/>
          <p:nvPr/>
        </p:nvSpPr>
        <p:spPr>
          <a:xfrm>
            <a:off x="684360" y="299736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916360" y="270828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4788000" y="314172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6659640" y="314172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826920" y="5300640"/>
            <a:ext cx="1872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3203640" y="5805360"/>
            <a:ext cx="2016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КА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6300720" y="5805360"/>
            <a:ext cx="1871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ОКО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9"/>
          <p:cNvSpPr txBox="1"/>
          <p:nvPr/>
        </p:nvSpPr>
        <p:spPr>
          <a:xfrm>
            <a:off x="971640" y="2205000"/>
            <a:ext cx="74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 Т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ЗЫВАЛ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AutoShape 20"/>
          <p:cNvSpPr/>
          <p:nvPr/>
        </p:nvSpPr>
        <p:spPr>
          <a:xfrm>
            <a:off x="468360" y="476280"/>
            <a:ext cx="7848720" cy="28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Выдели в словах 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900000" y="620640"/>
            <a:ext cx="748836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НИМАТЕЛЬНО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55640" y="1125360"/>
            <a:ext cx="7416720" cy="35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шли они домой, разделили мороженое на три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усная штука,- сказал Мишутка. – Один раз я съ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ое ведро мороже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 ты выдумываешь всё! – засмеялась 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ебе поверит, что ты ведро мороженого съе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оно ведь совсем маленькое было, вёдрышко!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жное, не больше стака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11280" y="4941720"/>
            <a:ext cx="7848360" cy="64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Из какого рассказа отрывок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11280" y="5661000"/>
            <a:ext cx="7848360" cy="64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Н. Носов </a:t>
            </a:r>
            <a:r>
              <a:rPr b="1" lang="ru-RU" sz="3600" spc="-1" strike="noStrike">
                <a:solidFill>
                  <a:srgbClr val="99cc00"/>
                </a:solidFill>
                <a:latin typeface="Times New Roman"/>
              </a:rPr>
              <a:t>«ФАНТАЗЁ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6804000" y="2997360"/>
            <a:ext cx="431640" cy="214200"/>
            <a:chOff x="6804000" y="2997360"/>
            <a:chExt cx="431640" cy="214200"/>
          </a:xfrm>
        </p:grpSpPr>
        <p:sp>
          <p:nvSpPr>
            <p:cNvPr id="241" name="Line 9"/>
            <p:cNvSpPr/>
            <p:nvPr/>
          </p:nvSpPr>
          <p:spPr>
            <a:xfrm flipH="1">
              <a:off x="6804000" y="2997360"/>
              <a:ext cx="23544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7039440" y="2997360"/>
              <a:ext cx="19620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3" descr="cb7e35b1219d"/>
          <p:cNvPicPr/>
          <p:nvPr/>
        </p:nvPicPr>
        <p:blipFill>
          <a:blip r:embed="rId3"/>
          <a:stretch/>
        </p:blipFill>
        <p:spPr>
          <a:xfrm>
            <a:off x="5364000" y="3645000"/>
            <a:ext cx="889200" cy="136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1000326518"/>
          <p:cNvPicPr/>
          <p:nvPr/>
        </p:nvPicPr>
        <p:blipFill>
          <a:blip r:embed="rId4"/>
          <a:stretch/>
        </p:blipFill>
        <p:spPr>
          <a:xfrm>
            <a:off x="6516720" y="4797360"/>
            <a:ext cx="128736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винни идет"/>
          <p:cNvPicPr/>
          <p:nvPr/>
        </p:nvPicPr>
        <p:blipFill>
          <a:blip r:embed="rId1"/>
          <a:stretch/>
        </p:blipFill>
        <p:spPr>
          <a:xfrm>
            <a:off x="-3257640" y="3068640"/>
            <a:ext cx="2513160" cy="2879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-118908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molodci segodnja.wav" descr=""/>
          <p:cNvPicPr/>
          <p:nvPr/>
        </p:nvPicPr>
        <p:blipFill>
          <a:blip r:embed="rId3"/>
          <a:stretch/>
        </p:blipFill>
        <p:spPr>
          <a:xfrm>
            <a:off x="-111600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7"/>
          <p:cNvSpPr txBox="1"/>
          <p:nvPr/>
        </p:nvSpPr>
        <p:spPr>
          <a:xfrm>
            <a:off x="1763640" y="112536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9" name="Picture 8" descr="stop">
            <a:hlinkClick r:id="" action="ppaction://hlinkshowjump?jump=endshow"/>
          </p:cNvPr>
          <p:cNvPicPr/>
          <p:nvPr/>
        </p:nvPicPr>
        <p:blipFill>
          <a:blip r:embed="rId6">
            <a:grayscl/>
          </a:blip>
          <a:stretch/>
        </p:blipFill>
        <p:spPr>
          <a:xfrm>
            <a:off x="8817120" y="6497640"/>
            <a:ext cx="326880" cy="36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266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664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5185E-006 L 0.69306 1.85185E-006 E">
                                      <p:cBhvr>
                                        <p:cTn id="478" dur="5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612720" y="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ShockwaveFlash1"/>
          <p:cNvGraphicFramePr/>
          <p:nvPr/>
        </p:nvGraphicFramePr>
        <p:xfrm>
          <a:off x="971640" y="692280"/>
          <a:ext cx="720072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692280"/>
                    <a:ext cx="7200720" cy="554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1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124000" y="4292640"/>
            <a:ext cx="6264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ОСАД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6948000" y="3933720"/>
            <a:ext cx="719280" cy="647640"/>
            <a:chOff x="6948000" y="3933720"/>
            <a:chExt cx="719280" cy="647640"/>
          </a:xfrm>
        </p:grpSpPr>
        <p:sp>
          <p:nvSpPr>
            <p:cNvPr id="55" name="Line 4"/>
            <p:cNvSpPr/>
            <p:nvPr/>
          </p:nvSpPr>
          <p:spPr>
            <a:xfrm flipH="1">
              <a:off x="6948000" y="3933720"/>
              <a:ext cx="39204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7340400" y="3933720"/>
              <a:ext cx="32688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6"/>
          <p:cNvGrpSpPr/>
          <p:nvPr/>
        </p:nvGrpSpPr>
        <p:grpSpPr>
          <a:xfrm>
            <a:off x="684360" y="692280"/>
            <a:ext cx="1656000" cy="863280"/>
            <a:chOff x="684360" y="692280"/>
            <a:chExt cx="1656000" cy="863280"/>
          </a:xfrm>
        </p:grpSpPr>
        <p:sp>
          <p:nvSpPr>
            <p:cNvPr id="58" name="Line 7"/>
            <p:cNvSpPr/>
            <p:nvPr/>
          </p:nvSpPr>
          <p:spPr>
            <a:xfrm flipH="1">
              <a:off x="684360" y="692280"/>
              <a:ext cx="902880" cy="86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1587240" y="692280"/>
              <a:ext cx="753120" cy="86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WordArt 9"/>
          <p:cNvSpPr txBox="1"/>
          <p:nvPr/>
        </p:nvSpPr>
        <p:spPr>
          <a:xfrm>
            <a:off x="900000" y="2133720"/>
            <a:ext cx="720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10" descr="nezn1"/>
          <p:cNvPicPr/>
          <p:nvPr/>
        </p:nvPicPr>
        <p:blipFill>
          <a:blip r:embed="rId3"/>
          <a:stretch/>
        </p:blipFill>
        <p:spPr>
          <a:xfrm>
            <a:off x="900000" y="3357720"/>
            <a:ext cx="2103480" cy="298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900000" y="765000"/>
            <a:ext cx="7417080" cy="273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ФФИК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значимая часть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ая стоит после кор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оконч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служит для образования н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ча – туч к  а , стул – стуль чик и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 – дом ик 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3348000" y="4221000"/>
            <a:ext cx="289080" cy="287640"/>
            <a:chOff x="3348000" y="4221000"/>
            <a:chExt cx="289080" cy="287640"/>
          </a:xfrm>
        </p:grpSpPr>
        <p:sp>
          <p:nvSpPr>
            <p:cNvPr id="64" name="Line 6"/>
            <p:cNvSpPr/>
            <p:nvPr/>
          </p:nvSpPr>
          <p:spPr>
            <a:xfrm flipH="1">
              <a:off x="3348000" y="4221000"/>
              <a:ext cx="157680" cy="28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3505680" y="4221000"/>
              <a:ext cx="131400" cy="28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6516360" y="4149720"/>
            <a:ext cx="576720" cy="287280"/>
            <a:chOff x="6516360" y="4149720"/>
            <a:chExt cx="576720" cy="287280"/>
          </a:xfrm>
        </p:grpSpPr>
        <p:sp>
          <p:nvSpPr>
            <p:cNvPr id="67" name="Line 9"/>
            <p:cNvSpPr/>
            <p:nvPr/>
          </p:nvSpPr>
          <p:spPr>
            <a:xfrm flipH="1">
              <a:off x="6516360" y="4149720"/>
              <a:ext cx="3142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6831000" y="4149720"/>
              <a:ext cx="2620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076720" y="5229360"/>
            <a:ext cx="360360" cy="214200"/>
            <a:chOff x="5076720" y="5229360"/>
            <a:chExt cx="360360" cy="214200"/>
          </a:xfrm>
        </p:grpSpPr>
        <p:sp>
          <p:nvSpPr>
            <p:cNvPr id="70" name="Line 12"/>
            <p:cNvSpPr/>
            <p:nvPr/>
          </p:nvSpPr>
          <p:spPr>
            <a:xfrm flipH="1">
              <a:off x="5076720" y="5229360"/>
              <a:ext cx="196560" cy="214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5273280" y="5229360"/>
              <a:ext cx="163800" cy="214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14"/>
          <p:cNvSpPr/>
          <p:nvPr/>
        </p:nvSpPr>
        <p:spPr>
          <a:xfrm>
            <a:off x="3708360" y="4365720"/>
            <a:ext cx="360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164360" y="4437000"/>
            <a:ext cx="36036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5508720" y="5373720"/>
            <a:ext cx="360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17"/>
          <p:cNvSpPr/>
          <p:nvPr/>
        </p:nvSpPr>
        <p:spPr>
          <a:xfrm flipH="1" rot="2654400">
            <a:off x="1688400" y="430452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8"/>
          <p:cNvSpPr/>
          <p:nvPr/>
        </p:nvSpPr>
        <p:spPr>
          <a:xfrm flipH="1" rot="2654400">
            <a:off x="2842560" y="429192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9"/>
          <p:cNvSpPr/>
          <p:nvPr/>
        </p:nvSpPr>
        <p:spPr>
          <a:xfrm flipH="1" rot="2654400">
            <a:off x="4500360" y="5229000"/>
            <a:ext cx="320400" cy="360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rc 20"/>
          <p:cNvSpPr/>
          <p:nvPr/>
        </p:nvSpPr>
        <p:spPr>
          <a:xfrm flipH="1" rot="2654400">
            <a:off x="3347280" y="5228640"/>
            <a:ext cx="320760" cy="36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21"/>
          <p:cNvSpPr/>
          <p:nvPr/>
        </p:nvSpPr>
        <p:spPr>
          <a:xfrm flipH="1" rot="2654400">
            <a:off x="4475160" y="4281120"/>
            <a:ext cx="39384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23"/>
          <p:cNvSpPr/>
          <p:nvPr/>
        </p:nvSpPr>
        <p:spPr>
          <a:xfrm flipH="1" rot="2654400">
            <a:off x="5651640" y="4292280"/>
            <a:ext cx="39348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nezn1"/>
          <p:cNvPicPr/>
          <p:nvPr/>
        </p:nvPicPr>
        <p:blipFill>
          <a:blip r:embed="rId1"/>
          <a:stretch/>
        </p:blipFill>
        <p:spPr>
          <a:xfrm>
            <a:off x="755640" y="4869000"/>
            <a:ext cx="1039680" cy="147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3203640" y="692280"/>
            <a:ext cx="5184720" cy="20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ФФИК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ён существитель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611280" y="2997360"/>
            <a:ext cx="7921440" cy="309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к-, -ик-, -чик-, -ушк-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еньк-, -оньк-, -очк-, -ечк-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547640" y="3357720"/>
            <a:ext cx="502920" cy="287280"/>
            <a:chOff x="1547640" y="3357720"/>
            <a:chExt cx="502920" cy="287280"/>
          </a:xfrm>
        </p:grpSpPr>
        <p:sp>
          <p:nvSpPr>
            <p:cNvPr id="85" name="Line 7"/>
            <p:cNvSpPr/>
            <p:nvPr/>
          </p:nvSpPr>
          <p:spPr>
            <a:xfrm flipH="1">
              <a:off x="1547640" y="3357720"/>
              <a:ext cx="2743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>
              <a:off x="1821960" y="3357720"/>
              <a:ext cx="2286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2842920" y="3284640"/>
            <a:ext cx="576720" cy="287280"/>
            <a:chOff x="2842920" y="3284640"/>
            <a:chExt cx="576720" cy="287280"/>
          </a:xfrm>
        </p:grpSpPr>
        <p:sp>
          <p:nvSpPr>
            <p:cNvPr id="88" name="Line 10"/>
            <p:cNvSpPr/>
            <p:nvPr/>
          </p:nvSpPr>
          <p:spPr>
            <a:xfrm flipH="1">
              <a:off x="2842920" y="3284640"/>
              <a:ext cx="314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3157560" y="3284640"/>
              <a:ext cx="2620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2"/>
          <p:cNvGrpSpPr/>
          <p:nvPr/>
        </p:nvGrpSpPr>
        <p:grpSpPr>
          <a:xfrm>
            <a:off x="4284720" y="3284640"/>
            <a:ext cx="1007640" cy="288720"/>
            <a:chOff x="4284720" y="3284640"/>
            <a:chExt cx="1007640" cy="288720"/>
          </a:xfrm>
        </p:grpSpPr>
        <p:sp>
          <p:nvSpPr>
            <p:cNvPr id="91" name="Line 13"/>
            <p:cNvSpPr/>
            <p:nvPr/>
          </p:nvSpPr>
          <p:spPr>
            <a:xfrm flipH="1">
              <a:off x="4284720" y="3284640"/>
              <a:ext cx="54936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4834080" y="3284640"/>
              <a:ext cx="4582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6227640" y="3284640"/>
            <a:ext cx="936360" cy="288720"/>
            <a:chOff x="6227640" y="3284640"/>
            <a:chExt cx="936360" cy="288720"/>
          </a:xfrm>
        </p:grpSpPr>
        <p:sp>
          <p:nvSpPr>
            <p:cNvPr id="94" name="Line 16"/>
            <p:cNvSpPr/>
            <p:nvPr/>
          </p:nvSpPr>
          <p:spPr>
            <a:xfrm flipH="1">
              <a:off x="6227640" y="3284640"/>
              <a:ext cx="5104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6738120" y="3284640"/>
              <a:ext cx="4258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8"/>
          <p:cNvGrpSpPr/>
          <p:nvPr/>
        </p:nvGrpSpPr>
        <p:grpSpPr>
          <a:xfrm>
            <a:off x="1042560" y="4941720"/>
            <a:ext cx="1152720" cy="287640"/>
            <a:chOff x="1042560" y="4941720"/>
            <a:chExt cx="1152720" cy="287640"/>
          </a:xfrm>
        </p:grpSpPr>
        <p:sp>
          <p:nvSpPr>
            <p:cNvPr id="97" name="Line 19"/>
            <p:cNvSpPr/>
            <p:nvPr/>
          </p:nvSpPr>
          <p:spPr>
            <a:xfrm flipH="1">
              <a:off x="1042560" y="4941720"/>
              <a:ext cx="62820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671120" y="4941720"/>
              <a:ext cx="52416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3132000" y="4941720"/>
            <a:ext cx="1078920" cy="287640"/>
            <a:chOff x="3132000" y="4941720"/>
            <a:chExt cx="1078920" cy="287640"/>
          </a:xfrm>
        </p:grpSpPr>
        <p:sp>
          <p:nvSpPr>
            <p:cNvPr id="100" name="Line 22"/>
            <p:cNvSpPr/>
            <p:nvPr/>
          </p:nvSpPr>
          <p:spPr>
            <a:xfrm flipH="1">
              <a:off x="3132000" y="4941720"/>
              <a:ext cx="58824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3"/>
            <p:cNvSpPr/>
            <p:nvPr/>
          </p:nvSpPr>
          <p:spPr>
            <a:xfrm>
              <a:off x="3720240" y="4941720"/>
              <a:ext cx="49068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4"/>
          <p:cNvGrpSpPr/>
          <p:nvPr/>
        </p:nvGrpSpPr>
        <p:grpSpPr>
          <a:xfrm>
            <a:off x="5363640" y="4941720"/>
            <a:ext cx="863640" cy="287640"/>
            <a:chOff x="5363640" y="4941720"/>
            <a:chExt cx="863640" cy="287640"/>
          </a:xfrm>
        </p:grpSpPr>
        <p:sp>
          <p:nvSpPr>
            <p:cNvPr id="103" name="Line 25"/>
            <p:cNvSpPr/>
            <p:nvPr/>
          </p:nvSpPr>
          <p:spPr>
            <a:xfrm flipH="1">
              <a:off x="5363640" y="4941720"/>
              <a:ext cx="47052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5834520" y="4941720"/>
              <a:ext cx="39276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7"/>
          <p:cNvGrpSpPr/>
          <p:nvPr/>
        </p:nvGrpSpPr>
        <p:grpSpPr>
          <a:xfrm>
            <a:off x="7092720" y="5013360"/>
            <a:ext cx="934920" cy="216000"/>
            <a:chOff x="7092720" y="5013360"/>
            <a:chExt cx="934920" cy="216000"/>
          </a:xfrm>
        </p:grpSpPr>
        <p:sp>
          <p:nvSpPr>
            <p:cNvPr id="106" name="Line 28"/>
            <p:cNvSpPr/>
            <p:nvPr/>
          </p:nvSpPr>
          <p:spPr>
            <a:xfrm flipH="1">
              <a:off x="7092720" y="5013360"/>
              <a:ext cx="5094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9"/>
            <p:cNvSpPr/>
            <p:nvPr/>
          </p:nvSpPr>
          <p:spPr>
            <a:xfrm>
              <a:off x="7602480" y="5013360"/>
              <a:ext cx="4251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0" descr="nezn1"/>
          <p:cNvPicPr/>
          <p:nvPr/>
        </p:nvPicPr>
        <p:blipFill>
          <a:blip r:embed="rId1"/>
          <a:stretch/>
        </p:blipFill>
        <p:spPr>
          <a:xfrm>
            <a:off x="755640" y="549360"/>
            <a:ext cx="172404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900000" y="69228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900000" y="141120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00000" y="213372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ч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900000" y="2852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уш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900000" y="3573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ень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900000" y="4292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нь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900000" y="5013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ч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900000" y="573408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еч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268360" y="692280"/>
            <a:ext cx="539928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года, рыба, голова, т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268360" y="141120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, ёж, двор, сад, 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2268360" y="2133720"/>
            <a:ext cx="5399280" cy="5760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ц, стакан, диван, кор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2268360" y="285264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ба, дед, Иван, зима, Ал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2268360" y="357336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а, Даша, Коля, Пе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2268360" y="429264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а, берёза, ры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2268360" y="501336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а, Лида, мама, 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2268360" y="5734080"/>
            <a:ext cx="539928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ня, 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21"/>
          <p:cNvSpPr txBox="1"/>
          <p:nvPr/>
        </p:nvSpPr>
        <p:spPr>
          <a:xfrm>
            <a:off x="971640" y="299736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РАЗУ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овые 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ОВ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6" name="Group 22"/>
          <p:cNvGrpSpPr/>
          <p:nvPr/>
        </p:nvGrpSpPr>
        <p:grpSpPr>
          <a:xfrm>
            <a:off x="1332000" y="765000"/>
            <a:ext cx="360360" cy="142920"/>
            <a:chOff x="1332000" y="765000"/>
            <a:chExt cx="360360" cy="142920"/>
          </a:xfrm>
        </p:grpSpPr>
        <p:sp>
          <p:nvSpPr>
            <p:cNvPr id="127" name="Line 23"/>
            <p:cNvSpPr/>
            <p:nvPr/>
          </p:nvSpPr>
          <p:spPr>
            <a:xfrm flipH="1">
              <a:off x="1332000" y="765000"/>
              <a:ext cx="19656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1528560" y="765000"/>
              <a:ext cx="16380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8"/>
          <p:cNvGrpSpPr/>
          <p:nvPr/>
        </p:nvGrpSpPr>
        <p:grpSpPr>
          <a:xfrm>
            <a:off x="1186920" y="5805360"/>
            <a:ext cx="576720" cy="142920"/>
            <a:chOff x="1186920" y="5805360"/>
            <a:chExt cx="576720" cy="142920"/>
          </a:xfrm>
        </p:grpSpPr>
        <p:sp>
          <p:nvSpPr>
            <p:cNvPr id="130" name="Line 29"/>
            <p:cNvSpPr/>
            <p:nvPr/>
          </p:nvSpPr>
          <p:spPr>
            <a:xfrm flipH="1">
              <a:off x="1186920" y="5805360"/>
              <a:ext cx="314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>
              <a:off x="1501560" y="5805360"/>
              <a:ext cx="2620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1"/>
          <p:cNvGrpSpPr/>
          <p:nvPr/>
        </p:nvGrpSpPr>
        <p:grpSpPr>
          <a:xfrm>
            <a:off x="1186920" y="5084640"/>
            <a:ext cx="576720" cy="144720"/>
            <a:chOff x="1186920" y="5084640"/>
            <a:chExt cx="576720" cy="144720"/>
          </a:xfrm>
        </p:grpSpPr>
        <p:sp>
          <p:nvSpPr>
            <p:cNvPr id="133" name="Line 32"/>
            <p:cNvSpPr/>
            <p:nvPr/>
          </p:nvSpPr>
          <p:spPr>
            <a:xfrm flipH="1">
              <a:off x="1186920" y="5084640"/>
              <a:ext cx="31428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1501560" y="5084640"/>
              <a:ext cx="26208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1186920" y="2924280"/>
            <a:ext cx="576720" cy="71280"/>
            <a:chOff x="1186920" y="2924280"/>
            <a:chExt cx="576720" cy="71280"/>
          </a:xfrm>
        </p:grpSpPr>
        <p:sp>
          <p:nvSpPr>
            <p:cNvPr id="136" name="Line 35"/>
            <p:cNvSpPr/>
            <p:nvPr/>
          </p:nvSpPr>
          <p:spPr>
            <a:xfrm flipH="1">
              <a:off x="1186920" y="2924280"/>
              <a:ext cx="31428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501560" y="2924280"/>
              <a:ext cx="26208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1115640" y="3645000"/>
            <a:ext cx="719280" cy="142920"/>
            <a:chOff x="1115640" y="3645000"/>
            <a:chExt cx="719280" cy="142920"/>
          </a:xfrm>
        </p:grpSpPr>
        <p:sp>
          <p:nvSpPr>
            <p:cNvPr id="139" name="Line 38"/>
            <p:cNvSpPr/>
            <p:nvPr/>
          </p:nvSpPr>
          <p:spPr>
            <a:xfrm flipH="1">
              <a:off x="1115640" y="3645000"/>
              <a:ext cx="39204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1508040" y="3645000"/>
              <a:ext cx="3268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0"/>
          <p:cNvGrpSpPr/>
          <p:nvPr/>
        </p:nvGrpSpPr>
        <p:grpSpPr>
          <a:xfrm>
            <a:off x="1115640" y="4365720"/>
            <a:ext cx="719280" cy="142920"/>
            <a:chOff x="1115640" y="4365720"/>
            <a:chExt cx="719280" cy="142920"/>
          </a:xfrm>
        </p:grpSpPr>
        <p:sp>
          <p:nvSpPr>
            <p:cNvPr id="142" name="Line 41"/>
            <p:cNvSpPr/>
            <p:nvPr/>
          </p:nvSpPr>
          <p:spPr>
            <a:xfrm flipH="1">
              <a:off x="1115640" y="4365720"/>
              <a:ext cx="39204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1508040" y="4365720"/>
              <a:ext cx="3268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3"/>
          <p:cNvGrpSpPr/>
          <p:nvPr/>
        </p:nvGrpSpPr>
        <p:grpSpPr>
          <a:xfrm>
            <a:off x="1186920" y="2205000"/>
            <a:ext cx="576720" cy="142920"/>
            <a:chOff x="1186920" y="2205000"/>
            <a:chExt cx="576720" cy="142920"/>
          </a:xfrm>
        </p:grpSpPr>
        <p:sp>
          <p:nvSpPr>
            <p:cNvPr id="145" name="Line 44"/>
            <p:cNvSpPr/>
            <p:nvPr/>
          </p:nvSpPr>
          <p:spPr>
            <a:xfrm flipH="1">
              <a:off x="1186920" y="2205000"/>
              <a:ext cx="3142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1501560" y="2205000"/>
              <a:ext cx="26208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46"/>
          <p:cNvGrpSpPr/>
          <p:nvPr/>
        </p:nvGrpSpPr>
        <p:grpSpPr>
          <a:xfrm>
            <a:off x="1258920" y="1484280"/>
            <a:ext cx="504360" cy="144360"/>
            <a:chOff x="1258920" y="1484280"/>
            <a:chExt cx="504360" cy="144360"/>
          </a:xfrm>
        </p:grpSpPr>
        <p:sp>
          <p:nvSpPr>
            <p:cNvPr id="148" name="Line 47"/>
            <p:cNvSpPr/>
            <p:nvPr/>
          </p:nvSpPr>
          <p:spPr>
            <a:xfrm flipH="1">
              <a:off x="1258920" y="1484280"/>
              <a:ext cx="27504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>
              <a:off x="1533960" y="1484280"/>
              <a:ext cx="2293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49" descr="nezn1"/>
          <p:cNvPicPr/>
          <p:nvPr/>
        </p:nvPicPr>
        <p:blipFill>
          <a:blip r:embed="rId9"/>
          <a:stretch/>
        </p:blipFill>
        <p:spPr>
          <a:xfrm>
            <a:off x="3780000" y="692280"/>
            <a:ext cx="1442880" cy="22683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1"/>
          <p:cNvSpPr/>
          <p:nvPr/>
        </p:nvSpPr>
        <p:spPr>
          <a:xfrm>
            <a:off x="7740720" y="5950080"/>
            <a:ext cx="792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5"/>
          <p:cNvSpPr/>
          <p:nvPr/>
        </p:nvSpPr>
        <p:spPr>
          <a:xfrm>
            <a:off x="826920" y="333360"/>
            <a:ext cx="7632720" cy="25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ь на вопросы. Тебе помогут суффикс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ак-, -чик-, -ист-, -ник-, -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ловит рыб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водит самолё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стро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играет на фортепиа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706920" y="5300640"/>
            <a:ext cx="4319640" cy="936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кладёт п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677_2408"/>
          <p:cNvPicPr/>
          <p:nvPr/>
        </p:nvPicPr>
        <p:blipFill>
          <a:blip r:embed="rId1"/>
          <a:stretch/>
        </p:blipFill>
        <p:spPr>
          <a:xfrm>
            <a:off x="3995640" y="2133720"/>
            <a:ext cx="3697560" cy="27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12" descr="chernyshov099"/>
          <p:cNvPicPr/>
          <p:nvPr/>
        </p:nvPicPr>
        <p:blipFill>
          <a:blip r:embed="rId2"/>
          <a:stretch/>
        </p:blipFill>
        <p:spPr>
          <a:xfrm>
            <a:off x="3995640" y="2133720"/>
            <a:ext cx="3673440" cy="27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Picture 13" descr="randy_piano_clouds"/>
          <p:cNvPicPr/>
          <p:nvPr/>
        </p:nvPicPr>
        <p:blipFill>
          <a:blip r:embed="rId3"/>
          <a:stretch/>
        </p:blipFill>
        <p:spPr>
          <a:xfrm>
            <a:off x="3995640" y="2133720"/>
            <a:ext cx="3673440" cy="28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Picture 14" descr="p4"/>
          <p:cNvPicPr/>
          <p:nvPr/>
        </p:nvPicPr>
        <p:blipFill>
          <a:blip r:embed="rId4"/>
          <a:stretch/>
        </p:blipFill>
        <p:spPr>
          <a:xfrm>
            <a:off x="3995640" y="2133720"/>
            <a:ext cx="3673440" cy="27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15" descr="spec22"/>
          <p:cNvPicPr/>
          <p:nvPr/>
        </p:nvPicPr>
        <p:blipFill>
          <a:blip r:embed="rId5"/>
          <a:stretch/>
        </p:blipFill>
        <p:spPr>
          <a:xfrm>
            <a:off x="3995640" y="2133720"/>
            <a:ext cx="3695760" cy="28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WordArt 16"/>
          <p:cNvSpPr txBox="1"/>
          <p:nvPr/>
        </p:nvSpPr>
        <p:spPr>
          <a:xfrm rot="5400000">
            <a:off x="44640" y="385056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ыба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17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лётч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18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ианис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19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ч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20"/>
          <p:cNvSpPr txBox="1"/>
          <p:nvPr/>
        </p:nvSpPr>
        <p:spPr>
          <a:xfrm rot="5400000">
            <a:off x="44640" y="392364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троител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osa3"/>
          <p:cNvPicPr/>
          <p:nvPr/>
        </p:nvPicPr>
        <p:blipFill>
          <a:blip r:embed="rId1"/>
          <a:stretch/>
        </p:blipFill>
        <p:spPr>
          <a:xfrm>
            <a:off x="973080" y="1341360"/>
            <a:ext cx="37720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AutoShape 5"/>
          <p:cNvSpPr/>
          <p:nvPr/>
        </p:nvSpPr>
        <p:spPr>
          <a:xfrm>
            <a:off x="1908000" y="5661000"/>
            <a:ext cx="1872000" cy="57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еча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716360" y="1628640"/>
            <a:ext cx="3816360" cy="29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нцевала 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листочке б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студила ла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йте осе та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84360" y="549360"/>
            <a:ext cx="7848360" cy="64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</a:rPr>
              <a:t>Выдели в словах суффик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651640" y="306864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7020000" y="3573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443280" y="2492280"/>
            <a:ext cx="576720" cy="287280"/>
            <a:chOff x="6443280" y="2492280"/>
            <a:chExt cx="576720" cy="287280"/>
          </a:xfrm>
        </p:grpSpPr>
        <p:sp>
          <p:nvSpPr>
            <p:cNvPr id="176" name="Line 12"/>
            <p:cNvSpPr/>
            <p:nvPr/>
          </p:nvSpPr>
          <p:spPr>
            <a:xfrm flipH="1">
              <a:off x="6443280" y="2492280"/>
              <a:ext cx="314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>
              <a:off x="6757920" y="2492280"/>
              <a:ext cx="2620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7524360" y="3068640"/>
            <a:ext cx="286200" cy="216000"/>
            <a:chOff x="7524360" y="3068640"/>
            <a:chExt cx="286200" cy="216000"/>
          </a:xfrm>
        </p:grpSpPr>
        <p:sp>
          <p:nvSpPr>
            <p:cNvPr id="179" name="Line 15"/>
            <p:cNvSpPr/>
            <p:nvPr/>
          </p:nvSpPr>
          <p:spPr>
            <a:xfrm flipH="1">
              <a:off x="7524360" y="3068640"/>
              <a:ext cx="1558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7680600" y="3068640"/>
              <a:ext cx="1299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7524360" y="3573360"/>
            <a:ext cx="286200" cy="216000"/>
            <a:chOff x="7524360" y="3573360"/>
            <a:chExt cx="286200" cy="216000"/>
          </a:xfrm>
        </p:grpSpPr>
        <p:sp>
          <p:nvSpPr>
            <p:cNvPr id="182" name="Line 18"/>
            <p:cNvSpPr/>
            <p:nvPr/>
          </p:nvSpPr>
          <p:spPr>
            <a:xfrm flipH="1">
              <a:off x="7524360" y="3573360"/>
              <a:ext cx="1558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7680600" y="3573360"/>
              <a:ext cx="1299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124000" y="692280"/>
            <a:ext cx="4391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971640" y="2133720"/>
            <a:ext cx="338436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ой бе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ом сер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042920" y="4365720"/>
            <a:ext cx="338472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жая птичница при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урятник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в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96f74d45b0a8"/>
          <p:cNvPicPr/>
          <p:nvPr/>
        </p:nvPicPr>
        <p:blipFill>
          <a:blip r:embed="rId3"/>
          <a:stretch/>
        </p:blipFill>
        <p:spPr>
          <a:xfrm>
            <a:off x="5148360" y="1341360"/>
            <a:ext cx="2133360" cy="2081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0dd6dfc15078"/>
          <p:cNvPicPr/>
          <p:nvPr/>
        </p:nvPicPr>
        <p:blipFill>
          <a:blip r:embed="rId4"/>
          <a:stretch/>
        </p:blipFill>
        <p:spPr>
          <a:xfrm>
            <a:off x="5003640" y="1484280"/>
            <a:ext cx="2232360" cy="1924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13b7a82647fd"/>
          <p:cNvPicPr/>
          <p:nvPr/>
        </p:nvPicPr>
        <p:blipFill>
          <a:blip r:embed="rId5"/>
          <a:stretch/>
        </p:blipFill>
        <p:spPr>
          <a:xfrm>
            <a:off x="4572000" y="3726000"/>
            <a:ext cx="3456000" cy="22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5:33:00Z</dcterms:created>
  <dc:creator>L. Lazareva</dc:creator>
  <dc:description/>
  <dc:language>en-US</dc:language>
  <cp:lastModifiedBy>Школа</cp:lastModifiedBy>
  <dcterms:modified xsi:type="dcterms:W3CDTF">2021-06-08T06:33:11Z</dcterms:modified>
  <cp:revision>21</cp:revision>
  <dc:subject/>
  <dc:title>Suffiksi</dc:title>
</cp:coreProperties>
</file>