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7BB7-E6C4-42DD-9360-7F7F28D77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5088-B369-4E72-9873-5E4B4414A51B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BD8E-BE87-451F-BD31-31EA881522FD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30337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Microsoft Sans Serif"/>
              </a:rPr>
              <a:t>Адаптация 1 класс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2133720" y="723960"/>
            <a:ext cx="3779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315200" cy="419112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3" descr=""/>
          <p:cNvPicPr/>
          <p:nvPr/>
        </p:nvPicPr>
        <p:blipFill>
          <a:blip r:embed="rId2"/>
          <a:stretch/>
        </p:blipFill>
        <p:spPr>
          <a:xfrm>
            <a:off x="695160" y="2523960"/>
            <a:ext cx="78584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Microsoft Sans Serif"/>
              </a:rPr>
              <a:t>Выделяют три вида адаптации: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1905120"/>
          <a:ext cx="7238880" cy="543384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сихологическую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4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исходит формирование внутренней позиции школьника, развитие новых уровней психических функций, изменение общего эмоционального состояния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400"/>
                    </a:solidFill>
                  </a:tcPr>
                </a:tc>
              </a:tr>
              <a:tr h="1442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Социальную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Дети учатся общаться со сверстниками, учителями, иначе выстраивать свои взаимоотношения с родителями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ccb"/>
                    </a:solidFill>
                  </a:tcPr>
                </a:tc>
              </a:tr>
              <a:tr h="22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Физиологическую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Новый режим, усиленные нагрузки на организм, личностные и эмоциональные переживания могут сказаться на здоровье и повлиять на физиологическую адаптацию к школе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95480" y="-13068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ровни адаптации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800" y="990720"/>
            <a:ext cx="7315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Высокий уровень </a:t>
            </a:r>
            <a:r>
              <a:rPr b="0" lang="ru-RU" sz="1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положительная адаптация). У ребёнка складывается позитивное восприятие школы и учёбы в целом. Он правильно реагирует на требования, выполняет их. Успешно справляется с учебным материалом, может выполнять усложнённые задачи. Ответственен, исполнителен, самостоятелен, инициативен. Отношения с одноклассниками и учителем благоприятные, пользуется уважением в классе. Привыкание к школе происходит в течение первой четверти.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Средний уровень </a:t>
            </a:r>
            <a:r>
              <a:rPr b="0" lang="ru-RU" sz="1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умеренная адаптация). Ребёнок хорошо относится к школе. Справляется с материалом, когда учитель наглядно и подробно все объясняет. Может отвлекаться, когда отсутствует контроль. Складываются хорошие взаимоотношения с учителем и многими ребятами. Адаптация занимает первое учебное полугодие.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Низкий уровень </a:t>
            </a:r>
            <a:r>
              <a:rPr b="0" lang="ru-RU" sz="1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нарушение адаптации). Ребенок испытывает значительные трудности в привыкании к школе, складывается негативное или равнодушное отношение к школе. Задания на дом выполняет время от времени, отвлекается на занятиях, может нарушать дисциплину. Учебный материал усваивает фрагментарно, не проявляет интереса к занятиям. Может проявлять высокую агрессивность или, наоборот, тревожность, неуверенность. Трудно сходится с одноклассниками, мало с ними общается, не всех знает по имени, нет друзей в классном коллективе. Имеет подавленное настроение, жалуется на самочувствие.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200"/>
                </a:solidFill>
                <a:latin typeface="Times New Roman"/>
                <a:ea typeface="Times New Roman"/>
              </a:rPr>
              <a:t>Проявления напряжения, нарушения адаптации</a:t>
            </a:r>
            <a:br>
              <a:rPr sz="4400"/>
            </a:b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56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ессивное понижение успешности работы (ослабление внимания, рассеянность)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фона настроения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плаксивость, обидчивость, придирчивость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ой сон (спит беспокойно, вздрагивает во сне, всхлипывает, просыпается по ночам, долго не может заснуть вечером, хотя хочет спать)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ение тревожности или страхов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 аппетит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дность, потеря веса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обы на различные боли (в животе, в ногах) особенно утром перед походом в школу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лание идти в школу под различными благовидными предлогами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3" name="Содержимое 3" descr="FullSizeRender-23-08-18-11-51-1 (1).jpg"/>
          <p:cNvPicPr/>
          <p:nvPr/>
        </p:nvPicPr>
        <p:blipFill>
          <a:blip r:embed="rId1"/>
          <a:srcRect l="0" t="8877" r="-75" b="0"/>
          <a:stretch/>
        </p:blipFill>
        <p:spPr>
          <a:xfrm>
            <a:off x="457200" y="1066680"/>
            <a:ext cx="8153280" cy="54752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ая соединительная линия 5"/>
          <p:cNvSpPr/>
          <p:nvPr/>
        </p:nvSpPr>
        <p:spPr>
          <a:xfrm>
            <a:off x="4724280" y="2438280"/>
            <a:ext cx="990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6" name="Содержимое 3" descr="FullSizeRender-23-08-18-11-51.jpg"/>
          <p:cNvPicPr/>
          <p:nvPr/>
        </p:nvPicPr>
        <p:blipFill>
          <a:blip r:embed="rId1"/>
          <a:stretch/>
        </p:blipFill>
        <p:spPr>
          <a:xfrm>
            <a:off x="457200" y="762120"/>
            <a:ext cx="8373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200"/>
                </a:solidFill>
                <a:latin typeface="Times New Roman"/>
                <a:ea typeface="Times New Roman"/>
              </a:rPr>
              <a:t>Кризис 7 лет</a:t>
            </a:r>
            <a:br>
              <a:rPr sz="4000"/>
            </a:b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ломная точка на кривой детского развития, отделяющая один возраст от другого.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могут смещаться примерно с 6 до 8 лет.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2438280" y="3886200"/>
            <a:ext cx="2819520" cy="685800"/>
          </a:xfrm>
          <a:prstGeom prst="rect">
            <a:avLst/>
          </a:prstGeom>
          <a:gradFill rotWithShape="0">
            <a:gsLst>
              <a:gs pos="0">
                <a:srgbClr val="bbd2bb"/>
              </a:gs>
              <a:gs pos="100000">
                <a:srgbClr val="0058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кризиса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304920" y="4876920"/>
            <a:ext cx="1523880" cy="609480"/>
          </a:xfrm>
          <a:prstGeom prst="rect">
            <a:avLst/>
          </a:prstGeom>
          <a:gradFill rotWithShape="0">
            <a:gsLst>
              <a:gs pos="0">
                <a:srgbClr val="bbd2bb"/>
              </a:gs>
              <a:gs pos="100000">
                <a:srgbClr val="0058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вляние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2057400" y="4876920"/>
            <a:ext cx="1600200" cy="609480"/>
          </a:xfrm>
          <a:prstGeom prst="rect">
            <a:avLst/>
          </a:prstGeom>
          <a:gradFill rotWithShape="0">
            <a:gsLst>
              <a:gs pos="0">
                <a:srgbClr val="bbd2bb"/>
              </a:gs>
              <a:gs pos="100000">
                <a:srgbClr val="0058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ерность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3886200" y="4876920"/>
            <a:ext cx="1752480" cy="609480"/>
          </a:xfrm>
          <a:prstGeom prst="rect">
            <a:avLst/>
          </a:prstGeom>
          <a:gradFill rotWithShape="0">
            <a:gsLst>
              <a:gs pos="0">
                <a:srgbClr val="bbd2bb"/>
              </a:gs>
              <a:gs pos="100000">
                <a:srgbClr val="0058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ризность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5791320" y="4876920"/>
            <a:ext cx="2057400" cy="609480"/>
          </a:xfrm>
          <a:prstGeom prst="rect">
            <a:avLst/>
          </a:prstGeom>
          <a:gradFill rotWithShape="0">
            <a:gsLst>
              <a:gs pos="0">
                <a:srgbClr val="bbd2bb"/>
              </a:gs>
              <a:gs pos="100000">
                <a:srgbClr val="0058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лушание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64" name="Прямая со стрелкой 11"/>
          <p:cNvCxnSpPr/>
          <p:nvPr/>
        </p:nvCxnSpPr>
        <p:spPr>
          <a:xfrm>
            <a:off x="5257440" y="4572000"/>
            <a:ext cx="1143720" cy="3816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65" name="Прямая со стрелкой 12"/>
          <p:cNvCxnSpPr/>
          <p:nvPr/>
        </p:nvCxnSpPr>
        <p:spPr>
          <a:xfrm>
            <a:off x="4040280" y="4573440"/>
            <a:ext cx="837360" cy="38016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66" name="Прямая со стрелкой 13"/>
          <p:cNvCxnSpPr/>
          <p:nvPr/>
        </p:nvCxnSpPr>
        <p:spPr>
          <a:xfrm flipH="1">
            <a:off x="2437920" y="4572000"/>
            <a:ext cx="991440" cy="3816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67" name="Прямая со стрелкой 16"/>
          <p:cNvCxnSpPr/>
          <p:nvPr/>
        </p:nvCxnSpPr>
        <p:spPr>
          <a:xfrm flipH="1">
            <a:off x="913680" y="4572000"/>
            <a:ext cx="1524600" cy="3816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04560" y="9140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ит формирование внутренней позиции школьника, связанной с выполнением учебной работы.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ей деятельностью становится учеба.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т период ребенок может быть раздражительным, испытывать страхи, повышается тревожность, продолжает формироваться самооценка.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 понимать и осознавать свои переживания, возникает "логика чувств".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8600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200"/>
                </a:solidFill>
                <a:latin typeface="Times New Roman"/>
                <a:ea typeface="Times New Roman"/>
              </a:rPr>
              <a:t>Правила для родителей</a:t>
            </a:r>
            <a:br>
              <a:rPr sz="4400"/>
            </a:b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встречать ребёнка после окончания уроков вопросом: «Что было интересного в школе?», «Что ты сегодня узнал, с кем подружился?». Давайте ребёнку отдохнуть после уроков.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ите ребёнку формировать положительную самооценку. 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хвалите ребёнка, причём за все его достижения. 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ниманием относитесь к тому, что у вашего ребёнка что-то не будет получаться сразу, даже если это кажется вам элементарным. Запаситесь терпением. 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не отправлять ребёнка одновременно в первый класс и какую-либо секцию и кружок.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ребёнок может концентрировать внимание не более 15 – 20 минут. 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йте ребёнку рабочее место. 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я время для занятий, учитывайте тот факт, что работоспособность человека в течение суток изменяется и имеет форму М-образной кривой, которая называется «физиологическая кривая работоспособности». Самым оптимальным считается два временных промежутка с 10 до 12 часов и с 16 до 18 часов.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, телевизор и любые занятия, требующие большой зрительной нагрузки должны продолжаться 35-40 минут, максимум час.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рганизовать прогулки не менее двух часов в день.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на свете в течение первого года учёбы ваш ребёнок нуждается в поддержке. 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ждение в семье создаёт атмосферу разрушения личности ребёнка. 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Психолог</cp:lastModifiedBy>
  <dcterms:modified xsi:type="dcterms:W3CDTF">2021-06-08T05:07:16Z</dcterms:modified>
  <cp:revision>180</cp:revision>
  <dc:subject/>
  <dc:title>Name of presentation</dc:title>
</cp:coreProperties>
</file>