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528-AC4C-4861-AAFD-57096694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12A-0AEC-4D11-B129-9579238F04A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17E-D196-4956-9618-4ABD50FF584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3033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icrosoft Sans Serif"/>
              </a:rPr>
              <a:t>Адаптация 1 класс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133720" y="723960"/>
            <a:ext cx="3779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523960"/>
            <a:ext cx="7858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Microsoft Sans Serif"/>
              </a:rPr>
              <a:t>Выделяют три вида адаптации: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905120"/>
          <a:ext cx="7238880" cy="543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логическ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4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сходит формирование внутренней позиции школьника, развитие новых уровней психических функций, изменение общего эмоционального состоян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400"/>
                    </a:solidFill>
                  </a:tcPr>
                </a:tc>
              </a:tr>
              <a:tr h="144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Социальн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Дети учатся общаться со сверстниками, учителями, иначе выстраивать свои взаимоотношения с родителями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cb"/>
                    </a:solidFill>
                  </a:tcPr>
                </a:tc>
              </a:tr>
              <a:tr h="22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Физиологическ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Новый режим, усиленные нагрузки на организм, личностные и эмоциональные переживания могут сказаться на здоровье и повлиять на физиологическую адаптацию к школ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5480" y="-13068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овни адаптации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ысок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положительная адаптация). У ребёнка складывается позитивное восприятие школы и учёбы в целом. Он правильно реагирует на требования, выполняет их. Успешно справляется с учебным материалом, может выполнять усложнённые задачи. Ответственен, исполнителен, самостоятелен, инициативен. Отношения с одноклассниками и учителем благоприятные, пользуется уважением в классе. Привыкание к школе происходит в течение первой четверти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редн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умеренная адаптация). Ребёнок хорошо относится к школе. Справляется с материалом, когда учитель наглядно и подробно все объясняет. Может отвлекаться, когда отсутствует контроль. Складываются хорошие взаимоотношения с учителем и многими ребятами. Адаптация занимает первое учебное полугодие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нарушение адаптации). Ребенок испытывает значительные трудности в привыкании к школе, складывается негативное или равнодушное отношение к школе. Задания на дом выполняет время от времени, отвлекается на занятиях, может нарушать дисциплину. Учебный материал усваивает фрагментарно, не проявляет интереса к занятиям. Может проявлять высокую агрессивность или, наоборот, тревожность, неуверенность. Трудно сходится с одноклассниками, мало с ними общается, не всех знает по имени, нет друзей в классном коллективе. Имеет подавленное настроение, жалуется на самочувствие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роявления напряжения, нарушения адаптации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ое понижение успешности работы (ослабление внимания, рассеянность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фона настроения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плаксивость, обидчивость, придирчивость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й сон (спит беспокойно, вздрагивает во сне, всхлипывает, просыпается по ночам, долго не может заснуть вечером, хотя хочет спать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тревожности или страхов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 аппетит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ость, потеря веса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на различные боли (в животе, в ногах) особенно утром перед походом в школу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идти в школу под различными благовидными предлогами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3" name="Содержимое 3" descr="FullSizeRender-23-08-18-11-51-1 (1).jpg"/>
          <p:cNvPicPr/>
          <p:nvPr/>
        </p:nvPicPr>
        <p:blipFill>
          <a:blip r:embed="rId1"/>
          <a:srcRect l="0" t="8877" r="-75" b="0"/>
          <a:stretch/>
        </p:blipFill>
        <p:spPr>
          <a:xfrm>
            <a:off x="457200" y="1066680"/>
            <a:ext cx="8153280" cy="5475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5"/>
          <p:cNvSpPr/>
          <p:nvPr/>
        </p:nvSpPr>
        <p:spPr>
          <a:xfrm>
            <a:off x="4724280" y="2438280"/>
            <a:ext cx="990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6" name="Содержимое 3" descr="FullSizeRender-23-08-18-11-51.jpg"/>
          <p:cNvPicPr/>
          <p:nvPr/>
        </p:nvPicPr>
        <p:blipFill>
          <a:blip r:embed="rId1"/>
          <a:stretch/>
        </p:blipFill>
        <p:spPr>
          <a:xfrm>
            <a:off x="457200" y="762120"/>
            <a:ext cx="837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Кризис 7 лет</a:t>
            </a: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мная точка на кривой детского развития, отделяющая один возраст от другого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могут смещаться примерно с 6 до 8 лет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438280" y="3886200"/>
            <a:ext cx="2819520" cy="68580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кризиса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04920" y="4876920"/>
            <a:ext cx="152388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ляни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057400" y="4876920"/>
            <a:ext cx="160020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рност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886200" y="4876920"/>
            <a:ext cx="175248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ризност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5791320" y="4876920"/>
            <a:ext cx="205740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лушани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64" name="Прямая со стрелкой 11"/>
          <p:cNvCxnSpPr/>
          <p:nvPr/>
        </p:nvCxnSpPr>
        <p:spPr>
          <a:xfrm>
            <a:off x="5257440" y="457200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4040280" y="4573440"/>
            <a:ext cx="837360" cy="380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6" name="Прямая со стрелкой 13"/>
          <p:cNvCxnSpPr/>
          <p:nvPr/>
        </p:nvCxnSpPr>
        <p:spPr>
          <a:xfrm flipH="1">
            <a:off x="2437920" y="4572000"/>
            <a:ext cx="9914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7" name="Прямая со стрелкой 16"/>
          <p:cNvCxnSpPr/>
          <p:nvPr/>
        </p:nvCxnSpPr>
        <p:spPr>
          <a:xfrm flipH="1">
            <a:off x="913680" y="4572000"/>
            <a:ext cx="152460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5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формирование внутренней позиции школьника, связанной с выполнением учебной работы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ей деятельностью становится учеба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иод ребенок может быть раздражительным, испытывать страхи, повышается тревожность, продолжает формироваться самооценка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понимать и осознавать свои переживания, возникает "логика чувств"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860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равила для родителей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тречать ребёнка после окончания уроков вопросом: «Что было интересного в школе?», «Что ты сегодня узнал, с кем подружился?». Давайте ребёнку отдохнуть после уроков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ребёнку формировать положительную самооценку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хвалите ребёнка, причём за все его достижения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ниманием относитесь к тому, что у вашего ребёнка что-то не будет получаться сразу, даже если это кажется вам элементарным. Запаситесь терпением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не отправлять ребёнка одновременно в первый класс и какую-либо секцию и кружок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может концентрировать внимание не более 15 – 20 минут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йте ребёнку рабочее место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я время для занятий, учитывайте тот факт, что работоспособность человека в течение суток изменяется и имеет форму М-образной кривой, которая называется «физиологическая кривая работоспособности». Самым оптимальным считается два временных промежутка с 10 до 12 часов и с 16 до 18 часов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, телевизор и любые занятия, требующие большой зрительной нагрузки должны продолжаться 35-40 минут, максимум час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рганизовать прогулки не менее двух часов в день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на свете в течение первого года учёбы ваш ребёнок нуждается в поддержке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ждение в семье создаёт атмосферу разрушения личности ребёнка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сихолог</cp:lastModifiedBy>
  <dcterms:modified xsi:type="dcterms:W3CDTF">2021-06-08T05:07:16Z</dcterms:modified>
  <cp:revision>180</cp:revision>
  <dc:subject/>
  <dc:title>Name of presentation</dc:title>
</cp:coreProperties>
</file>