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E5CD-A1EB-4B34-8A60-4E4FFF3C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99E9-957C-45C5-8707-1D37F4B6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CFF1-8A45-488B-8E45-905EFC03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562C-6A7E-478D-A6F5-782CB228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E926-7873-4879-9EB1-F0E8A46E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F29B-085D-4415-B812-1345FC7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592-409B-4CE5-8941-1A880B13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E94E-8318-48EE-86E7-2DDB4DD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AF7D-1036-4F40-BCAA-8BEECBC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99FF-D096-44DA-A5AF-BF906FE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DE6E-7CB1-47D3-99C7-C102EA4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C4E9-1B4C-424F-8B6B-8C7F0FB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AD5F-DD05-45B1-8C81-707ACAD8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BE9-32B1-4567-B8E4-4C27139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6EC3-5E89-4749-AEB6-944D8B2A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DA5F-9552-495B-8C46-40718B3B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A084-053D-4700-A642-6E1492CE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ABB4-B632-4380-A4B9-B0239C8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402E-4C00-48F3-9D51-51E45DD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5A8B-C525-4B89-85FB-A0DE2CDD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8FF8-72B3-402E-AED7-1FEEF5FD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84BC-11AC-4461-9DB3-19338A5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CEE3-D973-4AE0-BE3C-F32F8C5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9381-9B83-4E1F-9054-E9AC1AA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тнико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BA3-9A91-4737-BC3B-628040FCD9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тнико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040-9079-421F-8445-CCC8A03D58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170028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Юный декорато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:\новая\Descriptions\Articles\ФОТО\item40a.jpg"/>
          <p:cNvPicPr/>
          <p:nvPr/>
        </p:nvPicPr>
        <p:blipFill>
          <a:blip r:embed="rId1"/>
          <a:srcRect l="0" t="0" r="2305" b="0"/>
          <a:stretch/>
        </p:blipFill>
        <p:spPr>
          <a:xfrm>
            <a:off x="324000" y="4724280"/>
            <a:ext cx="2057400" cy="165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8" name="Picture 5" descr="E:\новая\Descriptions\Articles\ФОТО\clust.jpg"/>
          <p:cNvPicPr/>
          <p:nvPr/>
        </p:nvPicPr>
        <p:blipFill>
          <a:blip r:embed="rId2"/>
          <a:srcRect l="0" t="0" r="2501" b="0"/>
          <a:stretch/>
        </p:blipFill>
        <p:spPr>
          <a:xfrm>
            <a:off x="6227640" y="0"/>
            <a:ext cx="2162160" cy="1628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Picture 8" descr="E:\новая\Descriptions\Articles\ФОТО\72158.jpg"/>
          <p:cNvPicPr/>
          <p:nvPr/>
        </p:nvPicPr>
        <p:blipFill>
          <a:blip r:embed="rId3"/>
          <a:srcRect l="0" t="0" r="0" b="21416"/>
          <a:stretch/>
        </p:blipFill>
        <p:spPr>
          <a:xfrm>
            <a:off x="6804000" y="4724280"/>
            <a:ext cx="2162160" cy="163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Нижний колонтитул 5"/>
          <p:cNvSpPr/>
          <p:nvPr/>
        </p:nvSpPr>
        <p:spPr>
          <a:xfrm>
            <a:off x="2557440" y="4292640"/>
            <a:ext cx="396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школьного оздоровительного лагер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БОУ СОШ п. Сиди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йона имени Лаз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2825640" y="511200"/>
            <a:ext cx="34243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фильное объединени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чериков Михаил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Admin\Downloads\IMG-20201117-WA0028.jpg"/>
          <p:cNvPicPr/>
          <p:nvPr/>
        </p:nvPicPr>
        <p:blipFill>
          <a:blip r:embed="rId1"/>
          <a:stretch/>
        </p:blipFill>
        <p:spPr>
          <a:xfrm>
            <a:off x="611280" y="1943280"/>
            <a:ext cx="395280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611680" y="1844640"/>
            <a:ext cx="3095640" cy="388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лматова Соф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755880" cy="3803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00000" y="1871640"/>
            <a:ext cx="2808360" cy="389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гатырева Дар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dmin\Downloads\IMG-20201117-WA0066.jpg"/>
          <p:cNvPicPr/>
          <p:nvPr/>
        </p:nvPicPr>
        <p:blipFill>
          <a:blip r:embed="rId1"/>
          <a:stretch/>
        </p:blipFill>
        <p:spPr>
          <a:xfrm>
            <a:off x="1303200" y="1844640"/>
            <a:ext cx="3062520" cy="3745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5581800" y="1844640"/>
            <a:ext cx="3049560" cy="3745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томошина Дарья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Admin\Downloads\IMG-20201117-WA0045.jpg"/>
          <p:cNvPicPr/>
          <p:nvPr/>
        </p:nvPicPr>
        <p:blipFill>
          <a:blip r:embed="rId1"/>
          <a:stretch/>
        </p:blipFill>
        <p:spPr>
          <a:xfrm>
            <a:off x="611280" y="1844640"/>
            <a:ext cx="405432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357360" cy="3902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киянова Устинья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Admin\Downloads\IMG_20201118_074647_resized_20201118_033548141.jpg"/>
          <p:cNvPicPr/>
          <p:nvPr/>
        </p:nvPicPr>
        <p:blipFill>
          <a:blip r:embed="rId1"/>
          <a:stretch/>
        </p:blipFill>
        <p:spPr>
          <a:xfrm>
            <a:off x="900000" y="1846440"/>
            <a:ext cx="2914920" cy="388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148360" y="1944720"/>
            <a:ext cx="3522600" cy="362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риев Иван, 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Admin\Downloads\IMG-20201117-WA0065.jpg"/>
          <p:cNvPicPr/>
          <p:nvPr/>
        </p:nvPicPr>
        <p:blipFill>
          <a:blip r:embed="rId1"/>
          <a:stretch/>
        </p:blipFill>
        <p:spPr>
          <a:xfrm>
            <a:off x="684360" y="1995480"/>
            <a:ext cx="4357440" cy="3519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3039840" cy="3670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205000"/>
            <a:ext cx="6121440" cy="194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7905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Мастер класс</a:t>
            </a:r>
            <a:br>
              <a:rPr sz="4400"/>
            </a:b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«Пион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47280" y="1915920"/>
            <a:ext cx="6347160" cy="2665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7905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ЭЛЕКТРО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0044"/>
                </a:solidFill>
                <a:latin typeface="Arial"/>
              </a:rPr>
              <a:t>ФОТОВЫ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ицкий Михаил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Admin\Downloads\IMG-20201116-WA0036.jpg"/>
          <p:cNvPicPr/>
          <p:nvPr/>
        </p:nvPicPr>
        <p:blipFill>
          <a:blip r:embed="rId1"/>
          <a:stretch/>
        </p:blipFill>
        <p:spPr>
          <a:xfrm>
            <a:off x="755640" y="19162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326200" y="1898640"/>
            <a:ext cx="3287520" cy="390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н Ван Си Антонина, 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ownloads\IMG-20201116-WA0043.jpg"/>
          <p:cNvPicPr/>
          <p:nvPr/>
        </p:nvPicPr>
        <p:blipFill>
          <a:blip r:embed="rId1"/>
          <a:stretch/>
        </p:blipFill>
        <p:spPr>
          <a:xfrm>
            <a:off x="1332000" y="1844640"/>
            <a:ext cx="217476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678640" y="1844640"/>
            <a:ext cx="2966760" cy="3881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прун Наталья, 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Admin\Downloads\IMG-20201116-WA0048.jpg"/>
          <p:cNvPicPr/>
          <p:nvPr/>
        </p:nvPicPr>
        <p:blipFill>
          <a:blip r:embed="rId1"/>
          <a:stretch/>
        </p:blipFill>
        <p:spPr>
          <a:xfrm>
            <a:off x="1116000" y="1884240"/>
            <a:ext cx="2443320" cy="392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410080" y="1916280"/>
            <a:ext cx="3265560" cy="396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вга Ольга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\Downloads\IMG-20201117-WA0007.jpg"/>
          <p:cNvPicPr/>
          <p:nvPr/>
        </p:nvPicPr>
        <p:blipFill>
          <a:blip r:embed="rId1"/>
          <a:stretch/>
        </p:blipFill>
        <p:spPr>
          <a:xfrm>
            <a:off x="1284120" y="1844640"/>
            <a:ext cx="2443320" cy="373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235320" cy="3738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ин Игорь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\Downloads\IMG-20201117-WA0009.jpg"/>
          <p:cNvPicPr/>
          <p:nvPr/>
        </p:nvPicPr>
        <p:blipFill>
          <a:blip r:embed="rId1"/>
          <a:stretch/>
        </p:blipFill>
        <p:spPr>
          <a:xfrm>
            <a:off x="755640" y="1879560"/>
            <a:ext cx="374328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5148360" y="1914480"/>
            <a:ext cx="3547800" cy="404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ок Дарья,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Admin\Downloads\IMG-20201117-WA0024.jpg"/>
          <p:cNvPicPr/>
          <p:nvPr/>
        </p:nvPicPr>
        <p:blipFill>
          <a:blip r:embed="rId1"/>
          <a:stretch/>
        </p:blipFill>
        <p:spPr>
          <a:xfrm>
            <a:off x="1332000" y="184464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510000" cy="386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40044">
                <a:alpha val="50000"/>
              </a:srgbClr>
            </a:outerShdw>
          </a:effectLst>
        </p:spPr>
      </p:pic>
    </p:spTree>
  </p:cSld>
  <p:transition spd="slow" advTm="1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6:39:09Z</dcterms:created>
  <dc:creator>СВ</dc:creator>
  <dc:description/>
  <dc:language>en-US</dc:language>
  <cp:lastModifiedBy>Admin</cp:lastModifiedBy>
  <dcterms:modified xsi:type="dcterms:W3CDTF">2020-11-23T05:41:40Z</dcterms:modified>
  <cp:revision>80</cp:revision>
  <dc:subject/>
  <dc:title>Флористика</dc:title>
</cp:coreProperties>
</file>