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C0AF-B5FE-4558-8415-5319E8AF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F7AC-65E8-4791-B869-223612B0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6BC8-ACCE-41A4-99B9-967D9711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A150-8197-4E91-9EA1-2750C798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8B38-FDA0-4D17-8C20-EBB9DD3C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B22-8CB9-421F-AD27-55117055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C5CF-D2F6-44F6-B5C4-0EFE9ADF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818B-830D-47ED-A553-8497EB91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6FD6-6EF4-4CCD-BC18-A9FCCDD4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E98F-E144-4BF5-82C6-C4A2EC27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0A1B-AAC2-44D3-9E6D-D8F08256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FEDA-F437-4FDD-A639-8617C8BD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95A4-62AA-403F-937A-FACC5EA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A576-C304-4006-A0BF-9754FEA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332B-4C97-430E-AEFB-978DF869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ADA5-E6EA-49AC-B23C-40B47D87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823A-C464-4675-9C33-B9B54C44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5765-4E86-4889-8994-E7922261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309F-DEE0-4864-BEBB-A0E29B71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4393-E598-439D-ACBF-FE883B33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4B1F-925D-42C2-AEF3-3F55DAC5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3DE9-EF60-486D-956A-5D67066A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18C2-E478-47FF-B48D-6193F065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6D0D-F82E-404A-A7E7-9383438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отникова Светлана 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D174-4D16-4459-9856-2AB65C6708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отникова Светлана 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4729-79B5-493D-894C-5FE059C75C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5480" y="170028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Юный декорато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E:\новая\Descriptions\Articles\ФОТО\item40a.jpg"/>
          <p:cNvPicPr/>
          <p:nvPr/>
        </p:nvPicPr>
        <p:blipFill>
          <a:blip r:embed="rId1"/>
          <a:srcRect l="0" t="0" r="2305" b="0"/>
          <a:stretch/>
        </p:blipFill>
        <p:spPr>
          <a:xfrm>
            <a:off x="324000" y="4724280"/>
            <a:ext cx="2057400" cy="165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8" name="Picture 5" descr="E:\новая\Descriptions\Articles\ФОТО\clust.jpg"/>
          <p:cNvPicPr/>
          <p:nvPr/>
        </p:nvPicPr>
        <p:blipFill>
          <a:blip r:embed="rId2"/>
          <a:srcRect l="0" t="0" r="2501" b="0"/>
          <a:stretch/>
        </p:blipFill>
        <p:spPr>
          <a:xfrm>
            <a:off x="6227640" y="0"/>
            <a:ext cx="2162160" cy="1628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9" name="Picture 8" descr="E:\новая\Descriptions\Articles\ФОТО\72158.jpg"/>
          <p:cNvPicPr/>
          <p:nvPr/>
        </p:nvPicPr>
        <p:blipFill>
          <a:blip r:embed="rId3"/>
          <a:srcRect l="0" t="0" r="0" b="21416"/>
          <a:stretch/>
        </p:blipFill>
        <p:spPr>
          <a:xfrm>
            <a:off x="6804000" y="4724280"/>
            <a:ext cx="2162160" cy="1638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0" name="Нижний колонтитул 5"/>
          <p:cNvSpPr/>
          <p:nvPr/>
        </p:nvSpPr>
        <p:spPr>
          <a:xfrm>
            <a:off x="2557440" y="4292640"/>
            <a:ext cx="396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ишкольного оздоровительного лагер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БОУ СОШ п. Сидим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айона имени Лаз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2825640" y="511200"/>
            <a:ext cx="34243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офильное объединение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4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чериков Михаил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Admin\Downloads\IMG-20201117-WA0028.jpg"/>
          <p:cNvPicPr/>
          <p:nvPr/>
        </p:nvPicPr>
        <p:blipFill>
          <a:blip r:embed="rId1"/>
          <a:stretch/>
        </p:blipFill>
        <p:spPr>
          <a:xfrm>
            <a:off x="611280" y="1943280"/>
            <a:ext cx="3952800" cy="388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5611680" y="1844640"/>
            <a:ext cx="3095640" cy="388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лматова Софья, 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755880" cy="3803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00000" y="1871640"/>
            <a:ext cx="2808360" cy="3892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гатырева Дарья, 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Admin\Downloads\IMG-20201117-WA0066.jpg"/>
          <p:cNvPicPr/>
          <p:nvPr/>
        </p:nvPicPr>
        <p:blipFill>
          <a:blip r:embed="rId1"/>
          <a:stretch/>
        </p:blipFill>
        <p:spPr>
          <a:xfrm>
            <a:off x="1303200" y="1844640"/>
            <a:ext cx="3062520" cy="3745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5581800" y="1844640"/>
            <a:ext cx="3049560" cy="3745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томошина Дарья, 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Admin\Downloads\IMG-20201117-WA0045.jpg"/>
          <p:cNvPicPr/>
          <p:nvPr/>
        </p:nvPicPr>
        <p:blipFill>
          <a:blip r:embed="rId1"/>
          <a:stretch/>
        </p:blipFill>
        <p:spPr>
          <a:xfrm>
            <a:off x="611280" y="1844640"/>
            <a:ext cx="405432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3357360" cy="3902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киянова Устинья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Admin\Downloads\IMG_20201118_074647_resized_20201118_033548141.jpg"/>
          <p:cNvPicPr/>
          <p:nvPr/>
        </p:nvPicPr>
        <p:blipFill>
          <a:blip r:embed="rId1"/>
          <a:stretch/>
        </p:blipFill>
        <p:spPr>
          <a:xfrm>
            <a:off x="900000" y="1846440"/>
            <a:ext cx="2914920" cy="388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5148360" y="1944720"/>
            <a:ext cx="3522600" cy="3629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риев Иван, 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Admin\Downloads\IMG-20201117-WA0065.jpg"/>
          <p:cNvPicPr/>
          <p:nvPr/>
        </p:nvPicPr>
        <p:blipFill>
          <a:blip r:embed="rId1"/>
          <a:stretch/>
        </p:blipFill>
        <p:spPr>
          <a:xfrm>
            <a:off x="684360" y="1995480"/>
            <a:ext cx="4357440" cy="3519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3039840" cy="3670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2205000"/>
            <a:ext cx="6121440" cy="1944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7905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440044"/>
                </a:solidFill>
                <a:latin typeface="Arial"/>
              </a:rPr>
              <a:t>Мастер класс</a:t>
            </a:r>
            <a:br>
              <a:rPr sz="4400"/>
            </a:br>
            <a:r>
              <a:rPr b="1" lang="ru-RU" sz="4400" spc="-1" strike="noStrike">
                <a:solidFill>
                  <a:srgbClr val="440044"/>
                </a:solidFill>
                <a:latin typeface="Arial"/>
              </a:rPr>
              <a:t>«Пион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47280" y="1915920"/>
            <a:ext cx="6347160" cy="2665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7905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0044"/>
                </a:solidFill>
                <a:latin typeface="Arial"/>
              </a:rPr>
              <a:t>ЭЛЕКТРО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0044"/>
                </a:solidFill>
                <a:latin typeface="Arial"/>
              </a:rPr>
              <a:t>ФОТОВЫСТ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бицкий Михаил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Admin\Downloads\IMG-20201116-WA0036.jpg"/>
          <p:cNvPicPr/>
          <p:nvPr/>
        </p:nvPicPr>
        <p:blipFill>
          <a:blip r:embed="rId1"/>
          <a:stretch/>
        </p:blipFill>
        <p:spPr>
          <a:xfrm>
            <a:off x="755640" y="1916280"/>
            <a:ext cx="3933720" cy="388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326200" y="1898640"/>
            <a:ext cx="3287520" cy="390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ын Ван Си Антонина, 5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ownloads\IMG-20201116-WA0043.jpg"/>
          <p:cNvPicPr/>
          <p:nvPr/>
        </p:nvPicPr>
        <p:blipFill>
          <a:blip r:embed="rId1"/>
          <a:stretch/>
        </p:blipFill>
        <p:spPr>
          <a:xfrm>
            <a:off x="1332000" y="1844640"/>
            <a:ext cx="217476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678640" y="1844640"/>
            <a:ext cx="2966760" cy="3881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прун Наталья, 5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Admin\Downloads\IMG-20201116-WA0048.jpg"/>
          <p:cNvPicPr/>
          <p:nvPr/>
        </p:nvPicPr>
        <p:blipFill>
          <a:blip r:embed="rId1"/>
          <a:stretch/>
        </p:blipFill>
        <p:spPr>
          <a:xfrm>
            <a:off x="1116000" y="1884240"/>
            <a:ext cx="2443320" cy="3921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410080" y="1916280"/>
            <a:ext cx="3265560" cy="396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вга Ольга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\Downloads\IMG-20201117-WA0007.jpg"/>
          <p:cNvPicPr/>
          <p:nvPr/>
        </p:nvPicPr>
        <p:blipFill>
          <a:blip r:embed="rId1"/>
          <a:stretch/>
        </p:blipFill>
        <p:spPr>
          <a:xfrm>
            <a:off x="1284120" y="1844640"/>
            <a:ext cx="2443320" cy="3738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3235320" cy="3738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рокин Игорь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Admin\Downloads\IMG-20201117-WA0009.jpg"/>
          <p:cNvPicPr/>
          <p:nvPr/>
        </p:nvPicPr>
        <p:blipFill>
          <a:blip r:embed="rId1"/>
          <a:stretch/>
        </p:blipFill>
        <p:spPr>
          <a:xfrm>
            <a:off x="755640" y="1879560"/>
            <a:ext cx="3743280" cy="388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5148360" y="1914480"/>
            <a:ext cx="3547800" cy="404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ок Дарья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Admin\Downloads\IMG-20201117-WA0024.jpg"/>
          <p:cNvPicPr/>
          <p:nvPr/>
        </p:nvPicPr>
        <p:blipFill>
          <a:blip r:embed="rId1"/>
          <a:stretch/>
        </p:blipFill>
        <p:spPr>
          <a:xfrm>
            <a:off x="1332000" y="1844640"/>
            <a:ext cx="2428920" cy="3886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510000" cy="386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6:39:09Z</dcterms:created>
  <dc:creator>СВ</dc:creator>
  <dc:description/>
  <dc:language>en-US</dc:language>
  <cp:lastModifiedBy>Admin</cp:lastModifiedBy>
  <dcterms:modified xsi:type="dcterms:W3CDTF">2020-11-23T05:41:40Z</dcterms:modified>
  <cp:revision>80</cp:revision>
  <dc:subject/>
  <dc:title>Флористика</dc:title>
</cp:coreProperties>
</file>