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896-3BC4-42D3-825F-AAA77675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C68-492A-47CE-821C-8D8E22E4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5CE-4B24-4613-9D0F-AD180EBA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B59-6C62-4C7D-9F6A-669C0C5F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D6ED-A9F9-4717-8F95-84A1F542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099B-063A-4DBF-8301-ED6F2473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9D1E-07A1-44FB-BE86-A5AB70B9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2328-59F0-4670-95BD-D6947EB7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2E8D-9255-406E-85B9-1171F7A2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36DC-2774-410A-9185-3686EE1E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19EA-6D64-487B-8217-E83969FF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E40-1939-4FF6-AA6E-0451D5A3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BEB7-E7AE-4968-B240-1F4093C4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27F3-5B06-4159-BB5F-CDCF32AE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AA53-E6B4-4A12-94F2-78C06A87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98A8-358E-434B-8C32-17CF4D09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8AA0-B6EC-497C-9145-7CF2EB80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3047B-4176-421C-AD51-3179789E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28C60-F3A5-415A-B247-DCEFAF8E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8D519-083A-419D-AB54-6FDF46B5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9F5EC-7B0B-48EA-80A8-B5045B81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9DC61-C6CF-414C-BC66-B80773EB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676-4588-4B70-B148-5199C788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123B6-E6F1-4CF6-9F52-4FA70664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9EB13-C64B-415F-86B4-F9ECC14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713EB-80D1-491A-8D32-ABBA26E6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4C843-B5F0-4679-809B-4B1ADB8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18EAE-952E-4EED-8B42-470B5A09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DAC71-3ED9-47C2-80AC-2C166214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7CA0F-6BF0-4FF1-9910-071995DA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F259-957F-45F3-811A-6FACC34F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56860-1EDB-42E6-94BD-FCA5ECDC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0EDF-392A-4AFA-9C22-C398697F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9B3-BA9A-4D8A-A962-0203BFE2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1D6D-471E-41CE-BA63-5C61DCDB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65FC-7F0D-4E22-A691-0F7AA2DA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91AC9-4650-42A6-BE77-60066113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49150-393D-44FB-A832-A4D5D67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5EF2F-4B32-47F9-9880-46A9F072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7D958-D232-4A6B-843E-BEA3BB6C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8291-3E0B-4FFB-BBFA-1AC631EA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67758-0034-43E6-BFDE-A10822C6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3CCE5-382B-41D1-914F-895285E3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F7462-CA11-4449-AEBD-EB312D95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C82-136F-49B9-A0D2-4800D369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89251-4979-41CE-835B-F8DD9BEC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6A8A2-6952-4072-A7E7-29728CF5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29D4A-653D-413B-9FC5-2D99759B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001FC-C15D-4C6D-80B8-BC8389B2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99AEF-AEFD-4579-AA8E-59BA5024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A4C07-C96F-41DD-9026-3766AF72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B0B8D-B971-4201-AFF6-04A80A15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E25D4-D5E8-490D-AE06-94F1EBC0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CC804-D8AA-4820-B6FD-4308E699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42167-A932-4FC0-A06A-FA96B78C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B11-072F-44BA-9136-A878C634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865AF-2620-4DE9-942E-0F1264B8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BA388-C4A7-4A28-BF0A-8BEF1AA5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EA9F7-1D7A-4BF8-B17F-5EAE84F0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292D3-87C9-4E1D-851E-A98AFE2F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D54E7-F56F-4C4A-9B3B-D989404F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4873B-C49A-4118-8E16-46D95D80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CF0A4-2CF1-493A-A252-A35D03FB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6A3721-2BC3-42DA-A235-6789F041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70B77-8A6E-4D94-B8DE-2710FA5F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44706-F6B3-4852-9648-D8CE60C2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B68-6FD8-4FCF-B52E-018E5ABA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A227D-3015-491C-A54F-9809785D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89B97-A4B6-4519-893A-59090173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DE213-A19A-4AB4-9FBD-0EBE178E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0B0413-7C71-4784-B54E-80D6F404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46261-E930-4D7A-8499-8E2C51E5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2AF0F-D985-4606-B073-54C3A7CD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8C3AD-1EA5-4AEF-9728-8AAFBBED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E2E22-84C3-4B77-992D-57006038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3937A-F915-43A1-8C94-A1E574A1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291E9-F292-4DD9-9739-A4D4D873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762-06BF-4EAC-A41B-8800F5BE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FC762-6544-4FE8-8D12-E9D14451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6ACCF-2FCB-41D0-81AB-12A965F0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5681CD-D627-40E0-88B8-8F8CD45E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AFAF0-FFB0-4E5D-BDAF-85618770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1FA16-4162-4AB6-8C60-EAA2FA75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9BC-2D75-491A-B9E0-5B70DF0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E879-705E-495A-9D17-AEB550381B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EC89-9E57-4A0F-A2F5-34E310F2F1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0B37-DFD3-4900-87EA-03799C8D74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40EF-2F3E-4926-A170-D82457703D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8BD7-D351-46CD-B7E5-9BFE5E291B8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7930-4E31-4965-8A15-A9DC285BF9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B78E-8607-4173-A7A9-5204ACB12F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br>
              <a:rPr sz="2800"/>
            </a:b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ГРУППА МЭЛ-11.20.1 </a:t>
            </a:r>
            <a:br>
              <a:rPr sz="2800"/>
            </a:b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          СПЕЦИАЛЬНОСТЬ: 13.02.09 МОНТАЖ И      ЭКСПЛУАТАЦИЯ ЛИНИЙ ЭЛЕКТРОПЕРЕДАЧИ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057400" y="25146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МДК 06.01 Технология выполнения работ по профессии 19855 Электромонтер по ремонту воздушных линий электропередач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рактическое заняти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2611c"/>
                </a:solidFill>
                <a:latin typeface="Antiqua Ho"/>
              </a:rPr>
              <a:t>          </a:t>
            </a:r>
            <a:r>
              <a:rPr b="1" i="1" lang="ru-RU" sz="5400" spc="-1" strike="noStrike">
                <a:solidFill>
                  <a:srgbClr val="d2611c"/>
                </a:solidFill>
                <a:latin typeface="Antiqua Ho"/>
              </a:rPr>
              <a:t>ЦЕЛЬ УРОКА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95280" y="190476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ься организовывать собственную деятельность, выбирать типовые методы и способы выполнения профессиональных задач, оценивать их эффективность и качеств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ься работать в коллективе и в команде, эффективно общаться с коллегами, руководством, потребителя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14600" y="6858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2611c"/>
                </a:solidFill>
                <a:latin typeface="Antiqua Ho"/>
              </a:rPr>
              <a:t>ПЛАН УРОКА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447920" y="1828800"/>
          <a:ext cx="6400800" cy="4308480"/>
        </p:xfrm>
        <a:graphic>
          <a:graphicData uri="http://schemas.openxmlformats.org/drawingml/2006/table">
            <a:tbl>
              <a:tblPr/>
              <a:tblGrid>
                <a:gridCol w="6400800"/>
              </a:tblGrid>
              <a:tr h="6822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мин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8413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Решение профессиональных задач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2618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идео-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Посы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8413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«Решение нестандартной ситуации студент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818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ведение итог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entury Schoolbook"/>
              </a:rPr>
              <a:t>ПРОВО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E:\Ибраевой Э.А.2012-2013гг\ЛЕКЦИИ\ОТКРЫТЫЕ УРОКИ\ОТКРЫТЫЙ УРОК весна 2020\7-4.jpg"/>
          <p:cNvPicPr/>
          <p:nvPr/>
        </p:nvPicPr>
        <p:blipFill>
          <a:blip r:embed="rId1"/>
          <a:stretch/>
        </p:blipFill>
        <p:spPr>
          <a:xfrm>
            <a:off x="689040" y="1295280"/>
            <a:ext cx="754056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entury Schoolbook"/>
              </a:rPr>
              <a:t>АЛГОРИТМ РЕШЕНИЯ ЗАДАЧИ НА ВЫБОР СЕЧЕНИЯ ПРОВ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Находим суммарную потребляемую мощ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Находим коэффициент спро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Находим расчетную мощ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Находим силу т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Выбираем сечение пров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.Выбираем марку пров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0448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611c"/>
                </a:solidFill>
                <a:latin typeface="Antiqua Ho"/>
              </a:rPr>
              <a:t>ВЫБОР СЕЧЕНИЯ ПРОВОДОВ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"/>
          <p:cNvSpPr/>
          <p:nvPr/>
        </p:nvSpPr>
        <p:spPr>
          <a:xfrm>
            <a:off x="4160880" y="618336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5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"/>
          <p:cNvSpPr/>
          <p:nvPr/>
        </p:nvSpPr>
        <p:spPr>
          <a:xfrm>
            <a:off x="1676520" y="2055960"/>
            <a:ext cx="640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пределить сечения и марки проводов для монтажа электропроводки в большом производственном объекте (например, на заводе) питание которой осуществляется от осветительного щитка.   Необходимо установить 2 лампы накаливания по 150 Вт, 14 ламп  по 60 Вт, 3 ламп по 15 Вт и от осветительного щитка. На заводе необходимо установить электронагревательные приборы (ТЭН) общей мощностью 4 кВт. Напряжение сети 220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"/>
          <p:cNvSpPr/>
          <p:nvPr/>
        </p:nvSpPr>
        <p:spPr>
          <a:xfrm>
            <a:off x="3216240" y="586728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5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"/>
          <p:cNvSpPr/>
          <p:nvPr/>
        </p:nvSpPr>
        <p:spPr>
          <a:xfrm>
            <a:off x="1676520" y="205596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пределить сечения и марки проводов для монтажа электропроводки в приемной офиса, питание которой осуществляется от осветительного щитка.   Необходимо установить 24 люминесцентных ламп  накаливания по 70 Вт. Также необходимо установить куллер (водонагреватель)   мощностью 550Вт. Напряжение сети 220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1104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611c"/>
                </a:solidFill>
                <a:latin typeface="Antiqua Ho"/>
              </a:rPr>
              <a:t>ВЫБОР СЕЧЕНИЯ ПРОВО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"/>
          <p:cNvSpPr/>
          <p:nvPr/>
        </p:nvSpPr>
        <p:spPr>
          <a:xfrm>
            <a:off x="3216240" y="586728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3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"/>
          <p:cNvSpPr/>
          <p:nvPr/>
        </p:nvSpPr>
        <p:spPr>
          <a:xfrm>
            <a:off x="1676520" y="205596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инии электроосвещения, обеспечивающей питание гражданского сооружения с 30 лампами накаливания мощностью до 500 Вт каждая, четырёхпроводной, напряжением сети 380/220В, проводами марки АПВ, проложенными в металлической трубе, надо рассчитать ток плавкой вставки и выбрать предохран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104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611c"/>
                </a:solidFill>
                <a:latin typeface="Antiqua Ho"/>
              </a:rPr>
              <a:t>ВЫБОР ПРЕДОХРАНИТ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"/>
          <p:cNvSpPr/>
          <p:nvPr/>
        </p:nvSpPr>
        <p:spPr>
          <a:xfrm>
            <a:off x="3216240" y="586728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3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76520" y="2055960"/>
            <a:ext cx="64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ть ток плавкой вставки предохранителя для защиты электрической сети, если в жилом доме к групповому этажному щитку освещения с напряжением сети 220В подключены четыре квартиры, потребляемая мощность осветительных и нагревательных токоприёмников которых соответственно 2,1кВт, 1,6кВт, 2,7кВт, 3,5к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104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611c"/>
                </a:solidFill>
                <a:latin typeface="Antiqua Ho"/>
              </a:rPr>
              <a:t>ВЫБОР ПРЕДОХРАНИТ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"/>
          <p:cNvSpPr/>
          <p:nvPr/>
        </p:nvSpPr>
        <p:spPr>
          <a:xfrm>
            <a:off x="3216240" y="586728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3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"/>
          <p:cNvSpPr/>
          <p:nvPr/>
        </p:nvSpPr>
        <p:spPr>
          <a:xfrm>
            <a:off x="1676520" y="205596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автоматический выключатель для управления и защиты группы ламп накаливания общей номинальной мощностью Рн=2кВт при номинальном напряжении сети 220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1104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d2611c"/>
                </a:solidFill>
                <a:latin typeface="Antiqua Ho"/>
              </a:rPr>
              <a:t>ВЫБОР АВТОМАТИЧЕСКОГО ВЫКЛЮЧАТЕЛ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"/>
          <p:cNvSpPr/>
          <p:nvPr/>
        </p:nvSpPr>
        <p:spPr>
          <a:xfrm>
            <a:off x="2987640" y="457200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3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1"/>
          <p:cNvSpPr/>
          <p:nvPr/>
        </p:nvSpPr>
        <p:spPr>
          <a:xfrm>
            <a:off x="1676520" y="205596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щиты осветительных электроустановок общей мощностью 5,2 кВт необходимо выбрать автоматический выключатель. Номинальное напряжение сети 220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104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d2611c"/>
                </a:solidFill>
                <a:latin typeface="Antiqua Ho"/>
              </a:rPr>
              <a:t>ВЫБОР АВТОМАТИЧЕСКОГО ВЫКЛЮЧАТЕЛ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578800" cy="32385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7" descr="Картинки по запросу картинка вопросительный знак"/>
          <p:cNvPicPr/>
          <p:nvPr/>
        </p:nvPicPr>
        <p:blipFill>
          <a:blip r:embed="rId2"/>
          <a:stretch/>
        </p:blipFill>
        <p:spPr>
          <a:xfrm>
            <a:off x="41148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040" y="2209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entury Schoolbook"/>
              </a:rPr>
              <a:t>ВИДЕОВОПРОС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2989080" y="603108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5+3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entury Schoolbook"/>
              </a:rPr>
              <a:t>НЕ СТАНДАРТНАЯ СИТУАЦИЯ СТУДЕН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457200" y="12304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удент практикант пришел в производственный цех на практику.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Главный энергетик дает ему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 рассчитать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чение кабел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ля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фрезерных станков, 2 токарных станков и пр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вещение выполнено люминесцентными ламп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ее нужно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аппарат  защит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оборудования и осв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езерные станки: 2,5 кВт, 2х3кВт, 3,5кВт, 2х9к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карные станки: 5кВт,11к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сс: 45к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минесцентные лампы: 64 шт по 70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ЧТО </a:t>
            </a:r>
            <a:br>
              <a:rPr sz="4300"/>
            </a:b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        НАХОДИТСЯ </a:t>
            </a:r>
            <a:br>
              <a:rPr sz="4300"/>
            </a:b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                          В ПОСЫЛКЕ?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762120" y="205740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ПР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ычно эти аппараты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стоят из патрона и плавкой вставки и различаются по номинальному напряжению и то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"/>
          <p:cNvSpPr/>
          <p:nvPr/>
        </p:nvSpPr>
        <p:spPr>
          <a:xfrm>
            <a:off x="4083120" y="548640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1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76520" y="-7632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ДОМАШНЕЕ ЗАДАНИ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0520" y="20574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алгоритм всех расчетов по выбору сечения проводов и выбору аппаратов защит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533160" y="6858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668c4"/>
                </a:solidFill>
                <a:latin typeface="Century Schoolbook"/>
              </a:rPr>
              <a:t>"Три М"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Century Schoolbook"/>
              </a:rPr>
              <a:t>Назовите три момента, которые у вас получились хорошо в процессе урока, и предложите одно действие, которое улучшит вашу работу на следующем уроке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438280" y="129492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Прямоугольник 1"/>
          <p:cNvSpPr/>
          <p:nvPr/>
        </p:nvSpPr>
        <p:spPr>
          <a:xfrm>
            <a:off x="685800" y="533520"/>
            <a:ext cx="8077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ектронные справ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еренко В.М. Мысьянов А.М. Технология электромонтажных работ: учеб.пособие для нач.проф.образования-6-е изд.стер.-М.:Издательский центр «Академия»,201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устройства электроустановок 7-е из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578800" cy="3238560"/>
          </a:xfrm>
          <a:prstGeom prst="rect">
            <a:avLst/>
          </a:prstGeom>
          <a:ln w="0">
            <a:noFill/>
          </a:ln>
        </p:spPr>
      </p:pic>
      <p:sp>
        <p:nvSpPr>
          <p:cNvPr id="356" name="TextBox 4"/>
          <p:cNvSpPr/>
          <p:nvPr/>
        </p:nvSpPr>
        <p:spPr>
          <a:xfrm>
            <a:off x="1622520" y="45496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ВЫКЛЮЧА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82440" y="1295280"/>
            <a:ext cx="9061560" cy="2486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7" descr="Картинки по запросу картинка вопросительный знак"/>
          <p:cNvPicPr/>
          <p:nvPr/>
        </p:nvPicPr>
        <p:blipFill>
          <a:blip r:embed="rId2"/>
          <a:stretch/>
        </p:blipFill>
        <p:spPr>
          <a:xfrm>
            <a:off x="41148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82440" y="1295280"/>
            <a:ext cx="9061560" cy="24861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1"/>
          <p:cNvSpPr/>
          <p:nvPr/>
        </p:nvSpPr>
        <p:spPr>
          <a:xfrm>
            <a:off x="1981080" y="45720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ЗАНУ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6515280" cy="2314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"/>
          <p:cNvPicPr/>
          <p:nvPr/>
        </p:nvPicPr>
        <p:blipFill>
          <a:blip r:embed="rId2"/>
          <a:stretch/>
        </p:blipFill>
        <p:spPr>
          <a:xfrm>
            <a:off x="6553080" y="1676520"/>
            <a:ext cx="2571840" cy="1800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7" descr="Картинки по запросу картинка вопросительный знак"/>
          <p:cNvPicPr/>
          <p:nvPr/>
        </p:nvPicPr>
        <p:blipFill>
          <a:blip r:embed="rId3"/>
          <a:stretch/>
        </p:blipFill>
        <p:spPr>
          <a:xfrm>
            <a:off x="3733920" y="40384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6515280" cy="2314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2"/>
          <a:stretch/>
        </p:blipFill>
        <p:spPr>
          <a:xfrm>
            <a:off x="6553080" y="1676520"/>
            <a:ext cx="2571840" cy="18000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1981080" y="45720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ЗАЗЕМ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111720" cy="3087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"/>
          <p:cNvPicPr/>
          <p:nvPr/>
        </p:nvPicPr>
        <p:blipFill>
          <a:blip r:embed="rId2"/>
          <a:stretch/>
        </p:blipFill>
        <p:spPr>
          <a:xfrm>
            <a:off x="2451240" y="3164040"/>
            <a:ext cx="3949560" cy="33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2611c"/>
                </a:solidFill>
                <a:latin typeface="Antiqua Ho"/>
              </a:rPr>
              <a:t>ТЕМА УРОКА: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Содержимое 3" descr=""/>
          <p:cNvPicPr/>
          <p:nvPr/>
        </p:nvPicPr>
        <p:blipFill>
          <a:blip r:embed="rId1"/>
          <a:stretch/>
        </p:blipFill>
        <p:spPr>
          <a:xfrm>
            <a:off x="1504800" y="1474920"/>
            <a:ext cx="6559560" cy="477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</cp:lastModifiedBy>
  <dcterms:modified xsi:type="dcterms:W3CDTF">2021-03-14T13:19:41Z</dcterms:modified>
  <cp:revision>4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