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75F-9DCD-4836-BAD4-1C244143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3BF-4B65-44EE-A11F-30F20F54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266-19E6-4AE7-9A74-C5D695F0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002-7263-4D98-B571-2036E468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A914-7EF3-4B87-8B78-38980518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2010-4880-4AED-8F5D-66F08B2F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9218-0C68-4C3C-8546-1FB576E4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A83B-E90E-483C-B8EA-F2C2D032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22E7-C7F4-488F-BDF7-4CF91370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E354-111F-4A0F-8B89-1C964401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2D8F-E4EE-49F3-BB82-A0DF8D46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42B-7A73-49BD-B043-13D76CC2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995F-FC00-435E-85F9-0A3DA4C1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3062-8629-414F-899B-543DC886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640F-8036-47CF-8FD9-FDC724DA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71D4-7E77-4404-8DA4-853EB007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4DA3-8C23-4BE3-B362-D8FBADC9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DD1E3-2CC0-4072-810B-B01FF14F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CF4D4-09B6-4662-8B13-8E2D3BF8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33CB5-8685-468C-843F-150A1BB7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D4A79-72C4-4379-9D64-07AC01F0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519A0-FA61-4011-BD80-321FDAC1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0B1-AB15-4C61-BE1A-182C3BC6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B2757-18A5-4405-A981-FF87F543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B33F5-3EA3-4C47-9151-6E673EC5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F8908-2C78-46C4-BECF-A802899F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8BB47-7F29-47DE-B4EC-0B488BD5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0D6D7-BAA6-4F5C-A19E-7ACAF61F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7421A-FDF6-42FD-A677-9C2E6A10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CBFD5-18C3-471C-8380-E9F6BFD1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9DB4F-4CE3-4230-A2C9-CE6A83D1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4E20C-8670-4530-BA5C-9EA24917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50136-BF52-4D28-B19A-7B413DFB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22B-A1A1-44CD-BF97-2AE17E23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59ABD-F775-4F5F-BD36-DC65748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1319E-7B2E-4EE0-81BF-E84D6367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7D687-8CA1-4714-A538-0E419FB9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29B0-72E3-42EC-A8A9-2EFA4FC9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D2C8-8D5C-44E6-9239-487C14FF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CBC0-A9ED-4B8F-ACD7-C19E734B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11EC4-7248-482A-9928-7CE8A4B9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E8B7-BECD-4ECF-96AA-5D2FD738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F4341-BA76-434A-8B36-6AE472CC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3D3A3-B1CF-4167-9D0C-7FB2D3CE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AFB-04C0-46F7-A7B3-70EBB084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5AE00-7206-408A-92ED-A1E499E1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AFE66-91F2-404D-AAE7-8EAEC41E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B046C-E7BD-42CF-BDDB-91196D61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CF6FD-E3AF-44DC-AB39-B47F3941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BB4F2-F079-4706-9EDE-1E8FF37B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EA0CF-D9CC-4EA6-9A64-597FD56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382A3-0F37-483C-AA78-C33F0F6F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F65AD-CA7F-4373-A0E4-E543643F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997B8-E445-45DF-B327-4958C132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01408-2CC0-422C-B7B3-2DB5B712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AA4-4DD4-4A42-95EC-92638F79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2D7AB-88F4-4C7B-80F5-504C29D6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E252E-36B4-420E-A140-21D49742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3C7BF-68F5-477E-8F46-2188F8F9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8074F-8AE1-4621-A858-78022696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6388D-6114-4B33-BE4F-C11768BD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51DC9-3236-4EAD-AD14-2BF28694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BAD2C-4A82-4B1E-B3BF-8EEF0345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EB47D-9BA6-4900-9C6A-A97B3A02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159BF-638F-4673-89B9-5B916C17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76182-7840-4FF6-8AD5-E31B546F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3A4-AFED-404A-AB72-E499E74B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7AD5E-C23D-40C0-A57F-F62DEB93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F6DAA-4629-4B9B-9420-7A561577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4B27F-C612-43A1-BDDF-39BDB259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ED13A-9B23-451C-8F2A-354775C8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AAB927-C34D-4E34-B819-1602EBFA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25622-BBDB-4F9D-9C38-F82DE298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BACF8-EE6B-4BB1-A848-EF2A576D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23E52-90AB-400B-926D-A4279F07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49A44-622C-45CE-9FB9-20E1DDE6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0336E1-C2E2-4534-8639-62263A64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210-9BF7-49EA-AD8D-008C5203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B0D57-8C9A-4C26-AC14-55F737C7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9A2D2-36EF-4F2B-B865-B2F9613C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BE6B9-851B-40AD-BBE0-551CF094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D3736-7B54-476F-B575-E2CCADC2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8FB62-0576-448F-BECA-432EDAA2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70D-D438-4A71-9D59-5AEDD587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8672-B077-4C98-A1EA-D57019274E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25D7-E25F-4EEA-85D9-FEDA4EC2A5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35B5-94EB-403A-8CAD-84ACC1D23C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AACE-91BE-4FBF-A308-903B5B0ECE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5EA3-D507-4265-9ACE-48E533D3DE5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CA7D-96CB-4FCB-93C5-3E0AE6C201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44FF-0F4E-47EC-B374-A6F6ED4AC3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br>
              <a:rPr sz="2800"/>
            </a:b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ГРУППА МЭЛ-11.20.1 </a:t>
            </a:r>
            <a:br>
              <a:rPr sz="2800"/>
            </a:b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          СПЕЦИАЛЬНОСТЬ: 13.02.09 МОНТАЖ И      ЭКСПЛУАТАЦИЯ ЛИНИЙ ЭЛЕКТРОПЕРЕДАЧИ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057400" y="25146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МДК 06.01 Технология выполнения работ по профессии 19855 Электромонтер по ремонту воздушных линий электропередач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рактическое заняти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2611c"/>
                </a:solidFill>
                <a:latin typeface="Antiqua Ho"/>
              </a:rPr>
              <a:t>          </a:t>
            </a:r>
            <a:r>
              <a:rPr b="1" i="1" lang="ru-RU" sz="5400" spc="-1" strike="noStrike">
                <a:solidFill>
                  <a:srgbClr val="d2611c"/>
                </a:solidFill>
                <a:latin typeface="Antiqua Ho"/>
              </a:rPr>
              <a:t>ЦЕЛЬ УРОКА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95280" y="190476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ься организовывать собственную деятельность, выбирать типовые методы и способы выполнения профессиональных задач, оценивать их эффективность и качеств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ься работать в коллективе и в команде, эффективно общаться с коллегами, руководством, потребителя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14600" y="6858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2611c"/>
                </a:solidFill>
                <a:latin typeface="Antiqua Ho"/>
              </a:rPr>
              <a:t>ПЛАН УРОКА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447920" y="1828800"/>
          <a:ext cx="6400800" cy="4308480"/>
        </p:xfrm>
        <a:graphic>
          <a:graphicData uri="http://schemas.openxmlformats.org/drawingml/2006/table">
            <a:tbl>
              <a:tblPr/>
              <a:tblGrid>
                <a:gridCol w="6400800"/>
              </a:tblGrid>
              <a:tr h="6822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мин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8413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Решение профессиональных задач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2618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идео-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Посы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8413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«Решение нестандартной ситуации студент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818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ведение итог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entury Schoolbook"/>
              </a:rPr>
              <a:t>ПРОВО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E:\Ибраевой Э.А.2012-2013гг\ЛЕКЦИИ\ОТКРЫТЫЕ УРОКИ\ОТКРЫТЫЙ УРОК весна 2020\7-4.jpg"/>
          <p:cNvPicPr/>
          <p:nvPr/>
        </p:nvPicPr>
        <p:blipFill>
          <a:blip r:embed="rId1"/>
          <a:stretch/>
        </p:blipFill>
        <p:spPr>
          <a:xfrm>
            <a:off x="689040" y="1295280"/>
            <a:ext cx="754056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entury Schoolbook"/>
              </a:rPr>
              <a:t>АЛГОРИТМ РЕШЕНИЯ ЗАДАЧИ НА ВЫБОР СЕЧЕНИЯ ПРОВ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Находим суммарную потребляемую мощ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Находим коэффициент спро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Находим расчетную мощ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Находим силу т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Выбираем сечение пров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.Выбираем марку пров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0448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611c"/>
                </a:solidFill>
                <a:latin typeface="Antiqua Ho"/>
              </a:rPr>
              <a:t>ВЫБОР СЕЧЕНИЯ ПРОВОДОВ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"/>
          <p:cNvSpPr/>
          <p:nvPr/>
        </p:nvSpPr>
        <p:spPr>
          <a:xfrm>
            <a:off x="4160880" y="618336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5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"/>
          <p:cNvSpPr/>
          <p:nvPr/>
        </p:nvSpPr>
        <p:spPr>
          <a:xfrm>
            <a:off x="1676520" y="2055960"/>
            <a:ext cx="640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пределить сечения и марки проводов для монтажа электропроводки в большом производственном объекте (например, на заводе) питание которой осуществляется от осветительного щитка.   Необходимо установить 2 лампы накаливания по 150 Вт, 14 ламп  по 60 Вт, 3 ламп по 15 Вт и от осветительного щитка. На заводе необходимо установить электронагревательные приборы (ТЭН) общей мощностью 4 кВт. Напряжение сети 220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"/>
          <p:cNvSpPr/>
          <p:nvPr/>
        </p:nvSpPr>
        <p:spPr>
          <a:xfrm>
            <a:off x="3216240" y="586728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5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"/>
          <p:cNvSpPr/>
          <p:nvPr/>
        </p:nvSpPr>
        <p:spPr>
          <a:xfrm>
            <a:off x="1676520" y="205596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пределить сечения и марки проводов для монтажа электропроводки в приемной офиса, питание которой осуществляется от осветительного щитка.   Необходимо установить 24 люминесцентных ламп  накаливания по 70 Вт. Также необходимо установить куллер (водонагреватель)   мощностью 550Вт. Напряжение сети 220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1104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611c"/>
                </a:solidFill>
                <a:latin typeface="Antiqua Ho"/>
              </a:rPr>
              <a:t>ВЫБОР СЕЧЕНИЯ ПРОВО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"/>
          <p:cNvSpPr/>
          <p:nvPr/>
        </p:nvSpPr>
        <p:spPr>
          <a:xfrm>
            <a:off x="3216240" y="586728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3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"/>
          <p:cNvSpPr/>
          <p:nvPr/>
        </p:nvSpPr>
        <p:spPr>
          <a:xfrm>
            <a:off x="1676520" y="205596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инии электроосвещения, обеспечивающей питание гражданского сооружения с 30 лампами накаливания мощностью до 500 Вт каждая, четырёхпроводной, напряжением сети 380/220В, проводами марки АПВ, проложенными в металлической трубе, надо рассчитать ток плавкой вставки и выбрать предохран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104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611c"/>
                </a:solidFill>
                <a:latin typeface="Antiqua Ho"/>
              </a:rPr>
              <a:t>ВЫБОР ПРЕДОХРАНИТ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"/>
          <p:cNvSpPr/>
          <p:nvPr/>
        </p:nvSpPr>
        <p:spPr>
          <a:xfrm>
            <a:off x="3216240" y="586728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3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76520" y="2055960"/>
            <a:ext cx="64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ть ток плавкой вставки предохранителя для защиты электрической сети, если в жилом доме к групповому этажному щитку освещения с напряжением сети 220В подключены четыре квартиры, потребляемая мощность осветительных и нагревательных токоприёмников которых соответственно 2,1кВт, 1,6кВт, 2,7кВт, 3,5к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104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611c"/>
                </a:solidFill>
                <a:latin typeface="Antiqua Ho"/>
              </a:rPr>
              <a:t>ВЫБОР ПРЕДОХРАНИТ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"/>
          <p:cNvSpPr/>
          <p:nvPr/>
        </p:nvSpPr>
        <p:spPr>
          <a:xfrm>
            <a:off x="3216240" y="586728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3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"/>
          <p:cNvSpPr/>
          <p:nvPr/>
        </p:nvSpPr>
        <p:spPr>
          <a:xfrm>
            <a:off x="1676520" y="205596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автоматический выключатель для управления и защиты группы ламп накаливания общей номинальной мощностью Рн=2кВт при номинальном напряжении сети 220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1104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d2611c"/>
                </a:solidFill>
                <a:latin typeface="Antiqua Ho"/>
              </a:rPr>
              <a:t>ВЫБОР АВТОМАТИЧЕСКОГО ВЫКЛЮЧАТЕЛ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5"/>
          <p:cNvSpPr/>
          <p:nvPr/>
        </p:nvSpPr>
        <p:spPr>
          <a:xfrm>
            <a:off x="2362320" y="136836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Задание №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"/>
          <p:cNvSpPr/>
          <p:nvPr/>
        </p:nvSpPr>
        <p:spPr>
          <a:xfrm>
            <a:off x="2987640" y="457200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3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1"/>
          <p:cNvSpPr/>
          <p:nvPr/>
        </p:nvSpPr>
        <p:spPr>
          <a:xfrm>
            <a:off x="1676520" y="205596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щиты осветительных электроустановок общей мощностью 5,2 кВт необходимо выбрать автоматический выключатель. Номинальное напряжение сети 220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104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d2611c"/>
                </a:solidFill>
                <a:latin typeface="Antiqua Ho"/>
              </a:rPr>
              <a:t>ВЫБОР АВТОМАТИЧЕСКОГО ВЫКЛЮЧАТЕЛ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578800" cy="32385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7" descr="Картинки по запросу картинка вопросительный знак"/>
          <p:cNvPicPr/>
          <p:nvPr/>
        </p:nvPicPr>
        <p:blipFill>
          <a:blip r:embed="rId2"/>
          <a:stretch/>
        </p:blipFill>
        <p:spPr>
          <a:xfrm>
            <a:off x="41148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040" y="2209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entury Schoolbook"/>
              </a:rPr>
              <a:t>ВИДЕОВОПРОС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2989080" y="603108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5+3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entury Schoolbook"/>
              </a:rPr>
              <a:t>НЕ СТАНДАРТНАЯ СИТУАЦИЯ СТУДЕН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457200" y="12304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удент практикант пришел в производственный цех на практику.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Главный энергетик дает ему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 рассчитать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чение кабел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ля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фрезерных станков, 2 токарных станков и пр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вещение выполнено люминесцентными ламп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ее нужно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аппарат  защит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оборудования и осв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езерные станки: 2,5 кВт, 2х3кВт, 3,5кВт, 2х9к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карные станки: 5кВт,11к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сс: 45к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минесцентные лампы: 64 шт по 70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ЧТО </a:t>
            </a:r>
            <a:br>
              <a:rPr sz="4300"/>
            </a:b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        НАХОДИТСЯ </a:t>
            </a:r>
            <a:br>
              <a:rPr sz="4300"/>
            </a:b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                          В ПОСЫЛКЕ?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762120" y="205740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ПР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ычно эти аппараты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стоят из патрона и плавкой вставки и различаются по номинальному напряжению и то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"/>
          <p:cNvSpPr/>
          <p:nvPr/>
        </p:nvSpPr>
        <p:spPr>
          <a:xfrm>
            <a:off x="4083120" y="548640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611c"/>
                </a:solidFill>
                <a:latin typeface="Arial"/>
              </a:rPr>
              <a:t>Время выполнения 1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76520" y="-7632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ДОМАШНЕЕ ЗАДАНИ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0520" y="20574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алгоритм всех расчетов по выбору сечения проводов и выбору аппаратов защит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533160" y="6858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668c4"/>
                </a:solidFill>
                <a:latin typeface="Century Schoolbook"/>
              </a:rPr>
              <a:t>"Три М"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Century Schoolbook"/>
              </a:rPr>
              <a:t>Назовите три момента, которые у вас получились хорошо в процессе урока, и предложите одно действие, которое улучшит вашу работу на следующем уроке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438280" y="129492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Прямоугольник 1"/>
          <p:cNvSpPr/>
          <p:nvPr/>
        </p:nvSpPr>
        <p:spPr>
          <a:xfrm>
            <a:off x="685800" y="533520"/>
            <a:ext cx="8077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ектронные справ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еренко В.М. Мысьянов А.М. Технология электромонтажных работ: учеб.пособие для нач.проф.образования-6-е изд.стер.-М.:Издательский центр «Академия»,201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устройства электроустановок 7-е из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578800" cy="3238560"/>
          </a:xfrm>
          <a:prstGeom prst="rect">
            <a:avLst/>
          </a:prstGeom>
          <a:ln w="0">
            <a:noFill/>
          </a:ln>
        </p:spPr>
      </p:pic>
      <p:sp>
        <p:nvSpPr>
          <p:cNvPr id="356" name="TextBox 4"/>
          <p:cNvSpPr/>
          <p:nvPr/>
        </p:nvSpPr>
        <p:spPr>
          <a:xfrm>
            <a:off x="1622520" y="45496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ВЫКЛЮЧА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82440" y="1295280"/>
            <a:ext cx="9061560" cy="2486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7" descr="Картинки по запросу картинка вопросительный знак"/>
          <p:cNvPicPr/>
          <p:nvPr/>
        </p:nvPicPr>
        <p:blipFill>
          <a:blip r:embed="rId2"/>
          <a:stretch/>
        </p:blipFill>
        <p:spPr>
          <a:xfrm>
            <a:off x="41148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82440" y="1295280"/>
            <a:ext cx="9061560" cy="24861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1"/>
          <p:cNvSpPr/>
          <p:nvPr/>
        </p:nvSpPr>
        <p:spPr>
          <a:xfrm>
            <a:off x="1981080" y="45720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ЗАНУ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6515280" cy="2314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"/>
          <p:cNvPicPr/>
          <p:nvPr/>
        </p:nvPicPr>
        <p:blipFill>
          <a:blip r:embed="rId2"/>
          <a:stretch/>
        </p:blipFill>
        <p:spPr>
          <a:xfrm>
            <a:off x="6553080" y="1676520"/>
            <a:ext cx="2571840" cy="1800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7" descr="Картинки по запросу картинка вопросительный знак"/>
          <p:cNvPicPr/>
          <p:nvPr/>
        </p:nvPicPr>
        <p:blipFill>
          <a:blip r:embed="rId3"/>
          <a:stretch/>
        </p:blipFill>
        <p:spPr>
          <a:xfrm>
            <a:off x="3733920" y="40384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6515280" cy="2314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2"/>
          <a:stretch/>
        </p:blipFill>
        <p:spPr>
          <a:xfrm>
            <a:off x="6553080" y="1676520"/>
            <a:ext cx="2571840" cy="18000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1981080" y="45720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ЗАЗЕМ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111720" cy="3087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"/>
          <p:cNvPicPr/>
          <p:nvPr/>
        </p:nvPicPr>
        <p:blipFill>
          <a:blip r:embed="rId2"/>
          <a:stretch/>
        </p:blipFill>
        <p:spPr>
          <a:xfrm>
            <a:off x="2451240" y="3164040"/>
            <a:ext cx="3949560" cy="33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2611c"/>
                </a:solidFill>
                <a:latin typeface="Antiqua Ho"/>
              </a:rPr>
              <a:t>ТЕМА УРОКА: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Содержимое 3" descr=""/>
          <p:cNvPicPr/>
          <p:nvPr/>
        </p:nvPicPr>
        <p:blipFill>
          <a:blip r:embed="rId1"/>
          <a:stretch/>
        </p:blipFill>
        <p:spPr>
          <a:xfrm>
            <a:off x="1504800" y="1474920"/>
            <a:ext cx="6559560" cy="477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</cp:lastModifiedBy>
  <dcterms:modified xsi:type="dcterms:W3CDTF">2021-03-14T13:19:41Z</dcterms:modified>
  <cp:revision>4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