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1BDE-4737-4154-8047-2D0DF7441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FEF3-1251-4C62-B781-FC5830BA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95C1-A883-44DC-BB18-17F5B7F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169E-BD37-4AC6-A4F8-FC88EAFF0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855-BF7B-4607-ADCF-AF1AF51E6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A78-D128-4E34-A3B3-2F503E3ED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A09-2886-4ABE-A0A8-9CBF6E864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9C5-52EE-4279-8F78-E7F1F3CDDF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F9D-21B2-4258-BD25-CDF579BAAE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7A6-319D-4220-96E7-E0C8C2446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DF7-86F9-4494-9141-5DBB600E7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5F9A-CDE4-4B7F-BFBC-2EFD591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F07-FE10-4CE4-BC81-BA10D5523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B25-291D-4469-BE79-C6EF0942DA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EF2-2DE0-4F2C-AA98-BA586BDC8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8C9-7DB5-4CD6-84C4-6C4C7698A1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2FA-F33F-4C2A-B1E7-8105A854A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CCCE-3CC1-405D-9B33-29222E1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134D-8FC9-48DC-BC30-3E43427E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0B0D-D116-4CC5-8AB1-45F48B87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C9A9-1527-439F-A4C0-0621CDF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6388-CE7C-48C5-AD77-D32FD80D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376C-5429-4782-997B-427926D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6011-0857-4D3A-80F3-F9BB388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9960"/>
            <a:ext cx="2131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4032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39960"/>
            <a:ext cx="2132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57CE48-41A0-430C-94B6-E93AA3A950D3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8F74C7-9014-414F-8D33-1B62263397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INFI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ФОРМЫ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ИНФИНИТИВ БЕЗ ЧАСТИЦЫ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“T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ИНТАКСИЧЕСКИЕ ФУНКЦИИ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>
            <a:hlinkClick r:id="rId1" action="ppaction://hlinksldjump"/>
          </p:cNvPr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57120" y="2142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TATE THE SYNTACTIC FUNCTION OF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INFINITIVE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57120" y="3571920"/>
            <a:ext cx="8329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needs a pl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live 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опреде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57120" y="178596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magaz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57120" y="135720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s to believ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подлежащ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7120" y="1357200"/>
            <a:ext cx="76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s to belie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57120" y="17859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magazin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прямое 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57120" y="2500200"/>
            <a:ext cx="7358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57120" y="228600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r aim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fin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te’s hous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57120" y="22147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r aim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fin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te’s hous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часть именного сказуем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57120" y="26431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on time we must hurry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обстоятельство це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 flipH="1">
            <a:off x="356400" y="27147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on time we must hur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57120" y="3143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agr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com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57120" y="307188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agr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com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ten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57120" y="35719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needs a pl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live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57120" y="44290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You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 healthy di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00040" y="43578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You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 healthy diet</a:t>
            </a:r>
            <a:r>
              <a:rPr b="0" lang="en-US" sz="2400" spc="-1" strike="noStrike">
                <a:solidFill>
                  <a:srgbClr val="953735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составное глагольное сказуем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57120" y="407196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57120" y="40006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book. </a:t>
            </a:r>
            <a:r>
              <a:rPr b="0" lang="en-US" sz="2400" spc="-1" strike="noStrike">
                <a:solidFill>
                  <a:srgbClr val="953735"/>
                </a:solidFill>
                <a:latin typeface="Cambria"/>
              </a:rPr>
              <a:t>(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прямое 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42920" y="6143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7858080" y="61437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979640" y="214200"/>
            <a:ext cx="5113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РУН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85840" y="1484280"/>
            <a:ext cx="85723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ФОРМЫ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ВОЙСТВА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И ВЫРАЖЕНИЯ, ТРЕБУЮЩИЕ ПОСЛЕ СЕБЯ       ГЕРУН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И ВЫРАЖЕНИЯ, ТРЕБУЮЩИЕ ПОСЛЕ СЕБЯ ГЕРУНДИЙ С ОПРЕДЕЛЁННЫМ ПРЕДЛО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С КОТОРЫМИ ИСПОЛЬЗУЕТСЯ КАК ГЕРУНДИЙ ТАК И ИНФИНИТ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ИНТАКСИЧЕСКИЕ ФУНКЦИИ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">
            <a:hlinkClick r:id="rId1" action="ppaction://hlinksldjump"/>
          </p:cNvPr>
          <p:cNvSpPr/>
          <p:nvPr/>
        </p:nvSpPr>
        <p:spPr>
          <a:xfrm>
            <a:off x="250920" y="62373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РУНДИЙ 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GERUND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95280" y="1989000"/>
            <a:ext cx="8353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УНДИ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неличная форма глагола, имеющая грамматические особенности как глагола так и существительного и всегда выражающая действие как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ГЕРУ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2276640"/>
          <a:ext cx="8304120" cy="2844720"/>
        </p:xfrm>
        <a:graphic>
          <a:graphicData uri="http://schemas.openxmlformats.org/drawingml/2006/table">
            <a:tbl>
              <a:tblPr/>
              <a:tblGrid>
                <a:gridCol w="1800360"/>
                <a:gridCol w="2809800"/>
                <a:gridCol w="3693960"/>
              </a:tblGrid>
              <a:tr h="779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20653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ri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187" name="AutoShape 26">
            <a:hlinkClick r:id="rId1" action="ppaction://hlinksldjump"/>
          </p:cNvPr>
          <p:cNvSpPr/>
          <p:nvPr/>
        </p:nvSpPr>
        <p:spPr>
          <a:xfrm>
            <a:off x="214200" y="6072120"/>
            <a:ext cx="978120" cy="6429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979640" y="404640"/>
            <a:ext cx="65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ВОЙСТВА ГЕРУ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539640" y="150336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ет употребляться после предл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s fond of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9640" y="2708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ет определяться притяжательным местоим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существительным в притяжательном или общ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nsisted on my leaving at o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Он настаивал, чтобы я уш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39640" y="5175360"/>
            <a:ext cx="751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предложении выполняет те же функции, что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итель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428760" y="6143760"/>
            <a:ext cx="1143000" cy="5554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785880" y="2858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ЛАГОЛЫ И ВЫРАЖЕНИЯ, ТРЕБУЮЩИ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ОСЛЕ СЕБЯ ГЕРУНД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57120" y="1928880"/>
            <a:ext cx="41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void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избе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n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триц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njo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олучать удовольствие от чего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xcus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изви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in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канч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orgiv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ро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wort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ст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nnot help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могу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00720" y="1928880"/>
            <a:ext cx="3929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void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избе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n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триц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njo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олучать удовольствие от чего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xcus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изви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in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канч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orgiv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ро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wort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ст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nnot help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могу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">
            <a:hlinkClick r:id="rId1" action="ppaction://hlinksldjump"/>
          </p:cNvPr>
          <p:cNvSpPr/>
          <p:nvPr/>
        </p:nvSpPr>
        <p:spPr>
          <a:xfrm>
            <a:off x="214200" y="607212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14200" y="285840"/>
            <a:ext cx="835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ЛАГОЛЫ И ВЫРАЖЕНИЯ, ТРЕБУЮЩ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ПОСЛЕ СЕБЯ ГЕРУНДИЙ С ОПРЕДЕЛЕННЫМИ ПРЕДЛОГАМИ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14200" y="1785960"/>
            <a:ext cx="41436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pend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зависеть 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rely o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полагать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insist o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настаивать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object to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возражать прот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gree to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соглашать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hear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слышать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think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думать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thank for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благодарить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event from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пятствовать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572000" y="1785960"/>
            <a:ext cx="428616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fond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лю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sure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быть уверенным в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pleased at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ыть довольным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surprised at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удивляться чему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interested i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интересоваться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afraid of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бояться чего-ли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ook forward to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ждать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ерпе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8760" y="214200"/>
            <a:ext cx="79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 НЕКОТОРЫМИ ГЛАГОЛАМИ ИСПОЛЬЗУЕТСЯ КАК ГЕРУНДИЙ, ТАК И ИНФИНИТИ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28760" y="20718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gin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ачин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st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ачин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ik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рав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hat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енавид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286160" y="207180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pref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предпочи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ov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люб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stop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прекрат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continu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продол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>
            <a:hlinkClick r:id="rId1" action="ppaction://hlinksldjump"/>
          </p:cNvPr>
          <p:cNvSpPr/>
          <p:nvPr/>
        </p:nvSpPr>
        <p:spPr>
          <a:xfrm>
            <a:off x="214200" y="607212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200" y="0"/>
            <a:ext cx="85726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ТАКСИЧЕСКИЕ ФУНКЦИИ ГЕРУНДИЯ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85840" y="1214280"/>
            <a:ext cx="8497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УНДИЙ МОЖЕТ УПОТРЕБЛЯЕТСЯ В ПРЕДЛОЖЕНИИ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ДЛЕЖАЩЕ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ading is useful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Чтение полез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*   КАК ЧАСТЬ СКАЗУЕМОГО ПОСЛЕ ГЛАГОЛОВ 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to finish, to start, to continue, to go on, to keep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 др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started reading the book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Он начал читать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ПРЕДЛОЖНОЕ ДОПОЛ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 am fond of reading</a:t>
            </a:r>
            <a:r>
              <a:rPr b="0" lang="en-US" sz="18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Я люблю чит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ПРЯМОЕ ДОПОЛ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 you mind my reading here?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Вы не против моего чтения зде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ОБСТОЯТЕЛЬСТВО ВР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fter reading he closed the book</a:t>
            </a:r>
            <a:r>
              <a:rPr b="0" lang="en-US" sz="18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После чтения он закрыл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ОБСТОЯТЕЛЬСТВО ОБРАЗА ДЕЙСТ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tead of reading he went to the movies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Вместо чтения он пошел в ки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>
            <a:hlinkClick r:id="rId1" action="ppaction://hlinksldjump"/>
          </p:cNvPr>
          <p:cNvSpPr/>
          <p:nvPr/>
        </p:nvSpPr>
        <p:spPr>
          <a:xfrm>
            <a:off x="28584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914400" y="260280"/>
            <a:ext cx="73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9144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Translate into Russian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y attention to the Gerund. Define its function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Gerund or the Infin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gerund in active or passive form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Translate into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Answer th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">
            <a:hlinkClick r:id="rId1" action="ppaction://hlinksldjump"/>
          </p:cNvPr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95280" y="1268280"/>
            <a:ext cx="82296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НФИНИТИ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900" spc="-1" strike="noStrike">
                <a:solidFill>
                  <a:srgbClr val="000000"/>
                </a:solidFill>
                <a:latin typeface="Cambria"/>
              </a:rPr>
              <a:t>неличная форма глагола, обладающая признаками глагола и существительного. Признаком инфинитива является частица </a:t>
            </a:r>
            <a:r>
              <a:rPr b="0" i="1" lang="en-US" sz="2900" spc="-1" strike="noStrike">
                <a:solidFill>
                  <a:srgbClr val="000000"/>
                </a:solidFill>
                <a:latin typeface="Cambria"/>
              </a:rPr>
              <a:t>“to”</a:t>
            </a:r>
            <a:r>
              <a:rPr b="0" i="1" lang="ru-RU" sz="2900" spc="-1" strike="noStrike">
                <a:solidFill>
                  <a:srgbClr val="000000"/>
                </a:solidFill>
                <a:latin typeface="Cambria"/>
              </a:rPr>
              <a:t>. Инфинитив соответствует в русском языке неопределённой форме глагола, которая отвечает на вопрос «что делать? что сделать?»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192560" y="2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71720" y="3571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INITIV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TE THE SYNTACTIC FUNCTION OF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GERUND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11280" y="126828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11280" y="157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1280" y="85572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Repai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cars is his business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65200" y="11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11280" y="836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Repai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cars is his business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ba2418"/>
                </a:solidFill>
                <a:latin typeface="Cambria"/>
              </a:rPr>
              <a:t>(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Подлежащее</a:t>
            </a:r>
            <a:r>
              <a:rPr b="0" lang="en-US" sz="2000" spc="-1" strike="noStrike">
                <a:solidFill>
                  <a:srgbClr val="ba2418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11280" y="1197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you finish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wri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1280" y="119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you finish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wri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?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11280" y="1557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a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 cold shower in the morning is very health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11280" y="1557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a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 cold shower in the morning is very healthy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одлежаще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11280" y="1935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am fond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i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but my sister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611280" y="1989000"/>
            <a:ext cx="85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am fond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i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but my sister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едложное дополнение/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11280" y="2637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teacher said, “Go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l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George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611280" y="263700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teacher said, “Go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l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George.”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11280" y="2997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gave u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mo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he was 3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11280" y="3068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gave u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mo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he was 30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едложн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11280" y="3429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doesn’t mind 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tay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ith his friend’s fami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611280" y="342900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doesn’t mind 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tay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ith his friend’s fami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11280" y="407664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new film is wor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e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611280" y="414972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new film is wor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e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539640" y="42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11280" y="4527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liv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lo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611280" y="45086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liv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lone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611280" y="4941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stopp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hatte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she ente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611280" y="4941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stopp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hatte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she entered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GERUND OR THE INFINI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5877000"/>
            <a:ext cx="8229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68360" y="1071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rted (write) my letter this aftern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8360" y="1052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rt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write/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letter this aftern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68360" y="148428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e promised (go) to the do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1484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e promis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do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68360" y="193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(Travel) by air is inter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68360" y="1916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rav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ir is inter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68360" y="2421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he enjoys (cook) Indian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68360" y="2421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he enjoys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an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68360" y="2924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ould you mind (open) the wind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68360" y="2924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ould you min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op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ind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68360" y="3357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’m looking forward to (see) my parents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68360" y="3357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’m looking forward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see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parents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68360" y="37893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eter gave up (learn)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68360" y="378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eter gave up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46836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asha stopped (read) the advertis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68360" y="429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asha stopp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dvertis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68360" y="4724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lison likes (sit) at home and (read) the books in the ev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468360" y="4724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lison likes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sit/si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ome an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read/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oks in the ev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68360" y="55166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he kept on (tell) 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68360" y="551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he kept on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REQUIRED FORM OF THE GERUND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628640"/>
            <a:ext cx="8686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    She tried to avoid (to speak)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having spoken   b)                               c) spe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    The doctor insisted on (to send) the sick man to hosp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                                b) being sent         c) having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    He is good at (to repair) c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being repaired   b)                               c) having been repa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    The problem is not worth (to discus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having discussed    b) being discussed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    Do you mind him (to examine) by a heart special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                                      b) having examined     c) exa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635280" y="198900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332000" y="2708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851280" y="342900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659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403280" y="486900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76712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635280" y="1916280"/>
            <a:ext cx="20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258920" y="263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78000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588000" y="409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cu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32000" y="48880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187280" y="474336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1258920" y="488808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258920" y="4888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ing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RANSLATE INTO ENGLISH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457200" y="5877000"/>
            <a:ext cx="8229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95280" y="10000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н думает однажды поехать в Амер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95280" y="981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hinks of going to America some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14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на любила танцевать, когда была мол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95280" y="141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fond of dancing when she was yo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95280" y="184464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н поблагодарил меня за зво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95280" y="184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hanked me for ca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95280" y="227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на согласилась погостить у них л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5280" y="227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agreed to staying with them during the sum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95280" y="2727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на удивилась, получив от него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27082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surprised at having received a letter from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395280" y="31417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н был заинтересован в сотрудничестве с этой фир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95280" y="31417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interested in cooperating with this comp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95280" y="3573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на ждала с нетерпением, когда получит в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95280" y="3573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looked forward to getting the vi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95280" y="4005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Я настаиваю на том, чтобы помочь 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95280" y="4005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insist on helping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395280" y="443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Она простила его за то, что он не писал 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395280" y="4437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orgave him for not writing to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03120" y="4672080"/>
            <a:ext cx="801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395280" y="486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Он не может не рассказать эту истор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395280" y="486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nnot help telling this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642960" y="0"/>
            <a:ext cx="8218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NSWER THE QUESTIONS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57200" y="1600200"/>
            <a:ext cx="82296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films do you think are worth see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you enjoy travelling by plain?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do you do after coming home from schoo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ch do you enjoy more, going to the theatre or going to the mov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you like or dislike travelling long distance by tr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do you expect to stop studying Englis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places are worth visiting in your to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71640" y="5158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АСТИЕ 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ARTICIPLE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684360" y="13082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ПОСОБЫ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84360" y="206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ОРМЫ ПРИЧАСТ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84360" y="386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НТАКСИЧЕСКИЕ ФУНКЦИИ ПРИЧАСТ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4360" y="4714920"/>
            <a:ext cx="37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4360" y="294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ВОЙСТВА  ПРИЧАС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500960" y="-357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2479680" y="189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90600" y="1052640"/>
            <a:ext cx="8358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неличная  форма глагола, обладающая признаками глагола, прилагательного и наречия. Является самостоятельной частью речи. В английском языке нет такой части речи, как деепричастие. Поэтому в русском языке английскому причастию соответствует как причастие, так и деепричастие</a:t>
            </a: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258920" y="2509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ПОСОБЫ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826920" y="1042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Всего существует два причастия в английском язы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3"/>
          <p:cNvSpPr/>
          <p:nvPr/>
        </p:nvSpPr>
        <p:spPr>
          <a:xfrm flipH="1">
            <a:off x="2482560" y="2205000"/>
            <a:ext cx="209052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4572000" y="2205000"/>
            <a:ext cx="20160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95280" y="2924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АСТИЕ НАСТОЯЩ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LE 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003640" y="2924280"/>
            <a:ext cx="41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АСТИЕ ПРОШЕД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LE 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24000" y="450864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а  глагола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iling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788000" y="450864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ьные глаг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финитив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(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равильные глаг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лонка таблицы глаг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9">
            <a:hlinkClick r:id="rId1" action="ppaction://hlinksldjump"/>
          </p:cNvPr>
          <p:cNvSpPr/>
          <p:nvPr/>
        </p:nvSpPr>
        <p:spPr>
          <a:xfrm>
            <a:off x="214200" y="5929200"/>
            <a:ext cx="1214640" cy="71460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250920" y="2080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ПРИЧАСТИЯ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ARTICIPLE 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684360" y="836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временные различия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efinite, Perfect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образованное от переход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ов, име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я  залог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tive,  Pas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28760" y="2428920"/>
          <a:ext cx="8570880" cy="4270320"/>
        </p:xfrm>
        <a:graphic>
          <a:graphicData uri="http://schemas.openxmlformats.org/drawingml/2006/table">
            <a:tbl>
              <a:tblPr/>
              <a:tblGrid>
                <a:gridCol w="1928520"/>
                <a:gridCol w="2319480"/>
                <a:gridCol w="2181240"/>
                <a:gridCol w="2141640"/>
              </a:tblGrid>
              <a:tr h="87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8169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fini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a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fdc7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Одновременно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с действием основного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Reading this book he cannot help laugh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867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play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Предшествующе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действию основного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aving finished the book I put it asid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320" name="AutoShape 47">
            <a:hlinkClick r:id="rId1" action="ppaction://hlinksldjump"/>
          </p:cNvPr>
          <p:cNvSpPr/>
          <p:nvPr/>
        </p:nvSpPr>
        <p:spPr>
          <a:xfrm>
            <a:off x="357120" y="63579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500040" y="5716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ПОМ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083120" y="1401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3440" y="1216080"/>
            <a:ext cx="83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articiple I Indefinit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уется для обо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редшествующего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ействия, если мы имеем глаг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сприятия               и                 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496160" y="2800440"/>
            <a:ext cx="125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f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no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525640" y="2727360"/>
            <a:ext cx="24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come,    to 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arrive,   to le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turn,     to se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146240" y="495936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earing  some nois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t the corridor I locked the d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973880" y="539280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Entering the room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she greeted everyb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468360" y="501336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1258920" y="55166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16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ИНФИНИТ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2920" y="857160"/>
          <a:ext cx="8788320" cy="5553000"/>
        </p:xfrm>
        <a:graphic>
          <a:graphicData uri="http://schemas.openxmlformats.org/drawingml/2006/table">
            <a:tbl>
              <a:tblPr/>
              <a:tblGrid>
                <a:gridCol w="1579680"/>
                <a:gridCol w="2055600"/>
                <a:gridCol w="1739880"/>
                <a:gridCol w="34131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дновременное с действием сказуем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We like to watch T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23984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тельное, происходящее сей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e must be working in the garden now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been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шествующее действию сказуем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e was sorry to have asked him to com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been wri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лось до действия, выраженного сказуем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She looks tired. She seems to have been working all the mor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90" name="AutoShape 72">
            <a:hlinkClick r:id="rId1" action="ppaction://hlinksldjump"/>
          </p:cNvPr>
          <p:cNvSpPr/>
          <p:nvPr/>
        </p:nvSpPr>
        <p:spPr>
          <a:xfrm>
            <a:off x="142920" y="62150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79280" y="260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ПРИЧАСТИЯ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ARTICIPL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I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250920" y="1359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articiple 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только одну форму. Говоря о врем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личиях причастия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следует учесть, что оно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ражать дейст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дновременно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 глагол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редшествующе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глаг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900000" y="3141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s ey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ix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n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irritat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e. (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времен. дейст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pic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museum. (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дшеств.      дейст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539640" y="306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39640" y="3573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42800" y="4672080"/>
            <a:ext cx="81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уется в основном в пассив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л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2303640" y="595008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saw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brok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up on the flo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87840" y="5848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286000" y="56610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ssive v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1763640" y="6021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1">
            <a:hlinkClick r:id="rId1" action="ppaction://hlinksldjump"/>
          </p:cNvPr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1547640" y="260280"/>
            <a:ext cx="66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ВОЙСТВА 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24000" y="1341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сочетает в себе свойства глагола (имеет категории времени, вида, залога) и прилагательного (в предложении причастие мо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 выполнять функцию опреде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95280" y="3068640"/>
            <a:ext cx="762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LE 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четает в себе признаки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ING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дущий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итающий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и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92200" y="524844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LE 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разуется от основы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WRITE – WRITTEN 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пис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PLAY – PLAYED -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ыгр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4119480" y="4478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50920" y="2695680"/>
            <a:ext cx="864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57120" y="2602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ТАКСИЧЕСКИЕ ФУНКЦИИ ПРИЧАСТИЙ В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42800" y="13413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ЧАСТИЕ НАСТОЯЩЕГО ВРЕМЕНИ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IPLE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ЕТ УПОТРЕБЛЯТЬСЯ В ПРЕДЛОЖЕНИИ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24000" y="2421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*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МЕННАЯ ЧАСТЬ СКАЗУЕМ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826920" y="2852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looked at the bookshelf: on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was mi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Я посмотрел на книжную полку: одной книги не хват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39337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971640" y="429264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saw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milin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girl</a:t>
            </a:r>
            <a:r>
              <a:rPr b="0" lang="en-US" sz="24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 Я видел улыбающуюся девуш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395280" y="508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900000" y="544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Knowin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English well he was able to read this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Зная английский хорошо, он смог прочитать эту книгу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0" y="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ЧАСТИЕ ПРОШЕДШЕГО ВРЕМЕНИ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RTICIPLE 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ЖЕТ УПОТРЕБЛЯТЬСЯ В ПРЕДЛОЖЕНИИ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611280" y="1844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МЕННАЯ ЧАСТЬ СКАЗУЕМ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484360" y="2349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limate of Russi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is vari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Климат России разнообраз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539640" y="3357720"/>
            <a:ext cx="30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411280" y="378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y pho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los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he park is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Моя фотография, потерянная в парке, важ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39640" y="494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411280" y="5516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reedom I’ll build a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Когда выйду на свободу, я построю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28584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3568680" y="571680"/>
            <a:ext cx="31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826920" y="2205000"/>
            <a:ext cx="63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85880" y="3714840"/>
            <a:ext cx="6448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785880" y="357336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orrect the mistak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785880" y="2781360"/>
            <a:ext cx="71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oose the correct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785880" y="14842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late into Russ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785880" y="22050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nd out if the sentence is correc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0000" y="1773360"/>
            <a:ext cx="780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2214720" y="642960"/>
            <a:ext cx="64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RANSLATE INTO RUS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409680" y="6164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03640" y="128412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 She had her hair do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236160" y="12841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Cambria"/>
              </a:rPr>
              <a:t>1.  </a:t>
            </a:r>
            <a:r>
              <a:rPr b="0" lang="ru-RU" sz="2400" spc="-1" strike="noStrike">
                <a:solidFill>
                  <a:srgbClr val="ba2418"/>
                </a:solidFill>
                <a:latin typeface="Cambria"/>
              </a:rPr>
              <a:t>Она уложила волосы вч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60080" y="178920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I must get my TV repa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-8280" y="1789200"/>
            <a:ext cx="80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Cambria"/>
              </a:rPr>
              <a:t>2.  </a:t>
            </a:r>
            <a:r>
              <a:rPr b="0" lang="ru-RU" sz="2400" spc="-1" strike="noStrike">
                <a:solidFill>
                  <a:srgbClr val="ba2418"/>
                </a:solidFill>
                <a:latin typeface="Cambria"/>
              </a:rPr>
              <a:t>Я должен получить мой телевизор почин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81240" y="229536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sun having risen, we continued our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73320" y="229536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Хотя солнце встало, мы продолжили наш пу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378000" y="28004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 saw him run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72600" y="28004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Я видел, как он беж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378000" y="33037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remembered him locking the d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74760" y="3303720"/>
            <a:ext cx="59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Я вспомнил его, закрывающим две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381240" y="38084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heard singing in the corri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4400" y="380844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Было слышно, как она поет в корид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379440" y="4383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this work done quick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71880" y="4383000"/>
            <a:ext cx="77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Он хотел, чтобы эта работа была сделана быст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20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IND OUT IF THE SENTENCE IS RIGHT OR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358920" y="6164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49720" y="178920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The man walked slowly as if hiding from some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7505640" y="1792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96440" y="229248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Be careful when cross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059440" y="2295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8120" y="2797200"/>
            <a:ext cx="73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While walking our dog we found a wallet full of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7792920" y="2800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506160" y="330048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When come home I ran into my old school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7147080" y="330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503640" y="380520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I like to fall asleep listening to classical mu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6711840" y="3808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1920" y="43797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My brother watching TV when doing his home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7578720" y="43830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503280" y="488484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Playing the guitar well he joined a rock b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6640560" y="488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523440" y="546084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When looking through my family photos I often feel happ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927840" y="575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35280" y="549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OOSE THE CORRECT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0920" y="1773360"/>
            <a:ext cx="862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07800" y="62308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19120" y="1550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39840" y="140184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78000" y="12636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ba241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-237960" y="1335240"/>
            <a:ext cx="91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f … home in a taxi we shall save a lot of tim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put, t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22840" y="1335240"/>
            <a:ext cx="63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f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me in a taxi we shall save a lot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219960" y="1839960"/>
            <a:ext cx="88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en … freedom I’ll build a house and get marri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given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227160" y="183996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en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giv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dom I’ll build a house and get marr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1040" y="234324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… to college the boy is now missing his frien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put, s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226800" y="2343240"/>
            <a:ext cx="65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S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llege the boy is now missing his fri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231840" y="2852640"/>
            <a:ext cx="890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… up in leather she attracted men’s atten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broken, dressed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223920" y="284796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 Dres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p in leather she attracted men’s atten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19240" y="3351240"/>
            <a:ext cx="84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ven … the construction looked impressi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taken, put, bro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227520" y="335124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ven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bro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onstruction looked impress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221040" y="3927600"/>
            <a:ext cx="87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y credit card … in the park has much money on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lost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225720" y="3927600"/>
            <a:ext cx="68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y credit card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l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park has much money o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8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8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8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8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484360" y="47628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RRECT THE MIST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88800" y="627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36560" y="13590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She heard her name c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55640" y="135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She heard her name c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733680" y="20080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I was kept to wait in the hall for an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736560" y="200808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I was kept waiting in the hall for an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735120" y="272736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They were seen crossed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735120" y="2708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hey were seen crossing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735120" y="373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735480" y="34480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We want to have our piano to tu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736560" y="34480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We want to have our piano tu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736560" y="416736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We’ll have the house to pa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738360" y="416736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We’ll have the house pai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735120" y="48880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I saw the girl to dance in the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736560" y="48880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I saw the girl dancing in the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2876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 БЕЗ ЧАСТИЦЫ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920" y="1052640"/>
            <a:ext cx="8713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сле всех вспомогательных и модальных глаголов ( кроме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ough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В составе сложного дополнения после глаголов чувственного восприятия: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o see, to feel, to watch, to observe, to notice, to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после этих же глаголов в пассивной форме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потреб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глаголов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o let, to make, need, d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дальном знач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выражений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had better, would rather, would sooner, cannot but, does nothing bu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В специальных вопросах, начинающихся с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wh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n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слов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han, rather than, but, ex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Если два инфинитива соединены словам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r,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астица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д вторым инфинитивом может быть опущ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сле глаголов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now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lp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нфинитив может быть с частицей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ли без н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14292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57120" y="184320"/>
            <a:ext cx="8786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ТАКСИЧЕСКИЕ ФУНКЦИИ ИНФИНИТИВА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57120" y="1628640"/>
            <a:ext cx="822960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длежащее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 - 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To study is her duty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Частью составного именного сказуемого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His dream was to become an artis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Частью составного глагольного сказуемого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 -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Now I begin to understand you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Дополнением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Our students like to read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м, заменяющим целое придаточное определительное предложение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My friend has brought me an interesting book to read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м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I think I will go to England to improve my Englis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результата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Mary knew English well enough to understand the tex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равнения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Soon she realized that it was much more pleasant to give than to be give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Вводные слова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to begin with, to be frank, to put it mildly, to tell the truth, strange to s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14292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9480" y="107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1071720"/>
            <a:ext cx="9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ФИНИТИВ МОЖЕТ УПОТРЕБЛЯТЬСЯ В ПРЕДЛОЖЕНИИ К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2">
            <a:hlinkClick r:id="rId1" action="ppaction://hlinksldjump"/>
          </p:cNvPr>
          <p:cNvSpPr/>
          <p:nvPr/>
        </p:nvSpPr>
        <p:spPr>
          <a:xfrm>
            <a:off x="285840" y="60721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Translate from English into Russ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 Insert “to” where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required form of th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State the syntactic function of th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85840" y="-163440"/>
            <a:ext cx="87152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RANSLATE</a:t>
            </a:r>
            <a:r>
              <a:rPr b="1" lang="en-US" sz="4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ROM ENGLISH INTO RUSSIAN</a:t>
            </a: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5143680"/>
            <a:ext cx="822960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85840" y="10717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ick preferred to do anything but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157176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s likely to know her add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85840" y="2000160"/>
            <a:ext cx="51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ina seems to know English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85840" y="242892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They were asked to come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5840" y="28576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The text is easy enough for you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85840" y="328608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’m sorry to have interrupte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85840" y="3714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didn’t expect their team to win the g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85840" y="41432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She was absent yesterday. She may have been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85840" y="10717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Ник предпочёл заняться чем угодно, кром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50920" y="155736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Он, вероятно, знает её ад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85840" y="20001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Кажется, Нина хорошо знает англий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85840" y="242892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Их попросили прийти по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85840" y="28576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Текст достаточно лёгкий для поним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85840" y="3286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Извините, что прервал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85840" y="3714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. Мы не ожидали что их команда выиграет иг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85840" y="41432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. Она отсутствовала вчера. Возможно она забол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85840" y="4643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You must do it at o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8584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. Ты должен сделать это немедл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85840" y="50720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r. Walter went to see who was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5840" y="50720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 Мистер Волтер пошёл посмотреть кто при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3">
            <a:hlinkClick r:id="rId1" action="ppaction://hlinksldjump"/>
          </p:cNvPr>
          <p:cNvSpPr/>
          <p:nvPr/>
        </p:nvSpPr>
        <p:spPr>
          <a:xfrm>
            <a:off x="800100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95280" y="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SERT “to” WHER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7200" y="4000680"/>
            <a:ext cx="82296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Most people supposed him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e a 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28760" y="9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ou ought not …  sit up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28760" y="9288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ou ought not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t up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8760" y="135720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I’d rather … see the cases my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28760" y="135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I’d rather see the cases my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28760" y="17859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There are hundred things … b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17733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There are hundred things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28760" y="2214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I like to hear her … 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28760" y="2214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I like to hear her 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28760" y="264312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Why not … make him a doctor, like his f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28760" y="264312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Why not make him a doctor, like his f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28760" y="31431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He was seen … leave the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28760" y="31431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He was seen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ve the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28760" y="357192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We should allow him … come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28760" y="35719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We should allow him come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28760" y="40006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Most people supposed him … be a 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428760" y="44290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Don’t let us … wast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428760" y="442908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Don’t let us wast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428760" y="48578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0. It is simple … translate these sent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28760" y="485784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0. It is simple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ranslate these sent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214200" y="6143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3">
            <a:hlinkClick r:id="rId1" action="ppaction://hlinksldjump"/>
          </p:cNvPr>
          <p:cNvSpPr/>
          <p:nvPr/>
        </p:nvSpPr>
        <p:spPr>
          <a:xfrm>
            <a:off x="7786800" y="621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REQUIRED FORM OF THE INFINITIV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396720" y="1407960"/>
            <a:ext cx="8404560" cy="5156280"/>
            <a:chOff x="396720" y="1407960"/>
            <a:chExt cx="8404560" cy="5156280"/>
          </a:xfrm>
        </p:grpSpPr>
        <p:pic>
          <p:nvPicPr>
            <p:cNvPr id="150" name="Picture 3" descr=""/>
            <p:cNvPicPr/>
            <p:nvPr/>
          </p:nvPicPr>
          <p:blipFill>
            <a:blip r:embed="rId1"/>
            <a:stretch/>
          </p:blipFill>
          <p:spPr>
            <a:xfrm>
              <a:off x="396720" y="1407960"/>
              <a:ext cx="8404560" cy="51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4"/>
            <p:cNvSpPr/>
            <p:nvPr/>
          </p:nvSpPr>
          <p:spPr>
            <a:xfrm>
              <a:off x="396720" y="1407960"/>
              <a:ext cx="840456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Text Box 5"/>
          <p:cNvSpPr/>
          <p:nvPr/>
        </p:nvSpPr>
        <p:spPr>
          <a:xfrm>
            <a:off x="714240" y="2071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to be quarr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143160" y="31431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)to have been 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572760" y="39290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072040" y="414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)to be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00200" y="485784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) to be lo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9429840" y="55720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 flipH="1">
            <a:off x="928080" y="5643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to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2">
            <a:hlinkClick r:id="rId2" action="ppaction://hlinksldjump"/>
          </p:cNvPr>
          <p:cNvSpPr/>
          <p:nvPr/>
        </p:nvSpPr>
        <p:spPr>
          <a:xfrm>
            <a:off x="778680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6:13:08Z</dcterms:created>
  <dc:creator>User</dc:creator>
  <dc:description/>
  <dc:language>en-US</dc:language>
  <cp:lastModifiedBy>Я</cp:lastModifiedBy>
  <dcterms:modified xsi:type="dcterms:W3CDTF">2021-06-08T19:19:25Z</dcterms:modified>
  <cp:revision>123</cp:revision>
  <dc:subject/>
  <dc:title>Неличные формы глагола</dc:title>
</cp:coreProperties>
</file>