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C8353-69BC-4A87-B417-D40F04584F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A427D-4E80-45EC-8934-55E385BE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2B837-03E3-4D8E-838A-B9033659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595BB-B411-4993-8817-F9C60B696D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4B9-0D14-4ECE-8125-47A0CB0805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EFC-582E-4898-A415-85FEB34C71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189-AAAA-4BC4-90A0-D6DCFFC016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43E-7884-4F69-BD21-0921087BF5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4FE-EEB0-4E7D-B5CC-9885C0CE04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E95-D19D-4F3D-B025-5EB9A2C9A0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65E-38D9-4A2D-BCB6-45B327096D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8C61-7963-4EEF-A66A-91B0FBCB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494-E554-43AF-9652-8EA66D78FD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6A2-17DB-422D-AA01-4A8C5F6DAD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014-2BC6-4074-9AD8-6A023CE1B6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1F48-2DDA-4426-98A6-45EF372CCB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516-72A4-4E89-BE2E-849EB0E6AA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BB9F2-19EA-4418-9D0A-BA5A6805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5A34C-16FB-40A6-B983-D818B477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F96D0-98EF-497E-8209-55F176F2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21059-4950-44E7-8CFC-98372A45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3712-A879-417E-A116-364472CF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785D-AF12-4AF4-B97D-DD3BA4CF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8CC73-3EA4-4EFE-99C8-29881370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39960"/>
            <a:ext cx="21319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4032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39960"/>
            <a:ext cx="2132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D7CE3A-B981-4759-81B3-8BFE8DED1ECB}" type="slidenum">
              <a:rPr b="0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529A81-C6E3-4578-84B4-0DE6BAC468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НФИНИТИВ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INFINIT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ФОРМЫ ИНФИНИТ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ИНФИНИТИВ БЕЗ ЧАСТИЦЫ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“T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СИНТАКСИЧЕСКИЕ ФУНКЦИИ ИНФИНИТ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3">
            <a:hlinkClick r:id="rId1" action="ppaction://hlinksldjump"/>
          </p:cNvPr>
          <p:cNvSpPr/>
          <p:nvPr/>
        </p:nvSpPr>
        <p:spPr>
          <a:xfrm>
            <a:off x="214200" y="621504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357120" y="21420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TATE THE SYNTACTIC FUNCTION OF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INFINITIVE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57120" y="3571920"/>
            <a:ext cx="83296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e needs a pla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live i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953735"/>
                </a:solidFill>
                <a:latin typeface="Cambria"/>
              </a:rPr>
              <a:t>(определ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spcBef>
                <a:spcPts val="4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57120" y="178596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 asked hi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giv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 a magaz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57120" y="1357200"/>
            <a:ext cx="75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se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ans to believe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953735"/>
                </a:solidFill>
                <a:latin typeface="Cambria"/>
              </a:rPr>
              <a:t>(подлежаще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57120" y="1357200"/>
            <a:ext cx="76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se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ans to belie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57120" y="17859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 asked hi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giv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 a magazine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953735"/>
                </a:solidFill>
                <a:latin typeface="Cambria"/>
              </a:rPr>
              <a:t>(прямое дополн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357120" y="2500200"/>
            <a:ext cx="73580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357120" y="228600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ur aim w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find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ete’s house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57120" y="22147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ur aim w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find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ete’s house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953735"/>
                </a:solidFill>
                <a:latin typeface="Cambria"/>
              </a:rPr>
              <a:t>(часть именного сказуемог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57120" y="264312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4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b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on time we must hurry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ru-RU" sz="2400" spc="-1" strike="noStrike">
                <a:solidFill>
                  <a:srgbClr val="953735"/>
                </a:solidFill>
                <a:latin typeface="Cambria"/>
              </a:rPr>
              <a:t>обстоятельство цел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 flipH="1">
            <a:off x="356400" y="271476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4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b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on time we must hur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57120" y="31431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e agre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com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 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357120" y="3071880"/>
            <a:ext cx="64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e agre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com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 ten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953735"/>
                </a:solidFill>
                <a:latin typeface="Cambria"/>
              </a:rPr>
              <a:t>(дополн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57120" y="35719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e needs a pla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live 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357120" y="442908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You shou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a healthy di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500040" y="43578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You shou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a healthy diet</a:t>
            </a:r>
            <a:r>
              <a:rPr b="0" lang="en-US" sz="2400" spc="-1" strike="noStrike">
                <a:solidFill>
                  <a:srgbClr val="953735"/>
                </a:solidFill>
                <a:latin typeface="Cambria"/>
              </a:rPr>
              <a:t>. </a:t>
            </a:r>
            <a:r>
              <a:rPr b="0" lang="ru-RU" sz="2400" spc="-1" strike="noStrike">
                <a:solidFill>
                  <a:srgbClr val="953735"/>
                </a:solidFill>
                <a:latin typeface="Cambria"/>
              </a:rPr>
              <a:t>(составное глагольное сказуем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357120" y="407196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7.I asked hi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giv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 a bo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357120" y="40006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7.I asked hi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to giv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 a book. </a:t>
            </a:r>
            <a:r>
              <a:rPr b="0" lang="en-US" sz="2400" spc="-1" strike="noStrike">
                <a:solidFill>
                  <a:srgbClr val="953735"/>
                </a:solidFill>
                <a:latin typeface="Cambria"/>
              </a:rPr>
              <a:t>(</a:t>
            </a:r>
            <a:r>
              <a:rPr b="0" lang="ru-RU" sz="2400" spc="-1" strike="noStrike">
                <a:solidFill>
                  <a:srgbClr val="953735"/>
                </a:solidFill>
                <a:latin typeface="Cambria"/>
              </a:rPr>
              <a:t>прямое дополн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142920" y="61437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20">
            <a:hlinkClick r:id="rId1" action="ppaction://hlinksldjump"/>
          </p:cNvPr>
          <p:cNvSpPr/>
          <p:nvPr/>
        </p:nvSpPr>
        <p:spPr>
          <a:xfrm>
            <a:off x="7858080" y="614376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2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979640" y="214200"/>
            <a:ext cx="5113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ГЕРУНД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285840" y="1484280"/>
            <a:ext cx="85723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ФОРМЫ ГЕРУ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СВОЙСТВА ГЕРУ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ГЛАГОЛЫ И ВЫРАЖЕНИЯ, ТРЕБУЮЩИЕ ПОСЛЕ СЕБЯ       ГЕРУНД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ГЛАГОЛЫ И ВЫРАЖЕНИЯ, ТРЕБУЮЩИЕ ПОСЛЕ СЕБЯ ГЕРУНДИЙ С ОПРЕДЕЛЁННЫМ ПРЕДЛОГ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ГЛАГОЛЫ С КОТОРЫМИ ИСПОЛЬЗУЕТСЯ КАК ГЕРУНДИЙ ТАК И ИНФИНИТИ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СИНТАКСИЧЕСКИЕ ФУНКЦИИ ГЕРУ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">
            <a:hlinkClick r:id="rId1" action="ppaction://hlinksldjump"/>
          </p:cNvPr>
          <p:cNvSpPr/>
          <p:nvPr/>
        </p:nvSpPr>
        <p:spPr>
          <a:xfrm>
            <a:off x="250920" y="623736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ГЕРУНДИЙ  (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GERUND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395280" y="1989000"/>
            <a:ext cx="8353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РУНДИЙ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mbria"/>
              </a:rPr>
              <a:t>неличная форма глагола, имеющая грамматические особенности как глагола так и существительного и всегда выражающая действие как проце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ФОРМЫ ГЕРУН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2276640"/>
          <a:ext cx="8304120" cy="2844720"/>
        </p:xfrm>
        <a:graphic>
          <a:graphicData uri="http://schemas.openxmlformats.org/drawingml/2006/table">
            <a:tbl>
              <a:tblPr/>
              <a:tblGrid>
                <a:gridCol w="1800360"/>
                <a:gridCol w="2809800"/>
                <a:gridCol w="3693960"/>
              </a:tblGrid>
              <a:tr h="779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</a:tr>
              <a:tr h="20653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400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ri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aving wr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400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eing wr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aving been wr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</a:tr>
            </a:tbl>
          </a:graphicData>
        </a:graphic>
      </p:graphicFrame>
      <p:sp>
        <p:nvSpPr>
          <p:cNvPr id="187" name="AutoShape 26">
            <a:hlinkClick r:id="rId1" action="ppaction://hlinksldjump"/>
          </p:cNvPr>
          <p:cNvSpPr/>
          <p:nvPr/>
        </p:nvSpPr>
        <p:spPr>
          <a:xfrm>
            <a:off x="214200" y="6072120"/>
            <a:ext cx="978120" cy="64296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979640" y="404640"/>
            <a:ext cx="65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ВОЙСТВА ГЕРУН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539640" y="1503360"/>
            <a:ext cx="706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ожет употребляться после предло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 is fond of re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39640" y="270828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ожет определяться притяжательным местоим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 существительным в притяжательном или общ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аде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 insisted on my leaving at o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                    </a:t>
            </a:r>
            <a:r>
              <a:rPr b="0" lang="ru-RU" sz="2400" spc="-1" strike="noStrike">
                <a:solidFill>
                  <a:srgbClr val="800000"/>
                </a:solidFill>
                <a:latin typeface="Cambria"/>
              </a:rPr>
              <a:t>Он настаивал, чтобы я уш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539640" y="5175360"/>
            <a:ext cx="751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предложении выполняет те же функции, что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уществительн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5">
            <a:hlinkClick r:id="rId1" action="ppaction://hlinksldjump"/>
          </p:cNvPr>
          <p:cNvSpPr/>
          <p:nvPr/>
        </p:nvSpPr>
        <p:spPr>
          <a:xfrm>
            <a:off x="428760" y="6143760"/>
            <a:ext cx="1143000" cy="55548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785880" y="28584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ГЛАГОЛЫ И ВЫРАЖЕНИЯ, ТРЕБУЮЩИЕ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ПОСЛЕ СЕБЯ ГЕРУНД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357120" y="1928880"/>
            <a:ext cx="414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avoid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избег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deny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отриц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enjoy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получать удовольствие от чего-либ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excuse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извин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finish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оканчи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forgive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прощ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 worth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сто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annot help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 могу 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4500720" y="1928880"/>
            <a:ext cx="3929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avoid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избег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deny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отриц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enjoy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получать удовольствие от чего-либ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excuse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извин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finish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оканчи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forgive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прощ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 worth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сто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annot help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 могу 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4">
            <a:hlinkClick r:id="rId1" action="ppaction://hlinksldjump"/>
          </p:cNvPr>
          <p:cNvSpPr/>
          <p:nvPr/>
        </p:nvSpPr>
        <p:spPr>
          <a:xfrm>
            <a:off x="214200" y="607212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214200" y="285840"/>
            <a:ext cx="835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ГЛАГОЛЫ И ВЫРАЖЕНИЯ, ТРЕБУЮЩИЕ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ПОСЛЕ СЕБЯ ГЕРУНДИЙ С ОПРЕДЕЛЕННЫМИ ПРЕДЛОГАМИ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14200" y="1785960"/>
            <a:ext cx="41436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depend of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зависеть 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rely on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полагаться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insist on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настаивать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object to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возражать проти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agree to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соглашаться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hear of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слышать 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think of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думать 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thank for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благодарить 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prevent from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епятствовать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4572000" y="1785960"/>
            <a:ext cx="428616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 fond of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люб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 sure of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быть уверенным в чем-либ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 pleased at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быть довольным чем-либ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 surprised at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удивляться чему-либ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 interested in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интересоваться чем-либ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 afraid of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-бояться чего-либ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look forward to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-ждать 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ерпе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4">
            <a:hlinkClick r:id="rId1" action="ppaction://hlinksldjump"/>
          </p:cNvPr>
          <p:cNvSpPr/>
          <p:nvPr/>
        </p:nvSpPr>
        <p:spPr>
          <a:xfrm>
            <a:off x="214200" y="614376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428760" y="214200"/>
            <a:ext cx="792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 НЕКОТОРЫМИ ГЛАГОЛАМИ ИСПОЛЬЗУЕТСЯ КАК ГЕРУНДИЙ, ТАК И ИНФИНИТИ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428760" y="2071800"/>
            <a:ext cx="36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begin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начин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start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начин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like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нрави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hate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ненавиде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286160" y="2071800"/>
            <a:ext cx="407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prefer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предпочит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love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люб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stop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прекрат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o continu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продолж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>
            <a:hlinkClick r:id="rId1" action="ppaction://hlinksldjump"/>
          </p:cNvPr>
          <p:cNvSpPr/>
          <p:nvPr/>
        </p:nvSpPr>
        <p:spPr>
          <a:xfrm>
            <a:off x="214200" y="607212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214200" y="0"/>
            <a:ext cx="857268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ИНТАКСИЧЕСКИЕ ФУНКЦИИ ГЕРУНДИЯ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В ПРЕДЛОЖ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285840" y="1214280"/>
            <a:ext cx="84978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УНДИЙ МОЖЕТ УПОТРЕБЛЯЕТСЯ В ПРЕДЛОЖЕНИИ КА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ПОДЛЕЖАЩЕ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mbria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eading is useful. </a:t>
            </a:r>
            <a:r>
              <a:rPr b="0" lang="ru-RU" sz="1800" spc="-1" strike="noStrike">
                <a:solidFill>
                  <a:srgbClr val="a50021"/>
                </a:solidFill>
                <a:latin typeface="Cambria"/>
              </a:rPr>
              <a:t>Чтение полез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*   КАК ЧАСТЬ СКАЗУЕМОГО ПОСЛЕ ГЛАГОЛОВ </a:t>
            </a:r>
            <a:r>
              <a:rPr b="1" i="1" lang="en-US" sz="1800" spc="-1" strike="noStrike">
                <a:solidFill>
                  <a:srgbClr val="000000"/>
                </a:solidFill>
                <a:latin typeface="Cambria"/>
              </a:rPr>
              <a:t>to finish, to start, to continue, to go on, to keep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и др.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He started reading the book. </a:t>
            </a:r>
            <a:r>
              <a:rPr b="0" lang="ru-RU" sz="1800" spc="-1" strike="noStrike">
                <a:solidFill>
                  <a:srgbClr val="a50021"/>
                </a:solidFill>
                <a:latin typeface="Cambria"/>
              </a:rPr>
              <a:t>Он начал читать кни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КАК ПРЕДЛОЖНОЕ ДОПОЛН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 am fond of reading</a:t>
            </a:r>
            <a:r>
              <a:rPr b="0" lang="en-US" sz="1800" spc="-1" strike="noStrike">
                <a:solidFill>
                  <a:srgbClr val="a50021"/>
                </a:solidFill>
                <a:latin typeface="Cambria"/>
              </a:rPr>
              <a:t>. </a:t>
            </a:r>
            <a:r>
              <a:rPr b="0" lang="ru-RU" sz="1800" spc="-1" strike="noStrike">
                <a:solidFill>
                  <a:srgbClr val="a50021"/>
                </a:solidFill>
                <a:latin typeface="Cambria"/>
              </a:rPr>
              <a:t>Я люблю чит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КАК ПРЯМОЕ ДОПОЛН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o you mind my reading here? </a:t>
            </a:r>
            <a:r>
              <a:rPr b="0" lang="ru-RU" sz="1800" spc="-1" strike="noStrike">
                <a:solidFill>
                  <a:srgbClr val="a50021"/>
                </a:solidFill>
                <a:latin typeface="Cambria"/>
              </a:rPr>
              <a:t>Вы не против моего чтения здес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КАК ОБСТОЯТЕЛЬСТВО ВРЕМЕН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fter reading he closed the book</a:t>
            </a:r>
            <a:r>
              <a:rPr b="0" lang="en-US" sz="1800" spc="-1" strike="noStrike">
                <a:solidFill>
                  <a:srgbClr val="a50021"/>
                </a:solidFill>
                <a:latin typeface="Cambria"/>
              </a:rPr>
              <a:t>. </a:t>
            </a:r>
            <a:r>
              <a:rPr b="0" lang="ru-RU" sz="1800" spc="-1" strike="noStrike">
                <a:solidFill>
                  <a:srgbClr val="a50021"/>
                </a:solidFill>
                <a:latin typeface="Cambria"/>
              </a:rPr>
              <a:t>После чтения он закрыл кни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* 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КАК ОБСТОЯТЕЛЬСТВО ОБРАЗА ДЕЙСТВ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stead of reading he went to the movies. </a:t>
            </a:r>
            <a:r>
              <a:rPr b="0" lang="ru-RU" sz="1800" spc="-1" strike="noStrike">
                <a:solidFill>
                  <a:srgbClr val="a50021"/>
                </a:solidFill>
                <a:latin typeface="Cambria"/>
              </a:rPr>
              <a:t>Вместо чтения он пошел в ки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3">
            <a:hlinkClick r:id="rId1" action="ppaction://hlinksldjump"/>
          </p:cNvPr>
          <p:cNvSpPr/>
          <p:nvPr/>
        </p:nvSpPr>
        <p:spPr>
          <a:xfrm>
            <a:off x="285840" y="614376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914400" y="260280"/>
            <a:ext cx="73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9144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 Translate into Russian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.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Pay attention to the Gerund. Define its function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Use the Gerund or the Infin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Use the gerund in active or passive form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Translate into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Answer th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3">
            <a:hlinkClick r:id="rId1" action="ppaction://hlinksldjump"/>
          </p:cNvPr>
          <p:cNvSpPr/>
          <p:nvPr/>
        </p:nvSpPr>
        <p:spPr>
          <a:xfrm>
            <a:off x="214200" y="614376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395280" y="1268280"/>
            <a:ext cx="822960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ИНФИНИТИВ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900" spc="-1" strike="noStrike">
                <a:solidFill>
                  <a:srgbClr val="000000"/>
                </a:solidFill>
                <a:latin typeface="Cambria"/>
              </a:rPr>
              <a:t>неличная форма глагола, обладающая признаками глагола и существительного. Признаком инфинитива является частица </a:t>
            </a:r>
            <a:r>
              <a:rPr b="0" i="1" lang="en-US" sz="2900" spc="-1" strike="noStrike">
                <a:solidFill>
                  <a:srgbClr val="000000"/>
                </a:solidFill>
                <a:latin typeface="Cambria"/>
              </a:rPr>
              <a:t>“to”</a:t>
            </a:r>
            <a:r>
              <a:rPr b="0" i="1" lang="ru-RU" sz="2900" spc="-1" strike="noStrike">
                <a:solidFill>
                  <a:srgbClr val="000000"/>
                </a:solidFill>
                <a:latin typeface="Cambria"/>
              </a:rPr>
              <a:t>. Инфинитив соответствует в русском языке неопределённой форме глагола, которая отвечает на вопрос «что делать? что сделать?» 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4192560" y="20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071720" y="3571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НФИНИТИВ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NFINITIVE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ATE THE SYNTACTIC FUNCTION OF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GERUND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611280" y="126828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611280" y="157464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11280" y="85572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Repair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cars is his business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65200" y="119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11280" y="83664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Repair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cars is his business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ba2418"/>
                </a:solidFill>
                <a:latin typeface="Cambria"/>
              </a:rPr>
              <a:t>(</a:t>
            </a: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Подлежащее</a:t>
            </a:r>
            <a:r>
              <a:rPr b="0" lang="en-US" sz="2000" spc="-1" strike="noStrike">
                <a:solidFill>
                  <a:srgbClr val="ba2418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11280" y="119700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ave you finish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writ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11280" y="1197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ave you finish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writ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? </a:t>
            </a: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Часть сказуемог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611280" y="15573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3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Tak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a cold shower in the morning is very health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11280" y="1557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3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Tak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a cold shower in the morning is very healthy. </a:t>
            </a: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Подлежаще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611280" y="1935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 am fond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ki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but my sister pref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kat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611280" y="1989000"/>
            <a:ext cx="85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 am fond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ki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but my sister pref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kat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Предложное дополнение/прямое дополне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611280" y="26370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teacher said, “Go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translat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George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611280" y="263700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teacher said, “Go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translat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George.” </a:t>
            </a: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Часть сказуемог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611280" y="299736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e gave up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mok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when he was 30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611280" y="3068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e gave up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mok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when he was 30. </a:t>
            </a: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Предложное дополне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611280" y="3429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e doesn’t mind h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tay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with his friend’s fami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611280" y="3429000"/>
            <a:ext cx="82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e doesn’t mind h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tay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with his friend’s fami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Прямое дополне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611280" y="407664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new film is wor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ee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611280" y="414972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new film is wor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ee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Прямое дополне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539640" y="429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611280" y="452772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9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he pref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liv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alon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611280" y="450864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9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he pref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liv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alone. </a:t>
            </a: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Прямое дополне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611280" y="4941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0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y stopp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chatter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when she enter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611280" y="4941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0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y stopp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chatter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when she entered. </a:t>
            </a:r>
            <a:r>
              <a:rPr b="0" lang="ru-RU" sz="2000" spc="-1" strike="noStrike">
                <a:solidFill>
                  <a:srgbClr val="ba2418"/>
                </a:solidFill>
                <a:latin typeface="Cambria"/>
              </a:rPr>
              <a:t>(Часть сказуемог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USE THE GERUND OR THE INFINI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457200" y="5877000"/>
            <a:ext cx="8229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468360" y="1071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tarted (write) my letter this aftern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468360" y="1052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tarted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to write/wri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y letter this aftern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68360" y="148428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he promised (go) to the do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68360" y="148428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he promised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to 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do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468360" y="1935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(Travel) by air is inter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468360" y="1916280"/>
            <a:ext cx="48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Trav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ir is inter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68360" y="242100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he enjoys (cook) Indian me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468360" y="242100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he enjoys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coo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an me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468360" y="2924280"/>
            <a:ext cx="69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ould you mind (open) the windo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68360" y="292428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ould you mind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ope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windo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68360" y="3357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’m looking forward to (see) my parents ag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68360" y="335772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’m looking forward 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see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y parents ag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468360" y="378936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Peter gave up (learn) Chine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68360" y="378936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Peter gave up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ine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468360" y="4292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Sasha stopped (read) the advertis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468360" y="429264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Sasha stopped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to 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dvertis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468360" y="4724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Alison likes (sit) at home and (read) the books in the eve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468360" y="4724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Alison likes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to sit/si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home and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to read/rea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ooks in the eve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468360" y="551664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She kept on (tell) l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468360" y="5516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She kept on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t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46836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USE THE REQUIRED FORM OF THE GERUND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457200" y="1628640"/>
            <a:ext cx="8686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1.     She tried to avoid (to speak) 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) having spoken   b)                               c) spe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.     The doctor insisted on (to send) the sick man to hosp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)                                 b) being sent         c) having 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.     He is good at (to repair) c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) being repaired   b)                               c) having been repai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.     The problem is not worth (to discus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) having discussed    b) being discussed 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5.     Do you mind him (to examine) by a heart speciali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)                                       b) having examined     c) exam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635280" y="1989000"/>
            <a:ext cx="18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332000" y="270828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851280" y="342900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6659640" y="414972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403280" y="486900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767120" y="10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635280" y="1916280"/>
            <a:ext cx="20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e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o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1258920" y="2637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78000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pai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6588000" y="4095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scu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1332000" y="48880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1187280" y="4743360"/>
            <a:ext cx="26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1258920" y="4888080"/>
            <a:ext cx="25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1258920" y="48880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eing exam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457200" y="0"/>
            <a:ext cx="82296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RANSLATE INTO ENGLISH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457200" y="5877000"/>
            <a:ext cx="822960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95280" y="10000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н думает однажды поехать в Амер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395280" y="9810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hinks of going to America some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95280" y="141300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на любила танцевать, когда была молод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95280" y="14130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s fond of dancing when she was you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95280" y="184464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н поблагодарил меня за звон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95280" y="1844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hanked me for call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95280" y="227664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на согласилась погостить у них ле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395280" y="2276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agreed to staying with them during the summ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395280" y="2727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на удивилась, получив от него письм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395280" y="27082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s surprised at having received a letter from hi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395280" y="314172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Он был заинтересован в сотрудничестве с этой фир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95280" y="31417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interested in cooperating with this compa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395280" y="357336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Она ждала с нетерпением, когда получит виз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395280" y="3573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looked forward to getting the vi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395280" y="400536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Я настаиваю на том, чтобы помочь 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395280" y="4005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insist on helping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395280" y="4437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Она простила его за то, что он не писал 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395280" y="443700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forgave him for not writing to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303120" y="4672080"/>
            <a:ext cx="801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395280" y="486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Он не может не рассказать эту истор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395280" y="4869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annot help telling this s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642960" y="0"/>
            <a:ext cx="82184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NSWER THE QUESTIONS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457200" y="1600200"/>
            <a:ext cx="822960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at films do you think are worth see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o you enjoy travelling by plain?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at do you do after coming home from schoo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ich do you enjoy more, going to the theatre or going to the movi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o you like or dislike travelling long distance by tr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en do you expect to stop studying Englis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at places are worth visiting in your tow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971640" y="5158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РИЧАСТИЕ  (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PARTICIPLE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684360" y="130824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СПОСОБЫ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684360" y="206064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ФОРМЫ ПРИЧАСТ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Participle I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Participle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684360" y="3860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ИНТАКСИЧЕСКИЕ ФУНКЦИИ ПРИЧАСТ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Participle I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        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Participle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684360" y="4714920"/>
            <a:ext cx="370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684360" y="294336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СВОЙСТВА  ПРИЧАС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7500960" y="-357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2479680" y="189000"/>
            <a:ext cx="38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РИЧАСТ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390600" y="1052640"/>
            <a:ext cx="8358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ЧАСТ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3200" spc="-1" strike="noStrike">
                <a:solidFill>
                  <a:srgbClr val="000000"/>
                </a:solidFill>
                <a:latin typeface="Cambria"/>
              </a:rPr>
              <a:t>неличная  форма глагола, обладающая признаками глагола, прилагательного и наречия. Является самостоятельной частью речи. В английском языке нет такой части речи, как деепричастие. Поэтому в русском языке английскому причастию соответствует как причастие, так и деепричастие</a:t>
            </a:r>
            <a:r>
              <a:rPr b="0" i="1" lang="ru-RU" sz="3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1258920" y="25092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ПОСОБЫ ОБРАЗ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826920" y="1042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mbria"/>
              </a:rPr>
              <a:t>Всего существует два причастия в английском язы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3"/>
          <p:cNvSpPr/>
          <p:nvPr/>
        </p:nvSpPr>
        <p:spPr>
          <a:xfrm flipH="1">
            <a:off x="2482560" y="2205000"/>
            <a:ext cx="2090520" cy="576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4"/>
          <p:cNvSpPr/>
          <p:nvPr/>
        </p:nvSpPr>
        <p:spPr>
          <a:xfrm>
            <a:off x="4572000" y="2205000"/>
            <a:ext cx="2016000" cy="576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95280" y="29242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АСТИЕ НАСТОЯЩ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LE 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5003640" y="2924280"/>
            <a:ext cx="41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АСТИЕ ПРОШЕДШ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LE 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24000" y="450864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а  глагола +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miling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4788000" y="450864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авильные глагол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нфинитив +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ed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(play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правильные глагол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II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лонка таблицы глаго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9">
            <a:hlinkClick r:id="rId1" action="ppaction://hlinksldjump"/>
          </p:cNvPr>
          <p:cNvSpPr/>
          <p:nvPr/>
        </p:nvSpPr>
        <p:spPr>
          <a:xfrm>
            <a:off x="214200" y="5929200"/>
            <a:ext cx="1214640" cy="71460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250920" y="2080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ФОРМЫ ПРИЧАСТИЯ (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ARTICIPLE 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684360" y="83664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частие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меет временные различия (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definite, Perfect)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, 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частие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, образованное от переходны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голов, име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ия  залог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tive,  Pass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28760" y="2428920"/>
          <a:ext cx="8570880" cy="4270320"/>
        </p:xfrm>
        <a:graphic>
          <a:graphicData uri="http://schemas.openxmlformats.org/drawingml/2006/table">
            <a:tbl>
              <a:tblPr/>
              <a:tblGrid>
                <a:gridCol w="1928520"/>
                <a:gridCol w="2319480"/>
                <a:gridCol w="2181240"/>
                <a:gridCol w="2141640"/>
              </a:tblGrid>
              <a:tr h="87120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</a:tr>
              <a:tr h="18169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fini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400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a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lay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3fdc7"/>
                    </a:solidFill>
                  </a:tcPr>
                </a:tc>
                <a:tc>
                  <a:txBody>
                    <a:bodyPr lIns="90000" rIns="90000" tIns="5400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eing 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eing play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076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mbria"/>
                        </a:rPr>
                        <a:t>Одновременно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с действием основного глаго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Cambria"/>
                        </a:rPr>
                        <a:t>Reading this book he cannot help laugh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</a:tr>
              <a:tr h="18676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400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aving 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aving play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292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aving been re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aving been play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076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mbria"/>
                        </a:rPr>
                        <a:t>Предшествующе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действию основного глаго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Cambria"/>
                        </a:rPr>
                        <a:t>Having finished the book I put it asid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d2f9c3"/>
                    </a:solidFill>
                  </a:tcPr>
                </a:tc>
              </a:tr>
            </a:tbl>
          </a:graphicData>
        </a:graphic>
      </p:graphicFrame>
      <p:sp>
        <p:nvSpPr>
          <p:cNvPr id="320" name="AutoShape 47">
            <a:hlinkClick r:id="rId1" action="ppaction://hlinksldjump"/>
          </p:cNvPr>
          <p:cNvSpPr/>
          <p:nvPr/>
        </p:nvSpPr>
        <p:spPr>
          <a:xfrm>
            <a:off x="357120" y="635796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500040" y="5716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ПОМН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4083120" y="1401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253440" y="1216080"/>
            <a:ext cx="83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Participle I Indefinite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спользуется для обо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предшествующего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действия, если мы имеем глаг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осприятия               и                  дви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1496160" y="2800440"/>
            <a:ext cx="125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s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f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no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h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5525640" y="2727360"/>
            <a:ext cx="245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come,    to 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arrive,   to le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turn,     to se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146240" y="495936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Hearing  some nois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at the corridor I locked the do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1973880" y="5392800"/>
            <a:ext cx="53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Entering the room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she greeted everyb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468360" y="501336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9"/>
          <p:cNvSpPr/>
          <p:nvPr/>
        </p:nvSpPr>
        <p:spPr>
          <a:xfrm>
            <a:off x="1258920" y="5516640"/>
            <a:ext cx="288720" cy="28872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16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ФОРМЫ ИНФИНИТ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2920" y="857160"/>
          <a:ext cx="8788320" cy="5553000"/>
        </p:xfrm>
        <a:graphic>
          <a:graphicData uri="http://schemas.openxmlformats.org/drawingml/2006/table">
            <a:tbl>
              <a:tblPr/>
              <a:tblGrid>
                <a:gridCol w="1579680"/>
                <a:gridCol w="2055600"/>
                <a:gridCol w="1739880"/>
                <a:gridCol w="341316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writt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дновременное с действием сказуем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a50021"/>
                          </a:solidFill>
                          <a:latin typeface="Cambria"/>
                        </a:rPr>
                        <a:t>We like to watch TV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</a:tr>
              <a:tr h="123984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wr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лительное, происходящее сейч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a50021"/>
                          </a:solidFill>
                          <a:latin typeface="Cambria"/>
                        </a:rPr>
                        <a:t>He must be working in the garden now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</a:tr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ave writt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ave been writt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едшествующее действию сказуем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a50021"/>
                          </a:solidFill>
                          <a:latin typeface="Cambria"/>
                        </a:rPr>
                        <a:t>He was sorry to have asked him to com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</a:tr>
              <a:tr h="16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ave been wri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лилось до действия, выраженного сказуемы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a50021"/>
                          </a:solidFill>
                          <a:latin typeface="Cambria"/>
                        </a:rPr>
                        <a:t>She looks tired. She seems to have been working all the mor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f9c3"/>
                    </a:solidFill>
                  </a:tcPr>
                </a:tc>
              </a:tr>
            </a:tbl>
          </a:graphicData>
        </a:graphic>
      </p:graphicFrame>
      <p:sp>
        <p:nvSpPr>
          <p:cNvPr id="90" name="AutoShape 72">
            <a:hlinkClick r:id="rId1" action="ppaction://hlinksldjump"/>
          </p:cNvPr>
          <p:cNvSpPr/>
          <p:nvPr/>
        </p:nvSpPr>
        <p:spPr>
          <a:xfrm>
            <a:off x="142920" y="621504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179280" y="2602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ФОРМЫ ПРИЧАСТИЯ (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ARTICIPLE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I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250920" y="135900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articiple II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меет только одну форму. Говоря о време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азличиях причастия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, следует учесть, что оно мож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ыражать дейст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одновременное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с глагол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предшествующее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глаго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900000" y="314172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is ey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fixe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on 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irritate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me. (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дновремен. дейст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remember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the pictu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see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n the museum. (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едшеств.      дейст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539640" y="306864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39640" y="3573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442800" y="4672080"/>
            <a:ext cx="81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частие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спользуется в основном в пассив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л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2303640" y="5950080"/>
            <a:ext cx="44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 saw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broke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up on the flo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687840" y="58482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2286000" y="56610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assive vo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1763640" y="6021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11">
            <a:hlinkClick r:id="rId1" action="ppaction://hlinksldjump"/>
          </p:cNvPr>
          <p:cNvSpPr/>
          <p:nvPr/>
        </p:nvSpPr>
        <p:spPr>
          <a:xfrm>
            <a:off x="214200" y="621504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1547640" y="260280"/>
            <a:ext cx="66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ВОЙСТВА  ПРИЧАС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324000" y="1341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частие сочетает в себе свойства глагола (имеет категории времени, вида, залога) и прилагательного (в предложении причастие мож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 выполнять функцию определ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395280" y="3068640"/>
            <a:ext cx="762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LE I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четает в себе признаки глагола, наречия и прилагатель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OING –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дущий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д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ADING –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читающий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чит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92200" y="524844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LE II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разуется от основы инфинит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WRITE – WRITTEN –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писа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PLAY – PLAYED -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ыгра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214200" y="614376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4119480" y="44784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250920" y="2695680"/>
            <a:ext cx="8642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57120" y="26028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ИНТАКСИЧЕСКИЕ ФУНКЦИИ ПРИЧАСТИЙ В ПРЕДЛОЖ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442800" y="1341360"/>
            <a:ext cx="814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ЧАСТИЕ НАСТОЯЩЕГО ВРЕМЕНИ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ICIPLE 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ЖЕТ УПОТРЕБЛЯТЬСЯ В ПРЕДЛОЖЕНИИ КА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324000" y="2421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mbria"/>
              </a:rPr>
              <a:t>*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ИМЕННАЯ ЧАСТЬ СКАЗУЕМОГ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826920" y="2852640"/>
            <a:ext cx="83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 looked at the bookshelf: one book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was miss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mbria"/>
              </a:rPr>
              <a:t>Я посмотрел на книжную полку: одной книги не хвата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393372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ОПРЕДЕЛ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971640" y="429264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 saw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smiling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girl</a:t>
            </a:r>
            <a:r>
              <a:rPr b="0" lang="en-US" sz="2400" spc="-1" strike="noStrike">
                <a:solidFill>
                  <a:srgbClr val="a50021"/>
                </a:solidFill>
                <a:latin typeface="Cambria"/>
              </a:rPr>
              <a:t>. </a:t>
            </a:r>
            <a:r>
              <a:rPr b="0" lang="ru-RU" sz="2400" spc="-1" strike="noStrike">
                <a:solidFill>
                  <a:srgbClr val="a50021"/>
                </a:solidFill>
                <a:latin typeface="Cambria"/>
              </a:rPr>
              <a:t> Я видел улыбающуюся девуш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395280" y="5084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ОБСТОЯ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900000" y="5445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Knowing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English well he was able to read this bo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mbria"/>
              </a:rPr>
              <a:t>Зная английский хорошо, он смог прочитать эту книгу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11"/>
          <p:cNvSpPr/>
          <p:nvPr/>
        </p:nvSpPr>
        <p:spPr>
          <a:xfrm>
            <a:off x="214200" y="621504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0" y="0"/>
            <a:ext cx="90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ЧАСТИЕ ПРОШЕДШЕГО ВРЕМЕНИ (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ARTICIPLE 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ОЖЕТ УПОТРЕБЛЯТЬСЯ В ПРЕДЛОЖЕНИИ К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611280" y="184464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ИМЕННАЯ ЧАСТЬ СКАЗУЕМОГ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484360" y="234936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climate of Russi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is varie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mbria"/>
              </a:rPr>
              <a:t>Климат России разнообраз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539640" y="3357720"/>
            <a:ext cx="30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ОПРЕДЕЛЕНИЕ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2411280" y="378936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y pho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lost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the park is import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mbria"/>
              </a:rPr>
              <a:t>Моя фотография, потерянная в парке, важ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539640" y="4941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ОБСТОЯТЕЛЬСТВО: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2411280" y="5516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freedom I’ll build a ho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mbria"/>
              </a:rPr>
              <a:t>Когда выйду на свободу, я построю 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285840" y="614376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3568680" y="571680"/>
            <a:ext cx="31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826920" y="2205000"/>
            <a:ext cx="63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785880" y="3714840"/>
            <a:ext cx="6448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785880" y="357336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Correct the mistak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785880" y="2781360"/>
            <a:ext cx="71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Choose the correct 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214200" y="621504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785880" y="148428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nslate into Russ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785880" y="22050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ind out if the sentence is correct or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900000" y="1773360"/>
            <a:ext cx="780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2214720" y="642960"/>
            <a:ext cx="64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TRANSLATE INTO RUS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409680" y="6164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03640" y="128412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1.  She had her hair done yester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236160" y="128412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ba2418"/>
                </a:solidFill>
                <a:latin typeface="Cambria"/>
              </a:rPr>
              <a:t>1.  </a:t>
            </a:r>
            <a:r>
              <a:rPr b="0" lang="ru-RU" sz="2400" spc="-1" strike="noStrike">
                <a:solidFill>
                  <a:srgbClr val="ba2418"/>
                </a:solidFill>
                <a:latin typeface="Cambria"/>
              </a:rPr>
              <a:t>Она уложила волосы вч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460080" y="1789200"/>
            <a:ext cx="38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 I must get my TV repa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-8280" y="1789200"/>
            <a:ext cx="80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ba2418"/>
                </a:solidFill>
                <a:latin typeface="Cambria"/>
              </a:rPr>
              <a:t>2.  </a:t>
            </a:r>
            <a:r>
              <a:rPr b="0" lang="ru-RU" sz="2400" spc="-1" strike="noStrike">
                <a:solidFill>
                  <a:srgbClr val="ba2418"/>
                </a:solidFill>
                <a:latin typeface="Cambria"/>
              </a:rPr>
              <a:t>Я должен получить мой телевизор починен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381240" y="2295360"/>
            <a:ext cx="65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sun having risen, we continued our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373320" y="2295360"/>
            <a:ext cx="72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ba2418"/>
                </a:solidFill>
                <a:latin typeface="Arial"/>
              </a:rPr>
              <a:t>Хотя солнце встало, мы продолжили наш пу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378000" y="280044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 saw him run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372600" y="280044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ba2418"/>
                </a:solidFill>
                <a:latin typeface="Arial"/>
              </a:rPr>
              <a:t>Я видел, как он беж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378000" y="330372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 remembered him locking the do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374760" y="3303720"/>
            <a:ext cx="59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ba2418"/>
                </a:solidFill>
                <a:latin typeface="Arial"/>
              </a:rPr>
              <a:t>Я вспомнил его, закрывающим две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381240" y="380844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s heard singing in the corrid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374400" y="3808440"/>
            <a:ext cx="61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ba2418"/>
                </a:solidFill>
                <a:latin typeface="Arial"/>
              </a:rPr>
              <a:t>Было слышно, как она поет в корид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379440" y="438300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nted this work done quick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371880" y="4383000"/>
            <a:ext cx="77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ba2418"/>
                </a:solidFill>
                <a:latin typeface="Arial"/>
              </a:rPr>
              <a:t>Он хотел, чтобы эта работа была сделана быстр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2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1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4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7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539640" y="620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IND OUT IF THE SENTENCE IS RIGHT OR WR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358920" y="6164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549720" y="1789200"/>
            <a:ext cx="68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1. The man walked slowly as if hiding from some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7505640" y="17924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cor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96440" y="2292480"/>
            <a:ext cx="44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. Be careful when cross the str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059440" y="229536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wro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8120" y="2797200"/>
            <a:ext cx="73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. While walking our dog we found a wallet full of mon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7792920" y="28004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cor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506160" y="3300480"/>
            <a:ext cx="66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. When come home I ran into my old school fri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7147080" y="33037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wro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503640" y="380520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5. I like to fall asleep listening to classical mus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6711840" y="38084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cor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511920" y="4379760"/>
            <a:ext cx="70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6. My brother watching TV when doing his home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7578720" y="43830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wro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503280" y="4884840"/>
            <a:ext cx="60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7. Playing the guitar well he joined a rock b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6"/>
          <p:cNvSpPr/>
          <p:nvPr/>
        </p:nvSpPr>
        <p:spPr>
          <a:xfrm>
            <a:off x="6640560" y="4888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cor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7"/>
          <p:cNvSpPr/>
          <p:nvPr/>
        </p:nvSpPr>
        <p:spPr>
          <a:xfrm>
            <a:off x="523440" y="5460840"/>
            <a:ext cx="78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8. When looking through my family photos I often feel happ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8"/>
          <p:cNvSpPr/>
          <p:nvPr/>
        </p:nvSpPr>
        <p:spPr>
          <a:xfrm>
            <a:off x="6927840" y="57513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cor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835280" y="54936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HOOSE THE CORRECT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50920" y="1773360"/>
            <a:ext cx="862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07800" y="62308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519120" y="1550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339840" y="140184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378000" y="12636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ba241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-237960" y="1335240"/>
            <a:ext cx="91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f … home in a taxi we shall save a lot of tim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---, got, put, tak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222840" y="1335240"/>
            <a:ext cx="63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f </a:t>
            </a:r>
            <a:r>
              <a:rPr b="1" lang="en-US" sz="2000" spc="-1" strike="noStrike">
                <a:solidFill>
                  <a:srgbClr val="ba2418"/>
                </a:solidFill>
                <a:latin typeface="Arial"/>
              </a:rPr>
              <a:t>ta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me in a taxi we shall save a lot of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219960" y="1839960"/>
            <a:ext cx="88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When … freedom I’ll build a house and get marri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---, got, given, p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227160" y="1839960"/>
            <a:ext cx="70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When </a:t>
            </a:r>
            <a:r>
              <a:rPr b="1" lang="en-US" sz="2000" spc="-1" strike="noStrike">
                <a:solidFill>
                  <a:srgbClr val="ba2418"/>
                </a:solidFill>
                <a:latin typeface="Arial"/>
              </a:rPr>
              <a:t>giv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dom I’ll build a house and get marri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221040" y="2343240"/>
            <a:ext cx="83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… to college the boy is now missing his friend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---, got, put, s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226800" y="2343240"/>
            <a:ext cx="65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ba2418"/>
                </a:solidFill>
                <a:latin typeface="Arial"/>
              </a:rPr>
              <a:t>S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llege the boy is now missing his frie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231840" y="2852640"/>
            <a:ext cx="890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… up in leather she attracted men’s atten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---, broken, dressed, p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223920" y="2847960"/>
            <a:ext cx="67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ba2418"/>
                </a:solidFill>
                <a:latin typeface="Arial"/>
              </a:rPr>
              <a:t> Dres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p in leather she attracted men’s atten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219240" y="3351240"/>
            <a:ext cx="84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Even … the construction looked impressiv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---, taken, put, brok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227520" y="3351240"/>
            <a:ext cx="64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Even </a:t>
            </a:r>
            <a:r>
              <a:rPr b="1" lang="en-US" sz="2000" spc="-1" strike="noStrike">
                <a:solidFill>
                  <a:srgbClr val="ba2418"/>
                </a:solidFill>
                <a:latin typeface="Arial"/>
              </a:rPr>
              <a:t>bro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onstruction looked impress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221040" y="3927600"/>
            <a:ext cx="87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My credit card … in the park has much money on 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---, got, lost, p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225720" y="3927600"/>
            <a:ext cx="68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My credit card </a:t>
            </a:r>
            <a:r>
              <a:rPr b="1" lang="en-US" sz="2000" spc="-1" strike="noStrike">
                <a:solidFill>
                  <a:srgbClr val="ba2418"/>
                </a:solidFill>
                <a:latin typeface="Arial"/>
              </a:rPr>
              <a:t>l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park has much money on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8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8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8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2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8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8" dur="2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2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8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2484360" y="476280"/>
            <a:ext cx="51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RRECT THE MIST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388800" y="6272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36560" y="13590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She heard her name c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755640" y="13590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She heard her name ca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733680" y="200808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I was kept to wait in the hall for an h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736560" y="2008080"/>
            <a:ext cx="60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I was kept waiting in the hall for an h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735120" y="2727360"/>
            <a:ext cx="53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They were seen crossed the str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735120" y="270828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They were seen crossing the str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735120" y="373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735480" y="344808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We want to have our piano to tu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736560" y="344808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We want to have our piano tu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736560" y="416736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We’ll have the house to pa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738360" y="4167360"/>
            <a:ext cx="46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We’ll have the house pai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14"/>
          <p:cNvSpPr/>
          <p:nvPr/>
        </p:nvSpPr>
        <p:spPr>
          <a:xfrm>
            <a:off x="735120" y="488808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 I saw the girl to dance in the h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736560" y="488808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0" lang="en-US" sz="2400" spc="-1" strike="noStrike">
                <a:solidFill>
                  <a:srgbClr val="ba2418"/>
                </a:solidFill>
                <a:latin typeface="Arial"/>
              </a:rPr>
              <a:t>I saw the girl dancing in the h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0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2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0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2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0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0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2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28760" y="0"/>
            <a:ext cx="82296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НФИНИТИВ БЕЗ ЧАСТИЦЫ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t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0920" y="1052640"/>
            <a:ext cx="871380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сле всех вспомогательных и модальных глаголов ( кроме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ought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*   В составе сложного дополнения после глаголов чувственного восприятия: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to see, to feel, to watch, to observe, to notice, to h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после этих же глаголов в пассивной форме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“to”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потребля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*   После глаголов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to let, to make, need, dar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модальном значен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*   После выражений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had better, would rather, would sooner, cannot but, does nothing but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*   В специальных вопросах, начинающихся с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why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(no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*   После слов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than, rather than, but, exce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*   Если два инфинитива соединены словами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nd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r,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частица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“to”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д вторым инфинитивом может быть опущ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сле глаголов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know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elp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инфинитив может быть с частицей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“to”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ли без неё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142920" y="614376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357120" y="184320"/>
            <a:ext cx="87868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ИНТАКСИЧЕСКИЕ ФУНКЦИИ ИНФИНИТИВА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 ПРЕДЛОЖ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57120" y="1628640"/>
            <a:ext cx="822960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Подлежащее</a:t>
            </a:r>
            <a:r>
              <a:rPr b="1" i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 -  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To study is her duty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Частью составного именного сказуемого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-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His dream was to become an artis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Частью составного глагольного сказуемого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. - 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Now I begin to understand you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Дополнением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Our students like to read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Определением, заменяющим целое придаточное определительное предложение</a:t>
            </a:r>
            <a:r>
              <a:rPr b="1" i="1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My friend has brought me an interesting book to read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Обстоятельством</a:t>
            </a:r>
            <a:r>
              <a:rPr b="1" i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цели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I think I will go to England to improve my English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результата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Mary knew English well enough to understand the tex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mbria"/>
              </a:rPr>
              <a:t>c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равнения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Soon she realized that it was much more pleasant to give than to be give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*  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Вводные слова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to begin with, to be frank, to put it mildly, to tell the truth, strange to say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>
            <a:hlinkClick r:id="rId1" action="ppaction://hlinksldjump"/>
          </p:cNvPr>
          <p:cNvSpPr/>
          <p:nvPr/>
        </p:nvSpPr>
        <p:spPr>
          <a:xfrm>
            <a:off x="142920" y="614376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79480" y="107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95280" y="1071720"/>
            <a:ext cx="9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ФИНИТИВ МОЖЕТ УПОТРЕБЛЯТЬСЯ В ПРЕДЛОЖЕНИИ КА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2">
            <a:hlinkClick r:id="rId1" action="ppaction://hlinksldjump"/>
          </p:cNvPr>
          <p:cNvSpPr/>
          <p:nvPr/>
        </p:nvSpPr>
        <p:spPr>
          <a:xfrm>
            <a:off x="285840" y="607212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Translate from English into Russi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  Insert “to” where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Use the required form of the infi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mbria"/>
              </a:rPr>
              <a:t>State the syntactic function of the infi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85840" y="-163440"/>
            <a:ext cx="871524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RANSLATE</a:t>
            </a:r>
            <a:r>
              <a:rPr b="1" lang="en-US" sz="4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ROM ENGLISH INTO RUSSIAN</a:t>
            </a:r>
            <a:br>
              <a:rPr sz="4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0" y="5143680"/>
            <a:ext cx="8229600" cy="26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85840" y="107172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ick preferred to do anything but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5840" y="157176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 is likely to know her add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85840" y="2000160"/>
            <a:ext cx="510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ina seems to know English w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85840" y="2428920"/>
            <a:ext cx="55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.They were asked to come earli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5840" y="28576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5.The text is easy enough for you to underst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85840" y="3286080"/>
            <a:ext cx="61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’m sorry to have interrupted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85840" y="371484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 didn’t expect their team to win the g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85840" y="414324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She was absent yesterday. She may have been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85840" y="107172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Ник предпочёл заняться чем угодно, кроме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250920" y="1557360"/>
            <a:ext cx="61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Он, вероятно, знает её адр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285840" y="2000160"/>
            <a:ext cx="69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 Кажется, Нина хорошо знает англий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85840" y="242892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4.Их попросили прийти пора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285840" y="285768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5. Текст достаточно лёгкий для поним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285840" y="328608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6. Извините, что прервал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285840" y="3714840"/>
            <a:ext cx="72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7. Мы не ожидали что их команда выиграет иг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85840" y="414324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8. Она отсутствовала вчера. Возможно она забол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285840" y="464328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9. You must do it at o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85840" y="4572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9. Ты должен сделать это немедлен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285840" y="507204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r. Walter went to see who was t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285840" y="507204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. Мистер Волтер пошёл посмотреть кто пришё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3">
            <a:hlinkClick r:id="rId1" action="ppaction://hlinksldjump"/>
          </p:cNvPr>
          <p:cNvSpPr/>
          <p:nvPr/>
        </p:nvSpPr>
        <p:spPr>
          <a:xfrm>
            <a:off x="8001000" y="61437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41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395280" y="0"/>
            <a:ext cx="82296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NSERT “to” WHERE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457200" y="4000680"/>
            <a:ext cx="82296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8. Most people supposed him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be a li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28760" y="928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You ought not …  sit up al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28760" y="9288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You ought not</a:t>
            </a:r>
            <a:r>
              <a:rPr b="0" lang="ru-RU" sz="2400" spc="-1" strike="noStrike">
                <a:solidFill>
                  <a:srgbClr val="660066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</a:rPr>
              <a:t>to</a:t>
            </a:r>
            <a:r>
              <a:rPr b="0" lang="ru-RU" sz="2400" spc="-1" strike="noStrike">
                <a:solidFill>
                  <a:srgbClr val="660066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t up al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28760" y="135720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. I’d rather … see the cases myse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28760" y="1357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. I’d rather see the cases myse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28760" y="1785960"/>
            <a:ext cx="60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. There are hundred things … be d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95280" y="177336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. There are hundred things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be d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28760" y="2214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. I like to hear her … s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428760" y="22147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. I like to hear her s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428760" y="264312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5. Why not … make him a doctor, like his fa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428760" y="264312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5. Why not make him a doctor, like his fa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428760" y="314316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6. He was seen … leave the ho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428760" y="314316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6. He was seen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eave the ho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428760" y="357192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7. We should allow him … come nex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428760" y="35719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7. We should allow him come nex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428760" y="400068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8. Most people supposed him … be a li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428760" y="442908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9. Don’t let us … waste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428760" y="442908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9. Don’t let us waste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428760" y="485784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10. It is simple … translate these sente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428760" y="4857840"/>
            <a:ext cx="69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10. It is simple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translate these sente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214200" y="61437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ambr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3">
            <a:hlinkClick r:id="rId1" action="ppaction://hlinksldjump"/>
          </p:cNvPr>
          <p:cNvSpPr/>
          <p:nvPr/>
        </p:nvSpPr>
        <p:spPr>
          <a:xfrm>
            <a:off x="7786800" y="62150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457200" y="69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USE THE REQUIRED FORM OF THE INFINITIV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2"/>
          <p:cNvGrpSpPr/>
          <p:nvPr/>
        </p:nvGrpSpPr>
        <p:grpSpPr>
          <a:xfrm>
            <a:off x="396720" y="1407960"/>
            <a:ext cx="8404560" cy="5156280"/>
            <a:chOff x="396720" y="1407960"/>
            <a:chExt cx="8404560" cy="5156280"/>
          </a:xfrm>
        </p:grpSpPr>
        <p:pic>
          <p:nvPicPr>
            <p:cNvPr id="150" name="Picture 3" descr=""/>
            <p:cNvPicPr/>
            <p:nvPr/>
          </p:nvPicPr>
          <p:blipFill>
            <a:blip r:embed="rId1"/>
            <a:stretch/>
          </p:blipFill>
          <p:spPr>
            <a:xfrm>
              <a:off x="396720" y="1407960"/>
              <a:ext cx="8404560" cy="51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4"/>
            <p:cNvSpPr/>
            <p:nvPr/>
          </p:nvSpPr>
          <p:spPr>
            <a:xfrm>
              <a:off x="396720" y="1407960"/>
              <a:ext cx="840456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Text Box 5"/>
          <p:cNvSpPr/>
          <p:nvPr/>
        </p:nvSpPr>
        <p:spPr>
          <a:xfrm>
            <a:off x="714240" y="20718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) to be quarr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143160" y="31431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)to have been 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572760" y="39290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072040" y="41432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)to be he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500200" y="4857840"/>
            <a:ext cx="29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) to be loo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9429840" y="557208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 flipH="1">
            <a:off x="928080" y="564372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) to s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2">
            <a:hlinkClick r:id="rId2" action="ppaction://hlinksldjump"/>
          </p:cNvPr>
          <p:cNvSpPr/>
          <p:nvPr/>
        </p:nvSpPr>
        <p:spPr>
          <a:xfrm>
            <a:off x="7786800" y="61437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156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156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156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156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156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6:13:08Z</dcterms:created>
  <dc:creator>User</dc:creator>
  <dc:description/>
  <dc:language>en-US</dc:language>
  <cp:lastModifiedBy>Я</cp:lastModifiedBy>
  <dcterms:modified xsi:type="dcterms:W3CDTF">2021-06-08T19:19:25Z</dcterms:modified>
  <cp:revision>123</cp:revision>
  <dc:subject/>
  <dc:title>Неличные формы глагола</dc:title>
</cp:coreProperties>
</file>