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902-7A70-4F09-99FE-D9B584A110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FDB-5E3B-44C1-AF5C-0EA466AA6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CC9B-2887-4793-9A93-101CF5119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CC2-8E0C-4958-8A43-2D77808A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7FE-B49A-4416-BC71-B33DDE4A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542-8E2A-4F13-8FE2-EA9D5CD6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DAC-884D-45D5-98D0-2C27A7A9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5941-230D-40EF-BE2E-F050D1C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0F6-B166-4491-9A0D-3A6B5A8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5A76-B954-4BC7-A1E2-AC22E862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8C6B-D805-4A4B-A869-380F57CB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AAF9-E8B7-4EDB-B37D-79CD8F66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6EA4-014A-49C2-86DC-518B5874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D9FC-44D2-405D-BC4C-93CF62D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C4D-2CEC-4788-B2C6-9DD611EE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3F27-B3CC-4143-9CAB-DF73DEE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57E9-A3B8-4C5F-9202-CDBF67B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F9E0-B99A-4B9A-8A07-8EDBA23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3DC7-3708-453F-850F-0677085E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5FB4-AE43-4C78-A41F-26C4A88E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3665-A90B-47C9-8C8B-029A083B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93EC-5BA5-4B45-A46F-554BF0FE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8FD8-81D3-4201-80BE-6256150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DE47-9D8D-43B1-B3C1-F3B08E5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52B6-A747-4AAD-8BB8-C02B952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C32-9845-46EA-9F6D-B90CC32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48A7-63BC-4960-9CD4-2277D95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C559-BF6F-4FF0-A57C-B2FBF60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067B-C40B-460D-8F20-8143123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C254-A59F-47DA-8C26-82183A17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8B49-D5F7-4FA9-A4E7-B808582B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C0A3-491E-438E-A414-7F40D43D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76F6-A07D-4EED-B47E-0724A66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3BB0-45A9-4906-BBA0-B57E2F7E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E7E1-1944-4A03-ABE0-E3CEAA7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F466-9809-4374-AE7F-CB881AC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6DB-E54B-4BFF-A550-8B3D63A8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4BDF-7C2A-4D4B-A111-779E502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A520-8401-4F2C-B953-566AF78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75B0-0358-4664-AE0A-E1307F25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BF45-5FF9-46DC-8BE0-8441903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6946-31BE-48FB-8AA8-FDE1E91F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3613-B392-4B86-BD4D-9B278B9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9CA1-26D4-4B0E-8707-3AB9E06C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031B2-5FA9-41C2-9AC4-61691543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8C25-3277-43AF-995E-DADECAA4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7CB5-EFFC-4339-89D1-7DBD89E0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7A2-CC80-4A3B-BD8B-CD0AF83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CA3D0-8766-4441-A04B-795C59F2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087A9-9789-462F-9310-D899EE7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D330-8D59-4B63-A53B-C38AF173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87BC-82C8-469A-8746-BDC089F3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4AF0-C023-4018-8882-33883A84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318D-8833-4070-B27F-65EB88F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45C4-BD2D-4B29-81D0-44510B6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B07E-C719-4420-847B-5DE6FD6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B4FE-3DCA-47FD-AA55-DFBB611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71B8-EA7A-4525-9812-05C822C2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C54-E60D-4DDC-971E-1937A858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81CA-B29B-476A-B201-75CEAD56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63E-7452-4EFA-8FD7-8813ADA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1C2-07F3-4AB0-AB84-842F195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D8A-268F-45A1-9553-D1D730E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A49D-F1B1-41D9-B20E-DBAD11AED47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4F5C-BD28-4120-9335-AE588E0DEE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E74-EE0C-460D-AE0C-A15FB6C24C8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4427-F1A5-4C01-AADB-B633EB9DB4A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197D-64B6-4B03-83D2-590406A456D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57760" y="785520"/>
            <a:ext cx="46368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Готовность к школе 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214880" y="4797360"/>
            <a:ext cx="4279680" cy="134640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МБДОУ№7 «Жемчужинк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Симферопо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20060901093927.jpg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14425d"/>
            </a:solidFill>
            <a:miter/>
          </a:ln>
        </p:spPr>
      </p:pic>
      <p:pic>
        <p:nvPicPr>
          <p:cNvPr id="230" name="Рисунок 5" descr="image_359.jpg"/>
          <p:cNvPicPr/>
          <p:nvPr/>
        </p:nvPicPr>
        <p:blipFill>
          <a:blip r:embed="rId2"/>
          <a:stretch/>
        </p:blipFill>
        <p:spPr>
          <a:xfrm rot="20287800">
            <a:off x="756720" y="698400"/>
            <a:ext cx="2183040" cy="180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42968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оммуникативная готовность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86120" y="1714320"/>
            <a:ext cx="4786560" cy="45003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Это умение ребенка строить свои взаимоотношение с другими людь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ать и общаться с другими ребя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ключенным в детский коллектив и уметь жить по его закон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ться со взрослыми людьми, соблюдая правила культурного обращ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ожелательность и отсутствие агрессив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Рисунок 3" descr="1222791382_c4123.jpg"/>
          <p:cNvPicPr/>
          <p:nvPr/>
        </p:nvPicPr>
        <p:blipFill>
          <a:blip r:embed="rId1"/>
          <a:stretch/>
        </p:blipFill>
        <p:spPr>
          <a:xfrm>
            <a:off x="571680" y="1928880"/>
            <a:ext cx="3009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2142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циальные страх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тарших дошкольник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13880" y="2643120"/>
            <a:ext cx="4000680" cy="3500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ошибки на у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смешк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казания и утраты расположения взросл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Рисунок 3" descr="252331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2871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28800" y="533160"/>
            <a:ext cx="7572240" cy="8953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ова цена учебных достижений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38600" y="1785960"/>
            <a:ext cx="2971800" cy="4000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9680" y="1642680"/>
            <a:ext cx="4714920" cy="472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изнаки переутомл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с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аппети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хое самочув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памяти: забывчивость, потеря вещей, рассеянность, запинки в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етливость, неточность в движ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ризы, излишняя подвижность и агресс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вший ви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Рисунок 4" descr="1219805204_shokola-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462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Син_цветы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04920" y="7646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Образование может сделать ребенка умным,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но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3300"/>
                </a:solidFill>
                <a:latin typeface="Verdana"/>
              </a:rPr>
              <a:t>счастливым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делает его только душевное, разумно организованное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3300"/>
                </a:solidFill>
                <a:latin typeface="Verdana"/>
              </a:rPr>
              <a:t>общение с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близкими и любимыми людьми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ff3300"/>
                </a:solidFill>
                <a:latin typeface="Verdana"/>
              </a:rPr>
              <a:t>семьей</a:t>
            </a:r>
            <a:r>
              <a:rPr b="1" lang="ru-RU" sz="41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12760"/>
            <a:ext cx="9333000" cy="2732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G:\Документы\Картинки\Фон для презентаций\8.gif"/>
          <p:cNvPicPr/>
          <p:nvPr/>
        </p:nvPicPr>
        <p:blipFill>
          <a:blip r:embed="rId2"/>
          <a:stretch/>
        </p:blipFill>
        <p:spPr>
          <a:xfrm>
            <a:off x="2500200" y="307188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57760" y="785880"/>
            <a:ext cx="4636800" cy="171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Готовность к школе -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214880" y="2571840"/>
            <a:ext cx="4279680" cy="357192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это не только набор определенных умений и навыков, которые должны быть сформированы у ребенка к 6-7 год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Готовность к школе включает в себя несколько компонен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Рисунок 3" descr="20060901093927.jpg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14425d"/>
            </a:solidFill>
            <a:miter/>
          </a:ln>
        </p:spPr>
      </p:pic>
      <p:pic>
        <p:nvPicPr>
          <p:cNvPr id="234" name="Рисунок 5" descr="image_359.jpg"/>
          <p:cNvPicPr/>
          <p:nvPr/>
        </p:nvPicPr>
        <p:blipFill>
          <a:blip r:embed="rId2"/>
          <a:stretch/>
        </p:blipFill>
        <p:spPr>
          <a:xfrm rot="20287800">
            <a:off x="756720" y="698400"/>
            <a:ext cx="2183040" cy="180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28640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1680" y="1714680"/>
            <a:ext cx="5357520" cy="45720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ый и достаточный уровень психического развития ребенка для освоения школьной учебной программы в условиях обучения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дин из важнейших  итогов психического развития в период дошкольного дет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лог быстрой и безболезненной адаптации в начале учебного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пешное усвоение школь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4" descr="1220266612_1-sentjabrja.jpg"/>
          <p:cNvPicPr/>
          <p:nvPr/>
        </p:nvPicPr>
        <p:blipFill>
          <a:blip r:embed="rId1"/>
          <a:stretch/>
        </p:blipFill>
        <p:spPr>
          <a:xfrm>
            <a:off x="5940360" y="164304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429680" cy="85716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Интеллектуальная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 готовность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43240" y="1571760"/>
            <a:ext cx="4429440" cy="4929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иентировка ребенка в окружающ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апас знаний, усвоенных в систе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елание узнавать новое, любознатель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образных представ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речи и мышления в соответствии с возрастной норм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ысловое запомин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Содержимое 6" descr="1221463800_0lik_ru_otr_01.jpg"/>
          <p:cNvPicPr/>
          <p:nvPr/>
        </p:nvPicPr>
        <p:blipFill>
          <a:blip r:embed="rId1"/>
          <a:stretch/>
        </p:blipFill>
        <p:spPr>
          <a:xfrm>
            <a:off x="571680" y="164304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64388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Высокая мотивационная     готов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9680" y="1999800"/>
            <a:ext cx="4714920" cy="3786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личие у ребенка познавательных интерес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книг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решать задачки и кроссворды и др. интеллектуальные зад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знател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ет много вопрос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Содержимое 4" descr="1222791427_c4103.jpg"/>
          <p:cNvPicPr/>
          <p:nvPr/>
        </p:nvPicPr>
        <p:blipFill>
          <a:blip r:embed="rId1"/>
          <a:stretch/>
        </p:blipFill>
        <p:spPr>
          <a:xfrm>
            <a:off x="5357880" y="1785960"/>
            <a:ext cx="3333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7228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Verdana"/>
              </a:rPr>
              <a:t>Признаки познавательной активност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85960"/>
            <a:ext cx="4286160" cy="45007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занимается умственной деятельнос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почитает сам найти ответ на загадку,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 почитать книги, дослушивает до конц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ожительно относится к занятиям, связанными с умственным напряж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о задает вопросы, в т.ч. вопросы-цеп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жидается ответа на поставленный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Содержимое 4" descr="1220501215_umen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929120" y="2000160"/>
            <a:ext cx="3681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714240"/>
            <a:ext cx="7926480" cy="15004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олевая готовно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умение сдерживать  и контролировать поведени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0040" y="2571480"/>
            <a:ext cx="5214960" cy="3714840"/>
          </a:xfrm>
          <a:prstGeom prst="rect">
            <a:avLst/>
          </a:prstGeom>
          <a:solidFill>
            <a:srgbClr val="fbcc9a"/>
          </a:solidFill>
          <a:ln w="9360">
            <a:solidFill>
              <a:srgbClr val="fde5cd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иентироваться на заданную систему требова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внимательно слушать говорящего и точно выполнять зад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3" descr="1222791425_c4124.jpg"/>
          <p:cNvPicPr/>
          <p:nvPr/>
        </p:nvPicPr>
        <p:blipFill>
          <a:blip r:embed="rId1"/>
          <a:stretch/>
        </p:blipFill>
        <p:spPr>
          <a:xfrm>
            <a:off x="6072120" y="242892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4643280" cy="121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моционально-волевая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отовность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680" y="2071440"/>
            <a:ext cx="47829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ность управлять своими эмоциями и повед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ганизовывать рабочее место и поддерживать порядок в 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преодолевать труд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к достижению результата сво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7" descr="ef70c2d57c0fcf4303343c866a626210.jpg"/>
          <p:cNvPicPr/>
          <p:nvPr/>
        </p:nvPicPr>
        <p:blipFill>
          <a:blip r:embed="rId1"/>
          <a:stretch/>
        </p:blipFill>
        <p:spPr>
          <a:xfrm>
            <a:off x="5572080" y="1143000"/>
            <a:ext cx="3000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Кристина</cp:lastModifiedBy>
  <dcterms:modified xsi:type="dcterms:W3CDTF">2018-05-31T13:20:49Z</dcterms:modified>
  <cp:revision>139</cp:revision>
  <dc:subject/>
  <dc:title>Готовность к школе</dc:title>
</cp:coreProperties>
</file>