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FBC8-76FD-4513-97F2-BCD485FA89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6012-BD48-4C64-AC20-9B112AA1E5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058-421D-4F99-AC03-550F7D0F9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193-59B6-45C6-A9E5-7DBEBB7B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504-0986-4F62-B03A-9F45A309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FFB-D412-4805-A97F-3E533C7D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949-ED2C-4B86-8BFA-5BD87BBD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3F25-EF44-4324-8374-2D58BE8D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A672-87F3-4A57-AD6E-BEB70452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227E-9055-44CA-A7B4-F38A096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C594-DE0B-4D5C-AB1A-82D28FA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FF48-8909-44AD-B2A0-918B7945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94F3-CC9E-4141-BB5B-622A1D78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9F2E-6F75-49CF-A891-6510C40E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BD0-EAAD-479E-9AF3-63E1A890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A653-2553-43D5-B573-CEC89530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2029-A479-4600-B7D5-91BCCD4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A2CF-5F86-46AE-9498-FE23F663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D47F-26C8-4D05-8A0C-E20B6C1F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C59B-F6FF-4C54-956F-8F147C32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F011-2526-4610-A9D9-92A863DA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5D26-4470-46F4-A528-C21749B1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66D7-6F62-47B0-86DB-10F18041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624D-23F4-4E75-9273-57334FA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A208-40F2-495F-9F51-7F454B40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57B-F069-4016-8526-760C44A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53F49-92F2-4D7A-9DB1-EAAD9DF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786A-F798-470C-A07C-FCA92F54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DA9B-46CA-44B5-BAAC-214B20C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9A1D-57F0-4B40-B06F-8DDAD80E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DA79-9298-4757-A6CF-A67FE0A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107E-32A0-41F1-A92E-11974643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BE42-7F25-492E-9233-1024AE75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D5B0-931D-40F1-943E-6804A929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7751-CFC1-4FF2-B889-E299600C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A27F-AA48-4D87-9557-F178A3A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6D9-8D0F-4A93-AE4F-1694E4C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607D-565E-4987-888E-23101362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92F9-F2B6-4F62-BCBF-A1567E66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2FF7-1729-4783-8C90-6B73F217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315A-E738-4700-8EE1-D1C27B1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202C-11E9-47B3-A9B9-D6AE6EB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CD5C-B947-498D-BCBA-8C27C8E9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FA62-6F9B-4B76-8D8B-49F6696B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0F12-6521-470D-ACC2-9E354B71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3714-AF77-4333-B05F-710CE035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8DC3-0E24-4629-869C-50ACAE33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BC1-1AE9-47F9-B2C4-74606E6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824A-F249-4AC9-8DF1-EACF52A8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9D15-131F-4C07-9A7E-89409FA4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2532B-1794-49A0-85F1-8E8F6640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7CC4-110B-4461-B170-6925501B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8002-9C3D-45BB-9040-5A24EA36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ABB7-F7F9-4AAA-ADF4-F1BAB98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CBA7D-7C27-4398-8AD1-9C4DACA4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9602-32B0-433D-8C4A-D564F3E9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E75F-B94B-4947-BF2B-74C8B40E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EDC38-C175-4E9B-8E49-FC7B2C16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654-2C4E-4D32-9469-F6605E8E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F93C-AB77-4414-BE2E-74F19FF2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C20-CD82-43A5-8C15-7A65242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340-488D-4B7D-96DC-FA6EF9F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1B7-9F53-412E-820D-31AE4D87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0EEA-69A5-4C58-BBBF-5F5D508734E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2E20-6828-403D-B291-95A0F726722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C0B7-ECDF-4083-9597-23784762936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A7D3-0905-4ACC-B642-B661F891B56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64A-46E4-4743-8662-BB7A28A7EB2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57760" y="785520"/>
            <a:ext cx="46368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Готовность к школе 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214880" y="4797360"/>
            <a:ext cx="4279680" cy="1346400"/>
          </a:xfrm>
          <a:prstGeom prst="rect">
            <a:avLst/>
          </a:prstGeom>
          <a:solidFill>
            <a:srgbClr val="dfd7e7"/>
          </a:solidFill>
          <a:ln w="1260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МБДОУ№7 «Жемчужинк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Симферопо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20060901093927.jpg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14425d"/>
            </a:solidFill>
            <a:miter/>
          </a:ln>
        </p:spPr>
      </p:pic>
      <p:pic>
        <p:nvPicPr>
          <p:cNvPr id="230" name="Рисунок 5" descr="image_359.jpg"/>
          <p:cNvPicPr/>
          <p:nvPr/>
        </p:nvPicPr>
        <p:blipFill>
          <a:blip r:embed="rId2"/>
          <a:stretch/>
        </p:blipFill>
        <p:spPr>
          <a:xfrm rot="20287800">
            <a:off x="756720" y="698400"/>
            <a:ext cx="2183040" cy="180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42968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оммуникативная готовность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786120" y="1714320"/>
            <a:ext cx="4786560" cy="45003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Это умение ребенка строить свои взаимоотношение с другими людь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ать и общаться с другими ребя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ключенным в детский коллектив и уметь жить по его закон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аться со взрослыми людьми, соблюдая правила культурного обращ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рожелательность и отсутствие агрессив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Рисунок 3" descr="1222791382_c4123.jpg"/>
          <p:cNvPicPr/>
          <p:nvPr/>
        </p:nvPicPr>
        <p:blipFill>
          <a:blip r:embed="rId1"/>
          <a:stretch/>
        </p:blipFill>
        <p:spPr>
          <a:xfrm>
            <a:off x="571680" y="1928880"/>
            <a:ext cx="3009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2142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циальные страх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тарших дошкольников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13880" y="2643120"/>
            <a:ext cx="4000680" cy="3500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ошибки на ур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смешк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казания и утраты расположения взросл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Рисунок 3" descr="252331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2871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29680" cy="1071360"/>
          </a:xfrm>
          <a:prstGeom prst="rect">
            <a:avLst/>
          </a:prstGeom>
          <a:gradFill rotWithShape="0">
            <a:gsLst>
              <a:gs pos="0">
                <a:srgbClr val="c4b7d4"/>
              </a:gs>
              <a:gs pos="100000">
                <a:srgbClr val="efecf4"/>
              </a:gs>
            </a:gsLst>
            <a:lin ang="16200000"/>
          </a:gradFill>
          <a:ln w="9360">
            <a:solidFill>
              <a:srgbClr val="5e45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Адаптация ребенка к школ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5080" y="2071440"/>
            <a:ext cx="179568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1320" y="1856880"/>
            <a:ext cx="6072120" cy="4286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социальная позиция ребенка: он становится учен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сходит смена ведущ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его социальное окружение. Успешность зависит от позиции сред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сдерживания двигательной актив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никновение специфических реакций: страхи, срывы, повышенная слезливость, затормож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Рисунок 5" descr="i.jpg"/>
          <p:cNvPicPr/>
          <p:nvPr/>
        </p:nvPicPr>
        <p:blipFill>
          <a:blip r:embed="rId1"/>
          <a:stretch/>
        </p:blipFill>
        <p:spPr>
          <a:xfrm>
            <a:off x="6715080" y="1857240"/>
            <a:ext cx="1928880" cy="42865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deti0000.gif"/>
          <p:cNvPicPr/>
          <p:nvPr/>
        </p:nvPicPr>
        <p:blipFill>
          <a:blip r:embed="rId2"/>
          <a:stretch/>
        </p:blipFill>
        <p:spPr>
          <a:xfrm>
            <a:off x="500040" y="285840"/>
            <a:ext cx="17146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28800" y="533160"/>
            <a:ext cx="7572240" cy="8953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ова цена учебных достижений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38600" y="1785960"/>
            <a:ext cx="2971800" cy="4000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9680" y="1642680"/>
            <a:ext cx="4714920" cy="472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изнаки переутомл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с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аппети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охое самочув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памяти: забывчивость, потеря вещей, рассеянность, запинки в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етливость, неточность в движ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призы, излишняя подвижность и агресс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вший ви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Рисунок 4" descr="1219805204_shokola-1.jpg"/>
          <p:cNvPicPr/>
          <p:nvPr/>
        </p:nvPicPr>
        <p:blipFill>
          <a:blip r:embed="rId1"/>
          <a:stretch/>
        </p:blipFill>
        <p:spPr>
          <a:xfrm>
            <a:off x="5357880" y="1643040"/>
            <a:ext cx="3462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Готовы ли родители к школе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ртвовать своим личным временем  и некоторыми привыч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держивать свои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кричать, не унижать и не обиж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равнивать своего ребенка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наказывать ребенка без пр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гда встречать ребенка из школы с улыб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на похвалу за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Син_цветы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04920" y="7646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Образование может сделать ребенка умным,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но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3300"/>
                </a:solidFill>
                <a:latin typeface="Verdana"/>
              </a:rPr>
              <a:t>счастливым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делает его только душевное, разумно организованное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3300"/>
                </a:solidFill>
                <a:latin typeface="Verdana"/>
              </a:rPr>
              <a:t>общение с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близкими и любимыми людьми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3300"/>
                </a:solidFill>
                <a:latin typeface="Verdana"/>
              </a:rPr>
              <a:t>семьей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12760"/>
            <a:ext cx="9333000" cy="2732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G:\Документы\Картинки\Фон для презентаций\8.gif"/>
          <p:cNvPicPr/>
          <p:nvPr/>
        </p:nvPicPr>
        <p:blipFill>
          <a:blip r:embed="rId2"/>
          <a:stretch/>
        </p:blipFill>
        <p:spPr>
          <a:xfrm>
            <a:off x="2500200" y="3071880"/>
            <a:ext cx="473724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9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2571840" y="22860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57760" y="785880"/>
            <a:ext cx="4636800" cy="171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Готовность к школе -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214880" y="2571840"/>
            <a:ext cx="4279680" cy="3571920"/>
          </a:xfrm>
          <a:prstGeom prst="rect">
            <a:avLst/>
          </a:prstGeom>
          <a:solidFill>
            <a:srgbClr val="dfd7e7"/>
          </a:solidFill>
          <a:ln w="1260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это не только набор определенных умений и навыков, которые должны быть сформированы у ребенка к 6-7 год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Готовность к школе включает в себя несколько компон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Рисунок 3" descr="20060901093927.jpg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14425d"/>
            </a:solidFill>
            <a:miter/>
          </a:ln>
        </p:spPr>
      </p:pic>
      <p:pic>
        <p:nvPicPr>
          <p:cNvPr id="234" name="Рисунок 5" descr="image_359.jpg"/>
          <p:cNvPicPr/>
          <p:nvPr/>
        </p:nvPicPr>
        <p:blipFill>
          <a:blip r:embed="rId2"/>
          <a:stretch/>
        </p:blipFill>
        <p:spPr>
          <a:xfrm rot="20287800">
            <a:off x="756720" y="698400"/>
            <a:ext cx="2183040" cy="180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отовность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solidFill>
            <a:srgbClr val="f3eade"/>
          </a:solidFill>
          <a:ln w="936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Интеллектуальная, мотивационная, волевая, коммуникатив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Здоровье, моторика рук, движения, возра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Чтение, счет, учебные у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28640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1680" y="1714680"/>
            <a:ext cx="5357520" cy="45720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ый и достаточный уровень психического развития ребенка для освоения школьной учебной программы в условиях обучения в коллективе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дин из важнейших  итогов психического развития в период дошкольного дет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лог быстрой и безболезненной адаптации в начале учебного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пешное усвоение школь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4" descr="1220266612_1-sentjabrja.jpg"/>
          <p:cNvPicPr/>
          <p:nvPr/>
        </p:nvPicPr>
        <p:blipFill>
          <a:blip r:embed="rId1"/>
          <a:stretch/>
        </p:blipFill>
        <p:spPr>
          <a:xfrm>
            <a:off x="5940360" y="1643040"/>
            <a:ext cx="280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429680" cy="85716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Интеллектуальная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 готовность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43240" y="1571760"/>
            <a:ext cx="4429440" cy="4929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риентировка ребенка в окружающ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Запас знаний, усвоенных в систе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Желание узнавать новое, любознатель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образных представ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речи и мышления в соответствии с возрастной норм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мысловое запомин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Содержимое 6" descr="1221463800_0lik_ru_otr_01.jpg"/>
          <p:cNvPicPr/>
          <p:nvPr/>
        </p:nvPicPr>
        <p:blipFill>
          <a:blip r:embed="rId1"/>
          <a:stretch/>
        </p:blipFill>
        <p:spPr>
          <a:xfrm>
            <a:off x="571680" y="1643040"/>
            <a:ext cx="33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64388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Высокая мотивационная     готов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9680" y="1999800"/>
            <a:ext cx="4714920" cy="3786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личие у ребенка познавательных интерес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книг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решать задачки и кроссворды и др. интеллектуальные зад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ознател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ет много вопрос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Содержимое 4" descr="1222791427_c4103.jpg"/>
          <p:cNvPicPr/>
          <p:nvPr/>
        </p:nvPicPr>
        <p:blipFill>
          <a:blip r:embed="rId1"/>
          <a:stretch/>
        </p:blipFill>
        <p:spPr>
          <a:xfrm>
            <a:off x="5357880" y="1785960"/>
            <a:ext cx="3333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7228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Verdana"/>
              </a:rPr>
              <a:t>Признаки познавательной активност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785960"/>
            <a:ext cx="4286160" cy="45007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занимается умственной деятельност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почитает сам найти ответ на загадку,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ит почитать книги, дослушивает до конц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ожительно относится к занятиям, связанными с умственным напряж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о задает вопросы, в т.ч. вопросы-цеп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жидается ответа на поставленный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Содержимое 4" descr="1220501215_umen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929120" y="2000160"/>
            <a:ext cx="3681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714240"/>
            <a:ext cx="7926480" cy="15004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олевая готовно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умение сдерживать  и контролировать поведени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0040" y="2571480"/>
            <a:ext cx="5214960" cy="3714840"/>
          </a:xfrm>
          <a:prstGeom prst="rect">
            <a:avLst/>
          </a:prstGeom>
          <a:solidFill>
            <a:srgbClr val="fbcc9a"/>
          </a:solidFill>
          <a:ln w="9360">
            <a:solidFill>
              <a:srgbClr val="fde5cd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знательно подчинять свои действия правилу, обобщенно определяющему способ 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иентироваться на заданную систему требова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внимательно слушать говорящего и точно выполнять зад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3" descr="1222791425_c4124.jpg"/>
          <p:cNvPicPr/>
          <p:nvPr/>
        </p:nvPicPr>
        <p:blipFill>
          <a:blip r:embed="rId1"/>
          <a:stretch/>
        </p:blipFill>
        <p:spPr>
          <a:xfrm>
            <a:off x="6072120" y="242892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4643280" cy="121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Эмоционально-волевая </a:t>
            </a: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отовность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680" y="2071440"/>
            <a:ext cx="47829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собность управлять своими эмоциями и повед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ганизовывать рабочее место и поддерживать порядок в 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преодолевать труд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к достижению результата сво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7" descr="ef70c2d57c0fcf4303343c866a626210.jpg"/>
          <p:cNvPicPr/>
          <p:nvPr/>
        </p:nvPicPr>
        <p:blipFill>
          <a:blip r:embed="rId1"/>
          <a:stretch/>
        </p:blipFill>
        <p:spPr>
          <a:xfrm>
            <a:off x="5572080" y="1143000"/>
            <a:ext cx="3000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3:54:02Z</dcterms:created>
  <dc:creator>User</dc:creator>
  <dc:description/>
  <dc:language>en-US</dc:language>
  <cp:lastModifiedBy>Кристина</cp:lastModifiedBy>
  <dcterms:modified xsi:type="dcterms:W3CDTF">2018-05-31T13:20:49Z</dcterms:modified>
  <cp:revision>139</cp:revision>
  <dc:subject/>
  <dc:title>Готовность к школе</dc:title>
</cp:coreProperties>
</file>