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065-129F-4E11-82D5-79D0E4D3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19B-806C-492F-847C-9C5DA95F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495-2471-45A8-950E-62CA4F8C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0D3-8463-4C5B-B1AC-345B10D7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F587-5540-4297-8809-DB87603F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E95C-2D5B-462E-94CD-2D08A6E1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18B3-066E-4513-97BC-AB780C79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CFE7-D0D2-43B7-93BA-040C305E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72DE-E293-4DF1-BDFC-6003F330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A316-F9E8-4332-B39B-3849D9EA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8DE6-C6C4-4E1F-9FF2-FEBD253F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738-F851-455F-A193-A4F6EB32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118F-214F-4D28-A258-8CB39F61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E1BB-BF56-474A-B065-9833D7AD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6EBB-09CB-461D-94B1-74D7FCCE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F32E-8328-434C-A012-95968906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AC9D-EC3D-4362-8E73-54DB9DBD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4E97-991E-4907-A6C4-253EC771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2C72-5971-48FD-B422-25BC12C1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F7F2-CFF1-45DF-AAFC-8DBDFD4F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04BF-0184-4942-862E-DACCBCB8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8355-1000-4244-8217-35C1924C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DBC-A63E-4385-9449-66431701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BAE5-ECE1-4E2E-810D-6346E821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63E9E-594D-411D-A2D7-75C23830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4B4D-A29B-48BE-85E4-FE56E07F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2D9B-6BB4-4E83-B358-B94F41C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B791-EC16-43D3-B6CC-4C7D7152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EEB3-D4F1-45AB-8953-11AA65A9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359D-8937-4189-A905-14BB32AF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0F46-E810-4FAD-8355-017FC983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80DDA-A860-4345-8323-A246C6AB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37E4-C1CC-4471-BD0E-FA01E47A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75A-9B8F-45D7-AF0F-AA24D0EA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36030-3031-459F-9D0F-D279E384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2CD3B-2FF2-42C8-B3E3-E253833E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F759-3417-49BA-BEEE-AE0F82E4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1772-1172-47C5-B9CC-9AC49312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BA6D-EB5A-4EC7-9F3E-350D2D6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FFAE-7A19-4D67-994A-F5B6DA1E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8A386-F331-47AF-A04D-06C72C9C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A8F0-BA9C-48E8-81FD-4FA5A5A6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36B89-073D-464F-86CB-A68FC08E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87FB6-B7CB-4218-B2B1-DCF65E0D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E7D-B856-43D7-959C-06026380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B89D8-E035-4F2C-A25A-65DC0347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6607-EF1C-4ECF-9637-886D9040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D831-FA35-460C-8941-6CEC3339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39B69-F8F7-4B56-AC6F-EE0E2635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5F11-2E1B-4A4C-B394-DF0D29A1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C952E-6C7A-4253-9965-876948F9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22530-790E-43AD-A920-8DF85F77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AFE5C-681E-4011-A65C-50A1A53D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05E52-D1E8-4EB9-919A-84347AE7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D1545-19FC-40BD-B477-F3916B73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BFB-3E6C-492E-A476-DF544E28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4765F-8EDC-4640-9365-575D8423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05364-EA8D-45DC-8E28-9667E7AF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98D3A-24B7-4506-9AA3-7EE8E2B7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2226D-E755-4DCC-A964-B489321C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F3E0D-C208-444D-A351-F35E1F28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79B61-0817-4019-932F-84FF3DFB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E6822-17CC-40D1-85EC-A0722521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4270C-92F2-4DEF-BD87-CB20CCD0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6911E-1938-4357-B29A-083F28A4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6793-BC66-4096-B2BB-2FFDBCBF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BF3-C504-4121-A754-5F92F60E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60C3E-8877-41C6-9BEA-FD4B3A2F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7230D-BBF2-4E0B-938A-040B2F4A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A006C-434E-4872-8294-7E34D81A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D79D-6402-4456-9242-7D78D348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2BCFD-B008-4257-B283-DAFA623D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BA1C8-F40B-4BF7-AD14-95FEEFB1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64D85-31BB-46D6-BAC6-04C87766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7EDB2-AB0B-4759-9737-7E651FC0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A1AC2-CAB9-445F-9516-5DA78E96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87DEF-ACAA-4A43-AFCC-572DCD3F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985-F881-4FE2-B9BD-8076BF85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F1DC6-5D20-4720-AE02-424B32A5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AE32-0D41-47FE-B43E-B44B9C3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2138-5933-47B0-8A6E-D1EDA27C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492CF-11F1-4F4E-99BE-CDF101FB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321AD-503F-4138-ABCB-BA8E398F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273-E6F3-43AC-B8B1-48F92964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26B9-6E05-4C6B-9A2A-4AD71FF837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4D6B-A887-4FEA-9D4B-922B8F5A67F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1AB3-39FF-4883-AD82-7A5BDD7445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6E16-4695-4D96-9382-0433AA0573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DBF4-F606-4064-923E-827D6B03B1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6A98-00F3-469D-A566-668DD332884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A19D-8FAD-4428-996B-3A76A04BC7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428760"/>
            <a:ext cx="35002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rbel"/>
              </a:rPr>
              <a:t>Симметрия и Асимметрия в композиции одежды.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143000" y="5000400"/>
            <a:ext cx="2928960" cy="1500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КП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Преподаватель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rbel"/>
              </a:rPr>
              <a:t>Талакина Н.Б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C:\Users\Natalia\Searches\Desktop\с2.jpg"/>
          <p:cNvPicPr/>
          <p:nvPr/>
        </p:nvPicPr>
        <p:blipFill>
          <a:blip r:embed="rId1"/>
          <a:srcRect l="14217" t="0" r="12948" b="0"/>
          <a:stretch/>
        </p:blipFill>
        <p:spPr>
          <a:xfrm>
            <a:off x="6643800" y="928800"/>
            <a:ext cx="215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Асимметр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костюме понятие «асимметрия» означает сложную зависимость в пространственной организации элементов формы, отсутствие простых видов симметрии. Асимметричное начало в симметричной форме костюма обнаруживается в композиции дошедших до нас образцов народного костюм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C:\Users\Natalia\Searches\Desktop\s1200.jpg"/>
          <p:cNvPicPr/>
          <p:nvPr/>
        </p:nvPicPr>
        <p:blipFill>
          <a:blip r:embed="rId1"/>
          <a:srcRect l="25873" t="0" r="20430" b="0"/>
          <a:stretch/>
        </p:blipFill>
        <p:spPr>
          <a:xfrm>
            <a:off x="2428920" y="1785960"/>
            <a:ext cx="1460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Графический прием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торой композиционный прием — графический, при котором асимметрия действует на плоскости, не добавляя ничего к силуэту, оставляя его симметричны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C:\Users\Natalia\Searches\Desktop\gallery_big_preen-spring-2014.jpg"/>
          <p:cNvPicPr/>
          <p:nvPr/>
        </p:nvPicPr>
        <p:blipFill>
          <a:blip r:embed="rId1"/>
          <a:srcRect l="51047" t="0" r="0" b="0"/>
          <a:stretch/>
        </p:blipFill>
        <p:spPr>
          <a:xfrm>
            <a:off x="5452920" y="1569960"/>
            <a:ext cx="32623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Заключени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композиции с использованием асимметрии требует от художника хорошо развитой интуиции и тонкого чувства композиционной целостности. Асимметрия основывается на сложном соотношении закономерностей, в совокупности приводящих к композиционному равновесию. В частности, асимметричная композиция требует соблюдения пропорций сравниваемых величин. Организация таких композиций зависит от смены размеров ритма, направлений ритмического развит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2" descr="C:\Users\Natalia\Searches\Desktop\s1200 (3).jpg"/>
          <p:cNvPicPr/>
          <p:nvPr/>
        </p:nvPicPr>
        <p:blipFill>
          <a:blip r:embed="rId1"/>
          <a:stretch/>
        </p:blipFill>
        <p:spPr>
          <a:xfrm>
            <a:off x="1565280" y="1306440"/>
            <a:ext cx="32925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Благодарю за внимание!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Picture 2" descr="C:\Users\Natalia\Searches\Desktop\s1200 (4).jpg"/>
          <p:cNvPicPr/>
          <p:nvPr/>
        </p:nvPicPr>
        <p:blipFill>
          <a:blip r:embed="rId1"/>
          <a:stretch/>
        </p:blipFill>
        <p:spPr>
          <a:xfrm>
            <a:off x="3429000" y="1447920"/>
            <a:ext cx="350028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Определени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амо слово «симметрия» переводится с греческого как соразмерность. Некоторые ученые характеризуют симметрию как идею, посредством которой человек на протяжении веков пытался постичь и создать порядок, красоту и совершенст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2" descr="C:\Users\Natalia\Searches\Desktop\с3.jpg"/>
          <p:cNvPicPr/>
          <p:nvPr/>
        </p:nvPicPr>
        <p:blipFill>
          <a:blip r:embed="rId1"/>
          <a:srcRect l="23733" t="7044" r="21384" b="0"/>
          <a:stretch/>
        </p:blipFill>
        <p:spPr>
          <a:xfrm>
            <a:off x="6143760" y="1785960"/>
            <a:ext cx="1857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Асимметр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Асимметрия, как понятие противоположное симметрии, снимает условие равенства двух частей формы между собой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C:\Users\Natalia\Searches\Desktop\а1.jpg"/>
          <p:cNvPicPr/>
          <p:nvPr/>
        </p:nvPicPr>
        <p:blipFill>
          <a:blip r:embed="rId1"/>
          <a:stretch/>
        </p:blipFill>
        <p:spPr>
          <a:xfrm>
            <a:off x="1928880" y="2214720"/>
            <a:ext cx="2093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Группы симметрий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днородные проявления симметрии объединены в группы, из которых наиболее приемлемыми для характеристики форм костюма являются следующие виды: классическая, аффинная, подобия, и криволинейна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C:\Users\Natalia\Searches\Desktop\с9.jpg"/>
          <p:cNvPicPr/>
          <p:nvPr/>
        </p:nvPicPr>
        <p:blipFill>
          <a:blip r:embed="rId1"/>
          <a:srcRect l="6902" t="22457" r="56382" b="41092"/>
          <a:stretch/>
        </p:blipFill>
        <p:spPr>
          <a:xfrm>
            <a:off x="5072040" y="2000160"/>
            <a:ext cx="3836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Классическая симметри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классической симметрии преобразования меняют пространственное положение всех точек формы относительно оси симметрии, при этом метрические свойства формы (длина отрезков, углы между ними) остаются неизменны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C:\Users\Natalia\Searches\Desktop\кл.jpg"/>
          <p:cNvPicPr/>
          <p:nvPr/>
        </p:nvPicPr>
        <p:blipFill>
          <a:blip r:embed="rId1"/>
          <a:srcRect l="22005" t="0" r="21702" b="0"/>
          <a:stretch/>
        </p:blipFill>
        <p:spPr>
          <a:xfrm>
            <a:off x="2143080" y="2286000"/>
            <a:ext cx="1749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Corbel"/>
              </a:rPr>
              <a:t>Аффинная симметр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аффинной симметрии происходят преобразования, заключающиеся в изменении пространственного расположения исходной формы с одновременными однородными деформациями формы. Аффинная симметрия проявляется в трех видах: растяжения, сжатия и сдви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C:\Users\Natalia\Searches\Desktop\с1.jpg"/>
          <p:cNvPicPr/>
          <p:nvPr/>
        </p:nvPicPr>
        <p:blipFill>
          <a:blip r:embed="rId1"/>
          <a:stretch/>
        </p:blipFill>
        <p:spPr>
          <a:xfrm>
            <a:off x="214200" y="1571760"/>
            <a:ext cx="54295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orbel"/>
              </a:rPr>
              <a:t>Симметрия подоб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имметрии подобия некоторые рассматривают как частный вид аффинной симметрии. Подобными считаются не только действительно равные формы, но и все формы той же конфигурации, но большего или меньшего масштаба. Симметрия подобия проявляется в двух видах: параллельном и спиральном движен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Users\Natalia\Searches\Desktop\спираль.png"/>
          <p:cNvPicPr/>
          <p:nvPr/>
        </p:nvPicPr>
        <p:blipFill>
          <a:blip r:embed="rId1"/>
          <a:srcRect l="37373" t="0" r="42867" b="0"/>
          <a:stretch/>
        </p:blipFill>
        <p:spPr>
          <a:xfrm>
            <a:off x="7143840" y="1357200"/>
            <a:ext cx="1643040" cy="5207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Users\Natalia\Searches\Desktop\img21.jpg"/>
          <p:cNvPicPr/>
          <p:nvPr/>
        </p:nvPicPr>
        <p:blipFill>
          <a:blip r:embed="rId2"/>
          <a:srcRect l="26563" t="61465" r="56252" b="7291"/>
          <a:stretch/>
        </p:blipFill>
        <p:spPr>
          <a:xfrm>
            <a:off x="5357880" y="3500280"/>
            <a:ext cx="15714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Криволинейная симметри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волинейная симметрия характеризует формы, полученные от исходной вертикальной путем операций сдавливания, изгиба, «слома» и кручения. В результате такого преобразования оси и плоскости исходной формы превращаются в кривые линии и поверхности. Криволинейная симметрия свойственна биологическим форм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2" descr="C:\Users\Natalia\Searches\Desktop\s1200.jpg"/>
          <p:cNvPicPr/>
          <p:nvPr/>
        </p:nvPicPr>
        <p:blipFill>
          <a:blip r:embed="rId1"/>
          <a:srcRect l="0" t="0" r="56832" b="0"/>
          <a:stretch/>
        </p:blipFill>
        <p:spPr>
          <a:xfrm>
            <a:off x="2286000" y="1214280"/>
            <a:ext cx="1643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rbel"/>
              </a:rPr>
              <a:t>Искусственность в костюм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волинейная симметрия в костюме возникает в периоды его развития, известные своей искусственностью (каркасные конструкции, деформация пропорций фигуры человека), напряженностью, когда спокойных средств оказывается недостаточно для выражения состояни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C:\Users\Natalia\Searches\Desktop\razvitie-raznostoron.jpg"/>
          <p:cNvPicPr/>
          <p:nvPr/>
        </p:nvPicPr>
        <p:blipFill>
          <a:blip r:embed="rId1"/>
          <a:srcRect l="53047" t="0" r="0" b="0"/>
          <a:stretch/>
        </p:blipFill>
        <p:spPr>
          <a:xfrm>
            <a:off x="2357280" y="1643040"/>
            <a:ext cx="17989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1T07:35:34Z</dcterms:created>
  <dc:creator>Natalia</dc:creator>
  <dc:description/>
  <dc:language>en-US</dc:language>
  <cp:lastModifiedBy>Natalia</cp:lastModifiedBy>
  <dcterms:modified xsi:type="dcterms:W3CDTF">2021-06-08T15:49:22Z</dcterms:modified>
  <cp:revision>50</cp:revision>
  <dc:subject/>
  <dc:title>Симметрия и Асимметрия в композиции одежды. </dc:title>
</cp:coreProperties>
</file>