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B34-D33D-492D-85DD-E46ADF9B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79D-2ACD-417A-B22A-0FD15239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47C-80D0-436F-B0F7-BB41A33C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445-CE0F-4A08-A68D-3487D1EA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B504-0A36-4D15-B638-A2B7F424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D794-1B9E-420D-A297-431C94C8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8E4C-8605-4ACC-9346-0A19D318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003D-D4B5-4EEC-997D-89E58CA2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D58A-9E18-4898-A057-6A877E2F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1E80-7F84-4D16-A507-11F86A00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E169-D477-4CF2-8427-C0BE199B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345-BC3F-493F-A442-1D0453D1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7557-0450-4881-A4B6-27AB6D82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BCD6-F12E-43F5-BF88-0397B155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0864-E5CE-4BFC-90A6-23CEB153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26CF-0CF1-472C-A04D-7BAF0BAC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9714-601A-495F-B52B-D1277882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635E-7BEA-4DB6-BEA8-2F7E2366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57489-3733-44EE-9F28-EE92D093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9CD8E-6634-4C52-8997-10D4B356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238D-2CD8-4442-BE65-204B75F3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85FB-F745-4C6E-A3F0-4961BC37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22B-4363-4637-970C-643C5060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E22E0-7D64-41E6-9F20-6DFCF0B8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73772-7D17-44D7-8DC9-FEC81ECC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FBCB-F5EE-44C7-8772-FAF4885E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9F5AF-9420-43F0-964C-80C22B3D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5C9D1-3BCE-45E5-BB63-2A16536E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58B8-D6D4-4A5E-9911-630603A8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88560-AF8B-4850-8261-77B55FEC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CD07E-FECE-4704-B264-FB625E16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A711C-1C26-4F52-B39D-EBDDEA7B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B5C38-4392-4DF6-87C6-D428F639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9F5-5A7E-4E99-84E5-16A8F584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D004-2762-49DA-9C27-A4818E22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C78A6-9F9D-4B44-8D9D-158F8E48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36E20-328F-4C1C-9842-25DBFA6F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4D8D-7AF1-40E5-A2C2-A357D7F1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4A8B-EF95-4CD3-AD04-F447130C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CCFE-B4EF-48E4-B7FF-251F99FC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710BA-CC6A-45C8-AB59-51DF1286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940F1-2C6F-4B31-B6AC-B64DB2A7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5D6F5-5A91-4809-9E3A-1B7EE37F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7C1ED-570A-4C1B-9D59-DB215BEA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D4C-D6B5-4D29-AFBF-A4D4AEB0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05BA6-B5D0-4A85-B5EC-776978BC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636E5-B47C-4DD7-B3C6-594B58F2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290F8-9ACD-4867-AD37-A0242005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79D11-84E1-482C-BAFF-CE9046BA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27678-FB2E-4F96-8203-FCEBF565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FB264-D502-4FA8-A6E4-A302F3E5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D4417-1514-4C0F-90E1-879F13D3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356ED-0677-4586-931C-C2CF9640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FB477-8C96-49AC-837D-BDC6BE26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3AE54-55D2-444C-9D44-8AD950A7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C06-025C-4F06-9FFB-C5BFBA49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2B1E1-ED4C-4950-A683-569F5E91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8C8C3-8FEB-449B-807C-1F6D3183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BC7CB-6EC2-4834-BB0E-6000F8E9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4AA5A-45FC-4A8B-9170-732425F6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F29AA-45C3-4082-9755-4FC4F49B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4DE44-CF4E-40BF-8685-A6C47FAB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3874B-7C22-4013-A4E5-25CE8C12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30B7D-0825-4682-8109-6E01A39F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46C84-1877-47CE-A4E2-08E74BB9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45B7E-2C52-423A-A9BF-91578104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ECE-3B82-467C-A373-6B94EE31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29E4C-0925-4511-9F6E-EB4FF30E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4D7F0-D424-45A7-A5C3-BF2BA763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AFA33-4E3E-4304-A700-FD365628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7B1B1-A084-4200-B745-7C865FFB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2002B-3652-4696-92FA-38683BE0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0D596-B871-470D-810E-F122715A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AF475-D18A-4EBF-A761-10E7FFF1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E4980-061C-40B4-9E17-D5E53C19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4D92E-641C-4D17-865D-B0FFB694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732E9-813E-4AAA-B09E-9F6F1AAA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AD8-019E-4B2A-AF9C-82216392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1314D-6A4D-4656-9F6E-18B2FCB5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1F476-51A3-4B84-9775-432B4707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B9682-3039-4E6D-B128-86F078AE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9321B-DCE7-4209-830B-836B6C28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B5989-FA96-4D4A-A346-68FB932E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12D-F5E4-4974-BECB-16792133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D4A3-2E33-4705-A75A-3BAF934D079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E5B6-9B88-4F4A-A273-EA3F20CBD21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304D-A1BD-414D-823A-10575240016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2DD5-84DE-4743-89C7-B7B93FCFF1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4781-A9AA-43A6-9F1A-00BC991DD61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2398-8F6E-4536-844E-E4EE7432ABA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9ABB-7298-48E7-8E8B-26D337CFD6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360" y="428760"/>
            <a:ext cx="35002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orbel"/>
              </a:rPr>
              <a:t>Симметрия и Асимметрия в композиции одежды.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143000" y="5000400"/>
            <a:ext cx="2928960" cy="1500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rbel"/>
              </a:rPr>
              <a:t>КП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rbel"/>
              </a:rPr>
              <a:t>Преподаватель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rbel"/>
              </a:rPr>
              <a:t>Талакина Н.Б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C:\Users\Natalia\Searches\Desktop\с2.jpg"/>
          <p:cNvPicPr/>
          <p:nvPr/>
        </p:nvPicPr>
        <p:blipFill>
          <a:blip r:embed="rId1"/>
          <a:srcRect l="14217" t="0" r="12948" b="0"/>
          <a:stretch/>
        </p:blipFill>
        <p:spPr>
          <a:xfrm>
            <a:off x="6643800" y="928800"/>
            <a:ext cx="215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Асимметр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костюме понятие «асимметрия» означает сложную зависимость в пространственной организации элементов формы, отсутствие простых видов симметрии. Асимметричное начало в симметричной форме костюма обнаруживается в композиции дошедших до нас образцов народного костюм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C:\Users\Natalia\Searches\Desktop\s1200.jpg"/>
          <p:cNvPicPr/>
          <p:nvPr/>
        </p:nvPicPr>
        <p:blipFill>
          <a:blip r:embed="rId1"/>
          <a:srcRect l="25873" t="0" r="20430" b="0"/>
          <a:stretch/>
        </p:blipFill>
        <p:spPr>
          <a:xfrm>
            <a:off x="2428920" y="1785960"/>
            <a:ext cx="1460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Графический прием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торой композиционный прием — графический, при котором асимметрия действует на плоскости, не добавляя ничего к силуэту, оставляя его симметричны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2" descr="C:\Users\Natalia\Searches\Desktop\gallery_big_preen-spring-2014.jpg"/>
          <p:cNvPicPr/>
          <p:nvPr/>
        </p:nvPicPr>
        <p:blipFill>
          <a:blip r:embed="rId1"/>
          <a:srcRect l="51047" t="0" r="0" b="0"/>
          <a:stretch/>
        </p:blipFill>
        <p:spPr>
          <a:xfrm>
            <a:off x="5452920" y="1569960"/>
            <a:ext cx="32623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Заключение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работка композиции с использованием асимметрии требует от художника хорошо развитой интуиции и тонкого чувства композиционной целостности. Асимметрия основывается на сложном соотношении закономерностей, в совокупности приводящих к композиционному равновесию. В частности, асимметричная композиция требует соблюдения пропорций сравниваемых величин. Организация таких композиций зависит от смены размеров ритма, направлений ритмического развит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2" descr="C:\Users\Natalia\Searches\Desktop\s1200 (3).jpg"/>
          <p:cNvPicPr/>
          <p:nvPr/>
        </p:nvPicPr>
        <p:blipFill>
          <a:blip r:embed="rId1"/>
          <a:stretch/>
        </p:blipFill>
        <p:spPr>
          <a:xfrm>
            <a:off x="1565280" y="1306440"/>
            <a:ext cx="329256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Благодарю за внимание!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Picture 2" descr="C:\Users\Natalia\Searches\Desktop\s1200 (4).jpg"/>
          <p:cNvPicPr/>
          <p:nvPr/>
        </p:nvPicPr>
        <p:blipFill>
          <a:blip r:embed="rId1"/>
          <a:stretch/>
        </p:blipFill>
        <p:spPr>
          <a:xfrm>
            <a:off x="3429000" y="1447920"/>
            <a:ext cx="350028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Определение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амо слово «симметрия» переводится с греческого как соразмерность. Некоторые ученые характеризуют симметрию как идею, посредством которой человек на протяжении веков пытался постичь и создать порядок, красоту и совершенств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2" descr="C:\Users\Natalia\Searches\Desktop\с3.jpg"/>
          <p:cNvPicPr/>
          <p:nvPr/>
        </p:nvPicPr>
        <p:blipFill>
          <a:blip r:embed="rId1"/>
          <a:srcRect l="23733" t="7044" r="21384" b="0"/>
          <a:stretch/>
        </p:blipFill>
        <p:spPr>
          <a:xfrm>
            <a:off x="6143760" y="1785960"/>
            <a:ext cx="1857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Асимметр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Асимметрия, как понятие противоположное симметрии, снимает условие равенства двух частей формы между собой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C:\Users\Natalia\Searches\Desktop\а1.jpg"/>
          <p:cNvPicPr/>
          <p:nvPr/>
        </p:nvPicPr>
        <p:blipFill>
          <a:blip r:embed="rId1"/>
          <a:stretch/>
        </p:blipFill>
        <p:spPr>
          <a:xfrm>
            <a:off x="1928880" y="2214720"/>
            <a:ext cx="2093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Группы симметрий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днородные проявления симметрии объединены в группы, из которых наиболее приемлемыми для характеристики форм костюма являются следующие виды: классическая, аффинная, подобия, и криволинейная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2" descr="C:\Users\Natalia\Searches\Desktop\с9.jpg"/>
          <p:cNvPicPr/>
          <p:nvPr/>
        </p:nvPicPr>
        <p:blipFill>
          <a:blip r:embed="rId1"/>
          <a:srcRect l="6902" t="22457" r="56382" b="41092"/>
          <a:stretch/>
        </p:blipFill>
        <p:spPr>
          <a:xfrm>
            <a:off x="5072040" y="2000160"/>
            <a:ext cx="3836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Классическая симметрия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классической симметрии преобразования меняют пространственное положение всех точек формы относительно оси симметрии, при этом метрические свойства формы (длина отрезков, углы между ними) остаются неизменны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2" descr="C:\Users\Natalia\Searches\Desktop\кл.jpg"/>
          <p:cNvPicPr/>
          <p:nvPr/>
        </p:nvPicPr>
        <p:blipFill>
          <a:blip r:embed="rId1"/>
          <a:srcRect l="22005" t="0" r="21702" b="0"/>
          <a:stretch/>
        </p:blipFill>
        <p:spPr>
          <a:xfrm>
            <a:off x="2143080" y="2286000"/>
            <a:ext cx="1749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Corbel"/>
              </a:rPr>
              <a:t>Аффинная симметрия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аффинной симметрии происходят преобразования, заключающиеся в изменении пространственного расположения исходной формы с одновременными однородными деформациями формы. Аффинная симметрия проявляется в трех видах: растяжения, сжатия и сдви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2" descr="C:\Users\Natalia\Searches\Desktop\с1.jpg"/>
          <p:cNvPicPr/>
          <p:nvPr/>
        </p:nvPicPr>
        <p:blipFill>
          <a:blip r:embed="rId1"/>
          <a:stretch/>
        </p:blipFill>
        <p:spPr>
          <a:xfrm>
            <a:off x="214200" y="1571760"/>
            <a:ext cx="54295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Симметрия подоб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имметрии подобия некоторые рассматривают как частный вид аффинной симметрии. Подобными считаются не только действительно равные формы, но и все формы той же конфигурации, но большего или меньшего масштаба. Симметрия подобия проявляется в двух видах: параллельном и спиральном движен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Users\Natalia\Searches\Desktop\спираль.png"/>
          <p:cNvPicPr/>
          <p:nvPr/>
        </p:nvPicPr>
        <p:blipFill>
          <a:blip r:embed="rId1"/>
          <a:srcRect l="37373" t="0" r="42867" b="0"/>
          <a:stretch/>
        </p:blipFill>
        <p:spPr>
          <a:xfrm>
            <a:off x="7143840" y="1357200"/>
            <a:ext cx="1643040" cy="5207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Users\Natalia\Searches\Desktop\img21.jpg"/>
          <p:cNvPicPr/>
          <p:nvPr/>
        </p:nvPicPr>
        <p:blipFill>
          <a:blip r:embed="rId2"/>
          <a:srcRect l="26563" t="61465" r="56252" b="7291"/>
          <a:stretch/>
        </p:blipFill>
        <p:spPr>
          <a:xfrm>
            <a:off x="5357880" y="3500280"/>
            <a:ext cx="157140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Криволинейная симметрия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риволинейная симметрия характеризует формы, полученные от исходной вертикальной путем операций сдавливания, изгиба, «слома» и кручения. В результате такого преобразования оси и плоскости исходной формы превращаются в кривые линии и поверхности. Криволинейная симметрия свойственна биологическим форма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2" descr="C:\Users\Natalia\Searches\Desktop\s1200.jpg"/>
          <p:cNvPicPr/>
          <p:nvPr/>
        </p:nvPicPr>
        <p:blipFill>
          <a:blip r:embed="rId1"/>
          <a:srcRect l="0" t="0" r="56832" b="0"/>
          <a:stretch/>
        </p:blipFill>
        <p:spPr>
          <a:xfrm>
            <a:off x="2286000" y="1214280"/>
            <a:ext cx="16430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Искусственность в костюм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риволинейная симметрия в костюме возникает в периоды его развития, известные своей искусственностью (каркасные конструкции, деформация пропорций фигуры человека), напряженностью, когда спокойных средств оказывается недостаточно для выражения состояни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C:\Users\Natalia\Searches\Desktop\razvitie-raznostoron.jpg"/>
          <p:cNvPicPr/>
          <p:nvPr/>
        </p:nvPicPr>
        <p:blipFill>
          <a:blip r:embed="rId1"/>
          <a:srcRect l="53047" t="0" r="0" b="0"/>
          <a:stretch/>
        </p:blipFill>
        <p:spPr>
          <a:xfrm>
            <a:off x="2357280" y="1643040"/>
            <a:ext cx="179892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1T07:35:34Z</dcterms:created>
  <dc:creator>Natalia</dc:creator>
  <dc:description/>
  <dc:language>en-US</dc:language>
  <cp:lastModifiedBy>Natalia</cp:lastModifiedBy>
  <dcterms:modified xsi:type="dcterms:W3CDTF">2021-06-08T15:49:22Z</dcterms:modified>
  <cp:revision>50</cp:revision>
  <dc:subject/>
  <dc:title>Симметрия и Асимметрия в композиции одежды. </dc:title>
</cp:coreProperties>
</file>