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AF4-E49B-4906-B5C4-ED7CED03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F4C-4D30-4991-AB43-EBC7780F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DA0-060E-4B89-960D-7F958D1C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3B7-B530-419C-A036-7E851751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7AA4-90EE-4112-B497-A0CEBD60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197A-8916-436A-AB62-90784269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438D-F7BB-4B7C-AB2C-7BFA565E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F3CD-049A-4016-AA26-8DBFC24C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7F91-37CD-4851-80D9-E4936DA6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4DC6-9170-43C7-84C0-896F33DB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6CF2-06CC-4793-9DC5-86987FB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C72-4809-4B59-94DC-E6A91A2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813B-069A-47B0-A618-3198957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2189-DFB7-4E33-8687-7D03235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9A53-A24A-4E62-A5CB-FDE2E6F2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27C8-7F77-45D6-BAC8-B0411E8D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BF19-57B1-4AC1-B44D-27ADC7F9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882B-5F8E-492E-B580-D12D22AE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88D2-F80E-4B8B-BA27-82860CC0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E6BC-887A-4DBD-BE56-21F58C7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B972-ECEF-4C9C-9439-1481CD4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18F8-3998-4B31-BAA6-BF406FFC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EB7-B89E-4856-B06E-E61D2F98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C9BAE-542C-4E98-A94A-ACD86FB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5C78-E2A7-4254-B3AA-72A83694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F88C-5801-41DC-B922-C4493F2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18EB-21C7-49FD-99B8-82EF6B3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1EA1-0C6B-40DC-B2C2-C9811724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2656-6126-40FC-968A-DAE4D45F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9B37-4800-46BF-8676-672969E6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D009-B473-4C18-9A43-E3604ABB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A8F5-2FEF-4EA7-9EA5-9BD53C8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A14E-B3D6-4835-897F-376B3999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9DD-F9E1-4A26-81D7-724629BD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84C5-5259-424F-8524-2896D79D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6F4F-267E-4863-97D1-F783F453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FE5E8-CFE7-48CF-AD2F-9C88DCAF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F573-A65D-459D-A1AB-2F03527C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6EDFC-7C1D-4245-8FAC-F447D311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A461-6EB8-40BD-B44D-BA40BCA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6252-FE7D-4E4E-9BA6-0B822C6F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F2AA-AF70-4E46-8014-5811DA12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8408-AF62-424C-A069-DD2BA9F8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1022-9673-4B3A-A66C-5E4789AD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A0E-E086-4DC5-9475-533947A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B6DFA-87A2-467F-BD4E-7D099E2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8D3E-F988-454A-BF01-49918CCF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F2CAD-6878-499A-9A2F-AC7798CA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4BDA-16AE-466E-9B35-35109043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4C0B-40B3-4964-A1C6-9173B93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59B1-1A55-40E7-8514-83E1702E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1EE8-F125-4E6B-B856-A8B3161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896D-9E93-478F-B3CB-E6E8020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F061-4EDD-49B3-944E-DC47B33F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94AD-5D21-493F-B570-747F5552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4A5-3B52-4530-991F-B0CFA678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64F1-1794-4678-A960-DB56AF84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CD63-E151-4F69-94ED-6D998E63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1076-F97E-4483-BD93-0F8A3E95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037F-C79C-4619-8981-4EBB21C4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11FC-4E87-4F7E-BDE9-3ECA463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3F75-EDCE-4AA7-B9C3-5D9FB005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5937-9061-4214-9D44-E8F728BE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CC51-4724-4265-90CF-93C50A4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3672-311A-4A8B-B299-71073354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5818-F4AF-431E-9388-B03ACB8D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EC2-3BDB-4F3A-B2F2-8DFE8A7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A5D4B-186A-4389-ACA4-763012C0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6E78-4DCF-49E8-AE89-81086129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34257-99E5-41E6-BA89-3423D936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709FF-D872-4EA8-82FB-DC3BF6BA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67592-A956-4F45-A30A-D250D60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FE67-970A-42E7-9393-DE6593C0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79F7-734C-4480-8877-B72111D6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111AC-FA94-4932-98ED-9E8EAF1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5E2B-26D3-4CE5-8025-0DF7DCF3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286A3-0041-4200-9EBD-DB00144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022-6D14-406D-94BA-DECCF2A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F334-6ADC-42AB-B984-A8D50FF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2880E-A07F-464B-9016-41265FA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186D4-A756-4B64-8A10-C6013DE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5898-98CC-4195-9E85-1FBCFAD7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8FEFB-E38C-4EFE-914A-3C6138AF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25F-4B85-47CE-8143-E4352D3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5D50-6E9A-4D0B-B274-FEFEEDC05E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16C0-0015-45B7-9337-D2C32D7650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29F-D569-41C9-8E2C-994263E696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FFA5-72EA-49C7-84BE-A0C2273EBD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AA2-ABB5-4AE6-AB70-06C86F2FC1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BB6-9C41-49CE-B93A-06980D304D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7C5-D1E9-4E09-9349-080F96625D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428760"/>
            <a:ext cx="35002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rbel"/>
              </a:rPr>
              <a:t>Симметрия и Асимметрия в композиции одежды.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43000" y="5000400"/>
            <a:ext cx="2928960" cy="1500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КП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Преподавател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Талакина Н.Б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Users\Natalia\Searches\Desktop\с2.jpg"/>
          <p:cNvPicPr/>
          <p:nvPr/>
        </p:nvPicPr>
        <p:blipFill>
          <a:blip r:embed="rId1"/>
          <a:srcRect l="14217" t="0" r="12948" b="0"/>
          <a:stretch/>
        </p:blipFill>
        <p:spPr>
          <a:xfrm>
            <a:off x="6643800" y="928800"/>
            <a:ext cx="215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костюме понятие «асимметрия» означает сложную зависимость в пространственной организации элементов формы, отсутствие простых видов симметрии. Асимметричное начало в симметричной форме костюма обнаруживается в композиции дошедших до нас образцов народного костюм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C:\Users\Natalia\Searches\Desktop\s1200.jpg"/>
          <p:cNvPicPr/>
          <p:nvPr/>
        </p:nvPicPr>
        <p:blipFill>
          <a:blip r:embed="rId1"/>
          <a:srcRect l="25873" t="0" r="20430" b="0"/>
          <a:stretch/>
        </p:blipFill>
        <p:spPr>
          <a:xfrm>
            <a:off x="2428920" y="1785960"/>
            <a:ext cx="1460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афический прием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торой композиционный прием — графический, при котором асимметрия действует на плоскости, не добавляя ничего к силуэту, оставляя его симметричны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C:\Users\Natalia\Searches\Desktop\gallery_big_preen-spring-2014.jpg"/>
          <p:cNvPicPr/>
          <p:nvPr/>
        </p:nvPicPr>
        <p:blipFill>
          <a:blip r:embed="rId1"/>
          <a:srcRect l="51047" t="0" r="0" b="0"/>
          <a:stretch/>
        </p:blipFill>
        <p:spPr>
          <a:xfrm>
            <a:off x="5452920" y="1569960"/>
            <a:ext cx="32623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Заключ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композиции с использованием асимметрии требует от художника хорошо развитой интуиции и тонкого чувства композиционной целостности. Асимметрия основывается на сложном соотношении закономерностей, в совокупности приводящих к композиционному равновесию. В частности, асимметричная композиция требует соблюдения пропорций сравниваемых величин. Организация таких композиций зависит от смены размеров ритма, направлений ритмического разви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C:\Users\Natalia\Searches\Desktop\s1200 (3).jpg"/>
          <p:cNvPicPr/>
          <p:nvPr/>
        </p:nvPicPr>
        <p:blipFill>
          <a:blip r:embed="rId1"/>
          <a:stretch/>
        </p:blipFill>
        <p:spPr>
          <a:xfrm>
            <a:off x="1565280" y="1306440"/>
            <a:ext cx="32925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Благодарю за внимание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C:\Users\Natalia\Searches\Desktop\s1200 (4).jpg"/>
          <p:cNvPicPr/>
          <p:nvPr/>
        </p:nvPicPr>
        <p:blipFill>
          <a:blip r:embed="rId1"/>
          <a:stretch/>
        </p:blipFill>
        <p:spPr>
          <a:xfrm>
            <a:off x="3429000" y="1447920"/>
            <a:ext cx="350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Определ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мо слово «симметрия» переводится с греческого как соразмерность. Некоторые ученые характеризуют симметрию как идею, посредством которой человек на протяжении веков пытался постичь и создать порядок, красоту и соверше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C:\Users\Natalia\Searches\Desktop\с3.jpg"/>
          <p:cNvPicPr/>
          <p:nvPr/>
        </p:nvPicPr>
        <p:blipFill>
          <a:blip r:embed="rId1"/>
          <a:srcRect l="23733" t="7044" r="21384" b="0"/>
          <a:stretch/>
        </p:blipFill>
        <p:spPr>
          <a:xfrm>
            <a:off x="6143760" y="1785960"/>
            <a:ext cx="185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Асимметрия, как понятие противоположное симметрии, снимает условие равенства двух частей формы между собо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C:\Users\Natalia\Searches\Desktop\а1.jpg"/>
          <p:cNvPicPr/>
          <p:nvPr/>
        </p:nvPicPr>
        <p:blipFill>
          <a:blip r:embed="rId1"/>
          <a:stretch/>
        </p:blipFill>
        <p:spPr>
          <a:xfrm>
            <a:off x="1928880" y="2214720"/>
            <a:ext cx="2093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уппы симметрий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днородные проявления симметрии объединены в группы, из которых наиболее приемлемыми для характеристики форм костюма являются следующие виды: классическая, аффинная, подобия, и криволинейна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C:\Users\Natalia\Searches\Desktop\с9.jpg"/>
          <p:cNvPicPr/>
          <p:nvPr/>
        </p:nvPicPr>
        <p:blipFill>
          <a:blip r:embed="rId1"/>
          <a:srcRect l="6902" t="22457" r="56382" b="41092"/>
          <a:stretch/>
        </p:blipFill>
        <p:spPr>
          <a:xfrm>
            <a:off x="5072040" y="2000160"/>
            <a:ext cx="3836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лассическ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классической симметрии преобразования меняют пространственное положение всех точек формы относительно оси симметрии, при этом метрические свойства формы (длина отрезков, углы между ними) остаются неизменны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Users\Natalia\Searches\Desktop\кл.jpg"/>
          <p:cNvPicPr/>
          <p:nvPr/>
        </p:nvPicPr>
        <p:blipFill>
          <a:blip r:embed="rId1"/>
          <a:srcRect l="22005" t="0" r="21702" b="0"/>
          <a:stretch/>
        </p:blipFill>
        <p:spPr>
          <a:xfrm>
            <a:off x="2143080" y="2286000"/>
            <a:ext cx="1749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Corbel"/>
              </a:rPr>
              <a:t>Аффинная симметр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аффинной симметрии происходят преобразования, заключающиеся в изменении пространственного расположения исходной формы с одновременными однородными деформациями формы. Аффинная симметрия проявляется в трех видах: растяжения, сжатия и сдви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Users\Natalia\Searches\Desktop\с1.jpg"/>
          <p:cNvPicPr/>
          <p:nvPr/>
        </p:nvPicPr>
        <p:blipFill>
          <a:blip r:embed="rId1"/>
          <a:stretch/>
        </p:blipFill>
        <p:spPr>
          <a:xfrm>
            <a:off x="214200" y="1571760"/>
            <a:ext cx="54295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Симметрия подоб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имметрии подобия некоторые рассматривают как частный вид аффинной симметрии. Подобными считаются не только действительно равные формы, но и все формы той же конфигурации, но большего или меньшего масштаба. Симметрия подобия проявляется в двух видах: параллельном и спиральном движен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Users\Natalia\Searches\Desktop\спираль.png"/>
          <p:cNvPicPr/>
          <p:nvPr/>
        </p:nvPicPr>
        <p:blipFill>
          <a:blip r:embed="rId1"/>
          <a:srcRect l="37373" t="0" r="42867" b="0"/>
          <a:stretch/>
        </p:blipFill>
        <p:spPr>
          <a:xfrm>
            <a:off x="7143840" y="1357200"/>
            <a:ext cx="1643040" cy="520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Natalia\Searches\Desktop\img21.jpg"/>
          <p:cNvPicPr/>
          <p:nvPr/>
        </p:nvPicPr>
        <p:blipFill>
          <a:blip r:embed="rId2"/>
          <a:srcRect l="26563" t="61465" r="56252" b="7291"/>
          <a:stretch/>
        </p:blipFill>
        <p:spPr>
          <a:xfrm>
            <a:off x="5357880" y="3500280"/>
            <a:ext cx="15714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риволинейн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характеризует формы, полученные от исходной вертикальной путем операций сдавливания, изгиба, «слома» и кручения. В результате такого преобразования оси и плоскости исходной формы превращаются в кривые линии и поверхности. Криволинейная симметрия свойственна биологическим форм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C:\Users\Natalia\Searches\Desktop\s1200.jpg"/>
          <p:cNvPicPr/>
          <p:nvPr/>
        </p:nvPicPr>
        <p:blipFill>
          <a:blip r:embed="rId1"/>
          <a:srcRect l="0" t="0" r="56832" b="0"/>
          <a:stretch/>
        </p:blipFill>
        <p:spPr>
          <a:xfrm>
            <a:off x="2286000" y="1214280"/>
            <a:ext cx="1643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Искусственность в костюм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в костюме возникает в периоды его развития, известные своей искусственностью (каркасные конструкции, деформация пропорций фигуры человека), напряженностью, когда спокойных средств оказывается недостаточно для выражения состояни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C:\Users\Natalia\Searches\Desktop\razvitie-raznostoron.jpg"/>
          <p:cNvPicPr/>
          <p:nvPr/>
        </p:nvPicPr>
        <p:blipFill>
          <a:blip r:embed="rId1"/>
          <a:srcRect l="53047" t="0" r="0" b="0"/>
          <a:stretch/>
        </p:blipFill>
        <p:spPr>
          <a:xfrm>
            <a:off x="2357280" y="1643040"/>
            <a:ext cx="17989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1T07:35:34Z</dcterms:created>
  <dc:creator>Natalia</dc:creator>
  <dc:description/>
  <dc:language>en-US</dc:language>
  <cp:lastModifiedBy>Natalia</cp:lastModifiedBy>
  <dcterms:modified xsi:type="dcterms:W3CDTF">2021-06-08T15:49:22Z</dcterms:modified>
  <cp:revision>50</cp:revision>
  <dc:subject/>
  <dc:title>Симметрия и Асимметрия в композиции одежды. </dc:title>
</cp:coreProperties>
</file>