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B37A-8F5C-45C4-97FA-283EE455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21A-E6FE-415B-87C3-FF2787DF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BDD-C26E-4DB4-8F3E-D45C4C16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3BD-CCD9-4F6E-8CDF-E6F074BF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BC5E-CFE2-4312-B5C3-8A0332F6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C043-09E4-42EF-93F1-3F9AFE6F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2101-8764-4D70-8BA6-85B5F63E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980F-7E0E-4EFB-9F49-E5A82F60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3925-2F8A-4C48-BABA-EBFB2C59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13DC-32DD-4203-B74B-F36D687C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05D3-2E09-4188-9AE3-FB276AE3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3E8-E782-4895-8D6A-5DB691AB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969B-7458-425F-A4CF-BD327F5D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2D44-0FFA-4CDC-A701-C50589B4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4E48-179A-4B92-B380-62B76294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51EB-4D49-447E-9DC9-7B3325C7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87D5-2B95-4252-A1B6-22AB7524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A5995-FC44-4136-BCDE-D3E5CDB0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B519A-1912-4C76-86EA-C64D9E87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71CA2-AE67-456F-B57B-021BC757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CF621-5B5C-4672-99DF-72214C7C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9C774-1AA3-4FD9-BA98-F5574FD6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C4A-2D72-4209-9D34-5CD0E00E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39E71-7E1C-4783-A43A-2737A971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34684-5704-4EC6-A349-D78A464F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FB13-198C-4816-A9A2-EC04DAE2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C0F7-E188-448C-AD7D-05652C9B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A1B38-9D65-4601-8ABB-2827F0E8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6B0D2-8BC7-4BF8-8A25-4752C6FA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926D0-2C30-4E18-960C-C3F544ED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36E8C-4DB8-45E7-B17A-8C1F8B61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39045-9BCC-461A-8F6F-2A03CDD8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93F68-5D49-457B-8DF9-C039D26E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18F-FE96-4247-BB96-718AB672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E539A-D5D5-4EB1-B3EF-AC0671D6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263B4-E64B-4C2B-9384-70D1E3FA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4B86D-4884-498C-B9EC-3D42648E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D8142-581C-4FBD-8398-825EF900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C1F26-5258-4F2E-924A-B631F71C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1531D-1B96-4B2D-97AD-D9A5DE03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6467B-C4D7-485E-9136-41E653F6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A7985-8F78-4267-A382-4BDE2A4E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3B757-05CD-4186-A56B-C590B509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43059-88BF-41BA-AD18-787219E4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2A2-D52D-47F9-8CDE-159D6FFC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5964F-955E-4663-9EDE-A56ED9EA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A7A4C-DF47-4DF9-B938-127CDEB3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1514B-625B-46E0-860F-1A0CAA2D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2618B-01EA-4BB5-9B96-E1F60BA9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91778-0456-4B7D-A505-6FF8E02A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99FE3-B062-46C3-A12B-5E724A15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1763E-9DDA-4565-87EB-F532062C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9E439-533B-4F8A-A6F5-E6E22607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F0E8E-AB7F-43BD-8D1B-3C976140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79A5A-A416-4D9A-93C2-1B01F76F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EFF-4CFC-4292-8F20-587B34AC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BA8D4-8F63-4F7A-9DFB-45AF71CD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7AC92-850A-4A06-A592-E29A9CA2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CE594-2CFC-438E-B30D-239D6C06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0C15C-431A-4DE5-8660-1E8D191D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C4BF6-B5CD-45D5-888E-354911CB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54EAE-8EA4-44A4-ADB8-73C463B0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1B9BC-EAF0-4263-96C0-92BED0BF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AEB4A-2A8D-44E2-969F-9C1D96D0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AF72A-3CE9-4702-B588-8617D70F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0BB64-8491-4B92-8475-9C9E6B73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7A3-6246-421D-8B54-D43B75B7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A368D-7B91-4F22-ACEA-DBC41C27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E6CE5-247B-4DC3-93F0-7788A31F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B2494-A928-48A7-9107-118C5BAB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EC93E-57C8-4B67-95A9-61AB302F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FCC4B-BDD6-4DC5-8414-28E92162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EF9AE-DC46-4620-A4F8-6BFD81EE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5E364-7FD1-4B3F-8687-A17326BC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1E07D-7AE6-41AE-9093-AB7DCA86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2BCA0-4DE1-4AC7-A2EE-514D43A4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7EED1-23BC-4D61-8BB5-2043970B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291-CC1B-4883-B3DB-67DCFB25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95C4B-28E4-4F67-89D2-36522007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87C0D-776E-49EC-BEBF-417A2D25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0CC88-182B-4982-8254-619A80EC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C88EB-4FC7-4C22-AC72-3CB15B5E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ACE41-450A-40B7-8AD8-BF979EFE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C54F-28F5-4891-96DC-2CA1D7E4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0C8E-78A2-414F-8898-C1D0EF33FCA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136C-8FA6-4410-A96A-6F53C7771E9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6E8E-40ED-4185-B408-0E73940A413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3E2E-ED38-4224-AD62-4BB57EA6EE9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81FA-4FED-4B58-B7F0-DD2942E0B71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0483-2673-48EF-A59E-330031B6E3E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6213-A2ED-4B01-8B67-AA577DF4145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1360" y="428760"/>
            <a:ext cx="350028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orbel"/>
              </a:rPr>
              <a:t>Симметрия и Асимметрия в композиции одежды.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143000" y="5000400"/>
            <a:ext cx="2928960" cy="1500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rbel"/>
              </a:rPr>
              <a:t>КПМ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rbel"/>
              </a:rPr>
              <a:t>Преподаватель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rbel"/>
              </a:rPr>
              <a:t>Талакина Н.Б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C:\Users\Natalia\Searches\Desktop\с2.jpg"/>
          <p:cNvPicPr/>
          <p:nvPr/>
        </p:nvPicPr>
        <p:blipFill>
          <a:blip r:embed="rId1"/>
          <a:srcRect l="14217" t="0" r="12948" b="0"/>
          <a:stretch/>
        </p:blipFill>
        <p:spPr>
          <a:xfrm>
            <a:off x="6643800" y="928800"/>
            <a:ext cx="215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Асимметр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костюме понятие «асимметрия» означает сложную зависимость в пространственной организации элементов формы, отсутствие простых видов симметрии. Асимметричное начало в симметричной форме костюма обнаруживается в композиции дошедших до нас образцов народного костюм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2" descr="C:\Users\Natalia\Searches\Desktop\s1200.jpg"/>
          <p:cNvPicPr/>
          <p:nvPr/>
        </p:nvPicPr>
        <p:blipFill>
          <a:blip r:embed="rId1"/>
          <a:srcRect l="25873" t="0" r="20430" b="0"/>
          <a:stretch/>
        </p:blipFill>
        <p:spPr>
          <a:xfrm>
            <a:off x="2428920" y="1785960"/>
            <a:ext cx="1460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Графический прием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торой композиционный прием — графический, при котором асимметрия действует на плоскости, не добавляя ничего к силуэту, оставляя его симметричны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2" descr="C:\Users\Natalia\Searches\Desktop\gallery_big_preen-spring-2014.jpg"/>
          <p:cNvPicPr/>
          <p:nvPr/>
        </p:nvPicPr>
        <p:blipFill>
          <a:blip r:embed="rId1"/>
          <a:srcRect l="51047" t="0" r="0" b="0"/>
          <a:stretch/>
        </p:blipFill>
        <p:spPr>
          <a:xfrm>
            <a:off x="5452920" y="1569960"/>
            <a:ext cx="326232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Заключение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зработка композиции с использованием асимметрии требует от художника хорошо развитой интуиции и тонкого чувства композиционной целостности. Асимметрия основывается на сложном соотношении закономерностей, в совокупности приводящих к композиционному равновесию. В частности, асимметричная композиция требует соблюдения пропорций сравниваемых величин. Организация таких композиций зависит от смены размеров ритма, направлений ритмического развит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2" descr="C:\Users\Natalia\Searches\Desktop\s1200 (3).jpg"/>
          <p:cNvPicPr/>
          <p:nvPr/>
        </p:nvPicPr>
        <p:blipFill>
          <a:blip r:embed="rId1"/>
          <a:stretch/>
        </p:blipFill>
        <p:spPr>
          <a:xfrm>
            <a:off x="1565280" y="1306440"/>
            <a:ext cx="329256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rbel"/>
              </a:rPr>
              <a:t>Благодарю за внимание!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6" name="Picture 2" descr="C:\Users\Natalia\Searches\Desktop\s1200 (4).jpg"/>
          <p:cNvPicPr/>
          <p:nvPr/>
        </p:nvPicPr>
        <p:blipFill>
          <a:blip r:embed="rId1"/>
          <a:stretch/>
        </p:blipFill>
        <p:spPr>
          <a:xfrm>
            <a:off x="3429000" y="1447920"/>
            <a:ext cx="350028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Определение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амо слово «симметрия» переводится с греческого как соразмерность. Некоторые ученые характеризуют симметрию как идею, посредством которой человек на протяжении веков пытался постичь и создать порядок, красоту и совершенств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2" descr="C:\Users\Natalia\Searches\Desktop\с3.jpg"/>
          <p:cNvPicPr/>
          <p:nvPr/>
        </p:nvPicPr>
        <p:blipFill>
          <a:blip r:embed="rId1"/>
          <a:srcRect l="23733" t="7044" r="21384" b="0"/>
          <a:stretch/>
        </p:blipFill>
        <p:spPr>
          <a:xfrm>
            <a:off x="6143760" y="1785960"/>
            <a:ext cx="1857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Асимметр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Асимметрия, как понятие противоположное симметрии, снимает условие равенства двух частей формы между собой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2" descr="C:\Users\Natalia\Searches\Desktop\а1.jpg"/>
          <p:cNvPicPr/>
          <p:nvPr/>
        </p:nvPicPr>
        <p:blipFill>
          <a:blip r:embed="rId1"/>
          <a:stretch/>
        </p:blipFill>
        <p:spPr>
          <a:xfrm>
            <a:off x="1928880" y="2214720"/>
            <a:ext cx="2093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Группы симметрий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Однородные проявления симметрии объединены в группы, из которых наиболее приемлемыми для характеристики форм костюма являются следующие виды: классическая, аффинная, подобия, и криволинейная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2" descr="C:\Users\Natalia\Searches\Desktop\с9.jpg"/>
          <p:cNvPicPr/>
          <p:nvPr/>
        </p:nvPicPr>
        <p:blipFill>
          <a:blip r:embed="rId1"/>
          <a:srcRect l="6902" t="22457" r="56382" b="41092"/>
          <a:stretch/>
        </p:blipFill>
        <p:spPr>
          <a:xfrm>
            <a:off x="5072040" y="2000160"/>
            <a:ext cx="3836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rbel"/>
              </a:rPr>
              <a:t>Классическая симметрия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классической симметрии преобразования меняют пространственное положение всех точек формы относительно оси симметрии, при этом метрические свойства формы (длина отрезков, углы между ними) остаются неизменным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2" descr="C:\Users\Natalia\Searches\Desktop\кл.jpg"/>
          <p:cNvPicPr/>
          <p:nvPr/>
        </p:nvPicPr>
        <p:blipFill>
          <a:blip r:embed="rId1"/>
          <a:srcRect l="22005" t="0" r="21702" b="0"/>
          <a:stretch/>
        </p:blipFill>
        <p:spPr>
          <a:xfrm>
            <a:off x="2143080" y="2286000"/>
            <a:ext cx="17496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Corbel"/>
              </a:rPr>
              <a:t>Аффинная симметрия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аффинной симметрии происходят преобразования, заключающиеся в изменении пространственного расположения исходной формы с одновременными однородными деформациями формы. Аффинная симметрия проявляется в трех видах: растяжения, сжатия и сдвиг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2" descr="C:\Users\Natalia\Searches\Desktop\с1.jpg"/>
          <p:cNvPicPr/>
          <p:nvPr/>
        </p:nvPicPr>
        <p:blipFill>
          <a:blip r:embed="rId1"/>
          <a:stretch/>
        </p:blipFill>
        <p:spPr>
          <a:xfrm>
            <a:off x="214200" y="1571760"/>
            <a:ext cx="54295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Симметрия подоб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имметрии подобия некоторые рассматривают как частный вид аффинной симметрии. Подобными считаются не только действительно равные формы, но и все формы той же конфигурации, но большего или меньшего масштаба. Симметрия подобия проявляется в двух видах: параллельном и спиральном движени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C:\Users\Natalia\Searches\Desktop\спираль.png"/>
          <p:cNvPicPr/>
          <p:nvPr/>
        </p:nvPicPr>
        <p:blipFill>
          <a:blip r:embed="rId1"/>
          <a:srcRect l="37373" t="0" r="42867" b="0"/>
          <a:stretch/>
        </p:blipFill>
        <p:spPr>
          <a:xfrm>
            <a:off x="7143840" y="1357200"/>
            <a:ext cx="1643040" cy="5207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Users\Natalia\Searches\Desktop\img21.jpg"/>
          <p:cNvPicPr/>
          <p:nvPr/>
        </p:nvPicPr>
        <p:blipFill>
          <a:blip r:embed="rId2"/>
          <a:srcRect l="26563" t="61465" r="56252" b="7291"/>
          <a:stretch/>
        </p:blipFill>
        <p:spPr>
          <a:xfrm>
            <a:off x="5357880" y="3500280"/>
            <a:ext cx="157140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rbel"/>
              </a:rPr>
              <a:t>Криволинейная симметрия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риволинейная симметрия характеризует формы, полученные от исходной вертикальной путем операций сдавливания, изгиба, «слома» и кручения. В результате такого преобразования оси и плоскости исходной формы превращаются в кривые линии и поверхности. Криволинейная симметрия свойственна биологическим форма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2" descr="C:\Users\Natalia\Searches\Desktop\s1200.jpg"/>
          <p:cNvPicPr/>
          <p:nvPr/>
        </p:nvPicPr>
        <p:blipFill>
          <a:blip r:embed="rId1"/>
          <a:srcRect l="0" t="0" r="56832" b="0"/>
          <a:stretch/>
        </p:blipFill>
        <p:spPr>
          <a:xfrm>
            <a:off x="2286000" y="1214280"/>
            <a:ext cx="16430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rbel"/>
              </a:rPr>
              <a:t>Искусственность в костюме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риволинейная симметрия в костюме возникает в периоды его развития, известные своей искусственностью (каркасные конструкции, деформация пропорций фигуры человека), напряженностью, когда спокойных средств оказывается недостаточно для выражения состояни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C:\Users\Natalia\Searches\Desktop\razvitie-raznostoron.jpg"/>
          <p:cNvPicPr/>
          <p:nvPr/>
        </p:nvPicPr>
        <p:blipFill>
          <a:blip r:embed="rId1"/>
          <a:srcRect l="53047" t="0" r="0" b="0"/>
          <a:stretch/>
        </p:blipFill>
        <p:spPr>
          <a:xfrm>
            <a:off x="2357280" y="1643040"/>
            <a:ext cx="179892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1T07:35:34Z</dcterms:created>
  <dc:creator>Natalia</dc:creator>
  <dc:description/>
  <dc:language>en-US</dc:language>
  <cp:lastModifiedBy>Natalia</cp:lastModifiedBy>
  <dcterms:modified xsi:type="dcterms:W3CDTF">2021-06-08T15:49:22Z</dcterms:modified>
  <cp:revision>50</cp:revision>
  <dc:subject/>
  <dc:title>Симметрия и Асимметрия в композиции одежды. </dc:title>
</cp:coreProperties>
</file>