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7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A48-4977-442D-BDBA-A33F445A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24B-3F79-41E3-B808-9C29CF35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A27-5BA9-4B2F-96F8-A4FA8A47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CE0-BC85-4503-9E37-AF9ACC09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6A3-8A40-4A0B-A54D-E7963CA8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327-2EFE-4661-A69A-4C5A5474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243-AC77-434C-9FCB-6540A69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1C1-D957-4835-9EBA-D901F08E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50B-C092-48DD-97DB-A4719FF3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6B8-1A91-41D9-9B10-B5801B4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C14-C29E-4E2D-9BAE-C1A3F16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FDB-2017-4C29-BD06-97BFB0F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D1C-CCF9-4A28-9324-7350C2EB23E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69BF-DA3C-448C-BE80-64DABCD0E3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2048040" y="492120"/>
            <a:ext cx="595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КДОУ «Нижнедевицкий детский сад общеразвивающего ви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071720" y="1214280"/>
            <a:ext cx="631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Calibri"/>
                <a:ea typeface="Calibri"/>
              </a:rPr>
              <a:t>Презентация «Развивающая предметно –  пространственная среда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II-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младшей </a:t>
            </a:r>
            <a:r>
              <a:rPr b="1" lang="zh-CN" sz="4000" spc="-1" strike="noStrike">
                <a:solidFill>
                  <a:srgbClr val="c00000"/>
                </a:solidFill>
                <a:latin typeface="Calibri"/>
                <a:ea typeface="Calibri"/>
              </a:rPr>
              <a:t>групп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5072040" y="442908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ючникова Наталья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Никола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воспитат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I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ладшей группе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с. Нижнедеви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214200" y="2214720"/>
            <a:ext cx="31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группе мы друж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группу ходим от ду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Учимся мы здесь игр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Дружно игрушки убир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4143240" y="2214720"/>
            <a:ext cx="44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Есть конструкторы, «шнуровки»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ля ума и для снор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«Вкладыши», матрешки быстро собир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Что, за чем, мы точно зн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642960" y="357120"/>
            <a:ext cx="815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ети очень любят играть как с «Лего», так и с модулями. У них игра приобретает сюжетно – ролевой характер. Из конструктора дети строят постройки, необходимые для обыгрывания сюжетов. Играя с конструктором, воспитанники формируют не только моторику, внимательность, мышление, воображение, но и приобретают трудов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3" descr=""/>
          <p:cNvPicPr/>
          <p:nvPr/>
        </p:nvPicPr>
        <p:blipFill>
          <a:blip r:embed="rId2"/>
          <a:stretch/>
        </p:blipFill>
        <p:spPr>
          <a:xfrm>
            <a:off x="4861080" y="3313080"/>
            <a:ext cx="2663640" cy="294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Елена\Desktop\фото\IMG_20191028_134632.jpg"/>
          <p:cNvPicPr/>
          <p:nvPr/>
        </p:nvPicPr>
        <p:blipFill>
          <a:blip r:embed="rId3"/>
          <a:stretch/>
        </p:blipFill>
        <p:spPr>
          <a:xfrm>
            <a:off x="428760" y="35719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9288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5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786040" y="2500200"/>
            <a:ext cx="264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группе есть мальчи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орванцы и шалуни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илу некуда дев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Будем гантели подним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ячи и мешочки в цель попад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А еще есть девчо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ни любят на скакалках ска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ручи крутить, чтоб талию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6215040" y="4500720"/>
            <a:ext cx="2714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сле сна, как все проснули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тянулись, улыбнули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ы по коврикам прош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Закаляйся. Не ленис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8" descr=""/>
          <p:cNvPicPr/>
          <p:nvPr/>
        </p:nvPicPr>
        <p:blipFill>
          <a:blip r:embed="rId2"/>
          <a:stretch/>
        </p:blipFill>
        <p:spPr>
          <a:xfrm>
            <a:off x="3989520" y="5902200"/>
            <a:ext cx="4765680" cy="600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428760" y="21420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м детском саду спортивный центр находится в другой комнате. Нашим ребятам нравится участвовать в подвижных играх и упражняться со спортивным инвентарём. Не только занятия физкультурой имеют целью физическое развитие дошкольников, двигательная активность организуется в различных режимных мом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5" descr=""/>
          <p:cNvPicPr/>
          <p:nvPr/>
        </p:nvPicPr>
        <p:blipFill>
          <a:blip r:embed="rId3"/>
          <a:stretch/>
        </p:blipFill>
        <p:spPr>
          <a:xfrm>
            <a:off x="6286680" y="2000160"/>
            <a:ext cx="2296800" cy="2219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6" descr=""/>
          <p:cNvPicPr/>
          <p:nvPr/>
        </p:nvPicPr>
        <p:blipFill>
          <a:blip r:embed="rId4"/>
          <a:stretch/>
        </p:blipFill>
        <p:spPr>
          <a:xfrm>
            <a:off x="285840" y="2571840"/>
            <a:ext cx="2574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3143160" y="285768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Любим сказки мы чита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и стихи запомин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куку мы не зна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о маму на день забывае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285840" y="326880"/>
            <a:ext cx="8572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р книги развивает навык слушания, умение обращаться с книгой, расширяет представления об окружающем. В книжной витрине я обычно выставляю 4-5 книг по теме месяца, как правило, они уже знакомы детям, с яркими, крупными иллюстрациями. В уголке дети получают первые навыки самостоятельного общения с книгой. Я знакомлю их с уголком книги, показываю пример как нужно правильно рассматривать книги (брать книги чистыми руками, перелистывать осторожно, не рвать, не мять, не использовать для игр, класть на мес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9" descr="C:\Users\Админ\Desktop\Новая папка\P1150053.JPG"/>
          <p:cNvPicPr/>
          <p:nvPr/>
        </p:nvPicPr>
        <p:blipFill>
          <a:blip r:embed="rId2"/>
          <a:stretch/>
        </p:blipFill>
        <p:spPr>
          <a:xfrm>
            <a:off x="444600" y="4351320"/>
            <a:ext cx="2857320" cy="1712880"/>
          </a:xfrm>
          <a:prstGeom prst="rect">
            <a:avLst/>
          </a:prstGeom>
          <a:ln w="0">
            <a:noFill/>
          </a:ln>
        </p:spPr>
      </p:pic>
      <p:pic>
        <p:nvPicPr>
          <p:cNvPr id="118" name="Объект 4" descr=""/>
          <p:cNvPicPr/>
          <p:nvPr/>
        </p:nvPicPr>
        <p:blipFill>
          <a:blip r:embed="rId3"/>
          <a:stretch/>
        </p:blipFill>
        <p:spPr>
          <a:xfrm>
            <a:off x="5429160" y="3143160"/>
            <a:ext cx="35290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971640" y="492120"/>
            <a:ext cx="748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 шумном пространстве игровой комнаты обязательно должен быть такой островок тишины и спокойствия - уголок уединения,  который располагает к созерцательному наблюдению, мечтам и тихим беседам. В центре «Уединения» дети могут побыть одни, посмотреть фотоальбом детских и семейных фотографий в тишине, также здесь они могут поиграть с игрушками или посмотреть свои любимые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1579680" y="3062160"/>
            <a:ext cx="1701720" cy="3025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C:\Users\Админ\Desktop\Новая папка\P1150036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475160" y="3062160"/>
            <a:ext cx="28656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0" y="0"/>
            <a:ext cx="879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р «Природы»  включает в себя экологическую деятельность. В данном уголке содержатся различные виды комнатных растений, на которых удобно демонстрировать видоизменения частей растения, календарь погоды, образцы материалов, камней, металлов, стекла. Природный уголок служит не только украшением группы, но и местом для саморазвития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214200" y="17859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ы предметов много зн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вторим мы их сей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могите, мамы, пап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классифицировать для ва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Резина, пластмасс, ткань, метал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ерево, стекло. Я всё это зна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0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431040" y="4387680"/>
            <a:ext cx="2087640" cy="1622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4" descr=""/>
          <p:cNvPicPr/>
          <p:nvPr/>
        </p:nvPicPr>
        <p:blipFill>
          <a:blip r:embed="rId3"/>
          <a:stretch/>
        </p:blipFill>
        <p:spPr>
          <a:xfrm>
            <a:off x="5292720" y="1363680"/>
            <a:ext cx="1836720" cy="29098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5"/>
          <p:cNvSpPr/>
          <p:nvPr/>
        </p:nvSpPr>
        <p:spPr>
          <a:xfrm>
            <a:off x="214200" y="2828880"/>
            <a:ext cx="66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Игры с песком, водой, глиной, красками, светом, зеркалом, космическим песком организуются в специальном месте в центре эксперимен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6" descr=""/>
          <p:cNvPicPr/>
          <p:nvPr/>
        </p:nvPicPr>
        <p:blipFill>
          <a:blip r:embed="rId4"/>
          <a:stretch/>
        </p:blipFill>
        <p:spPr>
          <a:xfrm>
            <a:off x="1074600" y="3556080"/>
            <a:ext cx="3932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785880" y="42876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Центр безопасности оснащен необходимыми атрибутами к сюжетно-ролевым играм, занятиям для закрепления знаний правил дорожного движения. Это всевозможные игрушки – транспортные средства, светофор, макет улицы, дорожные знаки. Хорошим дидактическим пособием служит напольный коврик с разметкой улиц и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1" descr="C:\Users\Админ\Desktop\Новая папка\P1150031.JPG"/>
          <p:cNvPicPr/>
          <p:nvPr/>
        </p:nvPicPr>
        <p:blipFill>
          <a:blip r:embed="rId2"/>
          <a:stretch/>
        </p:blipFill>
        <p:spPr>
          <a:xfrm>
            <a:off x="6194520" y="3638520"/>
            <a:ext cx="2071440" cy="221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Елена\Desktop\фото\IMG_20191028_133313.jp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571680" y="2214720"/>
            <a:ext cx="5429160" cy="39290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0"/>
          <p:cNvSpPr/>
          <p:nvPr/>
        </p:nvSpPr>
        <p:spPr>
          <a:xfrm>
            <a:off x="571680" y="4929120"/>
            <a:ext cx="52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Безопасность изучаем, как вести себя МЫ знаем. При пожаре, при потопе, на дороге и в лес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6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Ребята очень любят делать различные поделки, вот такие замечательные работы представлены в нашем центре твор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"/>
          <p:cNvPicPr/>
          <p:nvPr/>
        </p:nvPicPr>
        <p:blipFill>
          <a:blip r:embed="rId2"/>
          <a:stretch/>
        </p:blipFill>
        <p:spPr>
          <a:xfrm>
            <a:off x="500040" y="2071800"/>
            <a:ext cx="3524400" cy="36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Елена\Desktop\фото\IMG_20191024_165601.jpg"/>
          <p:cNvPicPr/>
          <p:nvPr/>
        </p:nvPicPr>
        <p:blipFill>
          <a:blip r:embed="rId3"/>
          <a:stretch/>
        </p:blipFill>
        <p:spPr>
          <a:xfrm>
            <a:off x="5357880" y="1714680"/>
            <a:ext cx="2214360" cy="27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Елена\Desktop\фото праздников\пасха 2019\IMG_20190514_144246.jpg"/>
          <p:cNvPicPr/>
          <p:nvPr/>
        </p:nvPicPr>
        <p:blipFill>
          <a:blip r:embed="rId4"/>
          <a:stretch/>
        </p:blipFill>
        <p:spPr>
          <a:xfrm>
            <a:off x="4857840" y="4429080"/>
            <a:ext cx="40003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image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узей «Старинушка» . Профиль музея - исторический. Включает разделы экспозиций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 – этнические экспонаты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 – народное творчество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– нумизматик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 – уголок сказо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сновной фонд музея состоит из предметов старины, экспонатов народного творчества 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умизмати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Елена\Desktop\Фото для презентации\IMG_20191029_114746.jpg"/>
          <p:cNvPicPr/>
          <p:nvPr/>
        </p:nvPicPr>
        <p:blipFill>
          <a:blip r:embed="rId2"/>
          <a:stretch/>
        </p:blipFill>
        <p:spPr>
          <a:xfrm>
            <a:off x="6286680" y="92880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Users\Елена\Desktop\Фото для презентации\IMG_20191029_114811.jpg"/>
          <p:cNvPicPr/>
          <p:nvPr/>
        </p:nvPicPr>
        <p:blipFill>
          <a:blip r:embed="rId3"/>
          <a:stretch/>
        </p:blipFill>
        <p:spPr>
          <a:xfrm>
            <a:off x="285840" y="42148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Елена\Desktop\Фото для презентации\IMG_20191029_114857.jpg"/>
          <p:cNvPicPr/>
          <p:nvPr/>
        </p:nvPicPr>
        <p:blipFill>
          <a:blip r:embed="rId4"/>
          <a:stretch/>
        </p:blipFill>
        <p:spPr>
          <a:xfrm>
            <a:off x="3357720" y="42148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Елена\Desktop\Фото для презентации\IMG_20191029_114936.jpg"/>
          <p:cNvPicPr/>
          <p:nvPr/>
        </p:nvPicPr>
        <p:blipFill>
          <a:blip r:embed="rId5"/>
          <a:stretch/>
        </p:blipFill>
        <p:spPr>
          <a:xfrm>
            <a:off x="6357960" y="3357720"/>
            <a:ext cx="243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5" descr="image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аким образом , мы считаем что предметно – развивающая среда в нашей группе , создаёт условия для сотрудничества ,взаимодействия , обеспечивает комфортное состояние ребёнка и его развит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image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42976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вая развивающую среду, мы старались оформить групповую комнату, учитывая особенности детей, посещающих группу. Это, прежде всего возраст, интересы, склонности, способности, гендерную принадлежность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У ребенка дошкольного возраста есть три основные потребности: в движении, общении, познании. Мы постарались организовать среду так, чтобы у ребенка был самостоятельный выбор: с кем, где, как, во что играть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Ребенок не просто общается в развивающей среде, он должен чувствовать себя полноправным владельцем пространства, в котором он находится, он становится творцом своего окружения, своего Я. 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Предметно-развивающая среда должна быть яркой, познавательной, эстетичной, поучительной, гармоничной, доступной, с учетом потребностей и интересов детей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285840" y="142920"/>
            <a:ext cx="535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Приглашаем в гости к 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к нашим интересным угол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где живут, играют и занимаются детиш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девчонки и мальчи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Елена\Desktop\фото\IMG_20191028_140351.jpg"/>
          <p:cNvPicPr/>
          <p:nvPr/>
        </p:nvPicPr>
        <p:blipFill>
          <a:blip r:embed="rId2"/>
          <a:stretch/>
        </p:blipFill>
        <p:spPr>
          <a:xfrm>
            <a:off x="357120" y="4071960"/>
            <a:ext cx="3857760" cy="263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Елена\Desktop\фото\IMG_20191028_140338.jpg"/>
          <p:cNvPicPr/>
          <p:nvPr/>
        </p:nvPicPr>
        <p:blipFill>
          <a:blip r:embed="rId3"/>
          <a:stretch/>
        </p:blipFill>
        <p:spPr>
          <a:xfrm>
            <a:off x="5857920" y="3965400"/>
            <a:ext cx="2643120" cy="253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Елена\Desktop\фото\IMG_20191028_133449.jpg"/>
          <p:cNvPicPr/>
          <p:nvPr/>
        </p:nvPicPr>
        <p:blipFill>
          <a:blip r:embed="rId4"/>
          <a:stretch/>
        </p:blipFill>
        <p:spPr>
          <a:xfrm>
            <a:off x="6215040" y="285840"/>
            <a:ext cx="26798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Елена\Desktop\фото\IMG_20191028_133508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1500120" y="2092320"/>
            <a:ext cx="44974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8" descr="3a83e06eb71ee7fa19367fc80f8114f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Здесь мы встречаем воспитан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Елена\Desktop\фото\IMG_20191028_135757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857160" y="150012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Елена\Desktop\фото\IMG_20191028_133607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429160" y="1762200"/>
            <a:ext cx="31449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428760" y="382680"/>
            <a:ext cx="840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школьный возраст — время расцвета сюжетно-ролевой игры. Сюжеты в этом возрасте просты и связаны с имеющимся у ребенка опытом: семья, магазин, больница, парикмахерская,  детский сад, праздники, цирк, путешествие на дачу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290840" y="1397160"/>
            <a:ext cx="214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6000840" y="1428840"/>
            <a:ext cx="2786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Айболит лечил мартыш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А Пилюлькин –коротыше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Мы же лечим всех подря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Бегемотиков, бельч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Крокодилов и волч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И лисят и порос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Кукол, рыбок, зайч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Девочек и мальчик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2125800" y="3657600"/>
            <a:ext cx="3135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3143160" y="3286080"/>
            <a:ext cx="264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В парикмахерской шика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Есть весь нужный инструме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Тушь, помада, и румя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  <a:ea typeface="Calibri"/>
              </a:rPr>
              <a:t>Вот "Шанели" только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Елена\Desktop\фото\IMG_20191028_133819.jpg"/>
          <p:cNvPicPr/>
          <p:nvPr/>
        </p:nvPicPr>
        <p:blipFill>
          <a:blip r:embed="rId2"/>
          <a:stretch/>
        </p:blipFill>
        <p:spPr>
          <a:xfrm>
            <a:off x="285840" y="2500200"/>
            <a:ext cx="2946240" cy="392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Елена\Desktop\фото\IMG_20191028_134521.jpg"/>
          <p:cNvPicPr/>
          <p:nvPr/>
        </p:nvPicPr>
        <p:blipFill>
          <a:blip r:embed="rId3"/>
          <a:stretch/>
        </p:blipFill>
        <p:spPr>
          <a:xfrm>
            <a:off x="5786280" y="4025880"/>
            <a:ext cx="30798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гра – это ведущая деятельность ребенка, посредством которой он органично развивается, познает очень важный пласт человеческой культуры – взаимоотношение между взрослыми людьми – в семье, их профессиональной деятельности 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Елена\Desktop\фото\IMG_20191028_135020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286160" y="42861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Елена\Desktop\фото\IMG_20191028_134105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28760" y="242892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Елена\Desktop\фото\IMG_20191028_134004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572080" y="2071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6" descr="image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2"/>
          <a:stretch/>
        </p:blipFill>
        <p:spPr>
          <a:xfrm>
            <a:off x="6054840" y="3000240"/>
            <a:ext cx="308916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Елена\Desktop\фото\IMG_20191028_135113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000840" y="2858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3" descr=""/>
          <p:cNvPicPr/>
          <p:nvPr/>
        </p:nvPicPr>
        <p:blipFill>
          <a:blip r:embed="rId4"/>
          <a:stretch/>
        </p:blipFill>
        <p:spPr>
          <a:xfrm>
            <a:off x="500040" y="2857680"/>
            <a:ext cx="34639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2"/>
          <p:cNvSpPr/>
          <p:nvPr/>
        </p:nvSpPr>
        <p:spPr>
          <a:xfrm>
            <a:off x="428760" y="214200"/>
            <a:ext cx="542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В  дошкольном возрасте дети активно осваивают средства и способы познания. Дидактических игры направлены на сравнение предметов по различным свойствам (цвету, форме, размеру, материалу, функции), на группировку по свойствам, на воссоздание целого из частей (Пазлы из 12 - 24 частей), игры на сч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3643200" y="235728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бёнок – человек, он – лич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тся познавать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И первым помощником в этом буду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тский сад и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hello_html_4f55199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2880" y="1071720"/>
            <a:ext cx="4543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Если не мы, то кто же, детям нашим поможет. Россию любить и знать! Как важно не опозда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" name="Picture 4" descr="https://ds04.infourok.ru/uploads/ex/107b/0005c952-10686825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0"/>
          <p:cNvSpPr/>
          <p:nvPr/>
        </p:nvSpPr>
        <p:spPr>
          <a:xfrm>
            <a:off x="5357880" y="15717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группе все акте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Кукловоды и танцо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Акробаты и жонглё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Балерины, режиссёр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день и каждый ч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Мы хотим играть для Вас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357120" y="285840"/>
            <a:ext cx="840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Театральный уголок – важный объект развивающей среды. В театре дети раскрываются, демонстрируя неожиданные грани своего характера. Робкие и застенчивые становятся уверенными и активными. Тот, кто без желания шел в детский сад, теперь с удовольствием спешит в групп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Объект 4" descr=""/>
          <p:cNvPicPr/>
          <p:nvPr/>
        </p:nvPicPr>
        <p:blipFill>
          <a:blip r:embed="rId2"/>
          <a:stretch/>
        </p:blipFill>
        <p:spPr>
          <a:xfrm>
            <a:off x="142920" y="1643040"/>
            <a:ext cx="2736720" cy="30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Елена\Desktop\фото\IMG_20191028_160345.jp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357120" y="4764240"/>
            <a:ext cx="2882880" cy="1858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4" descr=""/>
          <p:cNvPicPr/>
          <p:nvPr/>
        </p:nvPicPr>
        <p:blipFill>
          <a:blip r:embed="rId4"/>
          <a:stretch/>
        </p:blipFill>
        <p:spPr>
          <a:xfrm>
            <a:off x="6357960" y="3143160"/>
            <a:ext cx="2449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1:18:00Z</dcterms:created>
  <dc:creator>Елена</dc:creator>
  <dc:description/>
  <dc:language>en-US</dc:language>
  <cp:lastModifiedBy>МАКСИМ</cp:lastModifiedBy>
  <dcterms:modified xsi:type="dcterms:W3CDTF">2021-06-08T05:27:56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