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6.jpeg" ContentType="image/jpeg"/>
  <Override PartName="/ppt/media/image25.jpeg" ContentType="image/jpeg"/>
  <Override PartName="/ppt/media/image24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35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20.png" ContentType="image/png"/>
  <Override PartName="/ppt/media/image36.jpeg" ContentType="image/jpeg"/>
  <Override PartName="/ppt/media/image17.jpeg" ContentType="image/jpeg"/>
  <Override PartName="/ppt/media/image3.png" ContentType="image/png"/>
  <Override PartName="/ppt/media/image10.jpeg" ContentType="image/jpeg"/>
  <Override PartName="/ppt/media/image8.jpeg" ContentType="image/jpeg"/>
  <Override PartName="/ppt/media/image33.jpeg" ContentType="image/jpeg"/>
  <Override PartName="/ppt/media/image6.jpeg" ContentType="image/jpeg"/>
  <Override PartName="/ppt/media/image28.jpeg" ContentType="image/jpeg"/>
  <Override PartName="/ppt/media/image34.jpeg" ContentType="image/jpeg"/>
  <Override PartName="/ppt/media/image37.png" ContentType="image/png"/>
  <Override PartName="/ppt/media/image48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4.png" ContentType="image/png"/>
  <Override PartName="/ppt/media/image31.jpeg" ContentType="image/jpeg"/>
  <Override PartName="/ppt/media/image32.jpeg" ContentType="image/jpeg"/>
  <Override PartName="/ppt/media/image49.jpeg" ContentType="image/jpeg"/>
  <Override PartName="/ppt/media/image5.png" ContentType="image/png"/>
  <Override PartName="/ppt/media/image43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42.jpeg" ContentType="image/jpeg"/>
  <Override PartName="/ppt/media/image27.jpeg" ContentType="image/jpeg"/>
  <Override PartName="/ppt/media/image50.jpeg" ContentType="image/jpeg"/>
  <Override PartName="/ppt/media/image40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B439-8244-4A4C-A6C7-B3AD0793A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3C70-3DCC-4E24-A450-4C836B594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3F9D-81F6-430D-AE59-77A9227C2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FF01-8AD1-4093-AA27-92DFAE8EC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C35F-6AEA-4765-8A4E-2B2B9E7DD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42D7-8307-4BB7-AE79-5D62902DD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8CCA-E038-4221-AD77-BA1E3D0EC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1FE0-AA64-4D2B-AB38-D99978C8D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697D-3931-40C2-B8F4-75DB154B3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FF45-5AD5-4DED-84BC-45C2CE721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AAF7-DE06-490A-95F7-D01DF8F3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8262-9137-4B60-AEBF-EFA599EA6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4024C-D574-4E46-8DE1-2BDB1AC14416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8608B-20FB-43D0-8419-3B70FBDCD4D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image" Target="../media/image38.jpe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4" descr="https://ds04.infourok.ru/uploads/ex/107b/0005c952-10686825/img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3"/>
          <p:cNvSpPr/>
          <p:nvPr/>
        </p:nvSpPr>
        <p:spPr>
          <a:xfrm>
            <a:off x="2048040" y="492120"/>
            <a:ext cx="595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МКДОУ «Нижнедевицкий детский сад общеразвивающего вид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4"/>
          <p:cNvSpPr/>
          <p:nvPr/>
        </p:nvSpPr>
        <p:spPr>
          <a:xfrm>
            <a:off x="1071720" y="1214280"/>
            <a:ext cx="6314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Calibri"/>
                <a:ea typeface="Calibri"/>
              </a:rPr>
              <a:t>Презентация «Развивающая предметно –  пространственная среда </a:t>
            </a:r>
            <a:r>
              <a:rPr b="1" lang="en-US" sz="4000" spc="-1" strike="noStrike">
                <a:solidFill>
                  <a:srgbClr val="c00000"/>
                </a:solidFill>
                <a:latin typeface="Calibri"/>
                <a:ea typeface="Calibri"/>
              </a:rPr>
              <a:t>II-</a:t>
            </a:r>
            <a:r>
              <a:rPr b="1" lang="ru-RU" sz="4000" spc="-1" strike="noStrike">
                <a:solidFill>
                  <a:srgbClr val="c00000"/>
                </a:solidFill>
                <a:latin typeface="Calibri"/>
                <a:ea typeface="Calibri"/>
              </a:rPr>
              <a:t>младшей </a:t>
            </a:r>
            <a:r>
              <a:rPr b="1" lang="zh-CN" sz="4000" spc="-1" strike="noStrike">
                <a:solidFill>
                  <a:srgbClr val="c00000"/>
                </a:solidFill>
                <a:latin typeface="Calibri"/>
                <a:ea typeface="Calibri"/>
              </a:rPr>
              <a:t>группе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5"/>
          <p:cNvSpPr/>
          <p:nvPr/>
        </p:nvSpPr>
        <p:spPr>
          <a:xfrm>
            <a:off x="5072040" y="4429080"/>
            <a:ext cx="3643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Calibri"/>
              </a:rPr>
              <a:t>Выполн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Ключникова Наталья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Calibri"/>
              </a:rPr>
              <a:t> Николаев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Calibri"/>
              </a:rPr>
              <a:t>воспитатель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II-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младшей группе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Calibri"/>
              </a:rPr>
              <a:t>  (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Calibri"/>
              </a:rPr>
              <a:t> –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4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Calibri"/>
              </a:rPr>
              <a:t>лет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Calibri"/>
              </a:rPr>
              <a:t>с. Нижнедевиц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6" name="Picture 4" descr="https://ds04.infourok.ru/uploads/ex/107b/0005c952-10686825/img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5"/>
          <p:cNvSpPr/>
          <p:nvPr/>
        </p:nvSpPr>
        <p:spPr>
          <a:xfrm>
            <a:off x="214200" y="2214720"/>
            <a:ext cx="3143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В нашей группе мы дружны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В группу ходим от душ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Учимся мы здесь игра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Дружно игрушки убира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10"/>
          <p:cNvSpPr/>
          <p:nvPr/>
        </p:nvSpPr>
        <p:spPr>
          <a:xfrm>
            <a:off x="4143240" y="2214720"/>
            <a:ext cx="4464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Есть конструкторы, «шнуровки» 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для ума и для сноров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«Вкладыши», матрешки быстро собираем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Что, за чем, мы точно зна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11"/>
          <p:cNvSpPr/>
          <p:nvPr/>
        </p:nvSpPr>
        <p:spPr>
          <a:xfrm>
            <a:off x="642960" y="357120"/>
            <a:ext cx="8155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Дети очень любят играть как с «Лего», так и с модулями. У них игра приобретает сюжетно – ролевой характер. Из конструктора дети строят постройки, необходимые для обыгрывания сюжетов. Играя с конструктором, воспитанники формируют не только моторику, внимательность, мышление, воображение, но и приобретают трудовые навы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13" descr=""/>
          <p:cNvPicPr/>
          <p:nvPr/>
        </p:nvPicPr>
        <p:blipFill>
          <a:blip r:embed="rId2"/>
          <a:stretch/>
        </p:blipFill>
        <p:spPr>
          <a:xfrm>
            <a:off x="4861080" y="3313080"/>
            <a:ext cx="2663640" cy="29401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C:\Users\Елена\Desktop\фото\IMG_20191028_134632.jpg"/>
          <p:cNvPicPr/>
          <p:nvPr/>
        </p:nvPicPr>
        <p:blipFill>
          <a:blip r:embed="rId3"/>
          <a:stretch/>
        </p:blipFill>
        <p:spPr>
          <a:xfrm>
            <a:off x="428760" y="3571920"/>
            <a:ext cx="3240000" cy="243036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14" descr=""/>
          <p:cNvPicPr/>
          <p:nvPr/>
        </p:nvPicPr>
        <p:blipFill>
          <a:blip r:embed="rId4"/>
          <a:stretch/>
        </p:blipFill>
        <p:spPr>
          <a:xfrm>
            <a:off x="3429000" y="2286000"/>
            <a:ext cx="92880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5" name="Picture 4" descr="https://ds04.infourok.ru/uploads/ex/107b/0005c952-10686825/img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3"/>
          <p:cNvSpPr/>
          <p:nvPr/>
        </p:nvSpPr>
        <p:spPr>
          <a:xfrm>
            <a:off x="2786040" y="2500200"/>
            <a:ext cx="26431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В нашей группе есть мальчиш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Сорванцы и шалуниш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Силу некуда дева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Будем гантели поднима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мячи и мешочки в цель попада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А еще есть девчон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Они любят на скакалках скака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Обручи крутить, чтоб талию соблюда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4"/>
          <p:cNvSpPr/>
          <p:nvPr/>
        </p:nvSpPr>
        <p:spPr>
          <a:xfrm>
            <a:off x="6215040" y="4500720"/>
            <a:ext cx="27147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После сна, как все проснулись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потянулись, улыбнулись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мы по коврикам прошлис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Закаляйся. Не ленись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8" descr=""/>
          <p:cNvPicPr/>
          <p:nvPr/>
        </p:nvPicPr>
        <p:blipFill>
          <a:blip r:embed="rId2"/>
          <a:stretch/>
        </p:blipFill>
        <p:spPr>
          <a:xfrm>
            <a:off x="3989520" y="5902200"/>
            <a:ext cx="4765680" cy="60012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10"/>
          <p:cNvSpPr/>
          <p:nvPr/>
        </p:nvSpPr>
        <p:spPr>
          <a:xfrm>
            <a:off x="428760" y="214200"/>
            <a:ext cx="8501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В нашем детском саду спортивный центр находится в другой комнате. Нашим ребятам нравится участвовать в подвижных играх и упражняться со спортивным инвентарём. Не только занятия физкультурой имеют целью физическое развитие дошкольников, двигательная активность организуется в различных режимных момент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Рисунок 15" descr=""/>
          <p:cNvPicPr/>
          <p:nvPr/>
        </p:nvPicPr>
        <p:blipFill>
          <a:blip r:embed="rId3"/>
          <a:stretch/>
        </p:blipFill>
        <p:spPr>
          <a:xfrm>
            <a:off x="6286680" y="2000160"/>
            <a:ext cx="2296800" cy="221940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16" descr=""/>
          <p:cNvPicPr/>
          <p:nvPr/>
        </p:nvPicPr>
        <p:blipFill>
          <a:blip r:embed="rId4"/>
          <a:stretch/>
        </p:blipFill>
        <p:spPr>
          <a:xfrm>
            <a:off x="285840" y="2571840"/>
            <a:ext cx="2574720" cy="31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4" name="Picture 4" descr="https://ds04.infourok.ru/uploads/ex/107b/0005c952-10686825/img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6"/>
          <p:cNvSpPr/>
          <p:nvPr/>
        </p:nvSpPr>
        <p:spPr>
          <a:xfrm>
            <a:off x="3143160" y="2857680"/>
            <a:ext cx="2357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Любим сказки мы читать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и стихи запомина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Скуку мы не знаем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про маму на день забываем.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8"/>
          <p:cNvSpPr/>
          <p:nvPr/>
        </p:nvSpPr>
        <p:spPr>
          <a:xfrm>
            <a:off x="285840" y="326880"/>
            <a:ext cx="85723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Центр книги развивает навык слушания, умение обращаться с книгой, расширяет представления об окружающем. В книжной витрине я обычно выставляю 4-5 книг по теме месяца, как правило, они уже знакомы детям, с яркими, крупными иллюстрациями. В уголке дети получают первые навыки самостоятельного общения с книгой. Я знакомлю их с уголком книги, показываю пример как нужно правильно рассматривать книги (брать книги чистыми руками, перелистывать осторожно, не рвать, не мять, не использовать для игр, класть на место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Рисунок 9" descr="C:\Users\Админ\Desktop\Новая папка\P1150053.JPG"/>
          <p:cNvPicPr/>
          <p:nvPr/>
        </p:nvPicPr>
        <p:blipFill>
          <a:blip r:embed="rId2"/>
          <a:stretch/>
        </p:blipFill>
        <p:spPr>
          <a:xfrm>
            <a:off x="444600" y="4351320"/>
            <a:ext cx="2857320" cy="1712880"/>
          </a:xfrm>
          <a:prstGeom prst="rect">
            <a:avLst/>
          </a:prstGeom>
          <a:ln w="0">
            <a:noFill/>
          </a:ln>
        </p:spPr>
      </p:pic>
      <p:pic>
        <p:nvPicPr>
          <p:cNvPr id="118" name="Объект 4" descr=""/>
          <p:cNvPicPr/>
          <p:nvPr/>
        </p:nvPicPr>
        <p:blipFill>
          <a:blip r:embed="rId3"/>
          <a:stretch/>
        </p:blipFill>
        <p:spPr>
          <a:xfrm>
            <a:off x="5429160" y="3143160"/>
            <a:ext cx="3529080" cy="34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1" name="Picture 4" descr="https://ds04.infourok.ru/uploads/ex/107b/0005c952-10686825/img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3"/>
          <p:cNvSpPr/>
          <p:nvPr/>
        </p:nvSpPr>
        <p:spPr>
          <a:xfrm>
            <a:off x="971640" y="492120"/>
            <a:ext cx="74865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В шумном пространстве игровой комнаты обязательно должен быть такой островок тишины и спокойствия - уголок уединения,  который располагает к созерцательному наблюдению, мечтам и тихим беседам. В центре «Уединения» дети могут побыть одни, посмотреть фотоальбом детских и семейных фотографий в тишине, также здесь они могут поиграть с игрушками или посмотреть свои любимые кни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Рисунок 4" descr=""/>
          <p:cNvPicPr/>
          <p:nvPr/>
        </p:nvPicPr>
        <p:blipFill>
          <a:blip r:embed="rId2"/>
          <a:stretch/>
        </p:blipFill>
        <p:spPr>
          <a:xfrm>
            <a:off x="1579680" y="3062160"/>
            <a:ext cx="1701720" cy="302580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8" descr="C:\Users\Админ\Desktop\Новая папка\P1150036.JPG"/>
          <p:cNvPicPr/>
          <p:nvPr/>
        </p:nvPicPr>
        <p:blipFill>
          <a:blip r:embed="rId3">
            <a:lum bright="-10000"/>
          </a:blip>
          <a:stretch/>
        </p:blipFill>
        <p:spPr>
          <a:xfrm>
            <a:off x="4475160" y="3062160"/>
            <a:ext cx="2865600" cy="28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4" descr="https://ds04.infourok.ru/uploads/ex/107b/0005c952-10686825/img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4"/>
          <p:cNvSpPr/>
          <p:nvPr/>
        </p:nvSpPr>
        <p:spPr>
          <a:xfrm>
            <a:off x="0" y="0"/>
            <a:ext cx="8798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Центр «Природы»  включает в себя экологическую деятельность. В данном уголке содержатся различные виды комнатных растений, на которых удобно демонстрировать видоизменения частей растения, календарь погоды, образцы материалов, камней, металлов, стекла. Природный уголок служит не только украшением группы, но и местом для саморазвития дошколь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9"/>
          <p:cNvSpPr/>
          <p:nvPr/>
        </p:nvSpPr>
        <p:spPr>
          <a:xfrm>
            <a:off x="214200" y="1785960"/>
            <a:ext cx="3571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Мы предметов много знаем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Повторим мы их сейча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Помогите, мамы, папы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Склассифицировать для вас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Резина, пластмасс, ткань, металл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Дерево, стекло. Я всё это знал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Рисунок 10" descr=""/>
          <p:cNvPicPr/>
          <p:nvPr/>
        </p:nvPicPr>
        <p:blipFill>
          <a:blip r:embed="rId2">
            <a:lum bright="-10000"/>
          </a:blip>
          <a:stretch/>
        </p:blipFill>
        <p:spPr>
          <a:xfrm>
            <a:off x="6431040" y="4387680"/>
            <a:ext cx="2087640" cy="162252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14" descr=""/>
          <p:cNvPicPr/>
          <p:nvPr/>
        </p:nvPicPr>
        <p:blipFill>
          <a:blip r:embed="rId3"/>
          <a:stretch/>
        </p:blipFill>
        <p:spPr>
          <a:xfrm>
            <a:off x="5292720" y="1363680"/>
            <a:ext cx="1836720" cy="290988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15"/>
          <p:cNvSpPr/>
          <p:nvPr/>
        </p:nvSpPr>
        <p:spPr>
          <a:xfrm>
            <a:off x="214200" y="2828880"/>
            <a:ext cx="664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Игры с песком, водой, глиной, красками, светом, зеркалом, космическим песком организуются в специальном месте в центре эксперимент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Рисунок 16" descr=""/>
          <p:cNvPicPr/>
          <p:nvPr/>
        </p:nvPicPr>
        <p:blipFill>
          <a:blip r:embed="rId4"/>
          <a:stretch/>
        </p:blipFill>
        <p:spPr>
          <a:xfrm>
            <a:off x="1074600" y="3556080"/>
            <a:ext cx="3932280" cy="174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9" name="Picture 4" descr="https://ds04.infourok.ru/uploads/ex/107b/0005c952-10686825/img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Прямоугольник 8"/>
          <p:cNvSpPr/>
          <p:nvPr/>
        </p:nvSpPr>
        <p:spPr>
          <a:xfrm>
            <a:off x="785880" y="428760"/>
            <a:ext cx="7715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Центр безопасности оснащен необходимыми атрибутами к сюжетно-ролевым играм, занятиям для закрепления знаний правил дорожного движения. Это всевозможные игрушки – транспортные средства, светофор, макет улицы, дорожные знаки. Хорошим дидактическим пособием служит напольный коврик с разметкой улиц и доро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Рисунок 11" descr="C:\Users\Админ\Desktop\Новая папка\P1150031.JPG"/>
          <p:cNvPicPr/>
          <p:nvPr/>
        </p:nvPicPr>
        <p:blipFill>
          <a:blip r:embed="rId2"/>
          <a:stretch/>
        </p:blipFill>
        <p:spPr>
          <a:xfrm>
            <a:off x="6194520" y="3638520"/>
            <a:ext cx="2071440" cy="2216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C:\Users\Елена\Desktop\фото\IMG_20191028_133313.jpg"/>
          <p:cNvPicPr/>
          <p:nvPr/>
        </p:nvPicPr>
        <p:blipFill>
          <a:blip r:embed="rId3">
            <a:lum bright="-20000"/>
          </a:blip>
          <a:stretch/>
        </p:blipFill>
        <p:spPr>
          <a:xfrm>
            <a:off x="571680" y="2214720"/>
            <a:ext cx="5429160" cy="3929040"/>
          </a:xfrm>
          <a:prstGeom prst="rect">
            <a:avLst/>
          </a:prstGeom>
          <a:ln w="0">
            <a:noFill/>
          </a:ln>
        </p:spPr>
      </p:pic>
      <p:sp>
        <p:nvSpPr>
          <p:cNvPr id="143" name="Прямоугольник 10"/>
          <p:cNvSpPr/>
          <p:nvPr/>
        </p:nvSpPr>
        <p:spPr>
          <a:xfrm>
            <a:off x="571680" y="4929120"/>
            <a:ext cx="52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Безопасность изучаем, как вести себя МЫ знаем. При пожаре, при потопе, на дороге и в лес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Рисунок 6" descr="img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Ребята очень любят делать различные поделки, вот такие замечательные работы представлены в нашем центре творчест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Содержимое 3" descr=""/>
          <p:cNvPicPr/>
          <p:nvPr/>
        </p:nvPicPr>
        <p:blipFill>
          <a:blip r:embed="rId2"/>
          <a:stretch/>
        </p:blipFill>
        <p:spPr>
          <a:xfrm>
            <a:off x="500040" y="2071800"/>
            <a:ext cx="3524400" cy="36702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Users\Елена\Desktop\фото\IMG_20191024_165601.jpg"/>
          <p:cNvPicPr/>
          <p:nvPr/>
        </p:nvPicPr>
        <p:blipFill>
          <a:blip r:embed="rId3"/>
          <a:stretch/>
        </p:blipFill>
        <p:spPr>
          <a:xfrm>
            <a:off x="5357880" y="1714680"/>
            <a:ext cx="2214360" cy="27255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C:\Users\Елена\Desktop\фото праздников\пасха 2019\IMG_20190514_144246.jpg"/>
          <p:cNvPicPr/>
          <p:nvPr/>
        </p:nvPicPr>
        <p:blipFill>
          <a:blip r:embed="rId4"/>
          <a:stretch/>
        </p:blipFill>
        <p:spPr>
          <a:xfrm>
            <a:off x="4857840" y="4429080"/>
            <a:ext cx="400032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Содержимое 3" descr="image (1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8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Музей «Старинушка» . Профиль музея - исторический. Включает разделы экспозиций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 – этнические экспонаты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 – народное творчество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 – нумизматика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4 – уголок сказок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Основной фонд музея состоит из предметов старины, экспонатов народного творчества и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нумизматики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4" descr="C:\Users\Елена\Desktop\Фото для презентации\IMG_20191029_114746.jpg"/>
          <p:cNvPicPr/>
          <p:nvPr/>
        </p:nvPicPr>
        <p:blipFill>
          <a:blip r:embed="rId2"/>
          <a:stretch/>
        </p:blipFill>
        <p:spPr>
          <a:xfrm>
            <a:off x="6286680" y="928800"/>
            <a:ext cx="2214360" cy="16603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C:\Users\Елена\Desktop\Фото для презентации\IMG_20191029_114811.jpg"/>
          <p:cNvPicPr/>
          <p:nvPr/>
        </p:nvPicPr>
        <p:blipFill>
          <a:blip r:embed="rId3"/>
          <a:stretch/>
        </p:blipFill>
        <p:spPr>
          <a:xfrm>
            <a:off x="285840" y="4214880"/>
            <a:ext cx="2879640" cy="21603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C:\Users\Елена\Desktop\Фото для презентации\IMG_20191029_114857.jpg"/>
          <p:cNvPicPr/>
          <p:nvPr/>
        </p:nvPicPr>
        <p:blipFill>
          <a:blip r:embed="rId4"/>
          <a:stretch/>
        </p:blipFill>
        <p:spPr>
          <a:xfrm>
            <a:off x="3357720" y="4214880"/>
            <a:ext cx="2879640" cy="2160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8" descr="C:\Users\Елена\Desktop\Фото для презентации\IMG_20191029_114936.jpg"/>
          <p:cNvPicPr/>
          <p:nvPr/>
        </p:nvPicPr>
        <p:blipFill>
          <a:blip r:embed="rId5"/>
          <a:stretch/>
        </p:blipFill>
        <p:spPr>
          <a:xfrm>
            <a:off x="6357960" y="3357720"/>
            <a:ext cx="24303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Содержимое 5" descr="image (2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785960"/>
            <a:ext cx="822960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Таким образом , мы считаем что предметно – развивающая среда в нашей группе , создаёт условия для сотрудничества ,взаимодействия , обеспечивает комфортное состояние ребёнка и его развити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Содержимое 3" descr="image (1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429760" cy="58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оздавая развивающую среду, мы старались оформить групповую комнату, учитывая особенности детей, посещающих группу. Это, прежде всего возраст, интересы, склонности, способности, гендерную принадлежность.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У ребенка дошкольного возраста есть три основные потребности: в движении, общении, познании. Мы постарались организовать среду так, чтобы у ребенка был самостоятельный выбор: с кем, где, как, во что играть.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Ребенок не просто общается в развивающей среде, он должен чувствовать себя полноправным владельцем пространства, в котором он находится, он становится творцом своего окружения, своего Я. 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Предметно-развивающая среда должна быть яркой, познавательной, эстетичной, поучительной, гармоничной, доступной, с учетом потребностей и интересов детей</a:t>
            </a:r>
            <a:r>
              <a:rPr b="1" i="1" lang="en-US" sz="2400" spc="-1" strike="noStrike">
                <a:solidFill>
                  <a:srgbClr val="002060"/>
                </a:solidFill>
                <a:latin typeface="Times New Roman"/>
              </a:rPr>
              <a:t>.</a:t>
            </a:r>
            <a:br>
              <a:rPr sz="11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1" name="Picture 4" descr="https://ds04.infourok.ru/uploads/ex/107b/0005c952-10686825/img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3"/>
          <p:cNvSpPr/>
          <p:nvPr/>
        </p:nvSpPr>
        <p:spPr>
          <a:xfrm>
            <a:off x="285840" y="142920"/>
            <a:ext cx="5357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  <a:ea typeface="Calibri"/>
              </a:rPr>
              <a:t>Приглашаем в гости к на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  <a:ea typeface="Calibri"/>
              </a:rPr>
              <a:t>к нашим интересным уголка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  <a:ea typeface="Calibri"/>
              </a:rPr>
              <a:t>где живут, играют и занимаются детиш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  <a:ea typeface="Calibri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  <a:ea typeface="Calibri"/>
              </a:rPr>
              <a:t>девчонки и мальчиш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:\Users\Елена\Desktop\фото\IMG_20191028_140351.jpg"/>
          <p:cNvPicPr/>
          <p:nvPr/>
        </p:nvPicPr>
        <p:blipFill>
          <a:blip r:embed="rId2"/>
          <a:stretch/>
        </p:blipFill>
        <p:spPr>
          <a:xfrm>
            <a:off x="357120" y="4071960"/>
            <a:ext cx="3857760" cy="2630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C:\Users\Елена\Desktop\фото\IMG_20191028_140338.jpg"/>
          <p:cNvPicPr/>
          <p:nvPr/>
        </p:nvPicPr>
        <p:blipFill>
          <a:blip r:embed="rId3"/>
          <a:stretch/>
        </p:blipFill>
        <p:spPr>
          <a:xfrm>
            <a:off x="5857920" y="3965400"/>
            <a:ext cx="2643120" cy="2535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C:\Users\Елена\Desktop\фото\IMG_20191028_133449.jpg"/>
          <p:cNvPicPr/>
          <p:nvPr/>
        </p:nvPicPr>
        <p:blipFill>
          <a:blip r:embed="rId4"/>
          <a:stretch/>
        </p:blipFill>
        <p:spPr>
          <a:xfrm>
            <a:off x="6215040" y="285840"/>
            <a:ext cx="2679840" cy="3571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C:\Users\Елена\Desktop\фото\IMG_20191028_133508.jpg"/>
          <p:cNvPicPr/>
          <p:nvPr/>
        </p:nvPicPr>
        <p:blipFill>
          <a:blip r:embed="rId5">
            <a:lum bright="-10000"/>
          </a:blip>
          <a:stretch/>
        </p:blipFill>
        <p:spPr>
          <a:xfrm>
            <a:off x="1500120" y="2092320"/>
            <a:ext cx="449748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8" descr="3a83e06eb71ee7fa19367fc80f8114f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Здесь мы встречаем воспитанник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C:\Users\Елена\Desktop\фото\IMG_20191028_135757.jpg"/>
          <p:cNvPicPr/>
          <p:nvPr/>
        </p:nvPicPr>
        <p:blipFill>
          <a:blip r:embed="rId2">
            <a:lum bright="-10000"/>
          </a:blip>
          <a:stretch/>
        </p:blipFill>
        <p:spPr>
          <a:xfrm>
            <a:off x="857160" y="1500120"/>
            <a:ext cx="3286080" cy="4381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C:\Users\Елена\Desktop\фото\IMG_20191028_133607.jpg"/>
          <p:cNvPicPr/>
          <p:nvPr/>
        </p:nvPicPr>
        <p:blipFill>
          <a:blip r:embed="rId3">
            <a:lum bright="-10000"/>
          </a:blip>
          <a:stretch/>
        </p:blipFill>
        <p:spPr>
          <a:xfrm>
            <a:off x="5429160" y="1762200"/>
            <a:ext cx="3144960" cy="41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3" name="Picture 4" descr="https://ds04.infourok.ru/uploads/ex/107b/0005c952-10686825/img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3"/>
          <p:cNvSpPr/>
          <p:nvPr/>
        </p:nvSpPr>
        <p:spPr>
          <a:xfrm>
            <a:off x="428760" y="382680"/>
            <a:ext cx="8404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Дошкольный возраст — время расцвета сюжетно-ролевой игры. Сюжеты в этом возрасте просты и связаны с имеющимся у ребенка опытом: семья, магазин, больница, парикмахерская,  детский сад, праздники, цирк, путешествие на дачу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7"/>
          <p:cNvSpPr/>
          <p:nvPr/>
        </p:nvSpPr>
        <p:spPr>
          <a:xfrm>
            <a:off x="4290840" y="1397160"/>
            <a:ext cx="21434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8"/>
          <p:cNvSpPr/>
          <p:nvPr/>
        </p:nvSpPr>
        <p:spPr>
          <a:xfrm>
            <a:off x="6000840" y="1428840"/>
            <a:ext cx="27860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Айболит лечил мартышек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А Пилюлькин –коротышек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Мы же лечим всех подряд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Бегемотиков, бельчат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Крокодилов и волчат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И лисят и поросят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Кукол, рыбок, зайчиков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Девочек и мальчиков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11"/>
          <p:cNvSpPr/>
          <p:nvPr/>
        </p:nvSpPr>
        <p:spPr>
          <a:xfrm>
            <a:off x="2125800" y="3657600"/>
            <a:ext cx="3135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12"/>
          <p:cNvSpPr/>
          <p:nvPr/>
        </p:nvSpPr>
        <p:spPr>
          <a:xfrm>
            <a:off x="3143160" y="3286080"/>
            <a:ext cx="2643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alibri"/>
                <a:ea typeface="Calibri"/>
              </a:rPr>
              <a:t>В парикмахерской шикар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alibri"/>
                <a:ea typeface="Calibri"/>
              </a:rPr>
              <a:t>Есть весь нужный инструмен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alibri"/>
                <a:ea typeface="Calibri"/>
              </a:rPr>
              <a:t>Тушь, помада, и румя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alibri"/>
                <a:ea typeface="Calibri"/>
              </a:rPr>
              <a:t>Вот "Шанели" только нет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C:\Users\Елена\Desktop\фото\IMG_20191028_133819.jpg"/>
          <p:cNvPicPr/>
          <p:nvPr/>
        </p:nvPicPr>
        <p:blipFill>
          <a:blip r:embed="rId2"/>
          <a:stretch/>
        </p:blipFill>
        <p:spPr>
          <a:xfrm>
            <a:off x="285840" y="2500200"/>
            <a:ext cx="2946240" cy="39290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C:\Users\Елена\Desktop\фото\IMG_20191028_134521.jpg"/>
          <p:cNvPicPr/>
          <p:nvPr/>
        </p:nvPicPr>
        <p:blipFill>
          <a:blip r:embed="rId3"/>
          <a:stretch/>
        </p:blipFill>
        <p:spPr>
          <a:xfrm>
            <a:off x="5786280" y="4025880"/>
            <a:ext cx="3079800" cy="23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6" descr="img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Игра – это ведущая деятельность ребенка, посредством которой он органично развивается, познает очень важный пласт человеческой культуры – взаимоотношение между взрослыми людьми – в семье, их профессиональной деятельности 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C:\Users\Елена\Desktop\фото\IMG_20191028_135020.jpg"/>
          <p:cNvPicPr/>
          <p:nvPr/>
        </p:nvPicPr>
        <p:blipFill>
          <a:blip r:embed="rId2">
            <a:lum bright="-10000"/>
          </a:blip>
          <a:stretch/>
        </p:blipFill>
        <p:spPr>
          <a:xfrm>
            <a:off x="4286160" y="4286160"/>
            <a:ext cx="2762280" cy="2071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C:\Users\Елена\Desktop\фото\IMG_20191028_134105.jpg"/>
          <p:cNvPicPr/>
          <p:nvPr/>
        </p:nvPicPr>
        <p:blipFill>
          <a:blip r:embed="rId3">
            <a:lum bright="-10000"/>
          </a:blip>
          <a:stretch/>
        </p:blipFill>
        <p:spPr>
          <a:xfrm>
            <a:off x="428760" y="2428920"/>
            <a:ext cx="3143160" cy="4191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C:\Users\Елена\Desktop\фото\IMG_20191028_134004.jpg"/>
          <p:cNvPicPr/>
          <p:nvPr/>
        </p:nvPicPr>
        <p:blipFill>
          <a:blip r:embed="rId4">
            <a:lum bright="-10000"/>
          </a:blip>
          <a:stretch/>
        </p:blipFill>
        <p:spPr>
          <a:xfrm>
            <a:off x="5572080" y="2071800"/>
            <a:ext cx="314316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6" descr="image (2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6610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Объект 3" descr=""/>
          <p:cNvPicPr/>
          <p:nvPr/>
        </p:nvPicPr>
        <p:blipFill>
          <a:blip r:embed="rId2"/>
          <a:stretch/>
        </p:blipFill>
        <p:spPr>
          <a:xfrm>
            <a:off x="6054840" y="3000240"/>
            <a:ext cx="3089160" cy="2376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C:\Users\Елена\Desktop\фото\IMG_20191028_135113.jpg"/>
          <p:cNvPicPr/>
          <p:nvPr/>
        </p:nvPicPr>
        <p:blipFill>
          <a:blip r:embed="rId3">
            <a:lum bright="-10000"/>
          </a:blip>
          <a:stretch/>
        </p:blipFill>
        <p:spPr>
          <a:xfrm>
            <a:off x="6000840" y="285840"/>
            <a:ext cx="2879640" cy="2160360"/>
          </a:xfrm>
          <a:prstGeom prst="rect">
            <a:avLst/>
          </a:prstGeom>
          <a:ln w="0">
            <a:noFill/>
          </a:ln>
        </p:spPr>
      </p:pic>
      <p:pic>
        <p:nvPicPr>
          <p:cNvPr id="80" name="Содержимое 3" descr=""/>
          <p:cNvPicPr/>
          <p:nvPr/>
        </p:nvPicPr>
        <p:blipFill>
          <a:blip r:embed="rId4"/>
          <a:stretch/>
        </p:blipFill>
        <p:spPr>
          <a:xfrm>
            <a:off x="500040" y="2857680"/>
            <a:ext cx="3463920" cy="342900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12"/>
          <p:cNvSpPr/>
          <p:nvPr/>
        </p:nvSpPr>
        <p:spPr>
          <a:xfrm>
            <a:off x="428760" y="214200"/>
            <a:ext cx="5429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В  дошкольном возрасте дети активно осваивают средства и способы познания. Дидактических игры направлены на сравнение предметов по различным свойствам (цвету, форме, размеру, материалу, функции), на группировку по свойствам, на воссоздание целого из частей (Пазлы из 12 - 24 частей), игры на сче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13"/>
          <p:cNvSpPr/>
          <p:nvPr/>
        </p:nvSpPr>
        <p:spPr>
          <a:xfrm>
            <a:off x="3643200" y="2357280"/>
            <a:ext cx="221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Ребёнок – человек, он – личнос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Стремится познавать всег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И первым помощником в этом будут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Детский сад и сем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Содержимое 3" descr="hello_html_4f55199f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142880" y="1071720"/>
            <a:ext cx="45435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Если не мы, то кто же, детям нашим поможет. Россию любить и знать! Как важно не опоздать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Объект 3" descr=""/>
          <p:cNvPicPr/>
          <p:nvPr/>
        </p:nvPicPr>
        <p:blipFill>
          <a:blip r:embed="rId2"/>
          <a:stretch/>
        </p:blipFill>
        <p:spPr>
          <a:xfrm>
            <a:off x="1071720" y="1071720"/>
            <a:ext cx="3071520" cy="49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8" name="Picture 4" descr="https://ds04.infourok.ru/uploads/ex/107b/0005c952-10686825/img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10"/>
          <p:cNvSpPr/>
          <p:nvPr/>
        </p:nvSpPr>
        <p:spPr>
          <a:xfrm>
            <a:off x="5357880" y="1571760"/>
            <a:ext cx="3571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В нашей группе все актеры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Кукловоды и танцоры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Акробаты и жонглёры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Балерины, режиссёры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Каждый день и каждый ча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Мы хотим играть для Вас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357120" y="285840"/>
            <a:ext cx="8404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Театральный уголок – важный объект развивающей среды. В театре дети раскрываются, демонстрируя неожиданные грани своего характера. Робкие и застенчивые становятся уверенными и активными. Тот, кто без желания шел в детский сад, теперь с удовольствием спешит в групп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Объект 4" descr=""/>
          <p:cNvPicPr/>
          <p:nvPr/>
        </p:nvPicPr>
        <p:blipFill>
          <a:blip r:embed="rId2"/>
          <a:stretch/>
        </p:blipFill>
        <p:spPr>
          <a:xfrm>
            <a:off x="142920" y="1643040"/>
            <a:ext cx="2736720" cy="30193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C:\Users\Елена\Desktop\фото\IMG_20191028_160345.jpg"/>
          <p:cNvPicPr/>
          <p:nvPr/>
        </p:nvPicPr>
        <p:blipFill>
          <a:blip r:embed="rId3">
            <a:lum bright="-20000"/>
          </a:blip>
          <a:stretch/>
        </p:blipFill>
        <p:spPr>
          <a:xfrm>
            <a:off x="357120" y="4764240"/>
            <a:ext cx="2882880" cy="185868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14" descr=""/>
          <p:cNvPicPr/>
          <p:nvPr/>
        </p:nvPicPr>
        <p:blipFill>
          <a:blip r:embed="rId4"/>
          <a:stretch/>
        </p:blipFill>
        <p:spPr>
          <a:xfrm>
            <a:off x="6357960" y="3143160"/>
            <a:ext cx="244944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0-28T11:18:00Z</dcterms:created>
  <dc:creator>Елена</dc:creator>
  <dc:description/>
  <dc:language>en-US</dc:language>
  <cp:lastModifiedBy>МАКСИМ</cp:lastModifiedBy>
  <dcterms:modified xsi:type="dcterms:W3CDTF">2021-06-08T05:27:56Z</dcterms:modified>
  <cp:revision>4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9.1.0.5247</vt:lpwstr>
  </property>
</Properties>
</file>