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D5C-DD29-4690-A4C8-9D0BD9F7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9DB-753F-4BE3-B7AB-F4184D9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EED-AECA-4D07-830B-4B403F66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A3E-B22C-4EB7-8331-B9D94274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F28-6C67-49B3-9C48-561C746A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7B5-AE76-4F6F-86A6-5E4AB57C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1E6-98CB-4885-9011-74789CF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51DA-80E2-42C7-B785-B113CBA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C9E7-E255-4B78-B234-44273EF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1FC-3E1E-4939-B8D7-9652AE2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D9C-A72D-4E3E-BF29-01CFCAB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56F-43D9-466C-AE26-901C633A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9C4-9D35-4829-845D-36BD422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1A5-2756-4E66-B88F-6C13D97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55A7-FEE3-43BE-843B-FCA94D3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F7F-2E21-4578-989B-B663AC42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D57C-0548-48E0-8DB0-AAB3A72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351F-998A-4EA9-AF53-8488B4FD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BFAD-B6E9-492B-ABA8-812692D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28FF-B8E5-4767-B290-F0B56ACD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22BE-731B-4D7B-AAD8-D75E393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F075-9DB0-40AF-8284-49222340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4F9-5785-4C79-8F68-B342F84F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ED3D-A879-486C-B554-7FC789B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0624-6237-47E9-A269-5A9F850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EDE2-A7E3-49A5-B152-83B66D1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913E-46DF-49DB-8C4E-9D4DBD9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CD62-54BE-4C88-84B5-A51906D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F2DF-9A16-490E-9582-F55DB72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3BA1-0D4F-4239-9ABA-CF9E258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908-020C-4F50-AEC0-C8AF44C0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539-2B8A-48E2-93AE-B379065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764-22D4-4F4F-A0C0-0E5DC32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38A-5913-4D03-BA04-A50009C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D96-119B-4B09-BEF4-FAFB895D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3FB-09EE-4B8B-9467-55E354F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9E8-A706-49E2-B831-CFC4C9F09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3C8-8A5F-4F24-AC24-09E788729B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038-5F15-4104-B90D-BE602779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2448000"/>
          </a:xfrm>
          <a:prstGeom prst="rect">
            <a:avLst/>
          </a:prstGeom>
          <a:noFill/>
          <a:ln w="7632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200" spc="-1" strike="noStrike">
                <a:solidFill>
                  <a:srgbClr val="cc0000"/>
                </a:solidFill>
                <a:latin typeface="Comic Sans MS"/>
              </a:rPr>
              <a:t>T</a:t>
            </a:r>
            <a:r>
              <a:rPr b="1" lang="en-US" sz="23200" spc="-1" strike="noStrike">
                <a:solidFill>
                  <a:srgbClr val="66ffff"/>
                </a:solidFill>
                <a:latin typeface="Comic Sans MS"/>
              </a:rPr>
              <a:t>i</a:t>
            </a:r>
            <a:r>
              <a:rPr b="1" lang="en-US" sz="232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1" lang="en-US" sz="281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2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6400800" cy="1447920"/>
          </a:xfrm>
          <a:prstGeom prst="rect">
            <a:avLst/>
          </a:prstGeom>
          <a:noFill/>
          <a:ln w="7632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ru-RU" sz="8800" spc="-1" strike="noStrike">
                <a:solidFill>
                  <a:srgbClr val="336600"/>
                </a:solidFill>
                <a:latin typeface="Comic Sans MS"/>
              </a:rPr>
              <a:t>Время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38160">
            <a:solidFill>
              <a:srgbClr val="33ccff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Ask and time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341360"/>
          <a:ext cx="8569080" cy="5234040"/>
        </p:xfrm>
        <a:graphic>
          <a:graphicData uri="http://schemas.openxmlformats.org/drawingml/2006/table">
            <a:tbl>
              <a:tblPr/>
              <a:tblGrid>
                <a:gridCol w="5400360"/>
                <a:gridCol w="1368720"/>
                <a:gridCol w="180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Time Quiz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ur Part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stand up and sit down twenty times in twenty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blink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рга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ten times in ten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count from one to forty in English in thirty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name five animals in fifteen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tell the time in English in five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0000" y="228240"/>
            <a:ext cx="3168360" cy="89676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66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66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66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Today you’ll learn how to tell the time in English</a:t>
            </a:r>
            <a:r>
              <a:rPr b="1" lang="ru-RU" sz="40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and to answer the question </a:t>
            </a: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“What time is it now?”</a:t>
            </a: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 (</a:t>
            </a:r>
            <a:r>
              <a:rPr b="1" lang="ru-RU" sz="4000" spc="-1" strike="noStrike">
                <a:solidFill>
                  <a:srgbClr val="3366cc"/>
                </a:solidFill>
                <a:latin typeface="Comic Sans MS"/>
              </a:rPr>
              <a:t>Сколько сейчас времени?)</a:t>
            </a:r>
            <a:r>
              <a:rPr b="0" lang="ru-RU" sz="4000" spc="-1" strike="noStrike">
                <a:solidFill>
                  <a:srgbClr val="3366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26920" y="274320"/>
            <a:ext cx="482436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80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80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80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4869000"/>
            <a:ext cx="42447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cc"/>
                </a:solidFill>
                <a:latin typeface="Comic Sans MS"/>
              </a:rPr>
              <a:t>Three minutes past three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Три минуты четвер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0" y="184428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Чтобы назвать время до половины часа, нужно сказать сколько времени прошла минутная стрелка</a:t>
            </a:r>
            <a:r>
              <a:rPr b="1" lang="ru-RU" sz="25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ru-RU" sz="2500" spc="-1" strike="noStrike" u="sng">
                <a:solidFill>
                  <a:srgbClr val="6600cc"/>
                </a:solidFill>
                <a:uFillTx/>
                <a:latin typeface="Comic Sans MS"/>
              </a:rPr>
              <a:t>после</a:t>
            </a:r>
            <a:r>
              <a:rPr b="1" lang="ru-RU" sz="25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цифры 1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Для этого используют предлог </a:t>
            </a:r>
            <a:r>
              <a:rPr b="1" lang="en-US" sz="2500" spc="-1" strike="noStrike" u="sng">
                <a:solidFill>
                  <a:srgbClr val="6600cc"/>
                </a:solidFill>
                <a:uFillTx/>
                <a:latin typeface="Comic Sans MS"/>
              </a:rPr>
              <a:t>past</a:t>
            </a:r>
            <a:r>
              <a:rPr b="1" lang="ru-RU" sz="2500" spc="-1" strike="noStrike" u="sng">
                <a:solidFill>
                  <a:srgbClr val="6600cc"/>
                </a:solidFill>
                <a:uFillTx/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(после). Этот предлог используют и в случае, когда прошла ровно половина час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095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4581000"/>
            <a:ext cx="4178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eventeen minutes to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Без семнадцати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Чтобы назвать время во 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второй половине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часа, нужно сказать сколько времени осталось пройти минутной стрелке </a:t>
            </a:r>
            <a:r>
              <a:rPr b="1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до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цифры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Для этого используют предлог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to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д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260280"/>
            <a:ext cx="3816360" cy="108108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424980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 русском языке мы относим половину к следующему часу. В английском, наоборот, к предыдущему. Например,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6.30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– это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“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половина седьмого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но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“half past six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9280" y="1600200"/>
            <a:ext cx="8785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quarter to…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five minutes pa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без четверти...)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пять минут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twenty minutes to…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quarter pa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(без двадцати...)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четверть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84000" y="1773360"/>
            <a:ext cx="2016360" cy="2304720"/>
            <a:chOff x="2484000" y="1773360"/>
            <a:chExt cx="2016360" cy="2304720"/>
          </a:xfrm>
        </p:grpSpPr>
        <p:grpSp>
          <p:nvGrpSpPr>
            <p:cNvPr id="144" name=""/>
            <p:cNvGrpSpPr/>
            <p:nvPr/>
          </p:nvGrpSpPr>
          <p:grpSpPr>
            <a:xfrm>
              <a:off x="2484000" y="1922040"/>
              <a:ext cx="2016360" cy="1933200"/>
              <a:chOff x="2484000" y="1922040"/>
              <a:chExt cx="2016360" cy="1933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484360" y="1922040"/>
                <a:ext cx="2016000" cy="193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84000" y="2888640"/>
                <a:ext cx="1007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651760" y="2888640"/>
                <a:ext cx="839880" cy="644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491640" y="1773360"/>
              <a:ext cx="0" cy="2304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16360" y="2133720"/>
            <a:ext cx="1800360" cy="2520720"/>
            <a:chOff x="4716360" y="2133720"/>
            <a:chExt cx="1800360" cy="2520720"/>
          </a:xfrm>
        </p:grpSpPr>
        <p:sp>
          <p:nvSpPr>
            <p:cNvPr id="150" name=""/>
            <p:cNvSpPr/>
            <p:nvPr/>
          </p:nvSpPr>
          <p:spPr>
            <a:xfrm>
              <a:off x="4716360" y="2427840"/>
              <a:ext cx="1800360" cy="177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616360" y="2575440"/>
              <a:ext cx="450000" cy="74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6360" y="2133720"/>
              <a:ext cx="0" cy="2520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16360" y="3317400"/>
              <a:ext cx="9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6360" y="3317400"/>
              <a:ext cx="0" cy="889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274320"/>
            <a:ext cx="439236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twelve o’clock in the daytime. It’s midday. 12 </a:t>
            </a:r>
            <a:r>
              <a:rPr b="1" lang="ru-RU" sz="2900" spc="-1" strike="noStrike">
                <a:solidFill>
                  <a:srgbClr val="3366cc"/>
                </a:solidFill>
                <a:latin typeface="Comic Sans MS"/>
              </a:rPr>
              <a:t>часов дня.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Полдень (середина дня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twelve o’clock at night. It’s midnight. </a:t>
            </a:r>
            <a:r>
              <a:rPr b="1" lang="ru-RU" sz="2900" spc="-1" strike="noStrike">
                <a:solidFill>
                  <a:srgbClr val="3366cc"/>
                </a:solidFill>
                <a:latin typeface="Comic Sans MS"/>
              </a:rPr>
              <a:t>12 часов ночи.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Полночь (середина ночи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four o’clock.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6600cc"/>
                </a:solidFill>
                <a:latin typeface="Comic Sans MS"/>
              </a:rPr>
              <a:t>4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час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4360" y="4797000"/>
            <a:ext cx="1371600" cy="1371960"/>
            <a:chOff x="684360" y="4797000"/>
            <a:chExt cx="1371600" cy="1371960"/>
          </a:xfrm>
        </p:grpSpPr>
        <p:sp>
          <p:nvSpPr>
            <p:cNvPr id="158" name=""/>
            <p:cNvSpPr/>
            <p:nvPr/>
          </p:nvSpPr>
          <p:spPr>
            <a:xfrm>
              <a:off x="684360" y="47973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70160" y="479700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0160" y="5483160"/>
              <a:ext cx="57132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38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384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367344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7.30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.m. = half past seven in the morning.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Половина восьмого у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20.00 = 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Eight o’clock in the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осемь часов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ремя обозначают цифрами от 0 до 24 – столько часов в сутках. Можно измерять время от 0 до 12 часов и говорить утро или вечер.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Утро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до 12 часов дня) обозначают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.m.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что по латыни означает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“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до полудня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Вечер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после 12 часов дня) обозначают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p.m.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что по латыни означает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“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после полудня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4608360" cy="8510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19280" y="1341360"/>
            <a:ext cx="6049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Mat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quarter to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quarter past e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half pas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twenty-five pas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ten to 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eight o'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03640" y="155736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07:32Z</dcterms:created>
  <dc:creator>Марина</dc:creator>
  <dc:description/>
  <dc:language>en-US</dc:language>
  <cp:lastModifiedBy>Марина</cp:lastModifiedBy>
  <dcterms:modified xsi:type="dcterms:W3CDTF">2009-02-03T20:40:33Z</dcterms:modified>
  <cp:revision>17</cp:revision>
  <dc:subject/>
  <dc:title>Time</dc:title>
</cp:coreProperties>
</file>