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6.jpeg" ContentType="image/jpeg"/>
  <Override PartName="/ppt/media/image19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20E-65B8-468A-B117-1F444FC7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4A7-7357-4B6D-90B3-56CAE644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D76-2338-4282-86E8-E27E4898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868-9590-4867-BB3C-2155DA6D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D155-E238-4EB9-AEAD-99025686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F87D-7397-4B69-A5D0-1F6D7C7B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B418-F2A8-45C2-BFE9-98693C65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21A6-3DA6-4206-A178-793CBB3A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C238-B3CE-4E68-BE07-AF9FCC36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8390-3E34-4615-A49E-B6EC0EDA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84BE-31D1-450D-A507-ED47C1C7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67F-B544-4F9A-B300-2AF91E2A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97CF-CCB5-40B9-A684-3B958E1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71E6-71B4-464C-A17A-1FC9779C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0E5F-D964-49B0-BEB9-C9255B83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3269-5E4E-45A2-8230-7E7CBD1A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EA51-2C89-4494-B7FB-8E9F40A0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868-1148-4DF5-B1B0-6088DB55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5138-B1E3-4E04-A271-81690744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52B-D5D8-4092-8FD0-4FFD276D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AA3-A01C-4FB0-AE24-BBA1035D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871-8D9F-4855-8CE5-206DEC8F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F52-FAFF-4725-8F3D-2F49A58F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354-B18D-450C-9228-764AC1D6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3EE4-62D1-4628-805E-F870B30445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AA20-FC47-4244-AD17-4FC666C8DA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От цветка к цветку летает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Сладкий мед нам собирает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Но, увидев, не лови -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Не то ужалит крошка …</a:t>
            </a:r>
            <a:br>
              <a:rPr sz="4000"/>
            </a:b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dog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dog2"/>
          <p:cNvPicPr/>
          <p:nvPr/>
        </p:nvPicPr>
        <p:blipFill>
          <a:blip r:embed="rId1"/>
          <a:stretch/>
        </p:blipFill>
        <p:spPr>
          <a:xfrm>
            <a:off x="3492360" y="476280"/>
            <a:ext cx="50198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Станцевать вам может брейк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мейка по-английски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snak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4ac5fa8114665cac8bc3c8f76a99ec4b"/>
          <p:cNvPicPr/>
          <p:nvPr/>
        </p:nvPicPr>
        <p:blipFill>
          <a:blip r:embed="rId1"/>
          <a:stretch/>
        </p:blipFill>
        <p:spPr>
          <a:xfrm>
            <a:off x="539640" y="549360"/>
            <a:ext cx="5545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Лезет в лужи каждый миг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Свинью мы называем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5" name="Picture 4" descr="slide0013_image012"/>
          <p:cNvPicPr/>
          <p:nvPr/>
        </p:nvPicPr>
        <p:blipFill>
          <a:blip r:embed="rId1"/>
          <a:stretch/>
        </p:blipFill>
        <p:spPr>
          <a:xfrm>
            <a:off x="1835280" y="404640"/>
            <a:ext cx="6784920" cy="4680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pig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У меня есть к вам вопрос: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«Как зовут все лошадь?»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0" name="Picture 4" descr="3113186254-30"/>
          <p:cNvPicPr/>
          <p:nvPr/>
        </p:nvPicPr>
        <p:blipFill>
          <a:blip r:embed="rId1"/>
          <a:stretch/>
        </p:blipFill>
        <p:spPr>
          <a:xfrm>
            <a:off x="395280" y="333360"/>
            <a:ext cx="6192720" cy="5616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horse</a:t>
            </a: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ождь прошел и на порог,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  Квакнув, прыгнула к нам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frog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08be5490bd27d79d7a914cd5558634bf"/>
          <p:cNvPicPr/>
          <p:nvPr/>
        </p:nvPicPr>
        <p:blipFill>
          <a:blip r:embed="rId1"/>
          <a:stretch/>
        </p:blipFill>
        <p:spPr>
          <a:xfrm>
            <a:off x="2411280" y="404640"/>
            <a:ext cx="6181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676520"/>
            <a:ext cx="8496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 сарае у бабушки видел я фрау.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ает молоко нам кормилица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bee1"/>
          <p:cNvPicPr/>
          <p:nvPr/>
        </p:nvPicPr>
        <p:blipFill>
          <a:blip r:embed="rId1"/>
          <a:stretch/>
        </p:blipFill>
        <p:spPr>
          <a:xfrm>
            <a:off x="900000" y="549360"/>
            <a:ext cx="5112000" cy="4752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6600" spc="-1" strike="noStrike">
                <a:solidFill>
                  <a:srgbClr val="ffff00"/>
                </a:solidFill>
                <a:latin typeface="Tahoma"/>
              </a:rPr>
              <a:t>be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cow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1301812645_cow6"/>
          <p:cNvPicPr/>
          <p:nvPr/>
        </p:nvPicPr>
        <p:blipFill>
          <a:blip r:embed="rId1"/>
          <a:stretch/>
        </p:blipFill>
        <p:spPr>
          <a:xfrm>
            <a:off x="611280" y="404640"/>
            <a:ext cx="6121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Его ножки тонки-тонки,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се равно люблю я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35" name="Picture 4" descr="picture"/>
          <p:cNvPicPr/>
          <p:nvPr/>
        </p:nvPicPr>
        <p:blipFill>
          <a:blip r:embed="rId1"/>
          <a:stretch/>
        </p:blipFill>
        <p:spPr>
          <a:xfrm>
            <a:off x="468360" y="333360"/>
            <a:ext cx="5975280" cy="5103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donkey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Компот вишневый пьет из банки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а обедом наша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monkey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5025F861CBB3-159"/>
          <p:cNvPicPr/>
          <p:nvPr/>
        </p:nvPicPr>
        <p:blipFill>
          <a:blip r:embed="rId1"/>
          <a:stretch/>
        </p:blipFill>
        <p:spPr>
          <a:xfrm>
            <a:off x="3203640" y="476280"/>
            <a:ext cx="5344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чему сосисок нет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Утащил их рыжий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c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3834054413-32"/>
          <p:cNvPicPr/>
          <p:nvPr/>
        </p:nvPicPr>
        <p:blipFill>
          <a:blip r:embed="rId1"/>
          <a:stretch/>
        </p:blipFill>
        <p:spPr>
          <a:xfrm>
            <a:off x="468360" y="333360"/>
            <a:ext cx="590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 огороде вырос флокс,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А под ним лисенок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50" name="Picture 4" descr="19592877_1204659803_CalenderApril_98RedFoxWaterMirror"/>
          <p:cNvPicPr/>
          <p:nvPr/>
        </p:nvPicPr>
        <p:blipFill>
          <a:blip r:embed="rId1"/>
          <a:stretch/>
        </p:blipFill>
        <p:spPr>
          <a:xfrm>
            <a:off x="468360" y="404640"/>
            <a:ext cx="7128000" cy="51832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fox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 нашем доме просто хаус –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селилась в доме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аклевать врага он мог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х, суров домашний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mous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cartoon_prg24"/>
          <p:cNvPicPr/>
          <p:nvPr/>
        </p:nvPicPr>
        <p:blipFill>
          <a:blip r:embed="rId1"/>
          <a:stretch/>
        </p:blipFill>
        <p:spPr>
          <a:xfrm>
            <a:off x="3564000" y="549360"/>
            <a:ext cx="4755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1676520"/>
            <a:ext cx="82072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дарили мне котенка, а назвал я его Чип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дарили мне овечку, а зовут ее все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sheep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slide0039_image038"/>
          <p:cNvPicPr/>
          <p:nvPr/>
        </p:nvPicPr>
        <p:blipFill>
          <a:blip r:embed="rId1"/>
          <a:stretch/>
        </p:blipFill>
        <p:spPr>
          <a:xfrm>
            <a:off x="539640" y="476280"/>
            <a:ext cx="496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т нее большущий вред,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Гнать из подвала нужно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r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1211549458_31_podborka_85"/>
          <p:cNvPicPr/>
          <p:nvPr/>
        </p:nvPicPr>
        <p:blipFill>
          <a:blip r:embed="rId1"/>
          <a:stretch/>
        </p:blipFill>
        <p:spPr>
          <a:xfrm>
            <a:off x="1908000" y="404640"/>
            <a:ext cx="6650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Отправился спать в берлогу к себе я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Хозяин я леса, зовут меня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bea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cartoon_prg22"/>
          <p:cNvPicPr/>
          <p:nvPr/>
        </p:nvPicPr>
        <p:blipFill>
          <a:blip r:embed="rId1"/>
          <a:stretch/>
        </p:blipFill>
        <p:spPr>
          <a:xfrm>
            <a:off x="755640" y="549360"/>
            <a:ext cx="4537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од синим небом, где Биг Бен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Увидел я случайно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he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kury"/>
          <p:cNvPicPr/>
          <p:nvPr/>
        </p:nvPicPr>
        <p:blipFill>
          <a:blip r:embed="rId1"/>
          <a:stretch/>
        </p:blipFill>
        <p:spPr>
          <a:xfrm>
            <a:off x="611280" y="404640"/>
            <a:ext cx="5976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Любит он морковку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arrot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Разноцветный Кеша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cock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slide0008_image012"/>
          <p:cNvPicPr/>
          <p:nvPr/>
        </p:nvPicPr>
        <p:blipFill>
          <a:blip r:embed="rId1"/>
          <a:stretch/>
        </p:blipFill>
        <p:spPr>
          <a:xfrm>
            <a:off x="539640" y="333360"/>
            <a:ext cx="45324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parro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d46f71f8f433c4dc3d6c3a3fd0375167"/>
          <p:cNvPicPr/>
          <p:nvPr/>
        </p:nvPicPr>
        <p:blipFill>
          <a:blip r:embed="rId1"/>
          <a:stretch/>
        </p:blipFill>
        <p:spPr>
          <a:xfrm>
            <a:off x="611280" y="404640"/>
            <a:ext cx="4537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дарит всем улыбку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smile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убастый, длинный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crocodile</a:t>
            </a: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slide0006_image005"/>
          <p:cNvPicPr/>
          <p:nvPr/>
        </p:nvPicPr>
        <p:blipFill>
          <a:blip r:embed="rId1"/>
          <a:stretch/>
        </p:blipFill>
        <p:spPr>
          <a:xfrm>
            <a:off x="1258920" y="333360"/>
            <a:ext cx="6337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Три самых заветных желания лишь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Исполнит всем в мире известная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</a:t>
            </a: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fish</a:t>
            </a: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5" descr="fish10"/>
          <p:cNvPicPr/>
          <p:nvPr/>
        </p:nvPicPr>
        <p:blipFill>
          <a:blip r:embed="rId1"/>
          <a:stretch/>
        </p:blipFill>
        <p:spPr>
          <a:xfrm>
            <a:off x="611280" y="836640"/>
            <a:ext cx="5545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Летает мышка по ночам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И не приносит вред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усть не приятна она нам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Но все же она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b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6" descr="slide0001_image001"/>
          <p:cNvPicPr/>
          <p:nvPr/>
        </p:nvPicPr>
        <p:blipFill>
          <a:blip r:embed="rId1"/>
          <a:stretch/>
        </p:blipFill>
        <p:spPr>
          <a:xfrm>
            <a:off x="2843280" y="476280"/>
            <a:ext cx="5634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розвали львенка мистер Раин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А по-английски, просто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l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4" descr="D155FCD524D9-28"/>
          <p:cNvPicPr/>
          <p:nvPr/>
        </p:nvPicPr>
        <p:blipFill>
          <a:blip r:embed="rId1"/>
          <a:stretch/>
        </p:blipFill>
        <p:spPr>
          <a:xfrm>
            <a:off x="539640" y="549360"/>
            <a:ext cx="55450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х, и славной он чудак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Мой любимый Скрудж Мак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В цирке видел большой шкаф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А в нем прятался</a:t>
            </a: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duck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4" descr="04_08_2007_0284336001186205622_artifx"/>
          <p:cNvPicPr/>
          <p:nvPr/>
        </p:nvPicPr>
        <p:blipFill>
          <a:blip r:embed="rId1"/>
          <a:stretch/>
        </p:blipFill>
        <p:spPr>
          <a:xfrm>
            <a:off x="3348000" y="404640"/>
            <a:ext cx="5486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На деревьях гнезда вьет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тица по-английски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bir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4" descr="bird7"/>
          <p:cNvPicPr/>
          <p:nvPr/>
        </p:nvPicPr>
        <p:blipFill>
          <a:blip r:embed="rId1"/>
          <a:stretch/>
        </p:blipFill>
        <p:spPr>
          <a:xfrm>
            <a:off x="684360" y="549360"/>
            <a:ext cx="4967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giraffe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51434B1B5CE7-158"/>
          <p:cNvPicPr/>
          <p:nvPr/>
        </p:nvPicPr>
        <p:blipFill>
          <a:blip r:embed="rId1"/>
          <a:stretch/>
        </p:blipFill>
        <p:spPr>
          <a:xfrm>
            <a:off x="611280" y="404640"/>
            <a:ext cx="5689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Угости меня морковкой, улыбнусь тебе я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усть дрожит мой хвост и ушки, я ведь смелый</a:t>
            </a: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har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rabbit_azzy7"/>
          <p:cNvPicPr/>
          <p:nvPr/>
        </p:nvPicPr>
        <p:blipFill>
          <a:blip r:embed="rId1"/>
          <a:stretch/>
        </p:blipFill>
        <p:spPr>
          <a:xfrm>
            <a:off x="3851280" y="476280"/>
            <a:ext cx="475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ащитить меня он смог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т врага мой верный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13:59:29Z</dcterms:created>
  <dc:creator>Zver</dc:creator>
  <dc:description/>
  <dc:language>en-US</dc:language>
  <cp:lastModifiedBy>Я</cp:lastModifiedBy>
  <dcterms:modified xsi:type="dcterms:W3CDTF">2021-06-08T19:29:39Z</dcterms:modified>
  <cp:revision>5</cp:revision>
  <dc:subject/>
  <dc:title>Слайд 1</dc:title>
</cp:coreProperties>
</file>