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0F1-2662-4B75-BF91-C9305D20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C06-BDDF-4BC2-9316-F96BC5BB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1B1-3BD9-4BA5-BEB3-95B276FD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D47-1459-4F99-9D47-72924BAF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9A1E-0281-45DA-887B-29CE5069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F40-F9FD-4E20-B7E7-1AC3A74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413-A778-499C-BDEF-2610725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A726-CAAB-4367-90BF-0C7CCDB0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B297-583B-4283-B964-EE665D2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6159-4AD4-4045-977F-3B523AF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65AF-0B07-4F89-95D7-3D8C2B1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F84-B91E-4B8A-8715-0E9FF83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493F-53EC-41CF-A119-D942703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701-8B54-47AD-8E76-C9A99CD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599B-2631-4EBA-9FD2-2C28C7F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DFF-176D-4295-9478-8CD4F8BE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C85-0289-41D7-AC6D-C5DB0AA1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D85-C4AD-43B5-975F-66FB6299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772-DD53-4E7D-9A0A-1F3DEB4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8E9-70BE-4C31-A7A4-8F228B72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C0E-6833-424F-965D-3B41CE9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FCA-582E-425A-BAE6-C04714D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4C7-D094-44A8-ADAB-8BE05A1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384-04B0-4E8B-B8D5-1ECF47B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AAD-9DDA-42B0-A80A-91B6FDF455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6ACE-4E15-4808-B9AD-66514CFCE0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т цветка к цветку летает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ладкий мед нам собирае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о, увидев, не лови -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е то ужалит крошка …</a:t>
            </a: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do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dog2"/>
          <p:cNvPicPr/>
          <p:nvPr/>
        </p:nvPicPr>
        <p:blipFill>
          <a:blip r:embed="rId1"/>
          <a:stretch/>
        </p:blipFill>
        <p:spPr>
          <a:xfrm>
            <a:off x="3492360" y="476280"/>
            <a:ext cx="50198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танцевать вам может брей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мейка по-английски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nak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4ac5fa8114665cac8bc3c8f76a99ec4b"/>
          <p:cNvPicPr/>
          <p:nvPr/>
        </p:nvPicPr>
        <p:blipFill>
          <a:blip r:embed="rId1"/>
          <a:stretch/>
        </p:blipFill>
        <p:spPr>
          <a:xfrm>
            <a:off x="539640" y="549360"/>
            <a:ext cx="554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езет в лужи каждый миг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винью мы называем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5" name="Picture 4" descr="slide0013_image012"/>
          <p:cNvPicPr/>
          <p:nvPr/>
        </p:nvPicPr>
        <p:blipFill>
          <a:blip r:embed="rId1"/>
          <a:stretch/>
        </p:blipFill>
        <p:spPr>
          <a:xfrm>
            <a:off x="1835280" y="404640"/>
            <a:ext cx="6784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pi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 меня есть к вам вопрос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«Как зовут все лошадь?»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0" name="Picture 4" descr="3113186254-30"/>
          <p:cNvPicPr/>
          <p:nvPr/>
        </p:nvPicPr>
        <p:blipFill>
          <a:blip r:embed="rId1"/>
          <a:stretch/>
        </p:blipFill>
        <p:spPr>
          <a:xfrm>
            <a:off x="395280" y="333360"/>
            <a:ext cx="6192720" cy="561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orse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ждь прошел и на порог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 Квакнув, прыгнула к нам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ro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08be5490bd27d79d7a914cd5558634bf"/>
          <p:cNvPicPr/>
          <p:nvPr/>
        </p:nvPicPr>
        <p:blipFill>
          <a:blip r:embed="rId1"/>
          <a:stretch/>
        </p:blipFill>
        <p:spPr>
          <a:xfrm>
            <a:off x="2411280" y="404640"/>
            <a:ext cx="6181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67652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сарае у бабушки видел я фрау.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ает молоко нам кормилица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bee1"/>
          <p:cNvPicPr/>
          <p:nvPr/>
        </p:nvPicPr>
        <p:blipFill>
          <a:blip r:embed="rId1"/>
          <a:stretch/>
        </p:blipFill>
        <p:spPr>
          <a:xfrm>
            <a:off x="900000" y="549360"/>
            <a:ext cx="5112000" cy="4752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be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o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301812645_cow6"/>
          <p:cNvPicPr/>
          <p:nvPr/>
        </p:nvPicPr>
        <p:blipFill>
          <a:blip r:embed="rId1"/>
          <a:stretch/>
        </p:blipFill>
        <p:spPr>
          <a:xfrm>
            <a:off x="611280" y="404640"/>
            <a:ext cx="6121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Его ножки тонки-тонки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се равно люблю я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35" name="Picture 4" descr="picture"/>
          <p:cNvPicPr/>
          <p:nvPr/>
        </p:nvPicPr>
        <p:blipFill>
          <a:blip r:embed="rId1"/>
          <a:stretch/>
        </p:blipFill>
        <p:spPr>
          <a:xfrm>
            <a:off x="468360" y="333360"/>
            <a:ext cx="5975280" cy="510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onkey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мпот вишневый пьет из бан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 обедом наша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monkey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5025F861CBB3-159"/>
          <p:cNvPicPr/>
          <p:nvPr/>
        </p:nvPicPr>
        <p:blipFill>
          <a:blip r:embed="rId1"/>
          <a:stretch/>
        </p:blipFill>
        <p:spPr>
          <a:xfrm>
            <a:off x="3203640" y="476280"/>
            <a:ext cx="5344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чему сосисок нет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тащил их рыжи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3834054413-32"/>
          <p:cNvPicPr/>
          <p:nvPr/>
        </p:nvPicPr>
        <p:blipFill>
          <a:blip r:embed="rId1"/>
          <a:stretch/>
        </p:blipFill>
        <p:spPr>
          <a:xfrm>
            <a:off x="468360" y="333360"/>
            <a:ext cx="59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огороде вырос флокс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 под ним лисенок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50" name="Picture 4" descr="19592877_1204659803_CalenderApril_98RedFoxWaterMirror"/>
          <p:cNvPicPr/>
          <p:nvPr/>
        </p:nvPicPr>
        <p:blipFill>
          <a:blip r:embed="rId1"/>
          <a:stretch/>
        </p:blipFill>
        <p:spPr>
          <a:xfrm>
            <a:off x="468360" y="404640"/>
            <a:ext cx="7128000" cy="5183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ox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нашем доме просто хаус –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селилась в доме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клевать врага он мог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х, суров домашни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mous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artoon_prg24"/>
          <p:cNvPicPr/>
          <p:nvPr/>
        </p:nvPicPr>
        <p:blipFill>
          <a:blip r:embed="rId1"/>
          <a:stretch/>
        </p:blipFill>
        <p:spPr>
          <a:xfrm>
            <a:off x="3564000" y="549360"/>
            <a:ext cx="4755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676520"/>
            <a:ext cx="8207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ли мне котенка, а назвал я его Чип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ли мне овечку, а зовут ее все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hee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slide0039_image038"/>
          <p:cNvPicPr/>
          <p:nvPr/>
        </p:nvPicPr>
        <p:blipFill>
          <a:blip r:embed="rId1"/>
          <a:stretch/>
        </p:blipFill>
        <p:spPr>
          <a:xfrm>
            <a:off x="539640" y="476280"/>
            <a:ext cx="49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 нее большущий вред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нать из подвала нужно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r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1211549458_31_podborka_85"/>
          <p:cNvPicPr/>
          <p:nvPr/>
        </p:nvPicPr>
        <p:blipFill>
          <a:blip r:embed="rId1"/>
          <a:stretch/>
        </p:blipFill>
        <p:spPr>
          <a:xfrm>
            <a:off x="1908000" y="404640"/>
            <a:ext cx="6650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тправился спать в берлогу к себе я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Хозяин я леса, зовут меня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e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cartoon_prg22"/>
          <p:cNvPicPr/>
          <p:nvPr/>
        </p:nvPicPr>
        <p:blipFill>
          <a:blip r:embed="rId1"/>
          <a:stretch/>
        </p:blipFill>
        <p:spPr>
          <a:xfrm>
            <a:off x="755640" y="549360"/>
            <a:ext cx="4537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д синим небом, где Биг Бен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видел я случайно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kury"/>
          <p:cNvPicPr/>
          <p:nvPr/>
        </p:nvPicPr>
        <p:blipFill>
          <a:blip r:embed="rId1"/>
          <a:stretch/>
        </p:blipFill>
        <p:spPr>
          <a:xfrm>
            <a:off x="611280" y="404640"/>
            <a:ext cx="597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юбит он морковку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arrot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Разноцветный Кеша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coc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slide0008_image012"/>
          <p:cNvPicPr/>
          <p:nvPr/>
        </p:nvPicPr>
        <p:blipFill>
          <a:blip r:embed="rId1"/>
          <a:stretch/>
        </p:blipFill>
        <p:spPr>
          <a:xfrm>
            <a:off x="539640" y="333360"/>
            <a:ext cx="45324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parro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d46f71f8f433c4dc3d6c3a3fd0375167"/>
          <p:cNvPicPr/>
          <p:nvPr/>
        </p:nvPicPr>
        <p:blipFill>
          <a:blip r:embed="rId1"/>
          <a:stretch/>
        </p:blipFill>
        <p:spPr>
          <a:xfrm>
            <a:off x="611280" y="404640"/>
            <a:ext cx="4537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т всем улыбку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smile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убастый, длинны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rocodile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slide0006_image005"/>
          <p:cNvPicPr/>
          <p:nvPr/>
        </p:nvPicPr>
        <p:blipFill>
          <a:blip r:embed="rId1"/>
          <a:stretch/>
        </p:blipFill>
        <p:spPr>
          <a:xfrm>
            <a:off x="1258920" y="333360"/>
            <a:ext cx="63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ри самых заветных желания лишь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сполнит всем в мире известная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ish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fish10"/>
          <p:cNvPicPr/>
          <p:nvPr/>
        </p:nvPicPr>
        <p:blipFill>
          <a:blip r:embed="rId1"/>
          <a:stretch/>
        </p:blipFill>
        <p:spPr>
          <a:xfrm>
            <a:off x="611280" y="836640"/>
            <a:ext cx="5545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етает мышка по ночам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 не приносит вред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усть не приятна она на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о все же она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slide0001_image001"/>
          <p:cNvPicPr/>
          <p:nvPr/>
        </p:nvPicPr>
        <p:blipFill>
          <a:blip r:embed="rId1"/>
          <a:stretch/>
        </p:blipFill>
        <p:spPr>
          <a:xfrm>
            <a:off x="2843280" y="476280"/>
            <a:ext cx="563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озвали львенка мистер Раин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 по-английски, просто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l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D155FCD524D9-28"/>
          <p:cNvPicPr/>
          <p:nvPr/>
        </p:nvPicPr>
        <p:blipFill>
          <a:blip r:embed="rId1"/>
          <a:stretch/>
        </p:blipFill>
        <p:spPr>
          <a:xfrm>
            <a:off x="539640" y="549360"/>
            <a:ext cx="5545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х, и славной он чуда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Мой любимый Скрудж Мак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 цирке видел большой шкаф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 в нем прятался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uck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04_08_2007_0284336001186205622_artifx"/>
          <p:cNvPicPr/>
          <p:nvPr/>
        </p:nvPicPr>
        <p:blipFill>
          <a:blip r:embed="rId1"/>
          <a:stretch/>
        </p:blipFill>
        <p:spPr>
          <a:xfrm>
            <a:off x="3348000" y="404640"/>
            <a:ext cx="5486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деревьях гнезда вьет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тица по-английски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i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4" descr="bird7"/>
          <p:cNvPicPr/>
          <p:nvPr/>
        </p:nvPicPr>
        <p:blipFill>
          <a:blip r:embed="rId1"/>
          <a:stretch/>
        </p:blipFill>
        <p:spPr>
          <a:xfrm>
            <a:off x="684360" y="549360"/>
            <a:ext cx="4967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giraffe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51434B1B5CE7-158"/>
          <p:cNvPicPr/>
          <p:nvPr/>
        </p:nvPicPr>
        <p:blipFill>
          <a:blip r:embed="rId1"/>
          <a:stretch/>
        </p:blipFill>
        <p:spPr>
          <a:xfrm>
            <a:off x="611280" y="404640"/>
            <a:ext cx="568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гости меня морковкой, улыбнусь тебе я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усть дрожит мой хвост и ушки, я ведь смелый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ar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rabbit_azzy7"/>
          <p:cNvPicPr/>
          <p:nvPr/>
        </p:nvPicPr>
        <p:blipFill>
          <a:blip r:embed="rId1"/>
          <a:stretch/>
        </p:blipFill>
        <p:spPr>
          <a:xfrm>
            <a:off x="3851280" y="47628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щитить меня он смог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 врага мой верны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3:59:29Z</dcterms:created>
  <dc:creator>Zver</dc:creator>
  <dc:description/>
  <dc:language>en-US</dc:language>
  <cp:lastModifiedBy>Я</cp:lastModifiedBy>
  <dcterms:modified xsi:type="dcterms:W3CDTF">2021-06-08T19:29:39Z</dcterms:modified>
  <cp:revision>5</cp:revision>
  <dc:subject/>
  <dc:title>Слайд 1</dc:title>
</cp:coreProperties>
</file>