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9.jpeg" ContentType="image/jpeg"/>
  <Override PartName="/ppt/media/image10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67E-9D6A-4015-A8DC-F4705481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AF44-4924-4569-AF64-B42DEE22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58796-E2D6-48BE-AA64-40A0819A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FBF5A-FA76-4792-8C4B-65C325C1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28B34-399C-4A66-B565-B74ECCE3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6299B-55D7-4A5A-AEAF-74F737CB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1FF2F-789E-48D5-9539-EF8402AA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B54E8-CC49-49EE-8710-41126281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1AC15-C8C6-4EB1-8805-066FC4A6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D3212-C138-4233-AA54-F2829931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5BA30-16BD-44BB-B5AC-73E39FB2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22B-D738-4F02-92C9-78815881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AB3-8650-449C-9099-4E78D503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4553-23F1-4019-81EB-EBE78883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60E5-4076-4492-A036-1DA09A42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DA41-3843-4696-ADF6-8E075FC7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39A2-22C7-4EBE-9261-0ABED19C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7669-4EF3-491E-8948-1EC940E1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DE3F-E48A-4C9A-B8A3-8DDACAB7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F058-45F7-4EE5-A3AD-B0571039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857-C586-43D2-BE16-24D7F457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A5D2-827F-4B7D-AF2E-783281EF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88FF-4F00-4F1F-B180-504BA7D1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6383-97EA-4F22-AE59-50E7B899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2AD6-D068-49FE-87D9-3D241E4B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AF5F-A463-4121-A970-63AE6F84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98670-4330-412E-A0E5-805B921B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0E813-E829-4FDB-B8F2-3D9A2B3B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B80F0-BC99-4D77-AF32-AF2591E7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C1E0F-82F3-4684-937F-E4DFEBF1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CCB6F-F29B-49C8-B40C-EDEB7AFA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21D-1E62-4A9C-8987-0A299419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543D7-F74C-4391-9AF0-AF597ADE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34E90-CAFC-414D-8F5E-BE57C2F6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A7526-098D-4212-BA2C-23F9B04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0B93A-5D62-4B19-82C7-4766B164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7944F-3A4C-4E57-BE28-F3F91BF9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AB432-3D58-4995-A564-80F82F3E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DC024-DF0E-4D69-BE4F-980ED18D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75183-B93E-4250-BCFE-7F3E8847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F9C94-4824-4D85-BF47-FBB54298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2E23B-7A77-4CC4-AEE6-C64E7DF1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B38-2CE2-4175-9D11-7E5C3E6D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5D6DD-7A8D-4239-8EA0-9C2148C3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CD566-64E8-41A5-9AD4-2AA92643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CA3C3-151D-4C25-8577-64352FC9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C4C8B-EBF5-46CA-975D-63053345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DA72D-2986-4118-9702-2C72122C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E1FC4-FC49-4560-8180-468F33F5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7FF10-1DB0-4691-9320-DD2449A3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03E26-1879-472C-8BA1-E578A86D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7532A-DAE1-4D89-A402-E10515EE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D717B-D6B1-46FA-85C4-C5AF4C50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DB9-392E-4D89-8213-551975E2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2FCC0-CC59-4CE4-BC60-5360FCEE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A8F59-840E-48B7-AC17-F0C10846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C5532-C5E5-4DF9-BD40-CEDA92F0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1807F-16DA-41B3-9014-F6E3FDA3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0393B-75BF-453C-A17C-EE7B9664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5A136-0A11-4994-A5D2-143714E8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D3C50-2FA2-41F5-A991-EB715750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8DF7D-0F58-4514-B1D5-6CBF4907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A21AA-EFF2-4E73-ACD3-603C38ED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08A1B-B883-4992-BC2B-91444221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FE5-58DA-4D35-BABF-F005086B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D6C1C-21FD-42AF-89E0-C1CC7263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778AC-8B8C-4504-B918-6B3E4E24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45692-4745-4B2D-B254-D7131B36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53977-5CBB-41F9-8A10-91F25A75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CD8F8-7794-4BC5-B7E9-901CDB81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C523B-4EF9-4307-9CFA-A6DFF625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9F11C-2F19-4BBC-B784-29FA8CD8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964CD-5016-4A88-8C2E-3EB63579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69AED-CC10-4CDA-BC07-7457E107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3504D-441E-4DBB-A17B-C85BD48A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85E-1B81-4E3A-B031-E874D206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DCE6D-26B5-482C-8BDD-B517D585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80751-6A40-4AD3-ADD0-4582BB24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1B6B8-8853-49E5-A2FC-0AAA11EF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58369-196D-4969-947B-81AC2073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2879E-D532-47D2-B47F-94ADED06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A801C-23B7-4E77-9F02-CC0AA8A5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6392C-67DA-4366-A40B-1E4BFDA0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FB5D9-9E34-4676-BE51-9667F910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7A078-EDCF-4C4A-BD73-97059102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D104C-AE7B-4390-97D6-3B995EEC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218-D081-49E1-BE58-B04C285B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2387E-A85D-417A-AC69-454FC83D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E6260-33FE-42E6-84F1-EF261F27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21608-D81C-4228-A347-8047B31F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E0767-759A-4541-906B-3FADC9F4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60420-FDE7-42C2-ACEB-EF9352EF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592DF-BBF5-41B0-8745-FB174965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E46DF-6A20-49C1-8A29-9A11605C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2E342-F9F1-41C1-9B0C-3C25CAAA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AC474-B884-438D-987C-C3DDB10F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60EDD-FD87-40BD-BCEC-BF356D6B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CD0-0CFE-4FED-AF72-5DBA9EB5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81020-E0EC-45A3-9CE1-CB1462D3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0ECD5-6AA6-4043-A529-2E061824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60D43-BC4F-4A91-BFC3-B18D169C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0331A-70A9-45D2-AE2E-DD28E7CC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D1344-DA20-46EB-B202-760F2613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06A8C-B171-4156-AE38-9C20D3B7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CCE56-53E2-40F2-AD3A-5A17B03D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D717E-A43B-4F01-9E48-D230D291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2D271-CF92-46B4-96D3-524B4724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6E7FE-1FCB-4813-91EF-EB1066CF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A9A7-92EE-4349-B0A3-5618AF0A47E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DAA1-6FBD-43DA-BBC3-EA038C26087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C2BB-A494-4614-954C-AAB9F0F777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C788-4923-4FA1-A4FA-E61B29BBE80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AD48-FD3F-40B6-BEDC-68AA3A525B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822C-759F-4EF0-94B7-5ECBF7C4E8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CD39-3EF9-4CAB-BC24-7B15EBA86A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B7D8-3A06-4617-B669-B1865AE00F2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5A66-9D81-43B8-94A2-D33D5E1F5D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Заголовок 1"/>
          <p:cNvGrpSpPr/>
          <p:nvPr/>
        </p:nvGrpSpPr>
        <p:grpSpPr>
          <a:xfrm>
            <a:off x="712800" y="5389560"/>
            <a:ext cx="7772040" cy="1468440"/>
            <a:chOff x="712800" y="5389560"/>
            <a:chExt cx="7772040" cy="1468440"/>
          </a:xfrm>
        </p:grpSpPr>
        <p:pic>
          <p:nvPicPr>
            <p:cNvPr id="40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712800" y="5390640"/>
              <a:ext cx="777096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13880" y="5389560"/>
              <a:ext cx="777096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e3b30"/>
                  </a:solidFill>
                  <a:latin typeface="Franklin Gothic Medium"/>
                </a:rPr>
                <a:t>КАК ПРОИСХОДИЛО ОБЪЕДИНЕНИЕ ФРАНЦИ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бота с учебником с.156-157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 какой целью король созвал собрание представителе сословий –Генеральные штаты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 решались дела в этом собрании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5000760" y="1571760"/>
            <a:ext cx="3786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осле возникновения Генеральных Штатов во Франции утверди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сословная монархия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-  централизованное государство, в котором королевская власть опирается на собрание представителей сослов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Рисунок 2" descr="1242148623_sobor4.jpg"/>
          <p:cNvPicPr/>
          <p:nvPr/>
        </p:nvPicPr>
        <p:blipFill>
          <a:blip r:embed="rId1"/>
          <a:stretch/>
        </p:blipFill>
        <p:spPr>
          <a:xfrm>
            <a:off x="357120" y="714240"/>
            <a:ext cx="4457880" cy="55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Сословно- представительная монархия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-форма феодального государства, в котором наряду с королевской властью существует сословное представительство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Генеральные штаты-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орган сословно- представительской монархии во Франции, впервые созванный в 1302 г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ПОДВЕДЕМ ИТОГ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3" name="TextBox 2"/>
          <p:cNvSpPr/>
          <p:nvPr/>
        </p:nvSpPr>
        <p:spPr>
          <a:xfrm>
            <a:off x="324000" y="1773360"/>
            <a:ext cx="820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XIII – XIV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вв. во Франции начался процесс объединения  и централизации страны. Этот процесс был тесно связан с усилением королевской власти при поддержке населения Франции. В результате этого во Франции сложилась сословная монархия.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Домашнее задание</a:t>
            </a:r>
            <a:endParaRPr b="0" lang="en-US" sz="40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469800" y="2152800"/>
            <a:ext cx="7772400" cy="38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ПЛАН ИЗУЧЕНИЯ ТЕМЫ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TextBox 2"/>
          <p:cNvSpPr/>
          <p:nvPr/>
        </p:nvSpPr>
        <p:spPr>
          <a:xfrm>
            <a:off x="500040" y="1428840"/>
            <a:ext cx="4286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чины объединения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спехи в объединении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Филипп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V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асивый и конфликт с пап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Генеральные Ш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4" descr="002.France_1066_1203.gif"/>
          <p:cNvPicPr/>
          <p:nvPr/>
        </p:nvPicPr>
        <p:blipFill>
          <a:blip r:embed="rId1"/>
          <a:stretch/>
        </p:blipFill>
        <p:spPr>
          <a:xfrm>
            <a:off x="4857840" y="1214280"/>
            <a:ext cx="397656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спомните, каковы причины феодальной раздробленност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ая династия правила во Франции с конца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век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ильна ли была власть первых короле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ткройте учебник на стр. 154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На какие части делилась Франция к концу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XII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к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ие части от владений крупных французских феодалов и от земель английской короны составляли владения короля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33200" y="-36360"/>
            <a:ext cx="887760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50920" y="98100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Опора королевской власти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Стрелка вниз 6"/>
          <p:cNvSpPr/>
          <p:nvPr/>
        </p:nvSpPr>
        <p:spPr>
          <a:xfrm>
            <a:off x="3780000" y="1671480"/>
            <a:ext cx="379080" cy="102744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Стрелка вниз 7"/>
          <p:cNvSpPr/>
          <p:nvPr/>
        </p:nvSpPr>
        <p:spPr>
          <a:xfrm rot="1111200">
            <a:off x="2470320" y="1591920"/>
            <a:ext cx="368280" cy="88416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трелка вниз 8"/>
          <p:cNvSpPr/>
          <p:nvPr/>
        </p:nvSpPr>
        <p:spPr>
          <a:xfrm>
            <a:off x="5003640" y="1671480"/>
            <a:ext cx="360360" cy="102744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трелка вниз 9"/>
          <p:cNvSpPr/>
          <p:nvPr/>
        </p:nvSpPr>
        <p:spPr>
          <a:xfrm rot="20390400">
            <a:off x="6057720" y="1609560"/>
            <a:ext cx="338040" cy="9511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0"/>
          <p:cNvSpPr/>
          <p:nvPr/>
        </p:nvSpPr>
        <p:spPr>
          <a:xfrm>
            <a:off x="900000" y="24685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ж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2"/>
          <p:cNvSpPr/>
          <p:nvPr/>
        </p:nvSpPr>
        <p:spPr>
          <a:xfrm>
            <a:off x="2897280" y="278136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сть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4791240" y="259236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кие и средние феод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4"/>
          <p:cNvSpPr/>
          <p:nvPr/>
        </p:nvSpPr>
        <p:spPr>
          <a:xfrm>
            <a:off x="6595920" y="25812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4" descr="img37402.jpg"/>
          <p:cNvPicPr/>
          <p:nvPr/>
        </p:nvPicPr>
        <p:blipFill>
          <a:blip r:embed="rId2"/>
          <a:stretch/>
        </p:blipFill>
        <p:spPr>
          <a:xfrm>
            <a:off x="3968640" y="4506840"/>
            <a:ext cx="2662200" cy="19972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5" descr="original.jpg"/>
          <p:cNvPicPr/>
          <p:nvPr/>
        </p:nvPicPr>
        <p:blipFill>
          <a:blip r:embed="rId3"/>
          <a:stretch/>
        </p:blipFill>
        <p:spPr>
          <a:xfrm>
            <a:off x="6659640" y="3376440"/>
            <a:ext cx="2367000" cy="255276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3" descr="43303976.jpg"/>
          <p:cNvPicPr/>
          <p:nvPr/>
        </p:nvPicPr>
        <p:blipFill>
          <a:blip r:embed="rId4"/>
          <a:stretch/>
        </p:blipFill>
        <p:spPr>
          <a:xfrm>
            <a:off x="69840" y="3243240"/>
            <a:ext cx="2414520" cy="194616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2" descr="47013612_1530_pic_12.jpg"/>
          <p:cNvPicPr/>
          <p:nvPr/>
        </p:nvPicPr>
        <p:blipFill>
          <a:blip r:embed="rId5"/>
          <a:stretch/>
        </p:blipFill>
        <p:spPr>
          <a:xfrm>
            <a:off x="2484360" y="4076640"/>
            <a:ext cx="15400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УСПЕХИ В ОБЪЕДИНЕНИИ СТРАНЫ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24" name="TextBox 3"/>
          <p:cNvGrpSpPr/>
          <p:nvPr/>
        </p:nvGrpSpPr>
        <p:grpSpPr>
          <a:xfrm>
            <a:off x="3164040" y="1255680"/>
            <a:ext cx="2931840" cy="1798560"/>
            <a:chOff x="3164040" y="1255680"/>
            <a:chExt cx="2931840" cy="1798560"/>
          </a:xfrm>
        </p:grpSpPr>
        <p:pic>
          <p:nvPicPr>
            <p:cNvPr id="425" name="TextBox 3" descr=""/>
            <p:cNvPicPr/>
            <p:nvPr/>
          </p:nvPicPr>
          <p:blipFill>
            <a:blip r:embed="rId1"/>
            <a:stretch/>
          </p:blipFill>
          <p:spPr>
            <a:xfrm>
              <a:off x="3164040" y="1255680"/>
              <a:ext cx="293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3263760" y="1341360"/>
              <a:ext cx="2714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Franklin Gothic Book"/>
                </a:rPr>
                <a:t>Пути увеличения владений корол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TextBox 4"/>
          <p:cNvGrpSpPr/>
          <p:nvPr/>
        </p:nvGrpSpPr>
        <p:grpSpPr>
          <a:xfrm>
            <a:off x="384120" y="1925640"/>
            <a:ext cx="1785960" cy="911160"/>
            <a:chOff x="384120" y="1925640"/>
            <a:chExt cx="1785960" cy="911160"/>
          </a:xfrm>
        </p:grpSpPr>
        <p:pic>
          <p:nvPicPr>
            <p:cNvPr id="428" name="TextBox 4" descr=""/>
            <p:cNvPicPr/>
            <p:nvPr/>
          </p:nvPicPr>
          <p:blipFill>
            <a:blip r:embed="rId2"/>
            <a:stretch/>
          </p:blipFill>
          <p:spPr>
            <a:xfrm>
              <a:off x="384120" y="1925640"/>
              <a:ext cx="17859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71680" y="2011320"/>
              <a:ext cx="150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Franklin Gothic Book"/>
                </a:rPr>
                <a:t>покуп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TextBox 5"/>
          <p:cNvGrpSpPr/>
          <p:nvPr/>
        </p:nvGrpSpPr>
        <p:grpSpPr>
          <a:xfrm>
            <a:off x="7139160" y="1925640"/>
            <a:ext cx="1766880" cy="860400"/>
            <a:chOff x="7139160" y="1925640"/>
            <a:chExt cx="1766880" cy="860400"/>
          </a:xfrm>
        </p:grpSpPr>
        <p:pic>
          <p:nvPicPr>
            <p:cNvPr id="431" name="TextBox 5" descr=""/>
            <p:cNvPicPr/>
            <p:nvPr/>
          </p:nvPicPr>
          <p:blipFill>
            <a:blip r:embed="rId3"/>
            <a:stretch/>
          </p:blipFill>
          <p:spPr>
            <a:xfrm>
              <a:off x="7139160" y="1925640"/>
              <a:ext cx="17668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7236000" y="2011320"/>
              <a:ext cx="15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Franklin Gothic Book"/>
                </a:rPr>
                <a:t>захва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Стрелка вправо 6"/>
          <p:cNvSpPr/>
          <p:nvPr/>
        </p:nvSpPr>
        <p:spPr>
          <a:xfrm>
            <a:off x="6067440" y="19890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трелка влево 7"/>
          <p:cNvSpPr/>
          <p:nvPr/>
        </p:nvSpPr>
        <p:spPr>
          <a:xfrm>
            <a:off x="2225520" y="198900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8" descr="200px-Филипп_2_Август.PNG"/>
          <p:cNvPicPr/>
          <p:nvPr/>
        </p:nvPicPr>
        <p:blipFill>
          <a:blip r:embed="rId4"/>
          <a:stretch/>
        </p:blipFill>
        <p:spPr>
          <a:xfrm>
            <a:off x="519120" y="3141720"/>
            <a:ext cx="1905120" cy="2409840"/>
          </a:xfrm>
          <a:prstGeom prst="rect">
            <a:avLst/>
          </a:prstGeom>
          <a:ln w="0">
            <a:noFill/>
          </a:ln>
        </p:spPr>
      </p:pic>
      <p:sp>
        <p:nvSpPr>
          <p:cNvPr id="436" name="TextBox 9"/>
          <p:cNvSpPr/>
          <p:nvPr/>
        </p:nvSpPr>
        <p:spPr>
          <a:xfrm>
            <a:off x="2843280" y="3429000"/>
            <a:ext cx="5786280" cy="1922760"/>
          </a:xfrm>
          <a:prstGeom prst="rect">
            <a:avLst/>
          </a:pr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214 г. – битва при Бувине. Король Филипп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Август отобрал у Англии почти все владения во Франции, оставив только часть Аквит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0"/>
          <p:cNvSpPr/>
          <p:nvPr/>
        </p:nvSpPr>
        <p:spPr>
          <a:xfrm>
            <a:off x="317520" y="5805360"/>
            <a:ext cx="2428920" cy="580680"/>
          </a:xfrm>
          <a:prstGeom prst="rect">
            <a:avLst/>
          </a:prstGeom>
          <a:gradFill rotWithShape="0">
            <a:gsLst>
              <a:gs pos="0">
                <a:srgbClr val="f2d9d4"/>
              </a:gs>
              <a:gs pos="100000">
                <a:srgbClr val="d47962"/>
              </a:gs>
            </a:gsLst>
            <a:lin ang="5400000"/>
          </a:gradFill>
          <a:ln w="10080">
            <a:solidFill>
              <a:srgbClr val="a5644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Филипп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Август (1180-12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УСПЕХИ В ОБЪЕДИНЕНИИ СТРАНЫ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9" name="Рисунок 2" descr="300px-El_Greco_052.jpg"/>
          <p:cNvPicPr/>
          <p:nvPr/>
        </p:nvPicPr>
        <p:blipFill>
          <a:blip r:embed="rId1"/>
          <a:stretch/>
        </p:blipFill>
        <p:spPr>
          <a:xfrm>
            <a:off x="324000" y="2457360"/>
            <a:ext cx="3240000" cy="40719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3"/>
          <p:cNvSpPr/>
          <p:nvPr/>
        </p:nvSpPr>
        <p:spPr>
          <a:xfrm>
            <a:off x="3780000" y="2565360"/>
            <a:ext cx="51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н запретил междоусобные войны  в своих владе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 подчиненных ввел правило предупреждать о войне за 40 дней, чтобы более слабый мог подать жалобу коро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Король приказал чеканить свою монету. Это облегчало торгов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324000" y="1131840"/>
            <a:ext cx="73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ль Людови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т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26-1270) стал сильнее любого феодала Фран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Medium"/>
              </a:rPr>
              <a:t>ЗАВЕРШАЮЩИЙ ЭТАП В ОБЪЕДИНЕНИЯ ФРАНЦИИ 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3" name="Рисунок 2" descr="51802580_Filipp_IV_Krasivuyy_l.jpg"/>
          <p:cNvPicPr/>
          <p:nvPr/>
        </p:nvPicPr>
        <p:blipFill>
          <a:blip r:embed="rId1"/>
          <a:stretch/>
        </p:blipFill>
        <p:spPr>
          <a:xfrm>
            <a:off x="428760" y="1714680"/>
            <a:ext cx="3857400" cy="41036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3"/>
          <p:cNvSpPr/>
          <p:nvPr/>
        </p:nvSpPr>
        <p:spPr>
          <a:xfrm>
            <a:off x="642960" y="5786280"/>
            <a:ext cx="3429000" cy="368280"/>
          </a:xfrm>
          <a:prstGeom prst="rect">
            <a:avLst/>
          </a:prstGeom>
          <a:gradFill rotWithShape="0">
            <a:gsLst>
              <a:gs pos="0">
                <a:srgbClr val="f2d9d4"/>
              </a:gs>
              <a:gs pos="100000">
                <a:srgbClr val="d47962"/>
              </a:gs>
            </a:gsLst>
            <a:lin ang="5400000"/>
          </a:gradFill>
          <a:ln w="10080">
            <a:solidFill>
              <a:srgbClr val="a5644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илипп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IV (1285-13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4643280" y="1785960"/>
            <a:ext cx="3786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соединение Шампани и Навар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ойны с Англией во Фланд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остоянный поиск денег, прозвище «король-фальшивомонетч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онфликт с папой Римским Бонифацием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22400" y="-79200"/>
            <a:ext cx="9064440" cy="13953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4" descr="280px-Bonifatius_VIII_Grabstatue.JPG"/>
          <p:cNvPicPr/>
          <p:nvPr/>
        </p:nvPicPr>
        <p:blipFill>
          <a:blip r:embed="rId3"/>
          <a:stretch/>
        </p:blipFill>
        <p:spPr>
          <a:xfrm>
            <a:off x="285840" y="1643040"/>
            <a:ext cx="2666880" cy="33433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5"/>
          <p:cNvSpPr/>
          <p:nvPr/>
        </p:nvSpPr>
        <p:spPr>
          <a:xfrm>
            <a:off x="474840" y="5002200"/>
            <a:ext cx="2143080" cy="337320"/>
          </a:xfrm>
          <a:prstGeom prst="rect">
            <a:avLst/>
          </a:prstGeom>
          <a:gradFill rotWithShape="0">
            <a:gsLst>
              <a:gs pos="0">
                <a:srgbClr val="f2d9d4"/>
              </a:gs>
              <a:gs pos="100000">
                <a:srgbClr val="d47962"/>
              </a:gs>
            </a:gsLst>
            <a:lin ang="5400000"/>
          </a:gradFill>
          <a:ln w="10080">
            <a:solidFill>
              <a:srgbClr val="a5644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Бонифаций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V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3429000" y="1760400"/>
            <a:ext cx="5715000" cy="228852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чи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) запрет вывозить золото из Фра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2) Претензии папы на верховенство над королевской вла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TextBox 7"/>
          <p:cNvGrpSpPr/>
          <p:nvPr/>
        </p:nvGrpSpPr>
        <p:grpSpPr>
          <a:xfrm>
            <a:off x="3468600" y="3846600"/>
            <a:ext cx="5194440" cy="1225440"/>
            <a:chOff x="3468600" y="3846600"/>
            <a:chExt cx="5194440" cy="1225440"/>
          </a:xfrm>
        </p:grpSpPr>
        <p:pic>
          <p:nvPicPr>
            <p:cNvPr id="452" name="TextBox 7" descr=""/>
            <p:cNvPicPr/>
            <p:nvPr/>
          </p:nvPicPr>
          <p:blipFill>
            <a:blip r:embed="rId4"/>
            <a:stretch/>
          </p:blipFill>
          <p:spPr>
            <a:xfrm>
              <a:off x="3468600" y="3846600"/>
              <a:ext cx="51944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3564000" y="3933720"/>
              <a:ext cx="500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Franklin Gothic Book"/>
                </a:rPr>
                <a:t>1309 – 1378 гг. – Авиньонское пленение п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Стрелка вниз 8"/>
          <p:cNvSpPr/>
          <p:nvPr/>
        </p:nvSpPr>
        <p:spPr>
          <a:xfrm>
            <a:off x="3924360" y="4869000"/>
            <a:ext cx="431640" cy="47124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9"/>
          <p:cNvSpPr/>
          <p:nvPr/>
        </p:nvSpPr>
        <p:spPr>
          <a:xfrm>
            <a:off x="3564000" y="5438880"/>
            <a:ext cx="543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лабление власти римских пап и усиление монархической власти в Евро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1:28:32Z</dcterms:created>
  <dc:creator>user</dc:creator>
  <dc:description/>
  <dc:language>en-US</dc:language>
  <cp:lastModifiedBy>YULYA</cp:lastModifiedBy>
  <dcterms:modified xsi:type="dcterms:W3CDTF">2021-02-19T15:27:31Z</dcterms:modified>
  <cp:revision>48</cp:revision>
  <dc:subject/>
  <dc:title>КАК ПРОИСХОДИЛО ОБЪЕДИНЕНИЕ ФРАНЦИИ</dc:title>
</cp:coreProperties>
</file>