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9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27C-A221-40E6-8A3B-123E4F57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0FD-2B33-48F3-90D2-0D06AAAF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52FB2-2D92-48DE-8856-7C9766E6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7861E-ADA3-44F5-B3D2-EA7B5B79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D4726-346E-4162-B49D-3067AE36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E7666-6276-4807-99E4-AF7C2303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50ECB-D4CD-4246-9560-0A5854FF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BFCFD-11E9-4839-84A8-7F6E1210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74DF4-AF49-4DE1-8720-F8CEEC2B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6BDA0-D533-413C-A1A0-4776BAF2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B29D2-59B8-43E2-AAAD-4C5EE826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357-BA5B-4F34-AC93-348DA91E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2D0-8BEB-4F8B-B053-6BD93F41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B8D9-B0C3-4A28-A82B-564B82F1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34A9-5EB6-4F85-8BD1-3698F190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64F1-464F-4D62-9138-FD6AADB8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0102-6D64-4BD1-AF50-394BD73D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CEA6-B37F-4AAE-8F94-4BE4A4CF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17D6-309B-4EE8-A7D1-12D89639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1E3D-D4E7-40E3-B93F-5B5956ED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0BC-8ED7-42F9-9C53-4C347DD2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D917-C8B8-42F3-900E-1DC8F267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831C-BC93-4814-AC24-B15FEC7E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EDB7-8311-4E50-9837-420ADCED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A416-136D-4B1C-AB4B-8884D839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C9AF-457F-42E2-8FDF-F2C1609A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D632F-490F-46B5-AFCD-1210BF69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91460-8F32-4D99-90E9-C4F1667F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2643-DEF6-466D-9737-7726A064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8BD2-9454-49F0-97A9-844CA6F9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2AF57-73CA-4FF2-B8C2-6E82635A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93B-DB1D-440D-9CD0-E0C096D7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856A1-3890-4006-80E7-6D682140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22803-B9D7-4F31-AA2D-C70068DA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1B853-8C0B-45F8-AAD9-81055F13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FCB22-D7D5-4E2F-8A62-38C23047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9D0C2-35ED-4C6B-923A-0490CB04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B3097-755B-44FC-89B3-E7EC8057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139E7-59A5-463A-84F9-931444D0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DD353-1B94-4F00-A044-49E43E42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01B87-DB00-49BA-AD94-2F67E9C9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11D1D-DD1D-4C18-93EE-A85B7A50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BD4-8358-4122-93E3-C371C577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861D0-D526-40D7-A0E7-95CF03AB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00DF6-6B7A-4C38-8C60-82F6D2AF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3F3A4-664E-4331-A575-71F3F74E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E8729-7371-4C95-9C50-F33BE0BD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C943B-EFED-4200-9F2B-183FBD7A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A1D3-6FC9-40DA-A3C2-D05BDE81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60BFF-632A-4530-9234-1FF30C8A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D2529-BB51-46FE-BCDA-3C3D708A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8E8B2-81BB-431F-9286-3BCF4866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6DD1E-E2C2-4008-8906-19BAB20D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CCA-7AA0-4E1A-B2A0-9735C293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D0E4F-D2E0-4431-B53D-026D9472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C3F46-3AC2-4D04-98D9-4B1A8870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70D02-8770-4119-A4A1-4610FA05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DDDCD-C1FB-46F3-8BD8-8E058073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01248-9ED2-41C9-A34E-29CE19FE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39FA3-37D8-44EE-8E4F-22BE78E0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DE41E-557F-4B25-9C27-6A8F2507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A8644-0E38-46A4-9D55-7A65F7EB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A0EF3-7D73-4B03-AABA-4DCC739F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922E8-A1CB-47AD-9CEB-D3FA9DE0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719-E3C2-4A7A-88C0-E0D56BAE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58B65-2D31-4FDD-A86C-8376B4AB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F64AB-A1A9-485A-8E03-482028A3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68C88-09C7-42C9-94DD-9DB10B6D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4774B-39B7-4F0A-B053-00F26A79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DFACF-3198-4FA3-9C5E-25487D6D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26081-8C54-44DD-8507-56335B59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1210F-93A3-4CE8-8DEE-731AABB8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83A04-7B3E-40FF-9F8D-CF4D09CC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3EE39-EACD-4EA8-B1C8-B8FB81A7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8D2F8-743A-410D-8535-7AB8C55E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C24-6EB3-4814-8254-7AB92A8F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C0E2D-2791-44FC-984D-526FFD7E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07CD2-A7D8-41A1-9270-861551E5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4347F-077A-4827-AEBB-D5C14124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BBC2B-5D84-4D83-937F-23F49A40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0FF5F-6B2F-4C6F-9577-3705C172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A1D71-3ACD-4AA8-BA32-B140B446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EEAB2-73CE-4D2D-9F66-9D77B6C0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B96A5-CBBA-4C87-8EBE-6D209BBD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CFB83-3D6E-47B9-A949-B2D59F27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2C7B8-48A5-428F-A432-F0A1C230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F12-1932-4754-A36B-77BCF0D4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C7D26-7C39-4777-B427-E2E93E66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E1593-CBB1-4371-A323-C09D1020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1E12E-8524-44FD-B6AE-86D20FA8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3069F-9649-48A4-B207-2F445E8C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68C95-76E0-44A3-8C9B-4AADDECB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BCE16-D5E8-4E57-A509-D4D5D8C9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974A3-8EFA-418F-9E0E-9C486381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D10CE-C6EC-471F-9817-8747E407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513C3-E519-410A-9FDA-1937D69A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945AF-550C-4E0A-BE64-BA26F14B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8B2-8161-47FC-AFED-6B017C87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BCFFC-0F6F-4EAE-A758-9C5E4ED5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8FCEC-A266-4FD8-95DD-A9E37F9D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A94F6-BA17-46A0-B713-3D507B4C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2B5D6-835A-4796-91C4-785C8128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5F0E2-37A3-4398-9150-766E0130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4A865-FB2D-4ED1-B2C3-0ADFE924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E0EDA-CE29-4681-9C04-CD80A95C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98613-56F8-4480-B79E-043ED382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82424-FDED-4159-AB64-B7C97DC7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DD030-8BDA-47C4-9430-FB2666B0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263C-7601-4985-9062-93097AF66D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7C59-1866-4D4A-BD6B-C39E31264F3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8906-18ED-4C31-AA17-09AC6732E3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654E-CB09-4C64-B125-B6147297B72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4281-6326-4C71-A1A2-91FD36B40D1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E669-9E96-4B27-926D-95DC7BCEFB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5EB9-F2AE-4129-B332-DC6BEF104D4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3BD6-6B05-41C0-B24E-D0EA88F010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A294-151F-4B63-9952-B7AE5148F4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Заголовок 1"/>
          <p:cNvGrpSpPr/>
          <p:nvPr/>
        </p:nvGrpSpPr>
        <p:grpSpPr>
          <a:xfrm>
            <a:off x="712800" y="5389560"/>
            <a:ext cx="7772040" cy="1468440"/>
            <a:chOff x="712800" y="5389560"/>
            <a:chExt cx="7772040" cy="1468440"/>
          </a:xfrm>
        </p:grpSpPr>
        <p:pic>
          <p:nvPicPr>
            <p:cNvPr id="40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712800" y="5390640"/>
              <a:ext cx="777096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13880" y="5389560"/>
              <a:ext cx="777096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e3b30"/>
                  </a:solidFill>
                  <a:latin typeface="Franklin Gothic Medium"/>
                </a:rPr>
                <a:t>КАК ПРОИСХОДИЛО ОБЪЕДИНЕНИЕ ФРАНЦИ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бота с учебником с.156-157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 какой целью король созвал собрание представителе сословий –Генеральные штаты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 решались дела в этом собрании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5000760" y="1571760"/>
            <a:ext cx="3786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осле возникновения Генеральных Штатов во Франции утверди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сословная монархия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-  централизованное государство, в котором королевская власть опирается на собрание представителей сосло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Рисунок 2" descr="1242148623_sobor4.jpg"/>
          <p:cNvPicPr/>
          <p:nvPr/>
        </p:nvPicPr>
        <p:blipFill>
          <a:blip r:embed="rId1"/>
          <a:stretch/>
        </p:blipFill>
        <p:spPr>
          <a:xfrm>
            <a:off x="357120" y="714240"/>
            <a:ext cx="445788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Сословно- представительная монархия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-форма феодального государства, в котором наряду с королевской властью существует сословное представительство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Генеральные штаты-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орган сословно- представительской монархии во Франции, впервые созванный в 1302 г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ПОДВЕДЕМ ИТОГ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3" name="TextBox 2"/>
          <p:cNvSpPr/>
          <p:nvPr/>
        </p:nvSpPr>
        <p:spPr>
          <a:xfrm>
            <a:off x="324000" y="1773360"/>
            <a:ext cx="820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XIII – XIV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вв. во Франции начался процесс объединения  и централизации страны. Этот процесс был тесно связан с усилением королевской власти при поддержке населения Франции. В результате этого во Франции сложилась сословная монархия.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Домашнее задание</a:t>
            </a:r>
            <a:endParaRPr b="0" lang="en-US" sz="40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469800" y="2152800"/>
            <a:ext cx="7772400" cy="38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ПЛАН ИЗУЧЕНИЯ ТЕМЫ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TextBox 2"/>
          <p:cNvSpPr/>
          <p:nvPr/>
        </p:nvSpPr>
        <p:spPr>
          <a:xfrm>
            <a:off x="500040" y="1428840"/>
            <a:ext cx="4286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чины объединения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спехи в объединении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Филипп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V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асивый и конфликт с пап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Генеральные Ш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4" descr="002.France_1066_1203.gif"/>
          <p:cNvPicPr/>
          <p:nvPr/>
        </p:nvPicPr>
        <p:blipFill>
          <a:blip r:embed="rId1"/>
          <a:stretch/>
        </p:blipFill>
        <p:spPr>
          <a:xfrm>
            <a:off x="4857840" y="1214280"/>
            <a:ext cx="397656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спомните, каковы причины феодальной раздробленност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ая династия правила во Франции с конца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век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ильна ли была власть первых короле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ткройте учебник на стр. 154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На какие части делилась Франция к концу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XII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к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ие части от владений крупных французских феодалов и от земель английской короны составляли владения короля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33200" y="-36360"/>
            <a:ext cx="887760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50920" y="98100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Опора королевской власти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Стрелка вниз 6"/>
          <p:cNvSpPr/>
          <p:nvPr/>
        </p:nvSpPr>
        <p:spPr>
          <a:xfrm>
            <a:off x="3780000" y="1671480"/>
            <a:ext cx="379080" cy="102744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Стрелка вниз 7"/>
          <p:cNvSpPr/>
          <p:nvPr/>
        </p:nvSpPr>
        <p:spPr>
          <a:xfrm rot="1111200">
            <a:off x="2470320" y="1591920"/>
            <a:ext cx="368280" cy="88416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трелка вниз 8"/>
          <p:cNvSpPr/>
          <p:nvPr/>
        </p:nvSpPr>
        <p:spPr>
          <a:xfrm>
            <a:off x="5003640" y="1671480"/>
            <a:ext cx="360360" cy="102744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трелка вниз 9"/>
          <p:cNvSpPr/>
          <p:nvPr/>
        </p:nvSpPr>
        <p:spPr>
          <a:xfrm rot="20390400">
            <a:off x="6057720" y="1609560"/>
            <a:ext cx="338040" cy="9511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0"/>
          <p:cNvSpPr/>
          <p:nvPr/>
        </p:nvSpPr>
        <p:spPr>
          <a:xfrm>
            <a:off x="900000" y="24685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ж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2"/>
          <p:cNvSpPr/>
          <p:nvPr/>
        </p:nvSpPr>
        <p:spPr>
          <a:xfrm>
            <a:off x="2897280" y="278136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сть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4791240" y="259236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кие и средние феод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4"/>
          <p:cNvSpPr/>
          <p:nvPr/>
        </p:nvSpPr>
        <p:spPr>
          <a:xfrm>
            <a:off x="6595920" y="25812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4" descr="img37402.jpg"/>
          <p:cNvPicPr/>
          <p:nvPr/>
        </p:nvPicPr>
        <p:blipFill>
          <a:blip r:embed="rId2"/>
          <a:stretch/>
        </p:blipFill>
        <p:spPr>
          <a:xfrm>
            <a:off x="3968640" y="4506840"/>
            <a:ext cx="2662200" cy="19972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5" descr="original.jpg"/>
          <p:cNvPicPr/>
          <p:nvPr/>
        </p:nvPicPr>
        <p:blipFill>
          <a:blip r:embed="rId3"/>
          <a:stretch/>
        </p:blipFill>
        <p:spPr>
          <a:xfrm>
            <a:off x="6659640" y="3376440"/>
            <a:ext cx="2367000" cy="255276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3" descr="43303976.jpg"/>
          <p:cNvPicPr/>
          <p:nvPr/>
        </p:nvPicPr>
        <p:blipFill>
          <a:blip r:embed="rId4"/>
          <a:stretch/>
        </p:blipFill>
        <p:spPr>
          <a:xfrm>
            <a:off x="69840" y="3243240"/>
            <a:ext cx="2414520" cy="194616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2" descr="47013612_1530_pic_12.jpg"/>
          <p:cNvPicPr/>
          <p:nvPr/>
        </p:nvPicPr>
        <p:blipFill>
          <a:blip r:embed="rId5"/>
          <a:stretch/>
        </p:blipFill>
        <p:spPr>
          <a:xfrm>
            <a:off x="2484360" y="4076640"/>
            <a:ext cx="15400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УСПЕХИ В ОБЪЕДИНЕНИИ СТРАНЫ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24" name="TextBox 3"/>
          <p:cNvGrpSpPr/>
          <p:nvPr/>
        </p:nvGrpSpPr>
        <p:grpSpPr>
          <a:xfrm>
            <a:off x="3164040" y="1255680"/>
            <a:ext cx="2931840" cy="1798560"/>
            <a:chOff x="3164040" y="1255680"/>
            <a:chExt cx="2931840" cy="1798560"/>
          </a:xfrm>
        </p:grpSpPr>
        <p:pic>
          <p:nvPicPr>
            <p:cNvPr id="425" name="TextBox 3" descr=""/>
            <p:cNvPicPr/>
            <p:nvPr/>
          </p:nvPicPr>
          <p:blipFill>
            <a:blip r:embed="rId1"/>
            <a:stretch/>
          </p:blipFill>
          <p:spPr>
            <a:xfrm>
              <a:off x="3164040" y="1255680"/>
              <a:ext cx="293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3263760" y="1341360"/>
              <a:ext cx="2714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Franklin Gothic Book"/>
                </a:rPr>
                <a:t>Пути увеличения владений корол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TextBox 4"/>
          <p:cNvGrpSpPr/>
          <p:nvPr/>
        </p:nvGrpSpPr>
        <p:grpSpPr>
          <a:xfrm>
            <a:off x="384120" y="1925640"/>
            <a:ext cx="1785960" cy="911160"/>
            <a:chOff x="384120" y="1925640"/>
            <a:chExt cx="1785960" cy="911160"/>
          </a:xfrm>
        </p:grpSpPr>
        <p:pic>
          <p:nvPicPr>
            <p:cNvPr id="428" name="TextBox 4" descr=""/>
            <p:cNvPicPr/>
            <p:nvPr/>
          </p:nvPicPr>
          <p:blipFill>
            <a:blip r:embed="rId2"/>
            <a:stretch/>
          </p:blipFill>
          <p:spPr>
            <a:xfrm>
              <a:off x="384120" y="1925640"/>
              <a:ext cx="17859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71680" y="2011320"/>
              <a:ext cx="150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Franklin Gothic Book"/>
                </a:rPr>
                <a:t>покуп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TextBox 5"/>
          <p:cNvGrpSpPr/>
          <p:nvPr/>
        </p:nvGrpSpPr>
        <p:grpSpPr>
          <a:xfrm>
            <a:off x="7139160" y="1925640"/>
            <a:ext cx="1766880" cy="860400"/>
            <a:chOff x="7139160" y="1925640"/>
            <a:chExt cx="1766880" cy="860400"/>
          </a:xfrm>
        </p:grpSpPr>
        <p:pic>
          <p:nvPicPr>
            <p:cNvPr id="431" name="TextBox 5" descr=""/>
            <p:cNvPicPr/>
            <p:nvPr/>
          </p:nvPicPr>
          <p:blipFill>
            <a:blip r:embed="rId3"/>
            <a:stretch/>
          </p:blipFill>
          <p:spPr>
            <a:xfrm>
              <a:off x="7139160" y="1925640"/>
              <a:ext cx="17668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7236000" y="2011320"/>
              <a:ext cx="15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Franklin Gothic Book"/>
                </a:rPr>
                <a:t>захва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Стрелка вправо 6"/>
          <p:cNvSpPr/>
          <p:nvPr/>
        </p:nvSpPr>
        <p:spPr>
          <a:xfrm>
            <a:off x="6067440" y="19890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трелка влево 7"/>
          <p:cNvSpPr/>
          <p:nvPr/>
        </p:nvSpPr>
        <p:spPr>
          <a:xfrm>
            <a:off x="2225520" y="198900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8" descr="200px-Филипп_2_Август.PNG"/>
          <p:cNvPicPr/>
          <p:nvPr/>
        </p:nvPicPr>
        <p:blipFill>
          <a:blip r:embed="rId4"/>
          <a:stretch/>
        </p:blipFill>
        <p:spPr>
          <a:xfrm>
            <a:off x="519120" y="3141720"/>
            <a:ext cx="1905120" cy="2409840"/>
          </a:xfrm>
          <a:prstGeom prst="rect">
            <a:avLst/>
          </a:prstGeom>
          <a:ln w="0">
            <a:noFill/>
          </a:ln>
        </p:spPr>
      </p:pic>
      <p:sp>
        <p:nvSpPr>
          <p:cNvPr id="436" name="TextBox 9"/>
          <p:cNvSpPr/>
          <p:nvPr/>
        </p:nvSpPr>
        <p:spPr>
          <a:xfrm>
            <a:off x="2843280" y="3429000"/>
            <a:ext cx="5786280" cy="1922760"/>
          </a:xfrm>
          <a:prstGeom prst="rect">
            <a:avLst/>
          </a:pr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214 г. – битва при Бувине. Король Филипп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Август отобрал у Англии почти все владения во Франции, оставив только часть Аквит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0"/>
          <p:cNvSpPr/>
          <p:nvPr/>
        </p:nvSpPr>
        <p:spPr>
          <a:xfrm>
            <a:off x="317520" y="5805360"/>
            <a:ext cx="2428920" cy="580680"/>
          </a:xfrm>
          <a:prstGeom prst="rect">
            <a:avLst/>
          </a:prstGeom>
          <a:gradFill rotWithShape="0">
            <a:gsLst>
              <a:gs pos="0">
                <a:srgbClr val="f2d9d4"/>
              </a:gs>
              <a:gs pos="100000">
                <a:srgbClr val="d47962"/>
              </a:gs>
            </a:gsLst>
            <a:lin ang="5400000"/>
          </a:gradFill>
          <a:ln w="10080">
            <a:solidFill>
              <a:srgbClr val="a5644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Филипп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Август (1180-12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УСПЕХИ В ОБЪЕДИНЕНИИ СТРАНЫ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9" name="Рисунок 2" descr="300px-El_Greco_052.jpg"/>
          <p:cNvPicPr/>
          <p:nvPr/>
        </p:nvPicPr>
        <p:blipFill>
          <a:blip r:embed="rId1"/>
          <a:stretch/>
        </p:blipFill>
        <p:spPr>
          <a:xfrm>
            <a:off x="324000" y="2457360"/>
            <a:ext cx="3240000" cy="40719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3"/>
          <p:cNvSpPr/>
          <p:nvPr/>
        </p:nvSpPr>
        <p:spPr>
          <a:xfrm>
            <a:off x="3780000" y="2565360"/>
            <a:ext cx="51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н запретил междоусобные войны  в своих владе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 подчиненных ввел правило предупреждать о войне за 40 дней, чтобы более слабый мог подать жалобу коро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Король приказал чеканить свою монету. Это облегчало торгов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324000" y="1131840"/>
            <a:ext cx="73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ь Людови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26-1270) стал сильнее любого феодала Фран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Medium"/>
              </a:rPr>
              <a:t>ЗАВЕРШАЮЩИЙ ЭТАП В ОБЪЕДИНЕНИЯ ФРАНЦИИ 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3" name="Рисунок 2" descr="51802580_Filipp_IV_Krasivuyy_l.jpg"/>
          <p:cNvPicPr/>
          <p:nvPr/>
        </p:nvPicPr>
        <p:blipFill>
          <a:blip r:embed="rId1"/>
          <a:stretch/>
        </p:blipFill>
        <p:spPr>
          <a:xfrm>
            <a:off x="428760" y="1714680"/>
            <a:ext cx="3857400" cy="41036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3"/>
          <p:cNvSpPr/>
          <p:nvPr/>
        </p:nvSpPr>
        <p:spPr>
          <a:xfrm>
            <a:off x="642960" y="5786280"/>
            <a:ext cx="3429000" cy="368280"/>
          </a:xfrm>
          <a:prstGeom prst="rect">
            <a:avLst/>
          </a:prstGeom>
          <a:gradFill rotWithShape="0">
            <a:gsLst>
              <a:gs pos="0">
                <a:srgbClr val="f2d9d4"/>
              </a:gs>
              <a:gs pos="100000">
                <a:srgbClr val="d47962"/>
              </a:gs>
            </a:gsLst>
            <a:lin ang="5400000"/>
          </a:gradFill>
          <a:ln w="10080">
            <a:solidFill>
              <a:srgbClr val="a5644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илипп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V (1285-13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4643280" y="1785960"/>
            <a:ext cx="3786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соединение Шампани и Навар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ойны с Англией во Фланд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остоянный поиск денег, прозвище «король-фальшивомонетч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онфликт с папой Римским Бонифацием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22400" y="-79200"/>
            <a:ext cx="9064440" cy="13953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4" descr="280px-Bonifatius_VIII_Grabstatue.JPG"/>
          <p:cNvPicPr/>
          <p:nvPr/>
        </p:nvPicPr>
        <p:blipFill>
          <a:blip r:embed="rId3"/>
          <a:stretch/>
        </p:blipFill>
        <p:spPr>
          <a:xfrm>
            <a:off x="285840" y="1643040"/>
            <a:ext cx="2666880" cy="33433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5"/>
          <p:cNvSpPr/>
          <p:nvPr/>
        </p:nvSpPr>
        <p:spPr>
          <a:xfrm>
            <a:off x="474840" y="5002200"/>
            <a:ext cx="2143080" cy="337320"/>
          </a:xfrm>
          <a:prstGeom prst="rect">
            <a:avLst/>
          </a:prstGeom>
          <a:gradFill rotWithShape="0">
            <a:gsLst>
              <a:gs pos="0">
                <a:srgbClr val="f2d9d4"/>
              </a:gs>
              <a:gs pos="100000">
                <a:srgbClr val="d47962"/>
              </a:gs>
            </a:gsLst>
            <a:lin ang="5400000"/>
          </a:gradFill>
          <a:ln w="10080">
            <a:solidFill>
              <a:srgbClr val="a5644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Бонифаций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V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3429000" y="1760400"/>
            <a:ext cx="5715000" cy="228852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чи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) запрет вывозить золото из Фра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) Претензии папы на верховенство над королевской вла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TextBox 7"/>
          <p:cNvGrpSpPr/>
          <p:nvPr/>
        </p:nvGrpSpPr>
        <p:grpSpPr>
          <a:xfrm>
            <a:off x="3468600" y="3846600"/>
            <a:ext cx="5194440" cy="1225440"/>
            <a:chOff x="3468600" y="3846600"/>
            <a:chExt cx="5194440" cy="1225440"/>
          </a:xfrm>
        </p:grpSpPr>
        <p:pic>
          <p:nvPicPr>
            <p:cNvPr id="452" name="TextBox 7" descr=""/>
            <p:cNvPicPr/>
            <p:nvPr/>
          </p:nvPicPr>
          <p:blipFill>
            <a:blip r:embed="rId4"/>
            <a:stretch/>
          </p:blipFill>
          <p:spPr>
            <a:xfrm>
              <a:off x="3468600" y="3846600"/>
              <a:ext cx="51944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3564000" y="3933720"/>
              <a:ext cx="500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Franklin Gothic Book"/>
                </a:rPr>
                <a:t>1309 – 1378 гг. – Авиньонское пленение п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Стрелка вниз 8"/>
          <p:cNvSpPr/>
          <p:nvPr/>
        </p:nvSpPr>
        <p:spPr>
          <a:xfrm>
            <a:off x="3924360" y="4869000"/>
            <a:ext cx="431640" cy="47124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9"/>
          <p:cNvSpPr/>
          <p:nvPr/>
        </p:nvSpPr>
        <p:spPr>
          <a:xfrm>
            <a:off x="3564000" y="5438880"/>
            <a:ext cx="543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лабление власти римских пап и усиление монархической власти в Евро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1:28:32Z</dcterms:created>
  <dc:creator>user</dc:creator>
  <dc:description/>
  <dc:language>en-US</dc:language>
  <cp:lastModifiedBy>YULYA</cp:lastModifiedBy>
  <dcterms:modified xsi:type="dcterms:W3CDTF">2021-02-19T15:27:31Z</dcterms:modified>
  <cp:revision>48</cp:revision>
  <dc:subject/>
  <dc:title>КАК ПРОИСХОДИЛО ОБЪЕДИНЕНИЕ ФРАНЦИИ</dc:title>
</cp:coreProperties>
</file>