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076-5B8C-4F05-8791-B8AC0C2C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703-D611-4D17-8C3C-77BD89EF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CB1-1189-4D0D-A37A-C3133C23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A3E-B862-48B4-AA73-DBAC6106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3246-4F44-48EB-8FE1-CF19DAD8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61E0-FDAF-4B17-B357-E03E0E2A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3863-9EC3-4AA9-908A-7406A16B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5BAD-2923-49BC-B3C9-E9295A9D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5678-3367-4E6B-94C6-800ACB3B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8F98-83D6-4A3A-988B-FB600CB1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CD03-F8DC-4FA2-B92E-23C96B4C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472-7A1C-478B-BDD2-CBC2EB68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8E22-1E62-4442-91D3-A1F6169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1D7F-C2CE-4090-8DFD-3F01B921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6530-B65A-4C84-B1FE-A1B8AA5F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A623-4263-4368-9CE5-B310AD64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C9F9-11FB-4167-AF2D-EAD7294D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31A-98E1-46BC-9AD5-7E754E6F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875-8910-4597-9500-D0B1212B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04B-D79A-4F29-AA06-92F6B8CD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299-F0CE-4AB7-A553-6CAA477E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C78-E91B-44A9-A948-656B49B1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A9D-8607-486E-9095-299DDD17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56C-3EF3-402F-AF08-FFC47EB8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3F11-5E8D-4487-848E-EC0111EF8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E611-8C6A-4E1B-9C0D-74F44E3DF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692360"/>
            <a:ext cx="784692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Comic Sans MS"/>
              </a:rPr>
              <a:t>Урок - проект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76274" t="0" r="0" b="0"/>
          <a:stretch/>
        </p:blipFill>
        <p:spPr>
          <a:xfrm>
            <a:off x="6046920" y="55440"/>
            <a:ext cx="3097080" cy="6802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79280" y="1268280"/>
            <a:ext cx="57247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к трубке с ртутью прикрепить вертикальную шкалу, то получится простейший прибор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тутный баромет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т греч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баро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тяжесть,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етре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измеря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45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459729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0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Comic Sans MS"/>
              </a:rPr>
              <a:t>Май 1654 года опыт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Comic Sans MS"/>
              </a:rPr>
              <a:t>Отто фон Герик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403280" y="692280"/>
            <a:ext cx="590544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ряд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гла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9152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Проект</a:t>
            </a:r>
            <a:br>
              <a:rPr sz="3600"/>
            </a:b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ЭКСПЕРИМЕНТ, подтверждающий существование атмосферного давлени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Задача проекта: выполнить эксперимент, наглядно демонстрирующий наличие атмосферного да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брать экспери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обрать необходимое обору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готовить пояснительный рису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казать экспери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яснить 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ксперименты должны быть наглядными, простыми и доступ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Объясни следующие явл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Тема урока: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«Измерение атмосферного давления. Опыт Торричелли».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«Перестрелк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"Природа пустоты боится",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й учёный некогда сказ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Кто современникам на удивлень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мерил атмосферное да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Сумел кто вскоре догадаться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если на гору подняться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вленье будет уменьша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) Чей опыт изумил людей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требовав шестнадцать лошад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) Когда и где он сделан бы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) И в чём людей он убеди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) Поднимаемся мы в гору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ло трудно нам дышать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какие есть приборы, чтоб давленье измеря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3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132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Comic Sans MS"/>
              </a:rPr>
              <a:t>Молодцы!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850"/>
                            </p:stCondLst>
                            <p:childTnLst>
                              <p:par>
                                <p:cTn id="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15649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раграф 42,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ажнение 19 (1,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768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768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9" dur="768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1" dur="768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Цели урок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учащихся с методом измерения атмосферного давл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ть навыки планирования и проведения эксперимен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ть творческие способности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ширить кругозор по теме: «Атмосферное давление»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Повтор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кое атмосфе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ледствие чего создается атмосферное да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молекулы газов, входящих в состав атмосферы, не покидают Земл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молекулы газов, входящих в состав атмосферы, не падают на Землю под действием силы тяже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существует воздушная оболочка Зем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изменяется плотность атмосферы с увеличением высот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чение атмосферы в жизн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3851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олагают, что Луна когда-то была окружена атмосферой, но постепенно ее потеряла. Чем это можно объясн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3057" t="3827" r="40917" b="0"/>
          <a:stretch/>
        </p:blipFill>
        <p:spPr>
          <a:xfrm>
            <a:off x="4268880" y="0"/>
            <a:ext cx="507024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71640" y="5661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унная поверх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акие явления природы представлены? Можно ли их наблюдать на Лун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3313080" cy="2486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3384720" cy="2557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3313080" cy="234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292720" y="4076640"/>
            <a:ext cx="3311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Атмосферное дав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565164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тальянский математик и физик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ванджелиста Торричелл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608-1647)  первым определил значение атмосферного д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9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70480" y="1125360"/>
            <a:ext cx="3773520" cy="57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Опыт Торричел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9780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 </a:t>
            </a: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единицу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атмосферного давления принимают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 миллиметр ртутного столба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1 мм рт. ст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91440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 мм рт. ст. = 133,3 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0:09:28Z</dcterms:created>
  <dc:creator>Мама</dc:creator>
  <dc:description/>
  <dc:language>en-US</dc:language>
  <cp:lastModifiedBy>Мама</cp:lastModifiedBy>
  <dcterms:modified xsi:type="dcterms:W3CDTF">2009-02-03T18:11:53Z</dcterms:modified>
  <cp:revision>19</cp:revision>
  <dc:subject/>
  <dc:title>Тема урока: «Измерение атмосферного давления. Опыт Торричелли». </dc:title>
</cp:coreProperties>
</file>