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F265-73D6-4ACF-B6A3-6646C9889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DA1D-D19A-419C-B326-6355DFC24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5ACD-F21D-4F69-8884-348295CFB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E2E7-0B0F-46B3-9067-31017FF6D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80E01-C680-420A-A6DC-342A0D580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C6654-F6E6-449E-A5DC-068BFC44D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7F4F6-D731-437B-A8DD-1DA6843AD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36B09-63D2-4181-B90E-A73358A63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A67A2-83E5-4FD2-995B-FEADDD923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4BAC3-D6F1-479C-AEAD-BB2590FB8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E7021-5764-4BE8-9FEA-BCD481CE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EEE0-565C-4BD3-8401-DD63CE3BE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D8ED6-77E2-45EF-97D5-E0874D30B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EAA6E-DC55-4D08-9EE9-2DF3F4C4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86414-5ED1-4628-8B08-7F8EBD835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290BF-D0D0-4427-A051-94230084A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80A02-D2A4-4FAF-865D-96BFB32D5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271F-F8E0-4E0C-899B-631B439DE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AFFD-7C28-4090-BA16-5A1623D90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6CC6-8DC8-4521-B6EA-7E4870C4E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2D04-8E49-4359-8940-45217D880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C6EF-FCFB-44D5-8654-ECAD6085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74C3-894B-415B-BD3E-42659A07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2B84-B238-418B-9B55-7FB11793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90840-5488-4F21-B89D-EAB5DA53DA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CFD84-9B84-48B5-9ECA-EC0F56B89F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692360"/>
            <a:ext cx="7846920" cy="22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ecff"/>
                </a:solidFill>
                <a:latin typeface="Comic Sans MS"/>
              </a:rPr>
              <a:t>Урок - проект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rcRect l="76274" t="0" r="0" b="0"/>
          <a:stretch/>
        </p:blipFill>
        <p:spPr>
          <a:xfrm>
            <a:off x="6046920" y="55440"/>
            <a:ext cx="3097080" cy="680256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179280" y="1268280"/>
            <a:ext cx="572472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ли к трубке с ртутью прикрепить вертикальную шкалу, то получится простейший прибор –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ртутный барометр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от греч.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барос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тяжесть,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метрео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измеряю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700360" y="0"/>
            <a:ext cx="4535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5" dur="459729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227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0" dur="1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Comic Sans MS"/>
              </a:rPr>
              <a:t>Май 1654 года опыт </a:t>
            </a:r>
            <a:br>
              <a:rPr sz="4000"/>
            </a:br>
            <a:r>
              <a:rPr b="1" lang="ru-RU" sz="4000" spc="-1" strike="noStrike">
                <a:solidFill>
                  <a:srgbClr val="ccecff"/>
                </a:solidFill>
                <a:latin typeface="Comic Sans MS"/>
              </a:rPr>
              <a:t>Отто фон Герике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1403280" y="692280"/>
            <a:ext cx="5905440" cy="504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рядк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ля глаз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9152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Проект</a:t>
            </a:r>
            <a:br>
              <a:rPr sz="3600"/>
            </a:br>
            <a:r>
              <a:rPr b="1" lang="en-US" sz="2400" spc="-1" strike="noStrike">
                <a:solidFill>
                  <a:srgbClr val="ff66cc"/>
                </a:solidFill>
                <a:latin typeface="Arial"/>
              </a:rPr>
              <a:t>ЭКСПЕРИМЕНТ, подтверждающий существование атмосферного давление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Задача проекта: выполнить эксперимент, наглядно демонстрирующий наличие атмосферного давл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ыбрать эксперимен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добрать необходимое оборудов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зготовить пояснительный рисун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казать эксперимен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бъяснить е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Эксперименты должны быть наглядными, простыми и доступным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Comic Sans MS"/>
              </a:rPr>
              <a:t>  </a:t>
            </a:r>
            <a:r>
              <a:rPr b="0" lang="en-US" sz="4000" spc="-1" strike="noStrike">
                <a:solidFill>
                  <a:srgbClr val="ccecff"/>
                </a:solidFill>
                <a:latin typeface="Comic Sans MS"/>
              </a:rPr>
              <a:t>Объясни следующие явлени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908000" y="1197000"/>
            <a:ext cx="5543640" cy="554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40720" cy="68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92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28036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Comic Sans MS"/>
              </a:rPr>
              <a:t>Тема урока:</a:t>
            </a:r>
            <a:br>
              <a:rPr sz="6000"/>
            </a:br>
            <a:r>
              <a:rPr b="1" lang="en-US" sz="6000" spc="-1" strike="noStrike">
                <a:solidFill>
                  <a:srgbClr val="ccecff"/>
                </a:solidFill>
                <a:latin typeface="Comic Sans MS"/>
              </a:rPr>
              <a:t>«Измерение атмосферного давления. Опыт Торричелли».</a:t>
            </a:r>
            <a:br>
              <a:rPr sz="6000"/>
            </a:b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768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" dur="768" fill="hold"/>
                                        <p:tgtEl>
                                          <p:spTgt spid="2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" dur="768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" dur="768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ccecff"/>
                </a:solidFill>
                <a:latin typeface="Comic Sans MS"/>
              </a:rPr>
              <a:t>«Перестрелка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) "Природа пустоты боится", -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акой учёный некогда сказал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) Кто современникам на удивленье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змерил атмосферное давлени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) Сумел кто вскоре догадаться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то если на гору подняться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авленье будет уменьшаться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) Чей опыт изумил людей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требовав шестнадцать лошадей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) Когда и где он сделан был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) И в чём людей он убедил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) Поднимаемся мы в гору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тало трудно нам дышать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 какие есть приборы, чтоб давленье измерять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1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3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5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7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9" dur="5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1" dur="500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3" dur="500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8" dur="2132" fill="hold"/>
                                        <p:tgtEl>
                                          <p:spTgt spid="2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000" y="1052280"/>
            <a:ext cx="828036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Comic Sans MS"/>
              </a:rPr>
              <a:t>Молодцы!</a:t>
            </a:r>
            <a:endParaRPr b="0" lang="en-US" sz="9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-304920" y="5734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1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1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1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1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1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850"/>
                            </p:stCondLst>
                            <p:childTnLst>
                              <p:par>
                                <p:cTn id="4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9" dur="15649" fill="hold"/>
                                        <p:tgtEl>
                                          <p:spTgt spid="2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Comic Sans MS"/>
              </a:rPr>
              <a:t>Домашнее зада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араграф 42, вопрос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пражнение 19 (1,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768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7" dur="768" fill="hold"/>
                                        <p:tgtEl>
                                          <p:spTgt spid="2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9" dur="768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1" dur="768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Comic Sans MS"/>
              </a:rPr>
              <a:t>Цели урока: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знакомить учащихся с методом измерения атмосферного давле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Формировать навыки планирования и проведения эксперимент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звивать творческие способности дет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сширить кругозор по теме: «Атмосферное давление» 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768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768" fill="hold"/>
                                        <p:tgtEl>
                                          <p:spTgt spid="2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" dur="768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" dur="768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Comic Sans MS"/>
              </a:rPr>
              <a:t>Повторе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то такое атмосфер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следствие чего создается атмосферное давлени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чему молекулы газов, входящих в состав атмосферы, не покидают Землю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чему молекулы газов, входящих в состав атмосферы, не падают на Землю под действием силы тяжест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чему существует воздушная оболочка Земл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ак изменяется плотность атмосферы с увеличением высоты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начение атмосферы в жизни челове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768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" dur="768" fill="hold"/>
                                        <p:tgtEl>
                                          <p:spTgt spid="2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" dur="768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" dur="768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24000" y="1844640"/>
            <a:ext cx="38512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едполагают, что Луна когда-то была окружена атмосферой, но постепенно ее потеряла. Чем это можно объяснить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rcRect l="3057" t="3827" r="40917" b="0"/>
          <a:stretch/>
        </p:blipFill>
        <p:spPr>
          <a:xfrm>
            <a:off x="4268880" y="0"/>
            <a:ext cx="507024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971640" y="566100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Лунная поверх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Какие явления природы представлены? Можно ли их наблюдать на Луне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3313080" cy="24861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1042920" y="4076640"/>
            <a:ext cx="3384720" cy="25574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5219640" y="1557360"/>
            <a:ext cx="3313080" cy="23493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5292720" y="4076640"/>
            <a:ext cx="331164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Comic Sans MS"/>
              </a:rPr>
              <a:t>Атмосферное давле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-360" y="2565000"/>
            <a:ext cx="565164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9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тальянский математик и физик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ванджелиста Торричелл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(1608-1647)  первым определил значение атмосферного дав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890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5370480" y="1125360"/>
            <a:ext cx="3773520" cy="573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Comic Sans MS"/>
              </a:rPr>
              <a:t>Опыт Торричелл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8497800" cy="54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9144000" cy="264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За </a:t>
            </a:r>
            <a:r>
              <a:rPr b="0" lang="ru-RU" sz="4000" spc="-1" strike="noStrike" u="sng">
                <a:solidFill>
                  <a:srgbClr val="ccecff"/>
                </a:solidFill>
                <a:uFillTx/>
                <a:latin typeface="Arial"/>
              </a:rPr>
              <a:t>единицу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атмосферного давления принимают 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1 миллиметр ртутного столба 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(1 мм рт. ст.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3500280"/>
            <a:ext cx="91440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1 мм рт. ст. = 133,3 П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1T10:09:28Z</dcterms:created>
  <dc:creator>Мама</dc:creator>
  <dc:description/>
  <dc:language>en-US</dc:language>
  <cp:lastModifiedBy>Мама</cp:lastModifiedBy>
  <dcterms:modified xsi:type="dcterms:W3CDTF">2009-02-03T18:11:53Z</dcterms:modified>
  <cp:revision>19</cp:revision>
  <dc:subject/>
  <dc:title>Тема урока: «Измерение атмосферного давления. Опыт Торричелли». </dc:title>
</cp:coreProperties>
</file>