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E09-C469-4926-AA67-4FA21FFC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C64-8047-44F5-B3A5-F2F5B081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81E-78FE-4D23-9CCD-6733F93A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4E3-5295-47B9-B49A-147D9E6C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7BB-08A0-4CED-BB07-CEE2EC71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F35-F85D-43F9-9211-5DD1A0E0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84F-C995-452A-B37B-C0FA4F6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05C-4C73-4091-A429-F1117722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B93-0409-42DC-9D3B-5C198AE1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A92-12E0-40B6-A6E0-AC854E4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519-DE11-407B-A07B-00F84383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D64-D923-48EB-BC12-C6F04870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91CF-CE55-4155-8CE5-DEE8252E5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360" y="794880"/>
            <a:ext cx="8693280" cy="238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Уровневые задания по русскому языку по теме «Число глагола. Изменение глагола по числам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3672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Цель: формирование знаний, умений и навыков учащихся о единственном и множественном числе глаголо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63600" y="482400"/>
            <a:ext cx="79452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ноуровневое обуче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организация учебно-воспитательного процесса, при которой КАЖДЫЙ ученик имеет возможность овладевать учебным материалом по отдельным предметам школьной программы на своем уровне, но не ниже базового, в зависимости от ЕГО способностей и индивидуальных особеннос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Узнава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920" y="587520"/>
            <a:ext cx="882180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ель: повторение определения глагола и его грамматических призна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1. Прочитайте правило в учебнике на с. 68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2. Прочитайте задани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3. Вставьте в правило пропущенные слова, используя учебни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4. Проверьте выполненную работу по учебнику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Глагол – это ________________________, которая обозначает 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______________ и отвечает на вопросы: ______________________________________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5» - не допущено ни одной ошиб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4» - допущена 1 ошиб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3» - допущено 2 ошиб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2» - допущено 3 и более ошибо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Воспроизвед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4440" y="604800"/>
            <a:ext cx="8526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формирование умения правильно ставить вопросы к глаголам и определять чис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. Ознакомьтесь с правилом в учебнике на странице 7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 Прочитайте предло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3. В скобках запишите вопрос к глагол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4. Определите, сколько человек выполняют дей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Дети ( ) играют все вме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е выполняют 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Только Толик ( ) прячет от всех свои игруш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е выполняет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ебята ( ) гуляют в пар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е выполняет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5» - не допущено ни одной ошиб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4» - допущена 1 ошиб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3» - допущено 2 ошиб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2» - допущено 3 и более ошиб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онима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4440" y="604800"/>
            <a:ext cx="8526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закрепление умения определять число глаголов, изменять глаголы по числ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Прочитайте глаг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Ознакомьтесь с образцом выполнения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 Измените число глагол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. Запишите пары слов и укажите над ними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Читает — читают, звонит — ..., летит — ..., жужжит —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овторила — повторили, говорил — ..., гремело —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5» - не допущено ни одной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4» - допущена 1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3» - допущено 2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2» - допущено 3 и более оши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именение в знакомых условия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7760" y="488520"/>
            <a:ext cx="8526240" cy="61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закрепление умение различать глаголы в единственном и множественном чис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Прочитайте группы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В каждой строке зачеркните «лишнее» слово и укажите его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испаряет, опадает, заостряет, смотря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ночевал, ночует, ночевали, ночев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светят, сверкает, блестят, сия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пишет, пишут, сочиняют, слаг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грустит, печалится, унывают, тоску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5» - не допущено ни одной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4» - допущена 1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3» - допущено 2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2» - допущено 3 и более оши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8868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именение в новых условия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7760" y="488520"/>
            <a:ext cx="8526240" cy="61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формирование умения самостоятельно составлять предложения с использованием глаголов в единственном и множественном чис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выпол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. Напишите текст на тему «Весна», используя слова для справ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 Определите число использованных глаго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ва для справок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ит, тают, плачут, треснул, кружат, проснулся, вышли, стучат, присел, радуются, оживает, приш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Критерии оценивания зада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ценка «5» – логически последовательно раскрыта тема, нет речевых и орфографических ошибок, допущено 1–2 исправ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4» – незначительно нарушена последовательность изложения мыслей, имеются единичные (1–2) фактические и речевые неточности, 1–2 орфографические ошибки,1–2 исправ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3» – имеются некоторые отступления от темы, допущены отдельные нарушения в последовательности изложения мыслей, в построении 2–3 предложений, беден словарь, 3–6 орфографических ошибки и 1–2 исправ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2» – имеются значительные отступления от темы, отсутствует связь между частями, отдельными предложениями, крайне однообразен словарь, 7–8 орфографических ошибок, 3–5 исправ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41440" y="747360"/>
            <a:ext cx="797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ифференцированный подход к учащимся в процессе обучения способствует подготовке слабоуспевающих к восприятию нового материала, вовремя восполнять пробелы в знаниях, шире использовать познавательные возможности учеников, особенно сильно, и постоянно поддерживать интерес к предме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анные задания можно предложить на разных платформах: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имер, в виде презентации, интерактивных заданий на смарт-доске, на планшетах или на сайт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rningApp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Разработка данных заданий может использоваться на учебном занятии при изучении темы, в рамках тематической проверочной работы, а также для дистанционного самостоятельного обуч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06T17:00:50Z</dcterms:created>
  <dc:creator>Алексей</dc:creator>
  <dc:description/>
  <dc:language>en-US</dc:language>
  <cp:lastModifiedBy>stud</cp:lastModifiedBy>
  <dcterms:modified xsi:type="dcterms:W3CDTF">2021-06-07T09:39:04Z</dcterms:modified>
  <cp:revision>8</cp:revision>
  <dc:subject/>
  <dc:title>Уровневые задания по русскому языку по теме «Число глагола. Изменение глагола по числам»</dc:title>
</cp:coreProperties>
</file>