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D10E-99E9-446D-A9E1-341C5EEA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0BA-2CA8-4AC2-B261-CA439E32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3CC4-B29C-48EB-B8EC-695D2845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A16B-35D4-41C1-B15A-19A4A2C2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25A0-95B9-48B6-9252-0B0FB862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B692-BD47-4CBA-A1DF-9661F537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36F-F2D5-4FB1-B635-780DEAEE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F83C-0387-4793-B09D-EC3DAD4D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2A0-7E0E-49C4-B1D4-CDC2C720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E8B-D698-4B10-A534-A1D934C6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98E-E108-4C85-A763-0AD06E55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9196-F689-4673-A520-0C2B5E5F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E1EA-64E1-483A-B113-A144A57A85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360" y="794880"/>
            <a:ext cx="8693280" cy="238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Уровневые задания по русскому языку по теме «Число глагола. Изменение глагола по числам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3672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Цель: формирование знаний, умений и навыков учащихся о единственном и множественном числе глаголов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63600" y="482400"/>
            <a:ext cx="794520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ноуровневое обучен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это организация учебно-воспитательного процесса, при которой КАЖДЫЙ ученик имеет возможность овладевать учебным материалом по отдельным предметам школьной программы на своем уровне, но не ниже базового, в зависимости от ЕГО способностей и индивидуальных особенност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6720" y="0"/>
            <a:ext cx="788688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Узнавани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5920" y="587520"/>
            <a:ext cx="8821800" cy="61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Цель: повторение определения глагола и его грамматических признако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Алгоритм выполнения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alibri"/>
              </a:rPr>
              <a:t>1. Прочитайте правило в учебнике на с. 68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alibri"/>
              </a:rPr>
              <a:t>2. Прочитайте задание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alibri"/>
              </a:rPr>
              <a:t>3. Вставьте в правило пропущенные слова, используя учебник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alibri"/>
              </a:rPr>
              <a:t>4. Проверьте выполненную работу по учебнику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Глагол – это ________________________, которая обозначает ____________________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______________ и отвечает на вопросы: ______________________________________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alibri"/>
              </a:rPr>
              <a:t>Критерии оценивания задания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«5» - не допущено ни одной ошибк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«4» - допущена 1 ошибк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«3» - допущено 2 ошибк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«2» - допущено 3 и более ошибок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6720" y="0"/>
            <a:ext cx="788688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Воспроизведени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34440" y="604800"/>
            <a:ext cx="8526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формирование умения правильно ставить вопросы к глаголам и определять числ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Алгоритм выполн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1. Ознакомьтесь с правилом в учебнике на странице 7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2. Прочитайте предлож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3. В скобках запишите вопрос к глагол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4. Определите, сколько человек выполняют дей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Дети ( ) играют все вмес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йствие выполняют 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Только Толик ( ) прячет от всех свои игруш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йствие выполняет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Ребята ( ) гуляют в пар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йствие выполняет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ритерии оценивания зад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5» - не допущено ни одной ошиб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4» - допущена 1 ошиб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3» - допущено 2 ошиб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2» - допущено 3 и более ошиб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0"/>
            <a:ext cx="788688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Понимани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34440" y="604800"/>
            <a:ext cx="8526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: закрепление умения определять число глаголов, изменять глаголы по числ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лгоритм выполн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. Прочитайте глаго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. Ознакомьтесь с образцом выполнения зад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. Измените число глагол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4. Запишите пары слов и укажите над ними чис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Читает — читают, звонит — ..., летит — ..., жужжит — .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Повторила — повторили, говорил — ..., гремело — .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ритерии оценивания зад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5» - не допущено ни одной ошиб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4» - допущена 1 ошиб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3» - допущено 2 ошиб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2» - допущено 3 и более ошиб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6720" y="0"/>
            <a:ext cx="788688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Применение в знакомых условиях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47760" y="488520"/>
            <a:ext cx="8526240" cy="61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: закрепление умение различать глаголы в единственном и множественном чис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лгоритм выполн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. Прочитайте группы с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. В каждой строке зачеркните «лишнее» слово и укажите его чис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испаряет, опадает, заостряет, смотря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ночевал, ночует, ночевали, ночев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светят, сверкает, блестят, сияю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пишет, пишут, сочиняют, слагаю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грустит, печалится, унывают, тоску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ритерии оценивания зад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5» - не допущено ни одной ошиб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4» - допущена 1 ошиб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3» - допущено 2 ошиб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2» - допущено 3 и более ошиб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6720" y="0"/>
            <a:ext cx="788688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Применение в новых условиях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7760" y="488520"/>
            <a:ext cx="8526240" cy="61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формирование умения самостоятельно составлять предложения с использованием глаголов в единственном и множественном чис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Алгоритм выполн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1. Напишите текст на тему «Весна», используя слова для справ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2. Определите число использованных глаго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ова для справок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тит, тают, плачут, треснул, кружат, проснулся, вышли, стучат, присел, радуются, оживает, приш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Критерии оценивания зада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ценка «5» – логически последовательно раскрыта тема, нет речевых и орфографических ошибок, допущено 1–2 исправл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4» – незначительно нарушена последовательность изложения мыслей, имеются единичные (1–2) фактические и речевые неточности, 1–2 орфографические ошибки,1–2 исправл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3» – имеются некоторые отступления от темы, допущены отдельные нарушения в последовательности изложения мыслей, в построении 2–3 предложений, беден словарь, 3–6 орфографических ошибки и 1–2 исправл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2» – имеются значительные отступления от темы, отсутствует связь между частями, отдельными предложениями, крайне однообразен словарь, 7–8 орфографических ошибок, 3–5 исправл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41440" y="747360"/>
            <a:ext cx="797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аким образом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ифференцированный подход к учащимся в процессе обучения способствует подготовке слабоуспевающих к восприятию нового материала, вовремя восполнять пробелы в знаниях, шире использовать познавательные возможности учеников, особенно сильно, и постоянно поддерживать интерес к предмет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анные задания можно предложить на разных платформах: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пример, в виде презентации, интерактивных заданий на смарт-доске, на планшетах или на сайте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arningApp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Разработка данных заданий может использоваться на учебном занятии при изучении темы, в рамках тематической проверочной работы, а также для дистанционного самостоятельного обуч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6-06T17:00:50Z</dcterms:created>
  <dc:creator>Алексей</dc:creator>
  <dc:description/>
  <dc:language>en-US</dc:language>
  <cp:lastModifiedBy>stud</cp:lastModifiedBy>
  <dcterms:modified xsi:type="dcterms:W3CDTF">2021-06-07T09:39:04Z</dcterms:modified>
  <cp:revision>8</cp:revision>
  <dc:subject/>
  <dc:title>Уровневые задания по русскому языку по теме «Число глагола. Изменение глагола по числам»</dc:title>
</cp:coreProperties>
</file>