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72288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E14-6834-46A9-AFEA-B13221B3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190E-810B-4A7C-8966-6D40F8DF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91F-9488-410E-B9F6-EEE6747C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A2EF-2B96-4E73-8A14-E9277EB2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A727-1A1E-4C30-85A7-1720DA77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22C3-FB1D-49B6-AC43-EB4E371F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0A0F-D323-4F50-BBCE-FC892DAE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E8DB-48BB-4AD4-B3A7-AE637E94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DA57-DACC-4492-8496-53A1DAA7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6225-B3E9-4090-822C-B5F81090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CB43-1539-4A97-9177-39B47CE0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49A7-78A4-44E1-83D6-ACA9C822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C5E5-1E1B-4920-97F0-0DE39644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5D28-0F7E-4A71-A5E4-A8E9F8DD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8CF0-B80E-4B61-952B-F88E8369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9CB9-2D82-49F1-992C-8A7A9D45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2668-B8D7-4F10-BA38-8E320628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25C96-3ECB-423F-AF38-E664A07C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E4D02-84D2-440D-B858-4B37E86A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FCADF-6F76-483A-AF70-D77B15EC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355B1-F3AC-4475-91DA-6AE3FF48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3FF02-3186-4671-807E-EEB61413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FB6-A856-4633-92A1-E86E1E63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8E3AA-B7AE-4FF5-B361-7FCC7477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BE83B-5937-4E29-8954-AF64F20A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52B2A-62C4-42DE-80E5-31DBBE3A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6B4DE-22FE-438F-9549-C79D39D4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8D703-839F-4075-B511-A7F6F7C9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288B0-A28D-4937-8E1B-83CCC6CF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8013D6-5371-43F2-A160-CF487464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87399-1489-4187-A683-E0BF0AB2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52E8F-8E9F-44E2-89E9-6189C7C8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ED1B6-B6E3-456A-9614-E0695CED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EA6-E125-4E72-82BB-7DBBB26B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A87CF-4A8C-446D-9640-62BE45F7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FFB48-5848-4F49-9517-8D1F4C85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FDBE7-8C4B-4788-86F3-95C135C6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686B9-D00E-4C52-A58A-4FED1D6E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DA8EA-76CC-40FF-ADC8-454217EF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E5D80-F1DB-4AC7-A704-81A8EF94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97055-53A1-4336-8807-214F81F6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F1703-FA51-45C7-AE39-F65466DF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A9AF8-40DF-4399-92B3-ADEAD3F1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025C0-B110-4EA7-BC54-956DE159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A0B-70DE-427D-AE09-5CDF1606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38397-53C2-4445-A0EA-0FA5355D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72FB73-E1C9-43E8-A6B3-96259A48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3416A-FFDB-45B4-B5E9-EC227A61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1B1E2-433B-43C1-89B6-95B6790B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AA3DB-D7DC-4CB8-B9AC-256F5BA4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169D9-D8F7-40CC-9738-6C8CCB81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E86EB-F790-4EC8-B5B3-A5E09B64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8DEAB-9981-4F41-9EC8-15DDCD83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7DFDF0-DBFF-4B3F-A0A3-4082AE07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F71873-0CED-46FF-8F09-411336AF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FB2-E6F6-4DC8-9CF3-9A9A4993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63C7FE-BD23-426E-BC50-30135A23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855FEE-B406-4128-9FFC-B7D9478E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9266B-D0EE-4A81-9EA5-888194F5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918EDE-D4F3-4B79-91B5-508506ED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02FF51-7F25-4958-9D32-80B9FB62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5A6B7A-AD7B-4005-AE71-D303DC6C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BBBC7B-0442-4F97-9827-DEB51457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7C6A5E-DBA5-4DCC-A991-01791B72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D9AE4D-C708-44F2-94E1-A811EC0D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5F5C72-AE4B-428A-B1C7-CACAAD12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8C4-9C2C-41EE-B8BA-36CEDBF3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0FE02C-9898-47CC-9C0D-F6F8CD82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58BDD-6304-4F5B-8599-124E5703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58AA67-7B92-47A0-9A0E-E9A95F59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74C64C-09E6-4C18-B1A1-BBC6A7CC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D4F2BF-0BC9-43D1-9A84-17DA5934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2308BF-E20C-49B8-A79F-604DA439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06C418-0C8E-4775-BD54-CB0B7DC7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2A4D28-7C4B-4B97-85BB-09E0B5C5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4EDCCC-5375-4325-9412-18BD5860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BAA2C3-83B5-4642-8899-10CC8F08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B79-1AC0-4042-BB6F-467740FD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F79493-7E49-4E25-A9B3-F302E31E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392B63-6140-4554-94E3-D8DF9F39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4AF8C9-2CB6-4BAC-B7A5-56233DC9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038CA1-11D3-4E16-94AD-598F0709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6601ED-98B4-4D83-B533-9E104CFA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83115-C729-4169-8FF8-88401472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116C2-F7EC-4B42-B1B7-58C52EB6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665CF-56C0-4F7A-BC50-DE5870AA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0BCC8-6434-4861-BA38-F565A63D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E1F21-4EF8-41FE-B405-0757E67B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65D-30F5-47B6-8536-D631D54D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D5576-AD73-4C12-9439-D2907702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28D10-8935-4D0D-AD29-8F354B5B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A901F-8390-4110-AC3B-1CA29A7C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EC647-A7B7-42A6-9240-E91C7A2C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21BA2-9127-4B67-92D9-1573E9F6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9C0DA-AEBF-42BA-925E-BAF79B18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51686-3C4C-4B09-A424-36F69599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1BD7-0295-4825-8B5F-53EDC1B6EE2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F441-DA6A-4237-88A2-D069F290E15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EC22-A608-4911-B36C-1F622D83B05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39d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5E73-1C08-49C2-AE62-28FAEE02BB6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6FD7-D271-4A74-A47A-04398018C57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6136-E36B-42F8-A51B-F61FE779397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E295-922A-4C29-AC28-917086872CD0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0C13-BA20-493B-9531-96229656574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7"/>
          <p:cNvSpPr txBox="1"/>
          <p:nvPr/>
        </p:nvSpPr>
        <p:spPr>
          <a:xfrm rot="5400000">
            <a:off x="-325440" y="693360"/>
            <a:ext cx="1728720" cy="71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9" name="WordArt 5"/>
          <p:cNvSpPr txBox="1"/>
          <p:nvPr/>
        </p:nvSpPr>
        <p:spPr>
          <a:xfrm>
            <a:off x="250920" y="4149720"/>
            <a:ext cx="8680320" cy="20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400" name="Прямоугольник 1"/>
          <p:cNvSpPr/>
          <p:nvPr/>
        </p:nvSpPr>
        <p:spPr>
          <a:xfrm>
            <a:off x="755640" y="210996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риемы работы с текстом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ри подготовке к устному собеседовани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КРИТЕРИИ ОЦЕНИВАНИЯ ВЫПОЛНЕНИЯ ЗАДАНИЙ УСТНОЙ ЧАСТИ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ЗАДАНИЕ 1.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ЧТЕНИЕ ТЕКСТА ВСЛУХ</a:t>
            </a:r>
            <a:br>
              <a:rPr sz="27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324000" y="1484280"/>
          <a:ext cx="8640720" cy="4213080"/>
        </p:xfrm>
        <a:graphic>
          <a:graphicData uri="http://schemas.openxmlformats.org/drawingml/2006/table">
            <a:tbl>
              <a:tblPr/>
              <a:tblGrid>
                <a:gridCol w="3193920"/>
                <a:gridCol w="3933720"/>
                <a:gridCol w="1513080"/>
              </a:tblGrid>
              <a:tr h="358920">
                <a:tc gridSpan="2">
                  <a:txBody>
                    <a:bodyPr lIns="41760" rIns="41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ритерии оценивания чтения вслу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алл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gridSpan="2">
                  <a:txBody>
                    <a:bodyPr lIns="41760" rIns="41760" tIns="0" bIns="0" anchor="t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тонац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 rowSpan="2">
                  <a:txBody>
                    <a:bodyPr lIns="41760" rIns="41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Ч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тонация соответствует пунктуационному оформлению текста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тонация не соответствует пунктуационному оформлению текста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 gridSpan="2">
                  <a:txBody>
                    <a:bodyPr lIns="41760" rIns="41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п чтения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 rowSpan="2">
                  <a:txBody>
                    <a:bodyPr lIns="41760" rIns="41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Ч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п чтения соответствует коммуникативной задач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п чтения не соответствует коммуникативной задач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 gridSpan="2">
                  <a:txBody>
                    <a:bodyPr lIns="41760" rIns="4176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ксимальное количество баллов за всё зад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ИНТОНАЦИЯ КАК СРЕДСТВО ВЫРАЖЕНИЯ ЭМОЦИОНАЛЬНО НАСЫЩЕННОЙ МЫСЛ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Логическое ударение      Мелодика         Паузы             Темп реч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овествовательное предложение (.) : понижение голоса к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концу предложе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Вопросительное предложение(?): повышение голоса на вопросительном слове,  понижение к концу предложе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Восклицание(!): повышение голоса к концу предложе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ЛОГИЧЕСКОЕ УДАРЕНИЕ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1. Логическое ударение, как правило, ставится на именах существительных и иногда на глаголах (обычно стоит в конце фразы)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2. Логическое ударение нельзя ставить на прилагательных и местоимениях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3. Закон сопоставлений является перекрывающим законом, снимающим эти правил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НАПРИМЕР: Маше нравится не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петь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, а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танцевать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 Лене 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нравится, а не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тебе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4. При сочетании двух существительных ударение всегда падает на имя существительное в родительном падеже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НАПРИМЕР: Это крик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совы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5. Перечисления во всех случаях требуют на каждом слове самостоятельного ударения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НАПРИМЕР: Но что теперь во мне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кипит, волнует, бесит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КОММУНИКАТИВНЫЕ ЗАДАЧИ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87280" y="907560"/>
            <a:ext cx="8569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79280" y="907920"/>
          <a:ext cx="8964720" cy="5999400"/>
        </p:xfrm>
        <a:graphic>
          <a:graphicData uri="http://schemas.openxmlformats.org/drawingml/2006/table">
            <a:tbl>
              <a:tblPr/>
              <a:tblGrid>
                <a:gridCol w="3529080"/>
                <a:gridCol w="5435640"/>
              </a:tblGrid>
              <a:tr h="237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Задание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тение текста вслух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сознанно и правильно </a:t>
                      </a: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entury Schoolbook"/>
                        </a:rPr>
                        <a:t>передать замысел автора  слушателям </a:t>
                      </a: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Century Schoolbook"/>
                        </a:rPr>
                        <a:t>в соответствии с пунктуационными знаками</a:t>
                      </a: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entury Schoolbook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Задание 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ересказ прочитанного текста с привлечением дополнительной информации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хранит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все основные  микротемы исходного текста и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местно, логично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ключить в него во время пересказа приведённое высказывани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АЛГОРИТМ  ПОДГОТОВКИ К ВЫРАЗИТЕЛЬНОМУ ЧТЕНИЮ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8000" y="1341360"/>
            <a:ext cx="8856720" cy="518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entury Schoolbook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внимательно прочитайте текст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определите тему, основную мысль текст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определите цель чтения (убедить слушателя)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одчеркните слова со знаком ударения, имена, отчества, фамилии, сложные, длинные и незнакомые слов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авильно употребите числительные; географические назва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внимательно отнеситесь к знакам препинания, паузам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рочитайте отрывок про себя, разделив предложения на смысловые отрезки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рочитайте текст сначала шёпотом, а потом вслух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ПАРТИТУРА ТЕКС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Прямоугольник 2"/>
          <p:cNvSpPr/>
          <p:nvPr/>
        </p:nvSpPr>
        <p:spPr>
          <a:xfrm>
            <a:off x="179280" y="141768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  знак акцента над ударной гласной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огические паузы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) | короткая (на один счет)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|| на два счета (раз, два)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) ||| на три счета (раз, два, три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—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огическое ударение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ышение тона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ижение тона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^ перелом интонаци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- - растягивание слова, либо замедление темпа произнесения какой-либо части текста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 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быстрение темпа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Прямая со стрелкой 4"/>
          <p:cNvCxnSpPr/>
          <p:nvPr/>
        </p:nvCxnSpPr>
        <p:spPr>
          <a:xfrm>
            <a:off x="312480" y="4149720"/>
            <a:ext cx="259560" cy="192960"/>
          </a:xfrm>
          <a:prstGeom prst="straightConnector1">
            <a:avLst/>
          </a:prstGeom>
          <a:ln w="1260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425" name="Прямая соединительная линия 7"/>
          <p:cNvSpPr/>
          <p:nvPr/>
        </p:nvSpPr>
        <p:spPr>
          <a:xfrm flipH="1">
            <a:off x="312480" y="3670200"/>
            <a:ext cx="258840" cy="2016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Прямая со стрелкой 13"/>
          <p:cNvCxnSpPr/>
          <p:nvPr/>
        </p:nvCxnSpPr>
        <p:spPr>
          <a:xfrm>
            <a:off x="179280" y="5660640"/>
            <a:ext cx="393120" cy="1080"/>
          </a:xfrm>
          <a:prstGeom prst="straightConnector1">
            <a:avLst/>
          </a:prstGeom>
          <a:ln w="12600">
            <a:solidFill>
              <a:srgbClr val="00206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КТО МНОГО ЧИТАЕТ, ТОТ МНОГО ЗНАЕТ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С КНИГОЙ ЖИТЬ – ВЕК НЕ ТУЖИТЬ.</a:t>
            </a: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0070c0"/>
                </a:solidFill>
                <a:latin typeface="Century Schoolbook"/>
              </a:rPr>
              <a:t>ЗАДАНИЕ: СОСТАВИТЬ ПАРТИТУРУ ПРЕДЛОЖЕНИЙ.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ИНСЕРТ - ПОЗНАВАТЕЛЬНАЯ СИСТЕМА ДЛЯ ЭФФЕКТИВНОГО ЧТЕНИЯ И МЫШЛЕНИЯ.</a:t>
            </a:r>
            <a:br>
              <a:rPr sz="2800"/>
            </a:br>
            <a:br>
              <a:rPr sz="24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V — Я ЭТО ЗНАЮ;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+ — ЭТО НОВАЯ ИНФОРМАЦИЯ ДЛЯ МЕНЯ;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 — Я ДУМАЛ ПО-ДРУГОМУ, ЭТО ПРОТИВОРЕЧИТ ТОМУ, ЧТО Я ЗНАЛ;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? — ЭТО МНЕ НЕПОНЯТНО, НУЖНЫ ОБЪЯСНЕНИЯ, УТОЧНЕНИЯ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0600" y="515880"/>
            <a:ext cx="87836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7f3f4"/>
                </a:solidFill>
                <a:latin typeface="Calibri"/>
                <a:ea typeface="Times New Roman"/>
              </a:rPr>
              <a:t> </a:t>
            </a:r>
            <a:endParaRPr b="0" lang="en-US" sz="1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928800" y="714240"/>
          <a:ext cx="7143480" cy="535788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5960"/>
                <a:gridCol w="1785600"/>
              </a:tblGrid>
              <a:tr h="52884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904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помощи тезисов записываются термины и понятия, встречающиеся в тексте, которые уже были известн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Ф.Рылеев – организатор и руководитель восстания на Сенатской площади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чается вс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, что  стал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вестн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текст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тира «К временщику» была популярна в передовых кругах русского обществ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чаютс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реч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Ф.Рылеев считал, что восстание приведет к смене государственного  строя в России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числяются непонятные моменты, те, что требуют уточнения или вопросы, возникшие по мере прочтения текста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ики отмечали «народность и благородные чувствования» дум Рылеева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ПОСЛЕДОВАТЕЛЬНОСТЬ ПОДГОТОВКИ К ПЕРЕСКАЗУ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очитать  текст и сформулировать его основную мысль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онумеровать количество абзацев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ыделить ключевые слова,  главную  мысль  каждой микротемы текст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становить смысловые отношения между частями текста и высказыванием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есказать  текст, логично и уместно включив приведённое высказывани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1"/>
          <p:cNvSpPr/>
          <p:nvPr/>
        </p:nvSpPr>
        <p:spPr>
          <a:xfrm>
            <a:off x="900000" y="1695600"/>
            <a:ext cx="7632720" cy="33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        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Алгоритм построения текста-опис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накомиться с билето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ить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цел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ставить семантическое поле фотографии, опираясь на ключевые вопрос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поставить вопросы билета с ключевыми вопроса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ставляем описание, опираясь на фразы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клиш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ПОСОБЫ ЦИТИР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79280" y="981000"/>
          <a:ext cx="8785440" cy="4754520"/>
        </p:xfrm>
        <a:graphic>
          <a:graphicData uri="http://schemas.openxmlformats.org/drawingml/2006/table">
            <a:tbl>
              <a:tblPr/>
              <a:tblGrid>
                <a:gridCol w="2664000"/>
                <a:gridCol w="6121440"/>
              </a:tblGrid>
              <a:tr h="757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пособы передачи чужой реч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имер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жения с прямой речь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 своих воспоминаниях Н.А.Бестужев  писал: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се действия жизни Рылеева ознаменованы были печатью любви к отечеству»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жения с косвенной речь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262626"/>
                          </a:solidFill>
                          <a:latin typeface="Arial"/>
                        </a:rPr>
                        <a:t>Н.А.Бестужев считал, что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все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ействия жизни Рылеева ознаменованы были печатью любви к отечеству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7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жения с вводными словам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ловам Н.А.Бестужева, все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ействия жизни Рылеева ознаменованы были печатью любви к отечеству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entury Schoolbook"/>
              </a:rPr>
              <a:t>Н.А.БЕСТУЖЕВ О К.Ф.РЫЛЕЕВ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«Все действия жизни Рылеева ознаменованы были печатью любви к Отечеству»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«Всякая несправедливость, ложь, а тем более клевета, находили в нем жестокого противника»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«Он во всяком человеке видел благонамеренность, не подозревал обман и, обманутый, не переставал верить»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ФОРМУЛИРУЕМ ОСНОВНЫЕ МЫСЛИ АБЗАЦЕВ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.Ф.Рылеев – один из организаторов и руководителей восстания на Сенатской площад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нние поэтические произведения поэ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тира «К временщику» – выдающееся проявление гражданского мужеств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Народность и благородные чувствования…» дум К.Ф.Рылеев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6"/>
          <p:cNvSpPr txBox="1"/>
          <p:nvPr/>
        </p:nvSpPr>
        <p:spPr>
          <a:xfrm>
            <a:off x="1476360" y="4581360"/>
            <a:ext cx="604836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лагодарю за внимание!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468360" y="765000"/>
          <a:ext cx="8137440" cy="5616720"/>
        </p:xfrm>
        <a:graphic>
          <a:graphicData uri="http://schemas.openxmlformats.org/drawingml/2006/table">
            <a:tbl>
              <a:tblPr/>
              <a:tblGrid>
                <a:gridCol w="2033640"/>
                <a:gridCol w="2035080"/>
                <a:gridCol w="2033640"/>
                <a:gridCol w="2035080"/>
              </a:tblGrid>
              <a:tr h="677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отограф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фотографироват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видет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зобразит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832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ото, снимок, фотокарточка, кадр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нять, запечатлеть, зафиксироват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видать, уловить, ухватить, заметить, различить приметить, заприметить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ссоздать, отразить, передать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1067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разить, передать,  фото, кадр, снять, запечатлеть, увидать, уловить, снимок, фотокарточка, ухватить, заметить, приметить, различить, заприметить, воссоздать, зафиксировать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84360" y="692280"/>
          <a:ext cx="7777080" cy="5472000"/>
        </p:xfrm>
        <a:graphic>
          <a:graphicData uri="http://schemas.openxmlformats.org/drawingml/2006/table">
            <a:tbl>
              <a:tblPr/>
              <a:tblGrid>
                <a:gridCol w="2666880"/>
                <a:gridCol w="5110200"/>
              </a:tblGrid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то?(Что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мья, папа, дочк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42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ой?(+атмосфера, настроение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есёлые , радостные, счастливые, (Одежда ) походная, свободная, удобная, легкая ,(атмосфера )дружественная, тёплая, доверительная, ( настроение  радужное, приподнятое, хорошее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32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то делает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дут, смеются, держатся за руки, разговаривают, возвращются с прогулк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02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гда делает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тний день, солнечный день, выходной ден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де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лесу, по лесной тропинк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 делает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есело, радостн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чем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огуляться по лесу, отдохнуть в лесу, семейный отды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чему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чень дружная семь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826920" y="907920"/>
          <a:ext cx="7417080" cy="5256360"/>
        </p:xfrm>
        <a:graphic>
          <a:graphicData uri="http://schemas.openxmlformats.org/drawingml/2006/table">
            <a:tbl>
              <a:tblPr/>
              <a:tblGrid>
                <a:gridCol w="3179880"/>
                <a:gridCol w="4237200"/>
              </a:tblGrid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прос билета: опишит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прос алгоритм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773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юдей, изображённых на фотографии : как вы думаете, почему они так одеты;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то?(Целое + части перечислить) Какой? Как(одеты)? Зачем (так оделись)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71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нятие людей, изображённых на фотограф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то делает? Когда? Как  делает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тмосферу в этой семье;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чему(улыбаются)? Какая(атмосфера)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71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строение, которое вызывает у Вас эта фотографи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ой? (настроение) Почему? (такое настроение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1"/>
          <p:cNvSpPr/>
          <p:nvPr/>
        </p:nvSpPr>
        <p:spPr>
          <a:xfrm>
            <a:off x="684360" y="1052640"/>
            <a:ext cx="8064360" cy="48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Конструкции-помощники (клише) для описания фотографи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Вступл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На этом снимке изображен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Этот снимок - жанровая зарисовка, передающая сцену из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На данной фотографии фотограф запечатлел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На фотографии мы видим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Если внимательно посмотреть на фотографию, то 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Фотограф изобразил кульминационный момент события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Основная ча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Цель фотографа –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Фотограф создан настоящую картину(чего?)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Фотограф запечатлел один из моментов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Всё внимание фотографа сосредоточено на 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Фотограф поместил в центр снимка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Прямо перед нами изображены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На переднем плане привлекает внимание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Задний план снимка занимает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Слева/справа от… виднеется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1042920" y="944640"/>
            <a:ext cx="691380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12529"/>
                </a:solidFill>
                <a:latin typeface="Arial"/>
                <a:ea typeface="Times New Roman"/>
              </a:rPr>
              <a:t>Я думаю, что на данной фотографии запечатлена (изображена) экскурсия группы учащихся в ……………… музей. Дети очень внимательно слушают экскурсовода, который ……….и ……….. На стеллажах ( …..), под стеклом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i="1" lang="ru-RU" sz="1800" spc="-1" strike="noStrike">
                <a:solidFill>
                  <a:srgbClr val="212529"/>
                </a:solidFill>
                <a:latin typeface="Arial"/>
                <a:ea typeface="Times New Roman"/>
              </a:rPr>
              <a:t>представлены………………(документы, экспонаты, книги, предметы, фотографии …., и т.д. Я считаю, что это …… музей (вид музея), потому что……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12529"/>
                </a:solidFill>
                <a:latin typeface="Arial"/>
                <a:ea typeface="Times New Roman"/>
              </a:rPr>
              <a:t>Я посещал ……. музеи (музей )…… Больше всего мне понравилось (понравились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БАЗОВЫЕ УМЕНИЯ РАБОТЫ С ТЕКСТОМ В 5 КЛАССЕ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Прямоугольник 2"/>
          <p:cNvSpPr/>
          <p:nvPr/>
        </p:nvSpPr>
        <p:spPr>
          <a:xfrm>
            <a:off x="250920" y="162864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ладеть различными видами чт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смотровым, ознакомительным, изучающим, поисковы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. Адекватно понимать содерж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читанных учебно-научных и художественных текстов различных функционально-смысловых типов речи (повествование, описание, рассуждение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тно и письменно формулировать тему и главную мысль текста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улировать вопросы по содержанию текста и отвечать на них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едавать в устной и письменной форме содержание прочитанных учебно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учных и художественных текстов различных функционально-смысловых типов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ч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Устно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ересказывать прочитанный или прослушанный текс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комендуемый объём текста для устного пересказа — 100–110 сло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комендуемый объём текста, предлагаемого обучающимся для чтения на уроках русского языка, — 200–250 сло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ОСОБЕННОСТИ ЗАДАНИЯ 1,2 (ЧТЕНИЕ ТЕКСТА ВСЛУХ И ПЕРЕСКАЗ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707760" y="141732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объём текста варьируется в пределах 170 – 180 слов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70c0"/>
                </a:solidFill>
                <a:latin typeface="Century Schoolbook"/>
              </a:rPr>
              <a:t>контролируются навыки техники осмысленного чтения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: проверяется понимание экзаменуемым содержание читаемого, которое проявляется в оформлении фонетической стороны устной речи, темпе чтения, соответствии интонации знакам препинания  текста (пауза, словесное ударение, повышение-понижение громкости голоса),  соблюдении  орфоэпических и грамматических норм, отсутствии искажений слов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проверяются умения учащихся видеть и использовать при чтении графические символы, в частности знак ударения, который сопровождает имена собственные и термины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текст содержит сложную грамматическую единицу – имя числительное, которое представлено в цифровой  форме записи и использовано в одном из косвенных падежей, поэтому учащимся при чтении необходимо правильно его просклонять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500" spc="-1" strike="noStrike">
                <a:solidFill>
                  <a:srgbClr val="7598d9"/>
                </a:solidFill>
                <a:latin typeface="Century Schoolbook"/>
              </a:rPr>
              <a:t>Пересказать текст подробно, а также включить в него предложенное высказывание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7598d9"/>
                </a:solidFill>
                <a:latin typeface="Century Schoolbook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При подготовке к заданию экзаменуемый должен определить, в какой части текста использование высказывания логично и уместно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Пересказ и включённое в него задание должны составлять цельный текст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9T23:03:03Z</dcterms:created>
  <dc:creator>Галина</dc:creator>
  <dc:description/>
  <dc:language>en-US</dc:language>
  <cp:lastModifiedBy>User_2</cp:lastModifiedBy>
  <dcterms:modified xsi:type="dcterms:W3CDTF">2021-06-10T07:22:49Z</dcterms:modified>
  <cp:revision>142</cp:revision>
  <dc:subject>Административное право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250000000000010243100207f6000400038000</vt:lpwstr>
  </property>
</Properties>
</file>