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4BE-BAAB-4AAF-A97A-83D81EC8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9ED-DF63-4FEF-BAB9-1ABD7AF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AB0-45E6-44E2-9A21-9187047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4F3-FB88-4354-8A96-86A96812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13D-A95E-49E8-956C-9F844045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FFB3-1345-4522-8649-D3F3D1C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2CC-7424-4026-AB14-1C495FCE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1D07-6FA4-4356-92B1-B83DF121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3D4-BB9B-418B-8E18-231B1739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D44-03D6-4B60-A8C7-B5D6C3F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BFDD-2C8C-48F4-9A4C-555985F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29A-62C0-44A2-9627-7E5AFF6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6F09-97AF-482F-B6BC-F016F03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4A41-3691-483C-A70D-115AA55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6F49-7EC9-4C97-B2AE-8BA95253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362-E191-4A2D-8E0C-6E4651A3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8F8B-11C4-4AB6-B077-9C7C751F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7732A-F7BF-45AC-A2FB-000FB158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940D4-86DF-46AA-AC54-297B8078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74905-5890-4FD2-9947-8669A350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AE580-232A-451E-AF93-D5236AF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7F164-FEE7-40B6-9B3D-C0F1CB5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A53-8A8F-404E-9A9A-2CBDCF1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6126A-2186-4362-89B9-8A6E82F6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56A95-36A9-4358-822A-09EBFA8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394DC-AEEC-431E-A663-53F905B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53DB2-D8DA-45E7-A053-3B26C70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28399-F2F3-4A0C-BED1-307713F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B8E2B-A9E7-43AC-808A-9F6D9DE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4533E-BE89-43DE-AA67-462D51D3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D62E-8E42-4E21-84A2-1978A5ED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4B31-B06D-43C9-97CD-08F0F22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1969-3AD5-45F1-BF7E-4717639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5BD-DC43-4EA9-9C1E-B845D12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CE68-5ADF-41A1-A331-413DD9FF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971D-AB08-4651-BDB4-14FDD64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991E-4106-4572-9CF5-F18F295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397B-B1F6-4E35-8343-24C46B1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D519-E9A0-4162-AF78-55ED818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3A64-334E-4BDE-9865-AD1C72C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945F-051F-4032-B7AE-E4145B5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FB01-CE04-46CE-9ED9-330D604B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2BFA-5500-46A4-A3B6-C839D1DB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D7DD9-5650-4BE7-B26D-0BB723B4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BA6-4254-48F8-B05A-9933467B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9A228-ED6B-4DB5-A131-F79504F1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B0F23-A5E1-4846-8236-74F54918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777F9-B4D5-4F09-991D-F0D8B68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9578B-DB12-4452-A797-AD0E0036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122DA-DA37-41F4-BA62-EF22027B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C95CF-D5EC-4E09-ABC6-01A1C9BB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D0473-B69D-49BC-8364-C489292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037FC-4EF7-4C1F-B582-8C1CF51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E8B27-F2C0-48D7-928F-676A432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47985-C8FE-4555-B8F5-7D621666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31F-DBA8-4568-B216-CBE246FB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C4D07-DC91-450A-8703-0B837513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2317D-702E-40C6-951B-76193F46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72052-A259-477B-913C-ED6B12DE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3B401-A575-4009-A0D0-BA94CB7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61151-6EA4-4321-8F99-D08712EC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597B9-8DAF-42DC-A274-F341F561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CEC9C-FF72-4B12-81B0-34022C1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BC33C-228C-4666-A094-74DCEFA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4303D-339B-466F-AA31-266728B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95042-0AC7-45AA-8787-6232B2A6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59D-63A0-4818-AE94-1FDC896F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86ECA-690D-497F-90AA-FB8A29B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06E4F-D555-4131-AEFE-34E6877B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2FFAA-23ED-4DD4-AC35-3EA051F6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C6493-277C-4BCF-B2AE-047408E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5F72F-3D96-41B0-A5B2-457F0D8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11FF5-DB48-4FF6-9CC0-9B660EB4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1D6E9-30EC-4460-81B1-61D44AD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05538-BFB2-4781-8EC0-8AA2CDD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E6A70-AEFC-4AAF-B128-527D09C7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B5146-778F-4037-86FA-006B212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FCC-1D3E-4617-B394-12569AD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56F4A-CDB3-40C0-B023-24D673F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E32B2-355D-4427-B130-248974B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3BF95-B48F-4FE5-9088-1AF2273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BC090-758D-4AC7-A276-C3D53F97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6B887-B208-4AE3-9561-B5053B0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25AB-A6CB-4517-ACE5-73D9AFE3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597B-DCC0-4141-B9A8-8E6D7C4D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1858-D525-41D3-A043-79E5301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D764-4342-46C2-AC4D-C0D1D9F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B2BF-B62F-46E4-84C9-D1C6B44B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565-A72B-4DF9-85D3-B2544D3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3647-2C13-4FD0-8287-E871499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7778C-7F3A-4ABA-88CB-143B0254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73B6D-32A3-43AF-8BFD-6B212FF9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25339-7B38-4855-9CD0-421F07A3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4DCF-D1A4-4D75-BBB2-002D9A3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709F3-B056-4743-A8EB-BC0216DB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91CAB-B307-4D3F-9C9E-7078D118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2A82-A9E5-408B-B513-9CF195F1A7C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16DF-7F14-4EF6-AD5D-3E79B864CF5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BDB-E477-4308-9A01-B891B5B27F4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A45-E91C-47AA-A850-90AFCD544DE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7AF0-1E72-49F6-8907-6081E177EE8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764-82E6-4F8E-8481-7E2859F3337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244-2F75-4B52-8940-A5CBB99B650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B2C7-F699-49C2-92B1-5E29783FC3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7"/>
          <p:cNvSpPr txBox="1"/>
          <p:nvPr/>
        </p:nvSpPr>
        <p:spPr>
          <a:xfrm rot="5400000">
            <a:off x="-325440" y="693360"/>
            <a:ext cx="172872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0920" y="4149720"/>
            <a:ext cx="868032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400" name="Прямоугольник 1"/>
          <p:cNvSpPr/>
          <p:nvPr/>
        </p:nvSpPr>
        <p:spPr>
          <a:xfrm>
            <a:off x="755640" y="21099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емы работы с тексто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 подготовке к устному собеседов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РИТЕРИИ ОЦЕНИВАНИЯ ВЫПОЛНЕНИЯ ЗАДАНИЙ УСТНОЙ ЧА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ЗАДАНИЕ 1.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ЧТЕНИЕ ТЕКСТА ВСЛУХ</a:t>
            </a: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24000" y="1484280"/>
          <a:ext cx="8640720" cy="4213080"/>
        </p:xfrm>
        <a:graphic>
          <a:graphicData uri="http://schemas.openxmlformats.org/drawingml/2006/table">
            <a:tbl>
              <a:tblPr/>
              <a:tblGrid>
                <a:gridCol w="3193920"/>
                <a:gridCol w="3933720"/>
                <a:gridCol w="1513080"/>
              </a:tblGrid>
              <a:tr h="35892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ритерии оценивания чтения вслу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 row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 соответствует пунктуационному оформлению текс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тонация не соответствует пунктуационному оформлению текс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 rowSpan="2">
                  <a:txBody>
                    <a:bodyPr lIns="41760" rIns="41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соответствует коммуникативной задач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п чтения не соответствует коммуникативной задач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 gridSpan="2">
                  <a:txBody>
                    <a:bodyPr lIns="41760" rIns="4176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ксимальное количество баллов за всё зад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ИНТОНАЦИЯ КАК СРЕДСТВО ВЫРАЖЕНИЯ ЭМОЦИОНАЛЬНО НАСЫЩЕННОЙ МЫСЛ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Логическое ударение      Мелодика         Паузы             Темп ре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вествовательное предложение (.) : понижение голоса к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просительное предложение(?): повышение голоса на вопросительном слове,  понижение к 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склицание(!): повышение голоса к концу предло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ЛОГИЧЕСКОЕ УДАРЕ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1. Логическое ударение, как правило, ставится на именах существительных и иногда на глаголах (обычно стоит в конце фразы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2. Логическое ударение нельзя ставить на прилагательных и местоимениях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3. Закон сопоставлений является перекрывающим законом, снимающим эти правил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Маше нравится 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еть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, а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танцевать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 Лене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равится, а 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тебе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4. При сочетании двух существительных ударение всегда падает на имя существительное в родительном падеже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Это крик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ов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5. Перечисления во всех случаях требуют на каждом слове самостоятельного ударен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НАПРИМЕР: Но что теперь во мне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кипит, волнует, бесит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КОММУНИКАТИВНЫЕ ЗАДАЧ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7280" y="90756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9280" y="907920"/>
          <a:ext cx="8964720" cy="5999400"/>
        </p:xfrm>
        <a:graphic>
          <a:graphicData uri="http://schemas.openxmlformats.org/drawingml/2006/table">
            <a:tbl>
              <a:tblPr/>
              <a:tblGrid>
                <a:gridCol w="3529080"/>
                <a:gridCol w="5435640"/>
              </a:tblGrid>
              <a:tr h="237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дание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ение текста вслух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ознанно и правильно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передать замысел автора  слушателям </a:t>
                      </a: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в соответствии с пунктуационными знаками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entury Schoolbook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дание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сказ прочитанного текста с привлечением дополнительной информаци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храни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 основные  микротемы исходного текста 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стно, логично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ключить в него во время пересказа приведённое высказыва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ЛГОРИТМ  ПОДГОТОВКИ К ВЫРАЗИТЕЛЬНОМУ ЧТЕНИЮ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8000" y="1341360"/>
            <a:ext cx="8856720" cy="51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нимательно прочитайте текст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определите тему, основную мысль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определите цель чтения (убедить слушателя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дчеркните слова со знаком ударения, имена, отчества, фамилии, сложные, длинные и незнакомые слов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авильно употребите числительные; географические назва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нимательно отнеситесь к знакам препинания, пауза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очитайте отрывок про себя, разделив предложения на смысловые отрезк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очитайте текст сначала шёпотом, а потом вслу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ПАРТИТУРА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Прямоугольник 2"/>
          <p:cNvSpPr/>
          <p:nvPr/>
        </p:nvSpPr>
        <p:spPr>
          <a:xfrm>
            <a:off x="179280" y="14176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 знак акцента над ударной гласно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еские пауз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| короткая (на один счет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|| на два счета (раз, два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||| на три счета (раз, два, три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еское ударение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е тон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жение тон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^ перелом интонаци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- - растягивание слова, либо замедление темпа произнесения какой-либо части текст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 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ыстрение темп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Прямая со стрелкой 4"/>
          <p:cNvCxnSpPr/>
          <p:nvPr/>
        </p:nvCxnSpPr>
        <p:spPr>
          <a:xfrm>
            <a:off x="312480" y="4149720"/>
            <a:ext cx="259560" cy="192960"/>
          </a:xfrm>
          <a:prstGeom prst="straightConnector1">
            <a:avLst/>
          </a:prstGeom>
          <a:ln w="1260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425" name="Прямая соединительная линия 7"/>
          <p:cNvSpPr/>
          <p:nvPr/>
        </p:nvSpPr>
        <p:spPr>
          <a:xfrm flipH="1">
            <a:off x="312480" y="3670200"/>
            <a:ext cx="258840" cy="2016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3"/>
          <p:cNvCxnSpPr/>
          <p:nvPr/>
        </p:nvCxnSpPr>
        <p:spPr>
          <a:xfrm>
            <a:off x="179280" y="5660640"/>
            <a:ext cx="393120" cy="1080"/>
          </a:xfrm>
          <a:prstGeom prst="straightConnector1">
            <a:avLst/>
          </a:prstGeom>
          <a:ln w="1260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ТО МНОГО ЧИТАЕТ, ТОТ МНОГО ЗНАЕТ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С КНИГОЙ ЖИТЬ – ВЕК НЕ ТУЖИТЬ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ЗАДАНИЕ: СОСТАВИТЬ ПАРТИТУРУ ПРЕДЛОЖЕНИЙ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ИНСЕРТ - ПОЗНАВАТЕЛЬНАЯ СИСТЕМА ДЛЯ ЭФФЕКТИВНОГО ЧТЕНИЯ И МЫШЛЕНИЯ.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V — Я ЭТО ЗНАЮ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+ — ЭТО НОВАЯ ИНФОРМАЦИЯ ДЛЯ МЕНЯ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— Я ДУМАЛ ПО-ДРУГОМУ, ЭТО ПРОТИВОРЕЧИТ ТОМУ, ЧТО Я ЗНАЛ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? — ЭТО МНЕ НЕПОНЯТНО, НУЖНЫ ОБЪЯСНЕНИЯ, УТОЧНЕ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0600" y="515880"/>
            <a:ext cx="87836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7f3f4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28800" y="714240"/>
          <a:ext cx="7143480" cy="535788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600"/>
              </a:tblGrid>
              <a:tr h="52884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90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омощи тезисов записываются термины и понятия, встречающиеся в тексте, которые уже были известн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Ф.Рылеев – организатор и руководитель восстания на Сенатской площади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ется вс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, что  стал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ест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текс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 «К временщику» была популярна в передовых кругах русского об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ютс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реч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Ф.Рылеев считал, что восстание приведет к смене государственного  строя в Росси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исляются непонятные моменты, те, что требуют уточнения или вопросы, возникшие по мере прочтения текст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ики отмечали «народность и благородные чувствования» дум Рылеев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ОСЛЕДОВАТЕЛЬНОСТЬ ПОДГОТОВКИ К ПЕРЕСКАЗУ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читать  текст и сформулировать его основную мысл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нумеровать количество абзацев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делить ключевые слова,  главную  мысль  каждой микротемы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становить смысловые отношения между частями текста и высказывание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сказать  текст, логично и уместно включив приведённое высказыв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900000" y="1695600"/>
            <a:ext cx="763272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Алгоритм построения текста-опис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накомиться с билет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цел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ить семантическое поле фотографии, опираясь на ключевые вопро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ить вопросы билета с ключевыми вопрос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ляем описание, опираясь на фразы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клиш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ОСОБЫ ЦИТИР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79280" y="981000"/>
          <a:ext cx="8785440" cy="4754520"/>
        </p:xfrm>
        <a:graphic>
          <a:graphicData uri="http://schemas.openxmlformats.org/drawingml/2006/table">
            <a:tbl>
              <a:tblPr/>
              <a:tblGrid>
                <a:gridCol w="2664000"/>
                <a:gridCol w="6121440"/>
              </a:tblGrid>
              <a:tr h="757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собы передачи чужой реч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ме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прямой речь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 своих воспоминаниях Н.А.Бестужев  писал: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е действия жизни Рылеева ознаменованы были печатью любви к отечеству»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косвенной речь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Н.А.Бестужев считал, что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все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йствия жизни Рылеева ознаменованы были печатью любви к отечеств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 с вводными словам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ловам Н.А.Бестужева, все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йствия жизни Рылеева ознаменованы были печатью любви к отечеству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Н.А.БЕСТУЖЕВ О К.Ф.РЫЛЕЕВ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Все действия жизни Рылеева ознаменованы были печатью любви к Отечеству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Всякая несправедливость, ложь, а тем более клевета, находили в нем жестокого противника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Он во всяком человеке видел благонамеренность, не подозревал обман и, обманутый, не переставал верить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ФОРМУЛИРУЕМ ОСНОВНЫЕ МЫСЛИ АБЗАЦЕ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.Ф.Рылеев – один из организаторов и руководителей восстания на Сенатской площа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нние поэтические произведения поэ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тира «К временщику» – выдающееся проявление гражданского муже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Народность и благородные чувствования…» дум К.Ф.Рылеев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6"/>
          <p:cNvSpPr txBox="1"/>
          <p:nvPr/>
        </p:nvSpPr>
        <p:spPr>
          <a:xfrm>
            <a:off x="1476360" y="4581360"/>
            <a:ext cx="6048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лагодарю за внимание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468360" y="765000"/>
          <a:ext cx="8137440" cy="561672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5080"/>
              </a:tblGrid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фотографирова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виде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образи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83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то, снимок, фотокарточка, кадр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ять, запечатлеть, зафиксирова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видать, уловить, ухватить, заметить, различить приметить, запримети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ссоздать, отразить, переда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106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разить, передать,  фото, кадр, снять, запечатлеть, увидать, уловить, снимок, фотокарточка, ухватить, заметить, приметить, различить, заприметить, воссоздать, зафиксироват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692280"/>
          <a:ext cx="7777080" cy="5472000"/>
        </p:xfrm>
        <a:graphic>
          <a:graphicData uri="http://schemas.openxmlformats.org/drawingml/2006/table">
            <a:tbl>
              <a:tblPr/>
              <a:tblGrid>
                <a:gridCol w="2666880"/>
                <a:gridCol w="511020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?(Что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мья, папа, доч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42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?(+атмосфера, настроение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сёлые , радостные, счастливые, (Одежда ) походная, свободная, удобная, легкая ,(атмосфера )дружественная, тёплая, доверительная, ( настроение  радужное, приподнятое, хорошее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ут, смеются, держатся за руки, разговаривают, возвращются с прогул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гда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тний день, солнечный день, выходно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де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есу, по лесной тропин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делает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село, радостн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чем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гуляться по лесу, отдохнуть в лесу, семейный отды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чему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чень дружная сем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826920" y="907920"/>
          <a:ext cx="7417080" cy="5256360"/>
        </p:xfrm>
        <a:graphic>
          <a:graphicData uri="http://schemas.openxmlformats.org/drawingml/2006/table">
            <a:tbl>
              <a:tblPr/>
              <a:tblGrid>
                <a:gridCol w="3179880"/>
                <a:gridCol w="423720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 билета: опишит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 алгоритм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773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юдей, изображённых на фотографии : как вы думаете, почему они так одеты;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?(Целое + части перечислить) Какой? Как(одеты)? Зачем (так оделись)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нятие людей, изображённых на фотограф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делает? Когда? Как  делает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тмосферу в этой семье;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чему(улыбаются)? Какая(атмосфера)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строение, которое вызывает у Вас эта фотографи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? (настроение) Почему? (такое настроени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684360" y="1052640"/>
            <a:ext cx="806436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струкции-помощники (клише) для описания фотограф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ступл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этом снимке изображен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Этот снимок - жанровая зарисовка, передающая сцену из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данной фотографии фотограф запечатлел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фотографии мы видим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Если внимательно посмотреть на фотографию, то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изобразил кульминационный момент событи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Основная ча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Цель фотографа 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создан настоящую картину(чего?)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запечатлел один из моментов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Всё внимание фотографа сосредоточено на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Фотограф поместил в центр снимка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Прямо перед нами изображены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На переднем плане привлекает внимание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Задний план снимка занимает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50"/>
              </a:spcBef>
              <a:spcAft>
                <a:spcPts val="150"/>
              </a:spcAft>
              <a:buClr>
                <a:srgbClr val="212529"/>
              </a:buClr>
              <a:buSzPct val="83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529"/>
                </a:solidFill>
                <a:latin typeface="Arial"/>
                <a:ea typeface="Times New Roman"/>
              </a:rPr>
              <a:t>Слева/справа от… виднеетс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42920" y="944640"/>
            <a:ext cx="6913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Я думаю, что на данной фотографии запечатлена (изображена) экскурсия группы учащихся в ……………… музей. Дети очень внимательно слушают экскурсовода, который ……….и ……….. На стеллажах ( …..), под стекло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представлены………………(документы, экспонаты, книги, предметы, фотографии …., и т.д. Я считаю, что это …… музей (вид музея), потому что……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2529"/>
                </a:solidFill>
                <a:latin typeface="Arial"/>
                <a:ea typeface="Times New Roman"/>
              </a:rPr>
              <a:t>Я посещал ……. музеи (музей )…… Больше всего мне понравилось (понравились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БАЗОВЫЕ УМЕНИЯ РАБОТЫ С ТЕКСТОМ В 5 КЛАСС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250920" y="162864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ладеть различными видами чт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мотровым, ознакомительным, изучающим, поисковы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Адекватно понимать содерж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читанных учебно-научных и художественных текстов различных функционально-смысловых типов речи (повествование, описание, рассуждение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но и письменно формулировать тему и главную мысль текст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улировать вопросы по содержанию текста и отвечать на ни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давать в устной и письменной форме содержание прочитанных учебно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ых и художественных текстов различных функционально-смысловых тип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стно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есказывать прочитанный или прослушанный текс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комендуемый объём текста для устного пересказа — 100–110 сл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комендуемый объём текста, предлагаемого обучающимся для чтения на уроках русского языка, — 200–250 сл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СОБЕННОСТИ ЗАДАНИЯ 1,2 (ЧТЕНИЕ ТЕКСТА ВСЛУХ И ПЕРЕСКАЗ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07760" y="141732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объём текста варьируется в пределах 170 – 180 слов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entury Schoolbook"/>
              </a:rPr>
              <a:t>контролируются навыки техники осмысленного чтения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: проверяется понимание экзаменуемым содержание читаемого, которое проявляется в оформлении фонетической стороны устной речи, темпе чтения, соответствии интонации знакам препинания  текста (пауза, словесное ударение, повышение-понижение громкости голоса),  соблюдении  орфоэпических и грамматических норм, отсутствии искажений слов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оверяются умения учащихся видеть и использовать при чтении графические символы, в частности знак ударения, который сопровождает имена собственные и термин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текст содержит сложную грамматическую единицу – имя числительное, которое представлено в цифровой  форме записи и использовано в одном из косвенных падежей, поэтому учащимся при чтении необходимо правильно его просклонять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500" spc="-1" strike="noStrike">
                <a:solidFill>
                  <a:srgbClr val="7598d9"/>
                </a:solidFill>
                <a:latin typeface="Century Schoolbook"/>
              </a:rPr>
              <a:t>Пересказать текст подробно, а также включить в него предложенное высказывани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598d9"/>
                </a:solidFill>
                <a:latin typeface="Century Schoolbook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и подготовке к заданию экзаменуемый должен определить, в какой части текста использование высказывания логично и уместно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ересказ и включённое в него задание должны составлять цельный текс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23:03:03Z</dcterms:created>
  <dc:creator>Галина</dc:creator>
  <dc:description/>
  <dc:language>en-US</dc:language>
  <cp:lastModifiedBy>User_2</cp:lastModifiedBy>
  <dcterms:modified xsi:type="dcterms:W3CDTF">2021-06-10T07:22:49Z</dcterms:modified>
  <cp:revision>142</cp:revision>
  <dc:subject>Административное право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250000000000010243100207f6000400038000</vt:lpwstr>
  </property>
</Properties>
</file>