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2A63-BA51-4B27-B2F4-05FFB86D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EAD3-247D-4394-9BE5-82E1B5B5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CDF2-6735-4CE3-B458-B59E64DB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A466-D930-4F87-8A91-81A1C1024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79E2-1977-4FBC-BA2B-C84DD7A3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9E2A-7421-4917-8852-EC7C584D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076E-029D-45D8-A7C7-37BF58A6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E314-FB32-4212-A4F4-2698900E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DB94-6394-4689-AE20-BB667EC1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2C4F-800C-41BF-8D0B-EE007D7B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B0CC-2E7D-435C-9E79-9DEC6610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2CE8-06DC-4EED-AEC6-F69876E4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F751-8169-43FF-9E5E-E4EDDB2044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f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857160"/>
            <a:ext cx="8640720" cy="17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Уровневые учебные задания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русскому языку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теме: «Глагол как часть реч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02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1428840" y="2928960"/>
            <a:ext cx="63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формирование знаний о том, что такое глагол, что он обознач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f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уровен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зна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42920" y="2143080"/>
            <a:ext cx="477504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горитм выполнения задани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Прочитайте предло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Найдите в них глаго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Подчеркните их двумя черт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Мокнут листья и цве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Веселая девочка бегает по дво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Сегодня убираемся в класс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105520" y="2071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ритер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цени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5»-0 ошибок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4»-1 ошиб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3»-2 ошибк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2»-3 ошибк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500040" y="1071720"/>
            <a:ext cx="8258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умений осуществлять деятельность по предложенному  правилу в учебн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f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уровен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роизвед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85840" y="2571840"/>
            <a:ext cx="507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лгоритм выполнения задания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Вниметльно прочитайте имена существительны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Подберите подходящие по смыслу глагол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Запишите получившиеся отве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юди 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езд 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ава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857920" y="25718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ритерии оцени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5»-0 ошибок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4»-1 ошиб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3»-2 ошибк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2»-3 ошибк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428760" y="1428840"/>
            <a:ext cx="835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умений самостоятельно воспроизводить полученные знания по теме «Глагол как часть реч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f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уровен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ним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56760" y="2500200"/>
            <a:ext cx="44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лгоритм выполнения задания №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Прочитайте существитель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Подберите к каждому существительному однокоренной глаго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Составьте одно предложение с любым глагол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Любовь, бег, рисунок, све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928760" y="25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итерии оцени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5»-0 ошибок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4»-1-2 ошибк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3»-3 ошибк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2»-4 ошибки и боле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428760" y="1428840"/>
            <a:ext cx="83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ршенствование знаний в практической деятельности о части речи «Глагол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f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 уровен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нение в знакомых услов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0560" y="2421000"/>
            <a:ext cx="44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лгоритм выполнения зада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Прочитайте глагол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Измените глаголы по вопрос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Определите число глагол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улять, петь, крича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Что делает?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Что сделают?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Что делаю?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857840" y="25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итерии оцени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5»-0 ошибок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4»-1-2 ошибк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3»-3-4 ошибк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2»-5 ошибок и боле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428760" y="1428840"/>
            <a:ext cx="871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ршенствование умений работать с частью речи, которая обозначает действие или состоя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7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 уровен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рименение в новых услов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85480" y="2643120"/>
            <a:ext cx="471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горитм выполнения зад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Запишите текст из 3 предлож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В каждом предложении запиши глаголы единственного числа женского р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105520" y="2786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итерии оцени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5»-0 ошибок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4»-1 ошиб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3»-2 ошибк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2»-3 ошибк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428760" y="1428840"/>
            <a:ext cx="871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ршенствовать умения применять полученные знания о глаголе на практике самостояте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f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852640"/>
            <a:ext cx="8785440" cy="236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 u="sng">
                <a:solidFill>
                  <a:srgbClr val="000000"/>
                </a:solidFill>
                <a:uFillTx/>
                <a:latin typeface="Calibri"/>
              </a:rPr>
              <a:t>Уровневые учебные задания помогают в:</a:t>
            </a:r>
            <a:br>
              <a:rPr sz="35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образовательном процессе в условиях дистанционного обучения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осуществлении дифференцированного подхода в обучении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выявлении знаний по теме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создании для ученика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ситуации успеха»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развитии логического мышления и творческих способностей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прогнозировании результата обучения.</a:t>
            </a:r>
            <a:br>
              <a:rPr sz="3600"/>
            </a:b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6-06T20:04:02Z</dcterms:created>
  <dc:creator>user</dc:creator>
  <dc:description/>
  <dc:language>en-US</dc:language>
  <cp:lastModifiedBy>Юля</cp:lastModifiedBy>
  <dcterms:modified xsi:type="dcterms:W3CDTF">2021-06-10T06:49:21Z</dcterms:modified>
  <cp:revision>21</cp:revision>
  <dc:subject/>
  <dc:title>Уровневые задания по математике по теме: «Числовые выражения»</dc:title>
</cp:coreProperties>
</file>