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EA7-8D93-44BB-B10C-D9DA2465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2F7-CC58-4D91-A77C-33EA6041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AC0-B1A7-4AE0-9154-EFAEB650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9C4-392C-4751-B888-69184C5C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5B1-3880-48A6-93C7-5901C2E6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B89-EAC9-4DB4-AF8C-B8562C28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3BF-C0E1-4517-BB0A-9E40917B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38C-F185-42D1-A35A-9B53D5DE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F4F-256B-40DE-A795-FA3502C8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981-CEC2-4B2A-AA5B-272A8384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745-7735-451F-B9D0-5BCDAE7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B65-A330-479C-9392-EFED4CE5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2F0D-12FF-412B-A0F4-1A132130C0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857160"/>
            <a:ext cx="8640720" cy="17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Уровневые учебные задани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русскому языку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теме: «Глагол как часть реч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02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428840" y="292896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формирование знаний о том, что такое глагол, что он обознач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2920" y="2143080"/>
            <a:ext cx="477504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выполнения задан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Прочитайте предло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Найдите в них глаг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Подчеркните их двумя черт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Мокнут листья и цве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Веселая девочка бегает по дво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Сегодня убираемся в клас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105520" y="2071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и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и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5»-0 ошибок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4»-1 ошиб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3»-2 ошиб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2»-3 ошиб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500040" y="1071720"/>
            <a:ext cx="825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й осуществлять деятельность по предложенному  правилу в учеб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оизве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5840" y="2571840"/>
            <a:ext cx="507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горитм выполнения задани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Вниметльно прочитайте имена существительны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Подберите подходящие по смыслу глаго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Запишите получившиеся отве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ди 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езд 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ава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857920" y="2571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итерии оцени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5»-0 ошибок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4»-1 ошиб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3»-2 ошиб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2»-3 ошиб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28760" y="142884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й самостоятельно воспроизводить полученные знания по теме «Глагол как часть реч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6760" y="250020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горитм выполнения задания №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Прочитайте существ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Подберите к каждому существительному однокоренной глаг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Составьте одно предложение с любым глагол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Любовь, бег, рисунок, св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928760" y="25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и оцени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5»-0 ошибок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4»-1-2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3»-3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2»-4 ошибки и боле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428760" y="142884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знаний в практической деятельности о части речи «Глаго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ение в знаком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560" y="242100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горитм выполнения зад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Прочитайте глаго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Измените глаголы по вопрос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Определите число глагол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улять, петь, крич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Что делает?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Что сделают?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Что делаю?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7840" y="25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и оцени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5»-0 ошибок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4»-1-2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3»-3-4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2»-5 ошибок и боле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428760" y="1428840"/>
            <a:ext cx="871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умений работать с частью речи, которая обозначает действие или с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именение в нов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480" y="2643120"/>
            <a:ext cx="471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выполнения зад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Запишите текст из 3 предлож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В каждом предложении запиши глаголы единственного числа женского 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105520" y="2786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и оцени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5»-0 ошибок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4»-1 ошиб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3»-2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2»-3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428760" y="1428840"/>
            <a:ext cx="871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ть умения применять полученные знания о глаголе на практике самостояте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852640"/>
            <a:ext cx="8785440" cy="23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0000"/>
                </a:solidFill>
                <a:uFillTx/>
                <a:latin typeface="Calibri"/>
              </a:rPr>
              <a:t>Уровневые учебные задания помогают в:</a:t>
            </a:r>
            <a:br>
              <a:rPr sz="35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образовательном процессе в условиях дистанционного обучения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осуществлении дифференцированного подхода в обучении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выявлении знаний по теме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создании для ученик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ситуации успеха»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развитии логического мышления и творческих способностей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прогнозировании результата обучения.</a:t>
            </a: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6-06T20:04:02Z</dcterms:created>
  <dc:creator>user</dc:creator>
  <dc:description/>
  <dc:language>en-US</dc:language>
  <cp:lastModifiedBy>Юля</cp:lastModifiedBy>
  <dcterms:modified xsi:type="dcterms:W3CDTF">2021-06-10T06:49:21Z</dcterms:modified>
  <cp:revision>21</cp:revision>
  <dc:subject/>
  <dc:title>Уровневые задания по математике по теме: «Числовые выражения»</dc:title>
</cp:coreProperties>
</file>