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gif" ContentType="image/gif"/>
  <Override PartName="/ppt/media/image27.png" ContentType="image/png"/>
  <Override PartName="/ppt/media/image4.gif" ContentType="image/gif"/>
  <Override PartName="/ppt/media/image26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0.gif" ContentType="image/gif"/>
  <Override PartName="/ppt/media/image11.gif" ContentType="image/gif"/>
  <Override PartName="/ppt/media/image3.jpeg" ContentType="image/jpeg"/>
  <Override PartName="/ppt/media/image12.gif" ContentType="image/gif"/>
  <Override PartName="/ppt/media/image24.jpeg" ContentType="image/jpeg"/>
  <Override PartName="/ppt/media/image13.gif" ContentType="image/gif"/>
  <Override PartName="/ppt/media/image31.gif" ContentType="image/gif"/>
  <Override PartName="/ppt/media/image34.png" ContentType="image/png"/>
  <Override PartName="/ppt/media/image32.jpeg" ContentType="image/jpeg"/>
  <Override PartName="/ppt/media/image33.gif" ContentType="image/gif"/>
  <Override PartName="/ppt/media/image18.jpeg" ContentType="image/jpeg"/>
  <Override PartName="/ppt/media/image30.gif" ContentType="image/gif"/>
  <Override PartName="/ppt/media/image7.jpeg" ContentType="image/jpeg"/>
  <Override PartName="/ppt/media/image15.gif" ContentType="image/gif"/>
  <Override PartName="/ppt/media/image6.jpeg" ContentType="image/jpeg"/>
  <Override PartName="/ppt/media/image1.jpeg" ContentType="image/jpeg"/>
  <Override PartName="/ppt/media/image22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6.gif" ContentType="image/gif"/>
  <Override PartName="/ppt/media/image17.gif" ContentType="image/gif"/>
  <Override PartName="/ppt/media/image14.png" ContentType="image/png"/>
  <Override PartName="/ppt/media/image21.gif" ContentType="image/gif"/>
  <Override PartName="/ppt/media/image19.jpeg" ContentType="image/jpe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25C-B8D6-46D8-9799-4A3A8C8E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BE2-3094-45E9-9C4D-CF64A385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511-6B27-4029-AECF-2A69444A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E11-4C88-453F-BC7B-B26A9830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7DE12-895D-40D8-B61C-317E7ABD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009CB-0A5B-4DB1-8373-0CD7A0D1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2CEAB-06DC-4EA0-95B1-8372133F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25E4B-62B3-46D6-9F09-04E44272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A4216-6270-44B0-A3C2-2FF1A92E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E67E3-D4EA-450C-A87B-A637EAF7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A6B05-D668-4636-9251-85B4307D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F1F-2F30-4E29-B49A-D9114804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FB748-FFAD-44D5-8ECF-E08902A7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58DDF-1B04-49FA-8839-F8E7A30D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F7025-EBFF-405A-9982-C909D235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6B305-DA02-464C-966A-09F8D088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B1E62-949D-40D5-98D4-3C9AA0FB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0E1B-3395-41F0-A27A-58D16DB4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0FBBC-7BE4-484C-AB6F-2C04A5B7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95C34-2FED-46FF-8FF9-2A0B23FE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37F21-A1C8-4404-A175-733A10CC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9E16-9E1B-48BB-AC43-E99A7C96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A27-4A32-4F16-B9DB-BBBE6632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8464-0C29-405E-96AA-DF1D125B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7F39-A7A0-4C1A-AEEE-7502E720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3E8EF-019D-499B-88BA-604AA43B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65519-65BA-42A1-B90A-2959A370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42EE4-B78C-4F87-922B-F46CC294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8B265-EF57-4B8B-9967-CCCED7FB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D3F65-EBF6-41ED-9364-4B7F1AE6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1AB3B-FB6F-49F6-A053-8B4BB8DB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9195E-67E4-4B33-970F-383255F3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7DBBE-C1DB-476F-BD34-D2D6F94A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C8E-1D9C-446F-ACDB-C5F62E5C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259F3-BA08-4730-883D-06C25E64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12667-F853-41C2-8C4D-153CA7A2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DD464-775C-40CD-ABCF-82095789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5E8BF-F637-4284-A346-0255DE71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6BECC-3D3A-4360-8CB6-D94A4B95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90453-6C00-4B2A-9781-7F7C3D2A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B69D0-183E-4E43-BAE3-76CBE127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1B3FA-FB40-4AC6-826C-29B38B3D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8E65F-A9A0-45D4-8C9E-632C962C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DA43-8677-4FF8-B919-9D10AF23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478-2003-4903-A171-C99E79F2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4D5-2984-4731-A192-F33D2EB2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A97-D86B-48CD-8C76-19B06076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7B3-966B-4F52-A63B-6572DAFE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9BB3-50C8-48DC-93FE-ADE5AA892CD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рсёнова Елена Анато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45E3-C0C2-4741-8EE2-93F19A55370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DCEB-BE99-429B-8903-E6C29C9D773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6E73-F9F4-4155-93E1-5FD7434119DE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CC60-ECC2-44A2-A33D-02413978A27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hyperlink" Target="http://penza.fio.ru/personal/25/2/4/tri.htm" TargetMode="External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" Target="slide1.xml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Урок русского языка в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6 «Б»клас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d0bed0bbd0b8d0bcd0bfd0b8d0b0d0b4d18b"/>
          <p:cNvPicPr/>
          <p:nvPr/>
        </p:nvPicPr>
        <p:blipFill>
          <a:blip r:embed="rId1"/>
          <a:stretch/>
        </p:blipFill>
        <p:spPr>
          <a:xfrm>
            <a:off x="285840" y="1285920"/>
            <a:ext cx="6143400" cy="45003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2000160" y="607212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Цопанова З. 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215560" cy="1071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9360">
            <a:solidFill>
              <a:srgbClr val="c6d9f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Числительные в литературных сказка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000160" y="1285920"/>
            <a:ext cx="6491520" cy="49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И на пир веселый т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Царь одиннадцать зов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Чародеек молодых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Было ж всех двенадцать их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Но двенадцатой одно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Хромоногой, старой зло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Царь на праздник не позв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Там лес и дол видений пол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Там о заре прихлынут вол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На брег песчаный и пуст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И тридцать витязей прекрас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Чредой из вод выходят ясных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И с ними дядька их морской</a:t>
            </a:r>
            <a:r>
              <a:rPr b="1" lang="ru-RU" sz="1800" spc="-1" strike="noStrike">
                <a:solidFill>
                  <a:srgbClr val="66ffcc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5" descr="dis18"/>
          <p:cNvPicPr/>
          <p:nvPr/>
        </p:nvPicPr>
        <p:blipFill>
          <a:blip r:embed="rId1"/>
          <a:stretch/>
        </p:blipFill>
        <p:spPr>
          <a:xfrm>
            <a:off x="6659640" y="2205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home41"/>
          <p:cNvPicPr/>
          <p:nvPr/>
        </p:nvPicPr>
        <p:blipFill>
          <a:blip r:embed="rId2"/>
          <a:stretch/>
        </p:blipFill>
        <p:spPr>
          <a:xfrm>
            <a:off x="250920" y="3645000"/>
            <a:ext cx="1511280" cy="1871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3f7ac9f158b9"/>
          <p:cNvPicPr/>
          <p:nvPr/>
        </p:nvPicPr>
        <p:blipFill>
          <a:blip r:embed="rId3"/>
          <a:stretch/>
        </p:blipFill>
        <p:spPr>
          <a:xfrm>
            <a:off x="0" y="2349360"/>
            <a:ext cx="1047600" cy="1105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3f7ac9f158b9"/>
          <p:cNvPicPr/>
          <p:nvPr/>
        </p:nvPicPr>
        <p:blipFill>
          <a:blip r:embed="rId4"/>
          <a:stretch/>
        </p:blipFill>
        <p:spPr>
          <a:xfrm>
            <a:off x="971640" y="2565360"/>
            <a:ext cx="1047600" cy="1104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b11"/>
          <p:cNvPicPr/>
          <p:nvPr/>
        </p:nvPicPr>
        <p:blipFill>
          <a:blip r:embed="rId5"/>
          <a:stretch/>
        </p:blipFill>
        <p:spPr>
          <a:xfrm>
            <a:off x="0" y="573408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b11"/>
          <p:cNvPicPr/>
          <p:nvPr/>
        </p:nvPicPr>
        <p:blipFill>
          <a:blip r:embed="rId6"/>
          <a:stretch/>
        </p:blipFill>
        <p:spPr>
          <a:xfrm>
            <a:off x="1187280" y="5805360"/>
            <a:ext cx="838440" cy="87660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9"/>
          <p:cNvSpPr/>
          <p:nvPr/>
        </p:nvSpPr>
        <p:spPr>
          <a:xfrm>
            <a:off x="2071800" y="3643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.А.Жуковский «Спящая царев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1"/>
          <p:cNvSpPr/>
          <p:nvPr/>
        </p:nvSpPr>
        <p:spPr>
          <a:xfrm>
            <a:off x="2232000" y="621504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А.С.Пушкин «Руслан и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6072480" cy="6000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56326"/>
          <p:cNvPicPr/>
          <p:nvPr/>
        </p:nvPicPr>
        <p:blipFill>
          <a:blip r:embed="rId2"/>
          <a:stretch/>
        </p:blipFill>
        <p:spPr>
          <a:xfrm>
            <a:off x="7286760" y="3000240"/>
            <a:ext cx="1368360" cy="244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ardva"/>
          <p:cNvPicPr/>
          <p:nvPr/>
        </p:nvPicPr>
        <p:blipFill>
          <a:blip r:embed="rId3"/>
          <a:stretch/>
        </p:blipFill>
        <p:spPr>
          <a:xfrm>
            <a:off x="7215120" y="214200"/>
            <a:ext cx="1525680" cy="1214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artr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5286240"/>
            <a:ext cx="136836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Миллион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Это слово придумал знаменитый итальянец, путешественник, венецианский купец Марко Пол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Содержимое 3" descr="marcopolo.jpg"/>
          <p:cNvPicPr/>
          <p:nvPr/>
        </p:nvPicPr>
        <p:blipFill>
          <a:blip r:embed="rId1"/>
          <a:stretch/>
        </p:blipFill>
        <p:spPr>
          <a:xfrm>
            <a:off x="1338120" y="2286000"/>
            <a:ext cx="644868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-360" y="142920"/>
            <a:ext cx="37861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сетив в XIII веке Китай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н был восхищён богатствами этой стра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ссказывая об увиденном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н восклицал: "Миллионе!"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Содержимое 6" descr="china1.jpg"/>
          <p:cNvPicPr/>
          <p:nvPr/>
        </p:nvPicPr>
        <p:blipFill>
          <a:blip r:embed="rId1"/>
          <a:stretch/>
        </p:blipFill>
        <p:spPr>
          <a:xfrm>
            <a:off x="3786120" y="357120"/>
            <a:ext cx="521496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Милл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» по-итальянски «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тысяч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»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-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он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» – что наш суффикс «-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ищ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». Мильоне – тысяча тысяч, тысяч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ищ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, огромная тысяч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спомнит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русском языке есть слов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руч</a:t>
            </a: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ищ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ом</a:t>
            </a: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ищ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чуд</a:t>
            </a: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ищ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е и т.п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Comic Sans MS"/>
              </a:rPr>
              <a:t>ЗАПОМНИ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ди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Н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дц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и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ЛЛ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о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и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ЛЛ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а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Мои документы\Аттестация\картинки\resBAD24023-0A01-00EE-0106-DF95F4BA5939.gif"/>
          <p:cNvPicPr/>
          <p:nvPr/>
        </p:nvPicPr>
        <p:blipFill>
          <a:blip r:embed="rId1"/>
          <a:stretch/>
        </p:blipFill>
        <p:spPr>
          <a:xfrm>
            <a:off x="5643720" y="300024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" descr="C:\Documents and Settings\Учитель\Рабочий стол\вскл. знак 2.gif"/>
          <p:cNvPicPr/>
          <p:nvPr/>
        </p:nvPicPr>
        <p:blipFill>
          <a:blip r:embed="rId2"/>
          <a:stretch/>
        </p:blipFill>
        <p:spPr>
          <a:xfrm>
            <a:off x="684360" y="182520"/>
            <a:ext cx="838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Users\123\Desktop\семья.jpg"/>
          <p:cNvPicPr/>
          <p:nvPr/>
        </p:nvPicPr>
        <p:blipFill>
          <a:blip r:embed="rId1"/>
          <a:stretch/>
        </p:blipFill>
        <p:spPr>
          <a:xfrm>
            <a:off x="2000160" y="1428840"/>
            <a:ext cx="5375520" cy="327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C:\Users\123\Desktop\подвал.jpg"/>
          <p:cNvPicPr/>
          <p:nvPr/>
        </p:nvPicPr>
        <p:blipFill>
          <a:blip r:embed="rId2"/>
          <a:stretch/>
        </p:blipFill>
        <p:spPr>
          <a:xfrm>
            <a:off x="1000080" y="1428840"/>
            <a:ext cx="7378920" cy="3286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Users\123\Desktop\стоянка.jpg"/>
          <p:cNvPicPr/>
          <p:nvPr/>
        </p:nvPicPr>
        <p:blipFill>
          <a:blip r:embed="rId3"/>
          <a:stretch/>
        </p:blipFill>
        <p:spPr>
          <a:xfrm>
            <a:off x="1071720" y="1428840"/>
            <a:ext cx="7286400" cy="3143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C:\Users\123\Desktop\одиночка.png"/>
          <p:cNvPicPr/>
          <p:nvPr/>
        </p:nvPicPr>
        <p:blipFill>
          <a:blip r:embed="rId4"/>
          <a:stretch/>
        </p:blipFill>
        <p:spPr>
          <a:xfrm>
            <a:off x="714240" y="1214280"/>
            <a:ext cx="7858440" cy="3643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C:\Users\123\Desktop\сорока.jpg"/>
          <p:cNvPicPr/>
          <p:nvPr/>
        </p:nvPicPr>
        <p:blipFill>
          <a:blip r:embed="rId5"/>
          <a:srcRect l="0" t="45002" r="8750" b="22047"/>
          <a:stretch/>
        </p:blipFill>
        <p:spPr>
          <a:xfrm>
            <a:off x="1000080" y="1428840"/>
            <a:ext cx="7358040" cy="3214440"/>
          </a:xfrm>
          <a:prstGeom prst="rect">
            <a:avLst/>
          </a:prstGeom>
          <a:ln w="0">
            <a:noFill/>
          </a:ln>
        </p:spPr>
      </p:pic>
      <p:sp>
        <p:nvSpPr>
          <p:cNvPr id="213" name="Заголовок 1"/>
          <p:cNvSpPr/>
          <p:nvPr/>
        </p:nvSpPr>
        <p:spPr>
          <a:xfrm>
            <a:off x="1000080" y="357120"/>
            <a:ext cx="79534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азгадай 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Управляющая кнопка: домой 9">
            <a:hlinkClick r:id="rId6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3837"/>
                </a:moveTo>
                <a:lnTo>
                  <a:pt x="18001" y="6448"/>
                </a:ln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4" y="10800"/>
                </a:lnTo>
                <a:lnTo>
                  <a:pt x="20734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9" h="21600">
                <a:moveTo>
                  <a:pt x="18001" y="6448"/>
                </a:move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9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4" y="17989"/>
                </a:lnTo>
                <a:lnTo>
                  <a:pt x="20734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604a7b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одзаголовок 4"/>
          <p:cNvSpPr/>
          <p:nvPr/>
        </p:nvSpPr>
        <p:spPr>
          <a:xfrm>
            <a:off x="928800" y="1428840"/>
            <a:ext cx="7572240" cy="3214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7632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СМОР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одзаголовок 4"/>
          <p:cNvSpPr/>
          <p:nvPr/>
        </p:nvSpPr>
        <p:spPr>
          <a:xfrm>
            <a:off x="928800" y="1428840"/>
            <a:ext cx="7572240" cy="3214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ЭЛЕК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одзаголовок 4"/>
          <p:cNvSpPr/>
          <p:nvPr/>
        </p:nvSpPr>
        <p:spPr>
          <a:xfrm>
            <a:off x="928800" y="1428840"/>
            <a:ext cx="7572240" cy="3214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7632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ВИ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одзаголовок 4"/>
          <p:cNvSpPr/>
          <p:nvPr/>
        </p:nvSpPr>
        <p:spPr>
          <a:xfrm>
            <a:off x="857160" y="1428840"/>
            <a:ext cx="7572600" cy="3286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ПИ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ЛЕ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14" descr=""/>
          <p:cNvPicPr/>
          <p:nvPr/>
        </p:nvPicPr>
        <p:blipFill>
          <a:blip r:embed="rId7"/>
          <a:stretch/>
        </p:blipFill>
        <p:spPr>
          <a:xfrm>
            <a:off x="142920" y="4786200"/>
            <a:ext cx="2357280" cy="18576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7200" y="1800"/>
            <a:ext cx="49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Отдыхаем с пользой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484360" y="4005360"/>
            <a:ext cx="6870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441360" y="0"/>
            <a:ext cx="72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Ь после шипя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800080"/>
                </a:solidFill>
                <a:uFillTx/>
                <a:latin typeface="Arial"/>
              </a:rPr>
              <a:t>п и ш 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289080" y="1219320"/>
            <a:ext cx="885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лаголах: стереч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ш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, войдеш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в существительных 3-его склонения: мыш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3490920" y="53028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28600" y="266688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уществительных 1-ого и 2-ого скло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щ, 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ратких прилагательных: могу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уквосочетан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чк 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по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чк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              нч 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ко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нч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чн 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сро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чн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о           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нщ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же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нщ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чт 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ма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чт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а              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рщ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спо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рщ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щн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мо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щн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2666880" y="2133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800080"/>
                </a:solidFill>
                <a:uFillTx/>
                <a:latin typeface="Arial"/>
              </a:rPr>
              <a:t>н е   п и ш у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505320" y="15238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-   = -          =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0" y="342900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365040" y="34290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819520" y="3962520"/>
            <a:ext cx="4724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=                      ==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=                     =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=                         =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49636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Monotype Corsiva"/>
              </a:rPr>
              <a:t>Мягкий знак  </a:t>
            </a:r>
            <a:br>
              <a:rPr sz="5400"/>
            </a:br>
            <a:r>
              <a:rPr b="1" lang="ru-RU" sz="5400" spc="-1" strike="noStrike">
                <a:solidFill>
                  <a:srgbClr val="4f6228"/>
                </a:solidFill>
                <a:latin typeface="Monotype Corsiva"/>
              </a:rPr>
              <a:t>в середине и на конце числительных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10" descr="C:\Users\uzer\Desktop\гиф\бабочки.gif"/>
          <p:cNvPicPr/>
          <p:nvPr/>
        </p:nvPicPr>
        <p:blipFill>
          <a:blip r:embed="rId1"/>
          <a:stretch/>
        </p:blipFill>
        <p:spPr>
          <a:xfrm>
            <a:off x="7308720" y="0"/>
            <a:ext cx="1462320" cy="1368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0006-001-Lingvisticheskaja-zadacha"/>
          <p:cNvPicPr/>
          <p:nvPr/>
        </p:nvPicPr>
        <p:blipFill>
          <a:blip r:embed="rId2"/>
          <a:stretch/>
        </p:blipFill>
        <p:spPr>
          <a:xfrm>
            <a:off x="5715000" y="3643200"/>
            <a:ext cx="3110040" cy="2873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Рисунок1"/>
          <p:cNvPicPr/>
          <p:nvPr/>
        </p:nvPicPr>
        <p:blipFill>
          <a:blip r:embed="rId3"/>
          <a:stretch/>
        </p:blipFill>
        <p:spPr>
          <a:xfrm>
            <a:off x="1000080" y="47862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0" y="49968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) П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шес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с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вос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дев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дес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) один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две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три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ь, че-тыр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пят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шест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сем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восем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девят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три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) п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есят, шес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есят, с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есят, вос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еся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4) п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т, шес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т, с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т, вос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т, дев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т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428760" y="857160"/>
            <a:ext cx="4786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елый рез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(щ,ч)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к 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Ч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(и,е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та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(З,с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р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ж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 Ко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л,л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есо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Выб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е,и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ешь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Весело улыбае 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т,ть)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Свеж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е,о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 вет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Паралле 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л,лл)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. Свист солов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ь,ъ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 Ю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нн,н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 ге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. Плохой роз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и,ы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ы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. Сп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и,е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ил на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468360" y="214200"/>
            <a:ext cx="81043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ЫПОЛНИТЬ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"/>
          <p:cNvSpPr/>
          <p:nvPr/>
        </p:nvSpPr>
        <p:spPr>
          <a:xfrm>
            <a:off x="304920" y="1752480"/>
            <a:ext cx="4038480" cy="4876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4876920"/>
              <a:gd name="textAreaBottom" fmla="*/ 4680000 h 4876920"/>
            </a:gdLst>
            <a:ahLst/>
            <a:rect l="textAreaLeft" t="textAreaTop" r="textAreaRight" b="textAreaBottom"/>
            <a:pathLst>
              <a:path w="21600" h="26084">
                <a:moveTo>
                  <a:pt x="3600" y="0"/>
                </a:moveTo>
                <a:arcTo wR="3600" hR="3600" stAng="16200000" swAng="-5400000"/>
                <a:lnTo>
                  <a:pt x="0" y="22484"/>
                </a:lnTo>
                <a:arcTo wR="3600" hR="3600" stAng="10800000" swAng="-5400000"/>
                <a:lnTo>
                  <a:pt x="18000" y="26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4714920" y="1785960"/>
            <a:ext cx="4038480" cy="472428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4724280"/>
              <a:gd name="textAreaBottom" fmla="*/ 4527360 h 4724280"/>
            </a:gdLst>
            <a:ahLst/>
            <a:rect l="textAreaLeft" t="textAreaTop" r="textAreaRight" b="textAreaBottom"/>
            <a:pathLst>
              <a:path w="21600" h="25268">
                <a:moveTo>
                  <a:pt x="3600" y="0"/>
                </a:moveTo>
                <a:arcTo wR="3600" hR="3600" stAng="16200000" swAng="-5400000"/>
                <a:lnTo>
                  <a:pt x="0" y="21668"/>
                </a:lnTo>
                <a:arcTo wR="3600" hR="3600" stAng="10800000" swAng="-5400000"/>
                <a:lnTo>
                  <a:pt x="18000" y="252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28760" y="1357200"/>
            <a:ext cx="37573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ко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5-20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, 30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ят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шестнадцат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адцат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ридцат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58400" y="-41400"/>
            <a:ext cx="754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omic Sans MS"/>
              </a:rPr>
              <a:t>Правописание Ь в имена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omic Sans MS"/>
              </a:rPr>
              <a:t>числи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4643280" y="1428840"/>
            <a:ext cx="420696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ере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50-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00-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9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ят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ся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сем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2"/>
          <p:cNvSpPr/>
          <p:nvPr/>
        </p:nvSpPr>
        <p:spPr>
          <a:xfrm>
            <a:off x="1571760" y="0"/>
            <a:ext cx="6324480" cy="2362320"/>
          </a:xfrm>
          <a:prstGeom prst="cloudCallout">
            <a:avLst>
              <a:gd name="adj1" fmla="val -64759"/>
              <a:gd name="adj2" fmla="val 39046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538360" y="228600"/>
            <a:ext cx="46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подсказ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214720" y="2000160"/>
            <a:ext cx="507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для числ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. п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0" y="3286080"/>
            <a:ext cx="9144000" cy="2964960"/>
          </a:xfrm>
          <a:prstGeom prst="rect">
            <a:avLst/>
          </a:prstGeom>
          <a:solidFill>
            <a:srgbClr val="ffffff"/>
          </a:solidFill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На конце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Ь 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                 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Нет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Ь 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                                            </a:t>
            </a: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конце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в середине                 </a:t>
            </a:r>
            <a:r>
              <a:rPr b="0" lang="ru-RU" sz="4400" spc="-1" strike="noStrike" u="sng">
                <a:solidFill>
                  <a:srgbClr val="c00000"/>
                </a:solidFill>
                <a:uFillTx/>
                <a:latin typeface="Arial"/>
              </a:rPr>
              <a:t>пиш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ru-RU" sz="4400" spc="-1" strike="noStrike" u="sng">
                <a:solidFill>
                  <a:srgbClr val="c00000"/>
                </a:solidFill>
                <a:uFillTx/>
                <a:latin typeface="Arial"/>
              </a:rPr>
              <a:t>не пиши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.                  в </a:t>
            </a:r>
            <a:r>
              <a:rPr b="0" lang="ru-RU" sz="4000" spc="-1" strike="noStrike">
                <a:solidFill>
                  <a:srgbClr val="800080"/>
                </a:solidFill>
                <a:latin typeface="Arial"/>
              </a:rPr>
              <a:t>середине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250920" y="617400"/>
          <a:ext cx="8105760" cy="5907240"/>
        </p:xfrm>
        <a:graphic>
          <a:graphicData uri="http://schemas.openxmlformats.org/drawingml/2006/table">
            <a:tbl>
              <a:tblPr/>
              <a:tblGrid>
                <a:gridCol w="2724120"/>
                <a:gridCol w="2614680"/>
                <a:gridCol w="2766960"/>
              </a:tblGrid>
              <a:tr h="35100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Calibri"/>
                        </a:rPr>
                        <a:t>Заполнить таблиц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Без 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Восем…с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Шест…деся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Пят…надца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Шест…надца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Восем…деся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Сем…с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Сем…надц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Сем…деся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Девят…с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285840" y="-250560"/>
            <a:ext cx="82152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Вставьте пропущенные букв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варищи одноклассники! В этом мес.це наш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естой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Б» класс добился огромных успехов. Мы зав..евал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ерво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есто в соревновании с шестым «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лассом за лучшую усп..ваемость и лучшее пов..дение. В этом мес..це нами получен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о пят.десят сем.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о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на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ве двой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еньше, чем в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естом «В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классе. Количество окон, разбитых в этом мес.це, составил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евятнадцат..  штук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Это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на тр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кна меньше, чем в «В» классе…В этом мес..це мы дернули девчонок за косичк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и тысячи сем..сот раз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двести к..сич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больше, чем в прошлом мес..це, но зат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восем.. к..сич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меньше, чем в «В»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, наконец, в этом мес..це мы дралис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идцат..  один раз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авда, этот показа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с одинаков 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стым «В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тому что дрались мы всегда только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                 </a:t>
            </a: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Подведение итогов 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2057040"/>
            <a:ext cx="852012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20" descr="C:\Documents and Settings\Учитель\Рабочий стол\смайл.gif"/>
          <p:cNvPicPr/>
          <p:nvPr/>
        </p:nvPicPr>
        <p:blipFill>
          <a:blip r:embed="rId1"/>
          <a:stretch/>
        </p:blipFill>
        <p:spPr>
          <a:xfrm>
            <a:off x="304920" y="76320"/>
            <a:ext cx="2666880" cy="2992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3059280" y="1699920"/>
            <a:ext cx="4752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Сколько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Простые числительные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Сложные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Составные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Количественные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Порядковы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Как обойтись бы без числа Наука точная могла? Расчет во всяком деле нужен. Ты и с числительным будь дружен. Удачи в изучении этой сложной части речи!"/>
          <p:cNvPicPr/>
          <p:nvPr/>
        </p:nvPicPr>
        <p:blipFill>
          <a:blip r:embed="rId1"/>
          <a:stretch/>
        </p:blipFill>
        <p:spPr>
          <a:xfrm>
            <a:off x="1000080" y="642960"/>
            <a:ext cx="68817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4" descr="375.gif"/>
          <p:cNvPicPr/>
          <p:nvPr/>
        </p:nvPicPr>
        <p:blipFill>
          <a:blip r:embed="rId1"/>
          <a:stretch/>
        </p:blipFill>
        <p:spPr>
          <a:xfrm>
            <a:off x="5929200" y="214200"/>
            <a:ext cx="2857680" cy="25383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5" descr="1b9.gif"/>
          <p:cNvPicPr/>
          <p:nvPr/>
        </p:nvPicPr>
        <p:blipFill>
          <a:blip r:embed="rId2"/>
          <a:stretch/>
        </p:blipFill>
        <p:spPr>
          <a:xfrm>
            <a:off x="993600" y="2852640"/>
            <a:ext cx="3157560" cy="3438720"/>
          </a:xfrm>
          <a:prstGeom prst="rect">
            <a:avLst/>
          </a:prstGeom>
          <a:ln w="0">
            <a:noFill/>
          </a:ln>
        </p:spPr>
      </p:pic>
      <p:sp>
        <p:nvSpPr>
          <p:cNvPr id="254" name="Скругленная прямоугольная выноска 6"/>
          <p:cNvSpPr/>
          <p:nvPr/>
        </p:nvSpPr>
        <p:spPr>
          <a:xfrm>
            <a:off x="1500120" y="285840"/>
            <a:ext cx="4000680" cy="21430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Молодцы!!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95280" y="836640"/>
            <a:ext cx="7993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Имя числительно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– это часть речи, которая обозначает отвлечённое число, количество предметов, их порядок при счё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img045_cr"/>
          <p:cNvPicPr/>
          <p:nvPr/>
        </p:nvPicPr>
        <p:blipFill>
          <a:blip r:embed="rId1"/>
          <a:stretch/>
        </p:blipFill>
        <p:spPr>
          <a:xfrm>
            <a:off x="5724360" y="4292640"/>
            <a:ext cx="3240360" cy="2376360"/>
          </a:xfrm>
          <a:prstGeom prst="rect">
            <a:avLst/>
          </a:prstGeom>
          <a:ln w="28440">
            <a:solidFill>
              <a:srgbClr val="0000ff"/>
            </a:solidFill>
            <a:prstDash val="dash"/>
            <a:miter/>
          </a:ln>
        </p:spPr>
      </p:pic>
      <p:pic>
        <p:nvPicPr>
          <p:cNvPr id="171" name="Picture 14" descr="archet"/>
          <p:cNvPicPr/>
          <p:nvPr/>
        </p:nvPicPr>
        <p:blipFill>
          <a:blip r:embed="rId2"/>
          <a:stretch/>
        </p:blipFill>
        <p:spPr>
          <a:xfrm>
            <a:off x="1357200" y="5214960"/>
            <a:ext cx="1285920" cy="11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250920" y="765000"/>
            <a:ext cx="87138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Имя числ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оличественные      Порядко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(сколько?)             (какой? который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Три друга                 Третий д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 flipH="1">
            <a:off x="2268360" y="1484280"/>
            <a:ext cx="1224000" cy="1081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5724360" y="1484280"/>
            <a:ext cx="1295640" cy="1081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5" descr="C:\Users\Преподаватель\Desktop\projasnjaj-slova-russkij-jazyk-imja_2.gif"/>
          <p:cNvPicPr/>
          <p:nvPr/>
        </p:nvPicPr>
        <p:blipFill>
          <a:blip r:embed="rId1"/>
          <a:stretch/>
        </p:blipFill>
        <p:spPr>
          <a:xfrm>
            <a:off x="5219640" y="4238640"/>
            <a:ext cx="318132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://3.bp.blogspot.com/-lu4zv67cxxE/TzDzmV1W8pI/AAAAAAAABIc/viWa-KpNpbA/s1600/chislitelnoe.jpg"/>
          <p:cNvPicPr/>
          <p:nvPr/>
        </p:nvPicPr>
        <p:blipFill>
          <a:blip r:embed="rId1"/>
          <a:stretch/>
        </p:blipFill>
        <p:spPr>
          <a:xfrm>
            <a:off x="279360" y="214200"/>
            <a:ext cx="8712360" cy="63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Users\Преподаватель\Desktop\0006-006-CHislitelny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352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81bd"/>
                </a:solidFill>
                <a:latin typeface="Calibri"/>
              </a:rPr>
              <a:t>Количественные числительные могут быть любым членом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Сегодня Оле исполнилось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шесть лет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f81bd"/>
                </a:solidFill>
                <a:latin typeface="Calibri"/>
              </a:rPr>
              <a:t>(подлежащее) 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Дважды два –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четыре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r>
              <a:rPr b="0" i="1" lang="ru-RU" sz="2800" spc="-1" strike="noStrike">
                <a:solidFill>
                  <a:srgbClr val="4f81bd"/>
                </a:solidFill>
                <a:latin typeface="Calibri"/>
              </a:rPr>
              <a:t> (сказуемо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Мы увидели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троих медвежат. </a:t>
            </a:r>
            <a:r>
              <a:rPr b="0" i="1" lang="ru-RU" sz="2800" spc="-1" strike="noStrike">
                <a:solidFill>
                  <a:srgbClr val="4f81bd"/>
                </a:solidFill>
                <a:latin typeface="Calibri"/>
              </a:rPr>
              <a:t>(дополн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Товар загрузили в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две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машины</a:t>
            </a: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.</a:t>
            </a:r>
            <a:r>
              <a:rPr b="0" i="1" lang="ru-RU" sz="2800" spc="-1" strike="noStrike">
                <a:solidFill>
                  <a:srgbClr val="4f81bd"/>
                </a:solidFill>
                <a:latin typeface="Calibri"/>
              </a:rPr>
              <a:t> (определ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А. С. Пушкин родился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в тысяча сем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девяносто девятом году.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4f81bd"/>
                </a:solidFill>
                <a:latin typeface="Calibri"/>
              </a:rPr>
              <a:t>(обстоятельств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324000" y="549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Определите вид числ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диннадцать, двести, двадцать три, сорок пять, сто пятьдесят, пятьсот, девять, восемь, шестнадцать,триста, пятьдесят сем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500040" y="234936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с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6357960" y="2349360"/>
            <a:ext cx="22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ста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3500280" y="2349360"/>
            <a:ext cx="19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лож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://www.ukazka.ru/img/b/uk105094.jpg"/>
          <p:cNvPicPr/>
          <p:nvPr/>
        </p:nvPicPr>
        <p:blipFill>
          <a:blip r:embed="rId1"/>
          <a:stretch/>
        </p:blipFill>
        <p:spPr>
          <a:xfrm>
            <a:off x="4857840" y="1428840"/>
            <a:ext cx="3714840" cy="4786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www.100book.ru/b451804.jpg"/>
          <p:cNvPicPr/>
          <p:nvPr/>
        </p:nvPicPr>
        <p:blipFill>
          <a:blip r:embed="rId2"/>
          <a:stretch/>
        </p:blipFill>
        <p:spPr>
          <a:xfrm>
            <a:off x="357120" y="1285920"/>
            <a:ext cx="4143600" cy="51433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1285920" y="42876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ислительные в названиях 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6:39:21Z</dcterms:created>
  <dc:creator>PGM</dc:creator>
  <dc:description/>
  <dc:language>en-US</dc:language>
  <cp:lastModifiedBy>Zalina</cp:lastModifiedBy>
  <dcterms:modified xsi:type="dcterms:W3CDTF">2021-02-01T07:19:55Z</dcterms:modified>
  <cp:revision>151</cp:revision>
  <dc:subject/>
  <dc:title>Мягкий знак на конце и в середине числительных.</dc:title>
</cp:coreProperties>
</file>