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gif" ContentType="image/gif"/>
  <Override PartName="/ppt/media/image27.png" ContentType="image/png"/>
  <Override PartName="/ppt/media/image4.gif" ContentType="image/gif"/>
  <Override PartName="/ppt/media/image26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0.gif" ContentType="image/gif"/>
  <Override PartName="/ppt/media/image11.gif" ContentType="image/gif"/>
  <Override PartName="/ppt/media/image3.jpeg" ContentType="image/jpeg"/>
  <Override PartName="/ppt/media/image12.gif" ContentType="image/gif"/>
  <Override PartName="/ppt/media/image24.jpeg" ContentType="image/jpeg"/>
  <Override PartName="/ppt/media/image13.gif" ContentType="image/gif"/>
  <Override PartName="/ppt/media/image31.gif" ContentType="image/gif"/>
  <Override PartName="/ppt/media/image34.png" ContentType="image/png"/>
  <Override PartName="/ppt/media/image32.jpeg" ContentType="image/jpeg"/>
  <Override PartName="/ppt/media/image33.gif" ContentType="image/gif"/>
  <Override PartName="/ppt/media/image18.jpeg" ContentType="image/jpeg"/>
  <Override PartName="/ppt/media/image30.gif" ContentType="image/gif"/>
  <Override PartName="/ppt/media/image7.jpeg" ContentType="image/jpeg"/>
  <Override PartName="/ppt/media/image15.gif" ContentType="image/gif"/>
  <Override PartName="/ppt/media/image6.jpeg" ContentType="image/jpeg"/>
  <Override PartName="/ppt/media/image1.jpeg" ContentType="image/jpeg"/>
  <Override PartName="/ppt/media/image22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6.gif" ContentType="image/gif"/>
  <Override PartName="/ppt/media/image17.gif" ContentType="image/gif"/>
  <Override PartName="/ppt/media/image14.png" ContentType="image/png"/>
  <Override PartName="/ppt/media/image21.gif" ContentType="image/gif"/>
  <Override PartName="/ppt/media/image19.jpeg" ContentType="image/jpe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05F8-8631-4100-A949-5C866F564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AFB2-AE77-4964-9D7B-14ED60E3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440E-9973-4D9A-B183-13FEC262A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255F-6214-4C1E-87A7-A46798E2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0D5C8-99B8-48A6-9884-595CE0A8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11DFA-6C4F-43FF-AC1C-AE29069D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759F7-9BFB-4800-9863-F6BAFB8B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901BB-BC77-447E-9014-88C072CC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0BE14-08D1-4C83-A634-6242AE60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A3EB2-90AC-453A-A426-127813C9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CAF8D-435C-4130-B12B-51941767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B9D2-C093-4EA5-8E72-9AA40D7F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BE838-FDA0-4DAC-90C3-EE744CF0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73F07-5C02-4D84-9628-A617024E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2705C-F068-4E3B-BAA9-BF4E417A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480BB-6920-4BB8-BED1-F5B4B38AA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9C268-A5A6-4C70-982D-B87D50A8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7D86F-ACDA-4213-A43C-90A2F6362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241A4-C0C9-40D8-A0A3-1D1B1959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DFF54-77B8-4061-B8B3-566C2510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4CEDA-C7F0-448D-8713-0F58BFAF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BBD28-DFE6-4044-800A-DB2DA93A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3327-177D-4E83-9DF0-750FCD48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9D44A-6944-494E-80B2-ACBFE554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57B6D-B793-4D7A-8933-471D893E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9BB95-5CE8-4329-9305-ABF101D2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CBF87-B870-4ABF-ACDD-BF03CAEC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74993-35AA-4D84-ABBF-46DD3C2E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A883B-74E2-497B-9D8E-2019456A5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95653-B69F-40EF-BBC8-61CB091F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1DA2F-35A5-4692-9391-12E885ABC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27553-BD4A-4999-8A72-5C29FA3C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D0D16-703C-4324-B1AB-910AACE3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7394-0B26-40C0-AB33-AA822D0B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A3139-E3D1-43D7-A4B0-174998D9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A46FC-CCE8-4CE2-9038-951B1F99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7685B-F783-426F-BD5F-6DB6A661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30075-60AE-414C-A8F7-CF6B3939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5F9E0-7DA6-4B9D-B419-46685295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21945-2323-4F06-A445-C85DFFE2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D3B13-C8B7-4712-9FB0-DE6507B0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522B8-1160-4B48-8E52-B5CBC479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C5A54-60CC-4D57-B145-F01444D2A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2E22-1266-43DA-BDFD-71A054C4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0B17-0A75-4754-B464-5C11DDCA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7789-4E27-43C3-A291-01EB4C7C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BBD5-5418-4E90-AC80-C9EE1ADC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FE24-C081-4587-963D-3C9FD804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8D7D-D0B7-4EFC-8232-AA19122A4B3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Арсёнова Елена Анатоль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B854-C9AD-4F0C-B174-3423661A26A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77DE-303E-4444-BD8B-16B732370AC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4E56-E1EB-422A-AA5E-49CE5F57F0D3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6664-E8BB-46DE-B577-0340BCA4183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hyperlink" Target="http://penza.fio.ru/personal/25/2/4/tri.htm" TargetMode="External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" Target="slide1.xml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846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Урок русского языка в 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6 «Б»класс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d0bed0bbd0b8d0bcd0bfd0b8d0b0d0b4d18b"/>
          <p:cNvPicPr/>
          <p:nvPr/>
        </p:nvPicPr>
        <p:blipFill>
          <a:blip r:embed="rId1"/>
          <a:stretch/>
        </p:blipFill>
        <p:spPr>
          <a:xfrm>
            <a:off x="285840" y="1285920"/>
            <a:ext cx="6143400" cy="45003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4"/>
          <p:cNvSpPr/>
          <p:nvPr/>
        </p:nvSpPr>
        <p:spPr>
          <a:xfrm>
            <a:off x="2000160" y="6072120"/>
            <a:ext cx="66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Цопанова З. 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8215560" cy="1071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2700000"/>
          </a:gradFill>
          <a:ln w="9360">
            <a:solidFill>
              <a:srgbClr val="c6d9f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alibri"/>
              </a:rPr>
              <a:t>Числительные в литературных сказках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000160" y="1285920"/>
            <a:ext cx="6491520" cy="49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И на пир веселый то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Царь одиннадцать зове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Чародеек молодых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Было ж всех двенадцать их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Но двенадцатой одной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Хромоногой, старой злой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Царь на праздник не позва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Там лес и дол видений полн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Там о заре прихлынут волн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На брег песчаный и пусто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И тридцать витязей прекрасны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Чредой из вод выходят ясных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И с ними дядька их морской</a:t>
            </a:r>
            <a:r>
              <a:rPr b="1" lang="ru-RU" sz="1800" spc="-1" strike="noStrike">
                <a:solidFill>
                  <a:srgbClr val="66ffcc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5" descr="dis18"/>
          <p:cNvPicPr/>
          <p:nvPr/>
        </p:nvPicPr>
        <p:blipFill>
          <a:blip r:embed="rId1"/>
          <a:stretch/>
        </p:blipFill>
        <p:spPr>
          <a:xfrm>
            <a:off x="6659640" y="2205000"/>
            <a:ext cx="1800000" cy="2087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home41"/>
          <p:cNvPicPr/>
          <p:nvPr/>
        </p:nvPicPr>
        <p:blipFill>
          <a:blip r:embed="rId2"/>
          <a:stretch/>
        </p:blipFill>
        <p:spPr>
          <a:xfrm>
            <a:off x="250920" y="3645000"/>
            <a:ext cx="1511280" cy="1871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3f7ac9f158b9"/>
          <p:cNvPicPr/>
          <p:nvPr/>
        </p:nvPicPr>
        <p:blipFill>
          <a:blip r:embed="rId3"/>
          <a:stretch/>
        </p:blipFill>
        <p:spPr>
          <a:xfrm>
            <a:off x="0" y="2349360"/>
            <a:ext cx="1047600" cy="1105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3f7ac9f158b9"/>
          <p:cNvPicPr/>
          <p:nvPr/>
        </p:nvPicPr>
        <p:blipFill>
          <a:blip r:embed="rId4"/>
          <a:stretch/>
        </p:blipFill>
        <p:spPr>
          <a:xfrm>
            <a:off x="971640" y="2565360"/>
            <a:ext cx="1047600" cy="1104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b11"/>
          <p:cNvPicPr/>
          <p:nvPr/>
        </p:nvPicPr>
        <p:blipFill>
          <a:blip r:embed="rId5"/>
          <a:stretch/>
        </p:blipFill>
        <p:spPr>
          <a:xfrm>
            <a:off x="0" y="5734080"/>
            <a:ext cx="838080" cy="876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b11"/>
          <p:cNvPicPr/>
          <p:nvPr/>
        </p:nvPicPr>
        <p:blipFill>
          <a:blip r:embed="rId6"/>
          <a:stretch/>
        </p:blipFill>
        <p:spPr>
          <a:xfrm>
            <a:off x="1187280" y="5805360"/>
            <a:ext cx="838440" cy="87660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9"/>
          <p:cNvSpPr/>
          <p:nvPr/>
        </p:nvSpPr>
        <p:spPr>
          <a:xfrm>
            <a:off x="2071800" y="36432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В.А.Жуковский «Спящая царев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1"/>
          <p:cNvSpPr/>
          <p:nvPr/>
        </p:nvSpPr>
        <p:spPr>
          <a:xfrm>
            <a:off x="2232000" y="621504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А.С.Пушкин «Руслан и Людм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714240" y="285840"/>
            <a:ext cx="6072480" cy="6000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56326"/>
          <p:cNvPicPr/>
          <p:nvPr/>
        </p:nvPicPr>
        <p:blipFill>
          <a:blip r:embed="rId2"/>
          <a:stretch/>
        </p:blipFill>
        <p:spPr>
          <a:xfrm>
            <a:off x="7286760" y="3000240"/>
            <a:ext cx="1368360" cy="2448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ardva"/>
          <p:cNvPicPr/>
          <p:nvPr/>
        </p:nvPicPr>
        <p:blipFill>
          <a:blip r:embed="rId3"/>
          <a:stretch/>
        </p:blipFill>
        <p:spPr>
          <a:xfrm>
            <a:off x="7215120" y="214200"/>
            <a:ext cx="1525680" cy="1214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artri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7120" y="5286240"/>
            <a:ext cx="1368360" cy="12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Миллион 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Это слово придумал знаменитый итальянец, путешественник, венецианский купец Марко Пол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Содержимое 3" descr="marcopolo.jpg"/>
          <p:cNvPicPr/>
          <p:nvPr/>
        </p:nvPicPr>
        <p:blipFill>
          <a:blip r:embed="rId1"/>
          <a:stretch/>
        </p:blipFill>
        <p:spPr>
          <a:xfrm>
            <a:off x="1338120" y="2286000"/>
            <a:ext cx="644868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-360" y="142920"/>
            <a:ext cx="378612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сетив в XIII веке Китай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н был восхищён богатствами этой стран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Рассказывая об увиденном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н восклицал: "Миллионе!"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Содержимое 6" descr="china1.jpg"/>
          <p:cNvPicPr/>
          <p:nvPr/>
        </p:nvPicPr>
        <p:blipFill>
          <a:blip r:embed="rId1"/>
          <a:stretch/>
        </p:blipFill>
        <p:spPr>
          <a:xfrm>
            <a:off x="3786120" y="357120"/>
            <a:ext cx="5214960" cy="60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35712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Милле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» по-итальянски «</a:t>
            </a: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тысяч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»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-</a:t>
            </a: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оне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» – что наш суффикс «-</a:t>
            </a: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ищ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». Мильоне – тысяча тысяч, тысяч</a:t>
            </a: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ищ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, огромная тысяч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спомнит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русском языке есть слов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руч</a:t>
            </a:r>
            <a:r>
              <a:rPr b="1" i="1" lang="ru-RU" sz="3600" spc="-1" strike="noStrike">
                <a:solidFill>
                  <a:srgbClr val="0000ff"/>
                </a:solidFill>
                <a:latin typeface="Calibri"/>
              </a:rPr>
              <a:t>ищ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а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дом</a:t>
            </a:r>
            <a:r>
              <a:rPr b="1" i="1" lang="ru-RU" sz="3600" spc="-1" strike="noStrike">
                <a:solidFill>
                  <a:srgbClr val="0000ff"/>
                </a:solidFill>
                <a:latin typeface="Calibri"/>
              </a:rPr>
              <a:t>ищ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е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чуд</a:t>
            </a:r>
            <a:r>
              <a:rPr b="1" i="1" lang="ru-RU" sz="3600" spc="-1" strike="noStrike">
                <a:solidFill>
                  <a:srgbClr val="0000ff"/>
                </a:solidFill>
                <a:latin typeface="Calibri"/>
              </a:rPr>
              <a:t>ищ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е и т.п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i="1" lang="ru-RU" sz="4800" spc="-1" strike="noStrike" u="sng">
                <a:solidFill>
                  <a:srgbClr val="c00000"/>
                </a:solidFill>
                <a:uFillTx/>
                <a:latin typeface="Comic Sans MS"/>
              </a:rPr>
              <a:t>ЗАПОМНИ!!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ди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НН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адца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и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ЛЛ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он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и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ЛЛ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ар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3" descr="C:\Мои документы\Аттестация\картинки\resBAD24023-0A01-00EE-0106-DF95F4BA5939.gif"/>
          <p:cNvPicPr/>
          <p:nvPr/>
        </p:nvPicPr>
        <p:blipFill>
          <a:blip r:embed="rId1"/>
          <a:stretch/>
        </p:blipFill>
        <p:spPr>
          <a:xfrm>
            <a:off x="5643720" y="300024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7" descr="C:\Documents and Settings\Учитель\Рабочий стол\вскл. знак 2.gif"/>
          <p:cNvPicPr/>
          <p:nvPr/>
        </p:nvPicPr>
        <p:blipFill>
          <a:blip r:embed="rId2"/>
          <a:stretch/>
        </p:blipFill>
        <p:spPr>
          <a:xfrm>
            <a:off x="684360" y="182520"/>
            <a:ext cx="8380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C:\Users\123\Desktop\семья.jpg"/>
          <p:cNvPicPr/>
          <p:nvPr/>
        </p:nvPicPr>
        <p:blipFill>
          <a:blip r:embed="rId1"/>
          <a:stretch/>
        </p:blipFill>
        <p:spPr>
          <a:xfrm>
            <a:off x="2000160" y="1428840"/>
            <a:ext cx="5375520" cy="3279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C:\Users\123\Desktop\подвал.jpg"/>
          <p:cNvPicPr/>
          <p:nvPr/>
        </p:nvPicPr>
        <p:blipFill>
          <a:blip r:embed="rId2"/>
          <a:stretch/>
        </p:blipFill>
        <p:spPr>
          <a:xfrm>
            <a:off x="1000080" y="1428840"/>
            <a:ext cx="7378920" cy="3286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C:\Users\123\Desktop\стоянка.jpg"/>
          <p:cNvPicPr/>
          <p:nvPr/>
        </p:nvPicPr>
        <p:blipFill>
          <a:blip r:embed="rId3"/>
          <a:stretch/>
        </p:blipFill>
        <p:spPr>
          <a:xfrm>
            <a:off x="1071720" y="1428840"/>
            <a:ext cx="7286400" cy="3143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C:\Users\123\Desktop\одиночка.png"/>
          <p:cNvPicPr/>
          <p:nvPr/>
        </p:nvPicPr>
        <p:blipFill>
          <a:blip r:embed="rId4"/>
          <a:stretch/>
        </p:blipFill>
        <p:spPr>
          <a:xfrm>
            <a:off x="714240" y="1214280"/>
            <a:ext cx="7858440" cy="3643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C:\Users\123\Desktop\сорока.jpg"/>
          <p:cNvPicPr/>
          <p:nvPr/>
        </p:nvPicPr>
        <p:blipFill>
          <a:blip r:embed="rId5"/>
          <a:srcRect l="0" t="45002" r="8750" b="22047"/>
          <a:stretch/>
        </p:blipFill>
        <p:spPr>
          <a:xfrm>
            <a:off x="1000080" y="1428840"/>
            <a:ext cx="7358040" cy="3214440"/>
          </a:xfrm>
          <a:prstGeom prst="rect">
            <a:avLst/>
          </a:prstGeom>
          <a:ln w="0">
            <a:noFill/>
          </a:ln>
        </p:spPr>
      </p:pic>
      <p:sp>
        <p:nvSpPr>
          <p:cNvPr id="213" name="Заголовок 1"/>
          <p:cNvSpPr/>
          <p:nvPr/>
        </p:nvSpPr>
        <p:spPr>
          <a:xfrm>
            <a:off x="1000080" y="357120"/>
            <a:ext cx="79534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Разгадай ребу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Управляющая кнопка: домой 9">
            <a:hlinkClick r:id="rId6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15424" y="3837"/>
                </a:moveTo>
                <a:lnTo>
                  <a:pt x="18001" y="6448"/>
                </a:lnTo>
                <a:lnTo>
                  <a:pt x="18001" y="4707"/>
                </a:lnTo>
                <a:lnTo>
                  <a:pt x="19776" y="4707"/>
                </a:lnTo>
                <a:lnTo>
                  <a:pt x="19776" y="8224"/>
                </a:lnTo>
                <a:lnTo>
                  <a:pt x="22387" y="10800"/>
                </a:lnTo>
                <a:lnTo>
                  <a:pt x="20734" y="10800"/>
                </a:lnTo>
                <a:lnTo>
                  <a:pt x="20734" y="17989"/>
                </a:lnTo>
                <a:lnTo>
                  <a:pt x="10115" y="17989"/>
                </a:lnTo>
                <a:lnTo>
                  <a:pt x="10115" y="10800"/>
                </a:lnTo>
                <a:lnTo>
                  <a:pt x="8461" y="10800"/>
                </a:lnTo>
                <a:close/>
              </a:path>
              <a:path fill="darkenLess" w="30849" h="21600">
                <a:moveTo>
                  <a:pt x="18001" y="6448"/>
                </a:moveTo>
                <a:lnTo>
                  <a:pt x="18001" y="4707"/>
                </a:lnTo>
                <a:lnTo>
                  <a:pt x="19776" y="4707"/>
                </a:lnTo>
                <a:lnTo>
                  <a:pt x="19776" y="8224"/>
                </a:lnTo>
                <a:close/>
              </a:path>
              <a:path fill="darkenLess" w="30849" h="21600">
                <a:moveTo>
                  <a:pt x="14502" y="14299"/>
                </a:moveTo>
                <a:lnTo>
                  <a:pt x="16347" y="14299"/>
                </a:lnTo>
                <a:lnTo>
                  <a:pt x="16347" y="17989"/>
                </a:lnTo>
                <a:lnTo>
                  <a:pt x="20734" y="17989"/>
                </a:lnTo>
                <a:lnTo>
                  <a:pt x="20734" y="10800"/>
                </a:lnTo>
                <a:lnTo>
                  <a:pt x="10115" y="10800"/>
                </a:lnTo>
                <a:lnTo>
                  <a:pt x="10115" y="17989"/>
                </a:lnTo>
                <a:lnTo>
                  <a:pt x="14502" y="17989"/>
                </a:lnTo>
                <a:close/>
              </a:path>
            </a:pathLst>
          </a:custGeom>
          <a:solidFill>
            <a:srgbClr val="604a7b"/>
          </a:solidFill>
          <a:ln w="25560">
            <a:solidFill>
              <a:srgbClr val="b3a2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одзаголовок 4"/>
          <p:cNvSpPr/>
          <p:nvPr/>
        </p:nvSpPr>
        <p:spPr>
          <a:xfrm>
            <a:off x="928800" y="1428840"/>
            <a:ext cx="7572240" cy="3214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7632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СМОР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одзаголовок 4"/>
          <p:cNvSpPr/>
          <p:nvPr/>
        </p:nvSpPr>
        <p:spPr>
          <a:xfrm>
            <a:off x="928800" y="1428840"/>
            <a:ext cx="7572240" cy="32144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7632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ЭЛЕК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одзаголовок 4"/>
          <p:cNvSpPr/>
          <p:nvPr/>
        </p:nvSpPr>
        <p:spPr>
          <a:xfrm>
            <a:off x="928800" y="1428840"/>
            <a:ext cx="7572240" cy="3214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7632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ВИ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одзаголовок 4"/>
          <p:cNvSpPr/>
          <p:nvPr/>
        </p:nvSpPr>
        <p:spPr>
          <a:xfrm>
            <a:off x="857160" y="1428840"/>
            <a:ext cx="7572600" cy="32860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ПИ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ЛЕ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Рисунок 14" descr=""/>
          <p:cNvPicPr/>
          <p:nvPr/>
        </p:nvPicPr>
        <p:blipFill>
          <a:blip r:embed="rId7"/>
          <a:stretch/>
        </p:blipFill>
        <p:spPr>
          <a:xfrm>
            <a:off x="142920" y="4786200"/>
            <a:ext cx="2357280" cy="18576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"/>
          <p:cNvSpPr/>
          <p:nvPr/>
        </p:nvSpPr>
        <p:spPr>
          <a:xfrm>
            <a:off x="7200" y="1800"/>
            <a:ext cx="494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«Отдыхаем с пользой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"/>
          <p:cNvSpPr/>
          <p:nvPr/>
        </p:nvSpPr>
        <p:spPr>
          <a:xfrm>
            <a:off x="2484360" y="4005360"/>
            <a:ext cx="68706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441360" y="0"/>
            <a:ext cx="72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Ь после шипя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800080"/>
                </a:solidFill>
                <a:uFillTx/>
                <a:latin typeface="Arial"/>
              </a:rPr>
              <a:t>п и ш 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289080" y="1219320"/>
            <a:ext cx="885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глаголах: стереч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еш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ь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, войдеш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ь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в существительных 3-его склонения: мыш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ь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3490920" y="530280"/>
            <a:ext cx="21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228600" y="2666880"/>
            <a:ext cx="8915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уществительных 1-ого и 2-ого склон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щ, дач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ратких прилагательных: могуч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буквосочетани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чк   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по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чк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              нч   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ко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нч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чн   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сро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чн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о            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нщ  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же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нщ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чт   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ма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чт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а               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рщ  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спо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рщ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щн  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мо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щн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2666880" y="21337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800080"/>
                </a:solidFill>
                <a:uFillTx/>
                <a:latin typeface="Arial"/>
              </a:rPr>
              <a:t>н е   п и ш у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505320" y="1523880"/>
            <a:ext cx="49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-   = -          =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0" y="3429000"/>
            <a:ext cx="3809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365040" y="3429000"/>
            <a:ext cx="26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   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2819520" y="3962520"/>
            <a:ext cx="4724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=                      ==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=                     =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=                         =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3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3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8496360" cy="630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f6228"/>
                </a:solidFill>
                <a:latin typeface="Monotype Corsiva"/>
              </a:rPr>
              <a:t>Мягкий знак  </a:t>
            </a:r>
            <a:br>
              <a:rPr sz="5400"/>
            </a:br>
            <a:r>
              <a:rPr b="1" lang="ru-RU" sz="5400" spc="-1" strike="noStrike">
                <a:solidFill>
                  <a:srgbClr val="4f6228"/>
                </a:solidFill>
                <a:latin typeface="Monotype Corsiva"/>
              </a:rPr>
              <a:t>в середине и на конце числительных</a:t>
            </a: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10" descr="C:\Users\uzer\Desktop\гиф\бабочки.gif"/>
          <p:cNvPicPr/>
          <p:nvPr/>
        </p:nvPicPr>
        <p:blipFill>
          <a:blip r:embed="rId1"/>
          <a:stretch/>
        </p:blipFill>
        <p:spPr>
          <a:xfrm>
            <a:off x="7308720" y="0"/>
            <a:ext cx="1462320" cy="1368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0006-001-Lingvisticheskaja-zadacha"/>
          <p:cNvPicPr/>
          <p:nvPr/>
        </p:nvPicPr>
        <p:blipFill>
          <a:blip r:embed="rId2"/>
          <a:stretch/>
        </p:blipFill>
        <p:spPr>
          <a:xfrm>
            <a:off x="5715000" y="3643200"/>
            <a:ext cx="3110040" cy="28735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Рисунок1"/>
          <p:cNvPicPr/>
          <p:nvPr/>
        </p:nvPicPr>
        <p:blipFill>
          <a:blip r:embed="rId3"/>
          <a:stretch/>
        </p:blipFill>
        <p:spPr>
          <a:xfrm>
            <a:off x="1000080" y="4786200"/>
            <a:ext cx="14288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0" y="49968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1) Пя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 шес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 се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 восе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 девя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 деся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) одиннадца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 двенадца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 тринадца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ь, че-тырнадца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 пятнадца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 шестнадца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 семнадца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 восемнадца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девятнадца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 тридца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3) пя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есят, шес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есят, се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есят, восе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еся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4) пя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от, шес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от, се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от, восе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от, девя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от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3"/>
          <p:cNvSpPr/>
          <p:nvPr/>
        </p:nvSpPr>
        <p:spPr>
          <a:xfrm>
            <a:off x="428760" y="857160"/>
            <a:ext cx="4786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мелый рез 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(щ,ч)</a:t>
            </a: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к </a:t>
            </a: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Ч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(и,е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та</a:t>
            </a: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(З,с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р</a:t>
            </a: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ж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 Ко</a:t>
            </a:r>
            <a:r>
              <a:rPr b="1" lang="ru-RU" sz="2800" spc="-1" strike="noStrike">
                <a:solidFill>
                  <a:srgbClr val="e46c0a"/>
                </a:solidFill>
                <a:latin typeface="Arial"/>
              </a:rPr>
              <a:t>(л,л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есо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Выб</a:t>
            </a:r>
            <a:r>
              <a:rPr b="1" lang="ru-RU" sz="2800" spc="-1" strike="noStrike">
                <a:solidFill>
                  <a:srgbClr val="e46c0a"/>
                </a:solidFill>
                <a:latin typeface="Arial"/>
              </a:rPr>
              <a:t>(е,и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ешь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Весело улыбае </a:t>
            </a:r>
            <a:r>
              <a:rPr b="1" lang="ru-RU" sz="2800" spc="-1" strike="noStrike">
                <a:solidFill>
                  <a:srgbClr val="e46c0a"/>
                </a:solidFill>
                <a:latin typeface="Arial"/>
              </a:rPr>
              <a:t>(т,ть)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. Свеж</a:t>
            </a:r>
            <a:r>
              <a:rPr b="1" lang="ru-RU" sz="2800" spc="-1" strike="noStrike">
                <a:solidFill>
                  <a:srgbClr val="e46c0a"/>
                </a:solidFill>
                <a:latin typeface="Arial"/>
              </a:rPr>
              <a:t>(е,о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 вет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 Паралле </a:t>
            </a:r>
            <a:r>
              <a:rPr b="1" lang="ru-RU" sz="2800" spc="-1" strike="noStrike">
                <a:solidFill>
                  <a:srgbClr val="e46c0a"/>
                </a:solidFill>
                <a:latin typeface="Arial"/>
              </a:rPr>
              <a:t>(л,лл)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. Свист солов</a:t>
            </a:r>
            <a:r>
              <a:rPr b="1" lang="ru-RU" sz="2800" spc="-1" strike="noStrike">
                <a:solidFill>
                  <a:srgbClr val="e46c0a"/>
                </a:solidFill>
                <a:latin typeface="Arial"/>
              </a:rPr>
              <a:t>(ь,ъ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. Ю</a:t>
            </a:r>
            <a:r>
              <a:rPr b="1" lang="ru-RU" sz="2800" spc="-1" strike="noStrike">
                <a:solidFill>
                  <a:srgbClr val="e46c0a"/>
                </a:solidFill>
                <a:latin typeface="Arial"/>
              </a:rPr>
              <a:t>(нн,н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 гер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1. Плохой роз</a:t>
            </a:r>
            <a:r>
              <a:rPr b="1" lang="ru-RU" sz="2800" spc="-1" strike="noStrike">
                <a:solidFill>
                  <a:srgbClr val="e46c0a"/>
                </a:solidFill>
                <a:latin typeface="Arial"/>
              </a:rPr>
              <a:t>(и,ы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ы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2. Сп</a:t>
            </a:r>
            <a:r>
              <a:rPr b="1" lang="ru-RU" sz="2800" spc="-1" strike="noStrike">
                <a:solidFill>
                  <a:srgbClr val="e46c0a"/>
                </a:solidFill>
                <a:latin typeface="Arial"/>
              </a:rPr>
              <a:t>(и,е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ил на у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4"/>
          <p:cNvSpPr/>
          <p:nvPr/>
        </p:nvSpPr>
        <p:spPr>
          <a:xfrm>
            <a:off x="468360" y="214200"/>
            <a:ext cx="81043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ЫПОЛНИТЬ ЗА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AutoShape 2"/>
          <p:cNvSpPr/>
          <p:nvPr/>
        </p:nvSpPr>
        <p:spPr>
          <a:xfrm>
            <a:off x="304920" y="1752480"/>
            <a:ext cx="4038480" cy="4876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4876920"/>
              <a:gd name="textAreaBottom" fmla="*/ 4680000 h 4876920"/>
            </a:gdLst>
            <a:ahLst/>
            <a:rect l="textAreaLeft" t="textAreaTop" r="textAreaRight" b="textAreaBottom"/>
            <a:pathLst>
              <a:path w="21600" h="26084">
                <a:moveTo>
                  <a:pt x="3600" y="0"/>
                </a:moveTo>
                <a:arcTo wR="3600" hR="3600" stAng="16200000" swAng="-5400000"/>
                <a:lnTo>
                  <a:pt x="0" y="22484"/>
                </a:lnTo>
                <a:arcTo wR="3600" hR="3600" stAng="10800000" swAng="-5400000"/>
                <a:lnTo>
                  <a:pt x="18000" y="260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4714920" y="1785960"/>
            <a:ext cx="4038480" cy="472428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4724280"/>
              <a:gd name="textAreaBottom" fmla="*/ 4527360 h 4724280"/>
            </a:gdLst>
            <a:ahLst/>
            <a:rect l="textAreaLeft" t="textAreaTop" r="textAreaRight" b="textAreaBottom"/>
            <a:pathLst>
              <a:path w="21600" h="25268">
                <a:moveTo>
                  <a:pt x="3600" y="0"/>
                </a:moveTo>
                <a:arcTo wR="3600" hR="3600" stAng="16200000" swAng="-5400000"/>
                <a:lnTo>
                  <a:pt x="0" y="21668"/>
                </a:lnTo>
                <a:arcTo wR="3600" hR="3600" stAng="10800000" swAng="-5400000"/>
                <a:lnTo>
                  <a:pt x="18000" y="252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428760" y="1357200"/>
            <a:ext cx="375732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ко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5-20</a:t>
            </a: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, 30</a:t>
            </a: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ят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шестнадцат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вадцат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ридцат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158400" y="-41400"/>
            <a:ext cx="754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Comic Sans MS"/>
              </a:rPr>
              <a:t>Правописание Ь в имена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Comic Sans MS"/>
              </a:rPr>
              <a:t>числитель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4643280" y="1428840"/>
            <a:ext cx="4206960" cy="50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еред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50-</a:t>
            </a: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500-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-9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ят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ь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еся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сем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ь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AutoShape 2"/>
          <p:cNvSpPr/>
          <p:nvPr/>
        </p:nvSpPr>
        <p:spPr>
          <a:xfrm>
            <a:off x="1571760" y="0"/>
            <a:ext cx="6324480" cy="2362320"/>
          </a:xfrm>
          <a:prstGeom prst="cloudCallout">
            <a:avLst>
              <a:gd name="adj1" fmla="val -64759"/>
              <a:gd name="adj2" fmla="val 39046"/>
            </a:avLst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538360" y="228600"/>
            <a:ext cx="46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подсказ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214720" y="2000160"/>
            <a:ext cx="507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лько для числите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. п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0" y="3286080"/>
            <a:ext cx="9144000" cy="2964960"/>
          </a:xfrm>
          <a:prstGeom prst="rect">
            <a:avLst/>
          </a:prstGeom>
          <a:solidFill>
            <a:srgbClr val="ffffff"/>
          </a:solidFill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На конце </a:t>
            </a: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Ь </a:t>
            </a: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                  </a:t>
            </a: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Нет </a:t>
            </a: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Ь </a:t>
            </a: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                                            </a:t>
            </a: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конце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в середине                 </a:t>
            </a:r>
            <a:r>
              <a:rPr b="0" lang="ru-RU" sz="4400" spc="-1" strike="noStrike" u="sng">
                <a:solidFill>
                  <a:srgbClr val="c00000"/>
                </a:solidFill>
                <a:uFillTx/>
                <a:latin typeface="Arial"/>
              </a:rPr>
              <a:t>пиш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0" lang="ru-RU" sz="4400" spc="-1" strike="noStrike" u="sng">
                <a:solidFill>
                  <a:srgbClr val="c00000"/>
                </a:solidFill>
                <a:uFillTx/>
                <a:latin typeface="Arial"/>
              </a:rPr>
              <a:t>не пиши</a:t>
            </a: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.                  в </a:t>
            </a:r>
            <a:r>
              <a:rPr b="0" lang="ru-RU" sz="4000" spc="-1" strike="noStrike">
                <a:solidFill>
                  <a:srgbClr val="800080"/>
                </a:solidFill>
                <a:latin typeface="Arial"/>
              </a:rPr>
              <a:t>середине</a:t>
            </a: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250920" y="617400"/>
          <a:ext cx="8105760" cy="5907240"/>
        </p:xfrm>
        <a:graphic>
          <a:graphicData uri="http://schemas.openxmlformats.org/drawingml/2006/table">
            <a:tbl>
              <a:tblPr/>
              <a:tblGrid>
                <a:gridCol w="2724120"/>
                <a:gridCol w="2614680"/>
                <a:gridCol w="2766960"/>
              </a:tblGrid>
              <a:tr h="351000"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0066"/>
                          </a:solidFill>
                          <a:latin typeface="Times New Roman"/>
                          <a:ea typeface="Calibri"/>
                        </a:rPr>
                        <a:t>Заполнить таблиц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Без 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Восем…со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Шест…деся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Пят…надцать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Шест…надцать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Восем…деся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Сем…со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Сем…надц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Сем…деся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Девят…со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"/>
          <p:cNvSpPr/>
          <p:nvPr/>
        </p:nvSpPr>
        <p:spPr>
          <a:xfrm>
            <a:off x="285840" y="-250560"/>
            <a:ext cx="82152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ff0066"/>
                </a:solidFill>
                <a:latin typeface="Comic Sans MS"/>
              </a:rPr>
              <a:t>Вставьте пропущенные букв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оварищи одноклассники! В этом мес.це наш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шестой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Б» класс добился огромных успехов. Мы зав..евали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ерво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место в соревновании с шестым «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лассом за лучшую усп..ваемость и лучшее пов..дение. В этом мес..це нами получено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о пят.десят сем.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во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на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ве двойк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меньше, чем в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шестом «В»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классе. Количество окон, разбитых в этом мес.це, составило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евятнадцат..  штук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Это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на три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кна меньше, чем в «В» классе…В этом мес..це мы дернули девчонок за косички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ри тысячи сем..сот раз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 двести к..сичек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больше, чем в прошлом мес..це, но зато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 восем.. к..сичек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меньше, чем в «В»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, наконец, в этом мес..це мы дрались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ридцат..  один раз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равда, этот показат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нас одинаков 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естым «В»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тому что дрались мы всегда только с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Calibri"/>
              </a:rPr>
              <a:t>                 </a:t>
            </a:r>
            <a:r>
              <a:rPr b="1" lang="ru-RU" sz="3600" spc="-1" strike="noStrike">
                <a:solidFill>
                  <a:srgbClr val="990000"/>
                </a:solidFill>
                <a:latin typeface="Calibri"/>
              </a:rPr>
              <a:t>Подведение итогов  уро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4920" y="2057040"/>
            <a:ext cx="852012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20" descr="C:\Documents and Settings\Учитель\Рабочий стол\смайл.gif"/>
          <p:cNvPicPr/>
          <p:nvPr/>
        </p:nvPicPr>
        <p:blipFill>
          <a:blip r:embed="rId1"/>
          <a:stretch/>
        </p:blipFill>
        <p:spPr>
          <a:xfrm>
            <a:off x="304920" y="76320"/>
            <a:ext cx="2666880" cy="29923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3059280" y="1699920"/>
            <a:ext cx="47527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Сколько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 Простые числительные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 Сложные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 Составные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 Количественные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Порядковы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3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Как обойтись бы без числа Наука точная могла? Расчет во всяком деле нужен. Ты и с числительным будь дружен. Удачи в изучении этой сложной части речи!"/>
          <p:cNvPicPr/>
          <p:nvPr/>
        </p:nvPicPr>
        <p:blipFill>
          <a:blip r:embed="rId1"/>
          <a:stretch/>
        </p:blipFill>
        <p:spPr>
          <a:xfrm>
            <a:off x="1000080" y="642960"/>
            <a:ext cx="68817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Рисунок 4" descr="375.gif"/>
          <p:cNvPicPr/>
          <p:nvPr/>
        </p:nvPicPr>
        <p:blipFill>
          <a:blip r:embed="rId1"/>
          <a:stretch/>
        </p:blipFill>
        <p:spPr>
          <a:xfrm>
            <a:off x="5929200" y="214200"/>
            <a:ext cx="2857680" cy="253836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5" descr="1b9.gif"/>
          <p:cNvPicPr/>
          <p:nvPr/>
        </p:nvPicPr>
        <p:blipFill>
          <a:blip r:embed="rId2"/>
          <a:stretch/>
        </p:blipFill>
        <p:spPr>
          <a:xfrm>
            <a:off x="993600" y="2852640"/>
            <a:ext cx="3157560" cy="3438720"/>
          </a:xfrm>
          <a:prstGeom prst="rect">
            <a:avLst/>
          </a:prstGeom>
          <a:ln w="0">
            <a:noFill/>
          </a:ln>
        </p:spPr>
      </p:pic>
      <p:sp>
        <p:nvSpPr>
          <p:cNvPr id="254" name="Скругленная прямоугольная выноска 6"/>
          <p:cNvSpPr/>
          <p:nvPr/>
        </p:nvSpPr>
        <p:spPr>
          <a:xfrm>
            <a:off x="1500120" y="285840"/>
            <a:ext cx="4000680" cy="21430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Молодцы!!!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395280" y="836640"/>
            <a:ext cx="7993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Имя числительное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– это часть речи, которая обозначает отвлечённое число, количество предметов, их порядок при счё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img045_cr"/>
          <p:cNvPicPr/>
          <p:nvPr/>
        </p:nvPicPr>
        <p:blipFill>
          <a:blip r:embed="rId1"/>
          <a:stretch/>
        </p:blipFill>
        <p:spPr>
          <a:xfrm>
            <a:off x="5724360" y="4292640"/>
            <a:ext cx="3240360" cy="2376360"/>
          </a:xfrm>
          <a:prstGeom prst="rect">
            <a:avLst/>
          </a:prstGeom>
          <a:ln w="28440">
            <a:solidFill>
              <a:srgbClr val="0000ff"/>
            </a:solidFill>
            <a:prstDash val="dash"/>
            <a:miter/>
          </a:ln>
        </p:spPr>
      </p:pic>
      <p:pic>
        <p:nvPicPr>
          <p:cNvPr id="171" name="Picture 14" descr="archet"/>
          <p:cNvPicPr/>
          <p:nvPr/>
        </p:nvPicPr>
        <p:blipFill>
          <a:blip r:embed="rId2"/>
          <a:stretch/>
        </p:blipFill>
        <p:spPr>
          <a:xfrm>
            <a:off x="1357200" y="5214960"/>
            <a:ext cx="1285920" cy="11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250920" y="765000"/>
            <a:ext cx="871380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Имя числи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Количественные      Порядков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(сколько?)             (какой? который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mic Sans MS"/>
              </a:rPr>
              <a:t>Три друга                 Третий дру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"/>
          <p:cNvSpPr/>
          <p:nvPr/>
        </p:nvSpPr>
        <p:spPr>
          <a:xfrm flipH="1">
            <a:off x="2268360" y="1484280"/>
            <a:ext cx="1224000" cy="1081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6"/>
          <p:cNvSpPr/>
          <p:nvPr/>
        </p:nvSpPr>
        <p:spPr>
          <a:xfrm>
            <a:off x="5724360" y="1484280"/>
            <a:ext cx="1295640" cy="1081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5" descr="C:\Users\Преподаватель\Desktop\projasnjaj-slova-russkij-jazyk-imja_2.gif"/>
          <p:cNvPicPr/>
          <p:nvPr/>
        </p:nvPicPr>
        <p:blipFill>
          <a:blip r:embed="rId1"/>
          <a:stretch/>
        </p:blipFill>
        <p:spPr>
          <a:xfrm>
            <a:off x="5219640" y="4238640"/>
            <a:ext cx="318132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http://3.bp.blogspot.com/-lu4zv67cxxE/TzDzmV1W8pI/AAAAAAAABIc/viWa-KpNpbA/s1600/chislitelnoe.jpg"/>
          <p:cNvPicPr/>
          <p:nvPr/>
        </p:nvPicPr>
        <p:blipFill>
          <a:blip r:embed="rId1"/>
          <a:stretch/>
        </p:blipFill>
        <p:spPr>
          <a:xfrm>
            <a:off x="279360" y="214200"/>
            <a:ext cx="8712360" cy="633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:\Users\Преподаватель\Desktop\0006-006-CHislitelny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3528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f81bd"/>
                </a:solidFill>
                <a:latin typeface="Calibri"/>
              </a:rPr>
              <a:t>Количественные числительные могут быть любым членом предло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Сегодня Оле исполнилось </a:t>
            </a: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шесть лет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f81bd"/>
                </a:solidFill>
                <a:latin typeface="Calibri"/>
              </a:rPr>
              <a:t>(подлежащее) 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Дважды два – </a:t>
            </a: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четыре</a:t>
            </a:r>
            <a:r>
              <a:rPr b="0" i="1" lang="ru-RU" sz="2800" spc="-1" strike="noStrike" u="sng">
                <a:solidFill>
                  <a:srgbClr val="0000ff"/>
                </a:solidFill>
                <a:uFillTx/>
                <a:latin typeface="Calibri"/>
              </a:rPr>
              <a:t>.</a:t>
            </a:r>
            <a:r>
              <a:rPr b="0" i="1" lang="ru-RU" sz="2800" spc="-1" strike="noStrike">
                <a:solidFill>
                  <a:srgbClr val="4f81bd"/>
                </a:solidFill>
                <a:latin typeface="Calibri"/>
              </a:rPr>
              <a:t> (сказуемо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Мы увидели </a:t>
            </a: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троих медвежат. </a:t>
            </a:r>
            <a:r>
              <a:rPr b="0" i="1" lang="ru-RU" sz="2800" spc="-1" strike="noStrike">
                <a:solidFill>
                  <a:srgbClr val="4f81bd"/>
                </a:solidFill>
                <a:latin typeface="Calibri"/>
              </a:rPr>
              <a:t>(дополне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Товар загрузили в </a:t>
            </a: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две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 машины</a:t>
            </a:r>
            <a:r>
              <a:rPr b="0" i="1" lang="ru-RU" sz="2800" spc="-1" strike="noStrike">
                <a:solidFill>
                  <a:srgbClr val="ffff00"/>
                </a:solidFill>
                <a:latin typeface="Calibri"/>
              </a:rPr>
              <a:t>.</a:t>
            </a:r>
            <a:r>
              <a:rPr b="0" i="1" lang="ru-RU" sz="2800" spc="-1" strike="noStrike">
                <a:solidFill>
                  <a:srgbClr val="4f81bd"/>
                </a:solidFill>
                <a:latin typeface="Calibri"/>
              </a:rPr>
              <a:t> (определе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А. С. Пушкин родился </a:t>
            </a: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в тысяча семьс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девяносто девятом году.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4f81bd"/>
                </a:solidFill>
                <a:latin typeface="Calibri"/>
              </a:rPr>
              <a:t>(обстоятельств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" dur="2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2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" dur="2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"/>
          <p:cNvSpPr/>
          <p:nvPr/>
        </p:nvSpPr>
        <p:spPr>
          <a:xfrm>
            <a:off x="324000" y="54936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Comic Sans MS"/>
              </a:rPr>
              <a:t>Определите вид числи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диннадцать, двести, двадцать три, сорок пять, сто пятьдесят, пятьсот, девять, восемь, шестнадцать,триста, пятьдесят сем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500040" y="234936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ост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6357960" y="2349360"/>
            <a:ext cx="227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остав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3500280" y="2349360"/>
            <a:ext cx="19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лож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ttp://www.ukazka.ru/img/b/uk105094.jpg"/>
          <p:cNvPicPr/>
          <p:nvPr/>
        </p:nvPicPr>
        <p:blipFill>
          <a:blip r:embed="rId1"/>
          <a:stretch/>
        </p:blipFill>
        <p:spPr>
          <a:xfrm>
            <a:off x="4857840" y="1428840"/>
            <a:ext cx="3714840" cy="4786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http://www.100book.ru/b451804.jpg"/>
          <p:cNvPicPr/>
          <p:nvPr/>
        </p:nvPicPr>
        <p:blipFill>
          <a:blip r:embed="rId2"/>
          <a:stretch/>
        </p:blipFill>
        <p:spPr>
          <a:xfrm>
            <a:off x="357120" y="1285920"/>
            <a:ext cx="4143600" cy="5143320"/>
          </a:xfrm>
          <a:prstGeom prst="rect">
            <a:avLst/>
          </a:prstGeom>
          <a:ln w="0">
            <a:noFill/>
          </a:ln>
        </p:spPr>
      </p:pic>
      <p:sp>
        <p:nvSpPr>
          <p:cNvPr id="185" name="TextBox 3"/>
          <p:cNvSpPr/>
          <p:nvPr/>
        </p:nvSpPr>
        <p:spPr>
          <a:xfrm>
            <a:off x="1285920" y="428760"/>
            <a:ext cx="650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Числительные в названиях сказ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6:39:21Z</dcterms:created>
  <dc:creator>PGM</dc:creator>
  <dc:description/>
  <dc:language>en-US</dc:language>
  <cp:lastModifiedBy>Zalina</cp:lastModifiedBy>
  <dcterms:modified xsi:type="dcterms:W3CDTF">2021-02-01T07:19:55Z</dcterms:modified>
  <cp:revision>151</cp:revision>
  <dc:subject/>
  <dc:title>Мягкий знак на конце и в середине числительных.</dc:title>
</cp:coreProperties>
</file>