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A99-DBA3-45E4-8AFE-DFB0C260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AAA-C8CA-4BB4-BC3E-54FD4670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56C-9874-47F3-8E69-3AB65C54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9CE-4A3E-484E-B0E9-1A8C439E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43D-ABAC-4527-AAAA-B7838403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339-50D2-4AE7-86DA-DB1DAD3E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A59-F5D3-4A32-A479-C032B912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16A-45E3-4FF6-82E8-A6AFB231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AB6-932E-46B8-B7E4-BA3CAEFE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09A-85A0-4A11-8DC6-C1AAE6A8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462-6B19-4241-916B-F0F77E90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646-942C-4835-A42C-56EF377D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85A1-2505-4A01-AE7A-64185A207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7487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Лучшее слово о друж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Users\www.DIGITAL.ru\Pictures\i[8].jpg"/>
          <p:cNvPicPr/>
          <p:nvPr/>
        </p:nvPicPr>
        <p:blipFill>
          <a:blip r:embed="rId1"/>
          <a:stretch/>
        </p:blipFill>
        <p:spPr>
          <a:xfrm>
            <a:off x="900000" y="1357200"/>
            <a:ext cx="73296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www.DIGITAL.ru\Pictures\listing_44d452937afdbf556aadefecdd46ca91[1].jpg"/>
          <p:cNvPicPr/>
          <p:nvPr/>
        </p:nvPicPr>
        <p:blipFill>
          <a:blip r:embed="rId1"/>
          <a:stretch/>
        </p:blipFill>
        <p:spPr>
          <a:xfrm>
            <a:off x="3203640" y="765000"/>
            <a:ext cx="5400720" cy="5361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Д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овер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Р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ад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У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ва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Ж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ел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Б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орь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кти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ружба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www.DIGITAL.ru\Pictures\otdahni.ru_1282815884_-01post-3-12826362399326[1].jpg"/>
          <p:cNvPicPr/>
          <p:nvPr/>
        </p:nvPicPr>
        <p:blipFill>
          <a:blip r:embed="rId1"/>
          <a:stretch/>
        </p:blipFill>
        <p:spPr>
          <a:xfrm>
            <a:off x="4211640" y="1623960"/>
            <a:ext cx="4300560" cy="3152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Одна из высших нравственных ценностей. Это привязанность между людьми, возникшая в результате взаимного уважения, веры в друг друга, общности интересов и взглядов, совмест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руг – это тот, к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www.DIGITAL.ru\Pictures\CASRGM6UCAGLJI6CCAAX7DLRCA13UOLGCAYQWDHUCAWJ2DEUCAU7CPNVCAIFTAUWCA773Z4ZCAR4S4K3CAEJFQE6CAJMMY1VCATKV7K6CAZASTTOCA2LH8E2CA15098NCAAU1I11CA1UZNFL.jpg"/>
          <p:cNvPicPr/>
          <p:nvPr/>
        </p:nvPicPr>
        <p:blipFill>
          <a:blip r:embed="rId1"/>
          <a:stretch/>
        </p:blipFill>
        <p:spPr>
          <a:xfrm>
            <a:off x="1214280" y="1643040"/>
            <a:ext cx="6429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300816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облемные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не сделал домашнее задание и требует тетрадь, чтобы его списа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употребляет плохие слова и выраж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совершает плохой поступок и о нем узнают все. В том числе и 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получает плохие отметки за четверть и тебе запрещают с ним  дружить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предлагает поступить тебе плох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сделал что-то плохое, а наказывают теб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www.DIGITAL.ru\Pictures\мультяшки\nashi_mult-prev[1] - копия.jpg"/>
          <p:cNvPicPr/>
          <p:nvPr/>
        </p:nvPicPr>
        <p:blipFill>
          <a:blip r:embed="rId1"/>
          <a:stretch/>
        </p:blipFill>
        <p:spPr>
          <a:xfrm>
            <a:off x="571680" y="2357280"/>
            <a:ext cx="2786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www.DIGITAL.ru\Pictures\932161566[1].jpg"/>
          <p:cNvPicPr/>
          <p:nvPr/>
        </p:nvPicPr>
        <p:blipFill>
          <a:blip r:embed="rId1"/>
          <a:stretch/>
        </p:blipFill>
        <p:spPr>
          <a:xfrm>
            <a:off x="1714680" y="1000080"/>
            <a:ext cx="5643360" cy="464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9:55:11Z</dcterms:created>
  <dc:creator>home</dc:creator>
  <dc:description/>
  <dc:language>en-US</dc:language>
  <cp:lastModifiedBy>Ольга Стебакова</cp:lastModifiedBy>
  <dcterms:modified xsi:type="dcterms:W3CDTF">2021-06-10T09:55:39Z</dcterms:modified>
  <cp:revision>5</cp:revision>
  <dc:subject/>
  <dc:title>Лучшее слово о дружбе</dc:title>
</cp:coreProperties>
</file>