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F78-4AA7-4F46-A774-77FC4636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7E4-A5CA-40B1-8E99-ACACF51D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A6C-32F8-4779-AC96-30FDC2C7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4D3-2A62-47DB-9998-ABD3DF3F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299-8922-4F10-B9B5-A0600C11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6F3-069B-4653-AE36-D0CD5114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27D-C65D-43F8-8AF2-1D45EADF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E3E-A613-42D6-A1E5-A4A2FB8B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111-7A2C-49E8-8D7E-324438D1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454-11FC-43ED-BA22-85AFED23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5A1-CEB1-41AC-AE78-AE23968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B1B-8A19-486E-B0BD-1BBC29AF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176-5B67-4562-9A6C-85EFAE6BE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7487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Лучшее слово о друж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Users\www.DIGITAL.ru\Pictures\i[8].jpg"/>
          <p:cNvPicPr/>
          <p:nvPr/>
        </p:nvPicPr>
        <p:blipFill>
          <a:blip r:embed="rId1"/>
          <a:stretch/>
        </p:blipFill>
        <p:spPr>
          <a:xfrm>
            <a:off x="900000" y="1357200"/>
            <a:ext cx="73296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www.DIGITAL.ru\Pictures\listing_44d452937afdbf556aadefecdd46ca91[1].jpg"/>
          <p:cNvPicPr/>
          <p:nvPr/>
        </p:nvPicPr>
        <p:blipFill>
          <a:blip r:embed="rId1"/>
          <a:stretch/>
        </p:blipFill>
        <p:spPr>
          <a:xfrm>
            <a:off x="3203640" y="765000"/>
            <a:ext cx="5400720" cy="5361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Д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овер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Р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ад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У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ва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Ж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ел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Б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орь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кти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ружба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www.DIGITAL.ru\Pictures\otdahni.ru_1282815884_-01post-3-12826362399326[1].jpg"/>
          <p:cNvPicPr/>
          <p:nvPr/>
        </p:nvPicPr>
        <p:blipFill>
          <a:blip r:embed="rId1"/>
          <a:stretch/>
        </p:blipFill>
        <p:spPr>
          <a:xfrm>
            <a:off x="4211640" y="1623960"/>
            <a:ext cx="4300560" cy="3152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Одна из высших нравственных ценностей. Это привязанность между людьми, возникшая в результате взаимного уважения, веры в друг друга, общности интересов и взглядов, совмест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руг – это тот, к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www.DIGITAL.ru\Pictures\CASRGM6UCAGLJI6CCAAX7DLRCA13UOLGCAYQWDHUCAWJ2DEUCAU7CPNVCAIFTAUWCA773Z4ZCAR4S4K3CAEJFQE6CAJMMY1VCATKV7K6CAZASTTOCA2LH8E2CA15098NCAAU1I11CA1UZNFL.jpg"/>
          <p:cNvPicPr/>
          <p:nvPr/>
        </p:nvPicPr>
        <p:blipFill>
          <a:blip r:embed="rId1"/>
          <a:stretch/>
        </p:blipFill>
        <p:spPr>
          <a:xfrm>
            <a:off x="1214280" y="1643040"/>
            <a:ext cx="6429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300816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облемные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не сделал домашнее задание и требует тетрадь, чтобы его списа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употребляет плохие слова и выраж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совершает плохой поступок и о нем узнают все. В том числе и 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получает плохие отметки за четверть и тебе запрещают с ним  дружить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предлагает поступить тебе плох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-твой друг сделал что-то плохое, а наказывают теб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www.DIGITAL.ru\Pictures\мультяшки\nashi_mult-prev[1] - копия.jpg"/>
          <p:cNvPicPr/>
          <p:nvPr/>
        </p:nvPicPr>
        <p:blipFill>
          <a:blip r:embed="rId1"/>
          <a:stretch/>
        </p:blipFill>
        <p:spPr>
          <a:xfrm>
            <a:off x="571680" y="2357280"/>
            <a:ext cx="2786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www.DIGITAL.ru\Pictures\932161566[1].jpg"/>
          <p:cNvPicPr/>
          <p:nvPr/>
        </p:nvPicPr>
        <p:blipFill>
          <a:blip r:embed="rId1"/>
          <a:stretch/>
        </p:blipFill>
        <p:spPr>
          <a:xfrm>
            <a:off x="1714680" y="1000080"/>
            <a:ext cx="5643360" cy="464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9:55:11Z</dcterms:created>
  <dc:creator>home</dc:creator>
  <dc:description/>
  <dc:language>en-US</dc:language>
  <cp:lastModifiedBy>Ольга Стебакова</cp:lastModifiedBy>
  <dcterms:modified xsi:type="dcterms:W3CDTF">2021-06-10T09:55:39Z</dcterms:modified>
  <cp:revision>5</cp:revision>
  <dc:subject/>
  <dc:title>Лучшее слово о дружбе</dc:title>
</cp:coreProperties>
</file>