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83F-1086-4E24-8EE0-B07F3A8657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02B0-44C6-490E-ABC0-9659A16647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710-710A-4476-A981-06BC0C44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B09-08CC-4F54-9C55-300431CE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B3B-8F42-4C5D-91C4-F5A17CFE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B78-7FA5-403B-AFDD-39B8A000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4EB0-67EE-46F3-8049-D46C7373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9EB-2112-4A3F-8D91-63E00133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B2FA-E62C-4AFD-AAC6-70716F1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8F30-4C2A-40C9-905F-8ADE75A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E868-7EEA-4CC1-83B8-7FCF160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BD06-4D46-4277-90EF-0343A4F9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021-2CEE-40C4-A716-CD7B003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954-2F02-4726-A06C-ABEC95A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DC11-7EDC-45C3-A04F-2EB5AFB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A1FB-C490-42B1-806E-2886177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EC8C-32E7-4F16-B85C-063CE327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EF06-75BB-4C52-AA3B-96DDA8A4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F01E-0FC2-4A1D-BF7D-3EB2420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2606-7272-4478-88ED-96C22188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A374-D861-4D04-81CA-BA028016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DB6A-510D-460B-9134-627597C5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FCA6-F27B-42D3-975A-818040C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D9D4-032D-4F0B-AEF3-01A63215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D7F-4E26-48CE-B961-934AA8F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3C8C-CA97-421E-83A9-7396AB0A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D167-E35D-4030-B751-7E99C23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91E6-9C59-406F-97B2-E6380E8E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555A-9910-4E06-8C62-2D01D63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A80A-C4F9-4B0E-BCDB-3EA89C8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6093-35E9-4BA8-B2A2-D00DAA8E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718B-9321-4383-98D7-47B99C38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7F4D-CDA6-4D4A-979E-5D884A7C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44A9-1394-49FD-98B5-E9A07BCB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8AEB-0F78-4627-87D2-FA7687BF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A54-2E07-4FC9-B249-135ED376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DF59-C17B-4C77-9667-8EFB31B9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EB0D-83C3-42DE-973D-DE3DF5E8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ED0F-E6CC-4D1B-8B4C-016AC0F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5508-1D28-4E21-B6FA-F1E13A1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B6FC5-09EF-4015-A460-F6F3BAD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DB5F8-EA84-4EEA-B471-BC4AA9B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8AEF-A1F7-4E32-B8C7-3A45405A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85C7-FB2B-4D66-8149-8A625A85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7484-31C8-4D2B-9E2F-F876005E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AD5-81D9-4582-8A29-1AC75B2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15F-B64A-43A0-BBA7-A2E8FD9D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319-B611-462F-A81F-092BD7D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153-1DD5-41C2-A254-3354D8E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FA4-45EE-490C-B696-972A761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CFB6-CBCF-4973-A4E9-2A8EBCC20CF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140C-A77E-40F4-885E-5F5C14B3C14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1F81-846C-4B65-81D7-51E77FAD716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EF3-782B-4E0F-BACB-5E02E248803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123640" y="5300280"/>
            <a:ext cx="6335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Trebuchet MS"/>
              </a:rPr>
              <a:t>Выполнила: Попова Александра, ученица 4 класс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Trebuchet MS"/>
              </a:rPr>
              <a:t>Руководитель: Закирова Ольга Павлов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403280" y="333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ГБОУ «Школа №842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449800" cy="32655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"/>
          <p:cNvSpPr/>
          <p:nvPr/>
        </p:nvSpPr>
        <p:spPr>
          <a:xfrm>
            <a:off x="3635280" y="1916280"/>
            <a:ext cx="48243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МИР ЛОШАДЕЙ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500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611280" y="333360"/>
            <a:ext cx="8137440" cy="67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Выводы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машние породы лошадей появились во второй половине III тысячелетия до нашей эр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 протяжении истории человечества лошадь оставалась верным спутником и помощником люд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настоящее время лошади выполняют много обязанностей: от скачек до занятий с инвалид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ечты детей о лошадях в наши дни осуществим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755640" y="620640"/>
            <a:ext cx="75614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Использованы материалы с сайтов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ru.wikipedia.or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moykon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westernhorse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raskraski.lesyadraw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detiseti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we.in.ua/2012/06/loshad-znachenie-loshadi-v-zhizni-cheloveka/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Объект 1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464360" cy="33494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8"/>
          <p:cNvSpPr/>
          <p:nvPr/>
        </p:nvSpPr>
        <p:spPr>
          <a:xfrm>
            <a:off x="1258920" y="54936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6300"/>
                </a:solidFill>
                <a:latin typeface="Trebuchet MS"/>
              </a:rPr>
              <a:t>Актуальность темы связана с мечтой детей о лошад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11280" y="692280"/>
            <a:ext cx="813744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6300"/>
                </a:solidFill>
                <a:latin typeface="Trebuchet MS"/>
              </a:rPr>
              <a:t>Цель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 проекта: рассмотреть историю одомашнивания лошадей, узнать, где сейчас используются лошади и выяснить, насколько осуществима мечта о лошади в наше время в условиях проживания в городе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4a6300"/>
                </a:solidFill>
                <a:latin typeface="Trebuchet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1. изучить литературу про строение лошадей, их одомашнивание, где находят применение лошади в наши дни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2. получить наглядное представление о лошадях, посетив конюшню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3. взять интервью у тренера по верховой езде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4. проанализировать, что знают о лошадях сверстники через ответы на вопросы созданного нами кроссворда;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5. создать журнал о лошадях, содержащий сведения об этих животных в занимательной форме и дополнить журнал иллюстрациями одноклассников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68360" y="404640"/>
            <a:ext cx="8207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Экскурсия в Жаворонки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(наблюдение за лошадьми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0418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539640" y="33336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300"/>
                </a:solidFill>
                <a:latin typeface="Trebuchet MS"/>
              </a:rPr>
              <a:t>Пони - лошадь, достигающая в холке до 150 с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tretch/>
        </p:blipFill>
        <p:spPr>
          <a:xfrm>
            <a:off x="1800360" y="1844640"/>
            <a:ext cx="51829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611280" y="404640"/>
            <a:ext cx="78483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Выдержк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из интервью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с тренером верховой езды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человек занимаются конным спортом в вашем клубе? 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коло 70 человек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кова плата за обучение навыкам верховой езды за месяц? 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 5 000 рублей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сейчас может стоить лошадь? 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еобученный жеребёнок – от 30 000 рублей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стоит содержание лошади в конюшне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15 000 рублей в месяц, при условии, что хозяин сам объезжает и дрессирует лошадь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539640" y="476280"/>
            <a:ext cx="79930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Результаты</a:t>
            </a:r>
            <a:r>
              <a:rPr b="0" lang="ru-RU" sz="1800" spc="-1" strike="noStrike">
                <a:solidFill>
                  <a:srgbClr val="00b050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опроса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опросе о лошадях участвовали 48 учени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ми сложными оказались вопрос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9640" y="3357720"/>
          <a:ext cx="7993080" cy="297324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л-во правильных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5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ошадь, участвующая в скачках (скаку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(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гороженное место для одной лошади (стойло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(15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 шерсти у животных (ма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684360" y="476280"/>
            <a:ext cx="741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Журнал «Мир лошадей»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2411280" y="1488960"/>
            <a:ext cx="353088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324000" y="476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300"/>
                </a:solidFill>
                <a:latin typeface="Trebuchet MS"/>
              </a:rPr>
              <a:t>Иллюстрации, выполненные одноклассникам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246040" cy="27082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2"/>
          <a:stretch/>
        </p:blipFill>
        <p:spPr>
          <a:xfrm>
            <a:off x="2771640" y="1839960"/>
            <a:ext cx="2664000" cy="20178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5" descr=""/>
          <p:cNvPicPr/>
          <p:nvPr/>
        </p:nvPicPr>
        <p:blipFill>
          <a:blip r:embed="rId3"/>
          <a:stretch/>
        </p:blipFill>
        <p:spPr>
          <a:xfrm>
            <a:off x="5940360" y="1828800"/>
            <a:ext cx="3024360" cy="20289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6" descr=""/>
          <p:cNvPicPr/>
          <p:nvPr/>
        </p:nvPicPr>
        <p:blipFill>
          <a:blip r:embed="rId4"/>
          <a:stretch/>
        </p:blipFill>
        <p:spPr>
          <a:xfrm>
            <a:off x="1200240" y="4292640"/>
            <a:ext cx="2903400" cy="20127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"/>
          <p:cNvPicPr/>
          <p:nvPr/>
        </p:nvPicPr>
        <p:blipFill>
          <a:blip r:embed="rId5"/>
          <a:stretch/>
        </p:blipFill>
        <p:spPr>
          <a:xfrm>
            <a:off x="5148360" y="4319640"/>
            <a:ext cx="230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10:55:21Z</dcterms:created>
  <dc:creator>Acer TravelMate</dc:creator>
  <dc:description/>
  <dc:language>en-US</dc:language>
  <cp:lastModifiedBy>Пользователь Windows</cp:lastModifiedBy>
  <dcterms:modified xsi:type="dcterms:W3CDTF">2021-06-10T09:15:28Z</dcterms:modified>
  <cp:revision>15</cp:revision>
  <dc:subject/>
  <dc:title>Презентация PowerPoint</dc:title>
</cp:coreProperties>
</file>