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C19F-2DCD-403C-B53B-562F1AA013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3C05-9F64-4B45-8858-13705F2BC38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445-5D16-4346-9C90-9A09A1D7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45B-FEE6-4ED1-9214-3A8EA0D1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2343-C2B8-4F34-BA5C-05D50E5C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0D5-2DF2-4CEA-BA90-7FC644C2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B36C-A760-4CA2-9ECA-7BE2DBAB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5FBA-F2BA-4EFD-B243-FCF713F3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B771-81E3-41FD-B66E-50D08EAA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7F5A-1B0B-450A-A9B9-F0D2AE89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4FDF-A8A0-4AC6-B9E2-1678F0E7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19FF-D6E3-422C-AC3C-CB132716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5B07-CB4F-4BD0-BBA8-382B413B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A9DF-B37A-4E27-9968-551B2C8D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0B88-80FA-4E9C-A9F1-7B16A958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D6FE-6F46-4C7D-98E9-5D736314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1EED-E834-4A92-8251-76C8B811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A0E6-CB3C-4F9A-AF42-B1D7B219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28DA-0410-447B-BE01-73D26C03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3B481-281F-4FBD-92F3-D45D5085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AE1A2-B953-4117-BDD7-C777D144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55EBF-0088-4EE5-AE01-9C58DAD9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C6EE5-CD7D-4E6F-A712-519EDDE3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EAACA-66B5-4373-B7DC-83AA1B99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86F-E74C-4409-94A3-4EAD5BA1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67DB7-A466-4AC1-A9D9-96674404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0AF6-AB4E-4DF6-84B9-F00D750B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A2F34-3868-47D8-A487-49A2D43E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7B4AB-290A-42C9-A496-852A9041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2FED0-BE04-4992-BE2C-C123907C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0B1A0-FFF4-4FB6-AE93-998169DA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E1321-9945-4135-BC52-31C6C1CD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2B796-EB35-4729-AD00-3EAF16BB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80844-56EA-4D49-A90C-A3325DC4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A3667-DA10-46A8-B9DF-1BAD37D8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4787-DD00-41B1-A6A6-AD7D825B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64B5D-0468-406F-9EF7-55A12ECD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67C9D-E42B-459F-9074-FCA30986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CE223-9F1B-4B23-9A50-662DD625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5B919-B6B3-4141-93CA-412B0F10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18D58-0855-416E-BDA7-51D7BCAE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97E1F-47A8-4629-9087-46D32A0B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FFF32-6DFA-440D-95E6-91E2D3CA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2A905-8CCF-4F93-9EEA-02A394E5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8FAA3-93F4-48A6-8AE9-BDFE1FDC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61DB-D892-4D04-B23E-18F32A4D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B81-2CA4-448E-9074-35D3B5E1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76B-690E-4DB8-B08A-C7E25E5D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76BA-B9C5-47EC-B824-B1F10E32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C4A7-9978-4FFB-8F13-23071FB2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F158-25B5-4E52-B3AC-3355CCB6C4B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12DD-DA65-4043-8595-1C4E5A1DC5A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0BFC-F5BB-45AB-A90B-72373D46D3C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4E72-4F19-40F0-81E7-20008A1D1D9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123640" y="5300280"/>
            <a:ext cx="6335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Trebuchet MS"/>
              </a:rPr>
              <a:t>Выполнила: Попова Александра, ученица 4 класс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Trebuchet MS"/>
              </a:rPr>
              <a:t>Руководитель: Закирова Ольга Павловн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1403280" y="333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ГБОУ «Школа №842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Рисунок 4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2449800" cy="32655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"/>
          <p:cNvSpPr/>
          <p:nvPr/>
        </p:nvSpPr>
        <p:spPr>
          <a:xfrm>
            <a:off x="3635280" y="1916280"/>
            <a:ext cx="482436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a6300"/>
                </a:solidFill>
                <a:latin typeface="Trebuchet MS"/>
              </a:rPr>
              <a:t> </a:t>
            </a:r>
            <a:r>
              <a:rPr b="1" lang="ru-RU" sz="4400" spc="-1" strike="noStrike">
                <a:solidFill>
                  <a:srgbClr val="4a6300"/>
                </a:solidFill>
                <a:latin typeface="Trebuchet MS"/>
              </a:rPr>
              <a:t>ТЕМА ПРОЕКТА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a6300"/>
                </a:solidFill>
                <a:latin typeface="Trebuchet MS"/>
              </a:rPr>
              <a:t> </a:t>
            </a:r>
            <a:r>
              <a:rPr b="1" lang="ru-RU" sz="4400" spc="-1" strike="noStrike">
                <a:solidFill>
                  <a:srgbClr val="4a6300"/>
                </a:solidFill>
                <a:latin typeface="Trebuchet MS"/>
              </a:rPr>
              <a:t>МИР ЛОШАДЕЙ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75008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611280" y="333360"/>
            <a:ext cx="8137440" cy="67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a6300"/>
                </a:solidFill>
                <a:latin typeface="Trebuchet MS"/>
              </a:rPr>
              <a:t>Выводы: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омашние породы лошадей появились во второй половине III тысячелетия до нашей эр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а протяжении истории человечества лошадь оставалась верным спутником и помощником люде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настоящее время лошади выполняют много обязанностей: от скачек до занятий с инвалидам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ечты детей о лошадях в наши дни осуществим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2"/>
          <p:cNvSpPr/>
          <p:nvPr/>
        </p:nvSpPr>
        <p:spPr>
          <a:xfrm>
            <a:off x="755640" y="620640"/>
            <a:ext cx="756144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a6300"/>
                </a:solidFill>
                <a:latin typeface="Trebuchet MS"/>
              </a:rPr>
              <a:t>Использованы материалы с сайтов: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ru.wikipedia.or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moykon.r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westernhorse.r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raskraski.lesyadraw.r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detiseti.r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qwe.in.ua/2012/06/loshad-znachenie-loshadi-v-zhizni-cheloveka/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Объект 1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464360" cy="33494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8"/>
          <p:cNvSpPr/>
          <p:nvPr/>
        </p:nvSpPr>
        <p:spPr>
          <a:xfrm>
            <a:off x="1258920" y="549360"/>
            <a:ext cx="67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6300"/>
                </a:solidFill>
                <a:latin typeface="Trebuchet MS"/>
              </a:rPr>
              <a:t>Актуальность темы связана с мечтой детей о лошад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611280" y="692280"/>
            <a:ext cx="813744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6300"/>
                </a:solidFill>
                <a:latin typeface="Trebuchet MS"/>
              </a:rPr>
              <a:t>Цель</a:t>
            </a: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 проекта: рассмотреть историю одомашнивания лошадей, узнать, где сейчас используются лошади и выяснить, насколько осуществима мечта о лошади в наше время в условиях проживания в городе.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400" spc="-1" strike="noStrike">
                <a:solidFill>
                  <a:srgbClr val="4a6300"/>
                </a:solidFill>
                <a:latin typeface="Trebuchet MS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1. изучить литературу про строение лошадей, их одомашнивание, где находят применение лошади в наши дни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2. получить наглядное представление о лошадях, посетив конюшню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3. взять интервью у тренера по верховой езде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4. проанализировать, что знают о лошадях сверстники через ответы на вопросы созданного нами кроссворда; 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5. создать журнал о лошадях, содержащий сведения об этих животных в занимательной форме и дополнить журнал иллюстрациями одноклассников.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468360" y="404640"/>
            <a:ext cx="82072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a6300"/>
                </a:solidFill>
                <a:latin typeface="Trebuchet MS"/>
              </a:rPr>
              <a:t>Экскурсия в Жаворонки 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a6300"/>
                </a:solidFill>
                <a:latin typeface="Trebuchet MS"/>
              </a:rPr>
              <a:t>(наблюдение за лошадьми)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2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04180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539640" y="33336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6300"/>
                </a:solidFill>
                <a:latin typeface="Trebuchet MS"/>
              </a:rPr>
              <a:t>Пони - лошадь, достигающая в холке до 150 с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Рисунок 2" descr=""/>
          <p:cNvPicPr/>
          <p:nvPr/>
        </p:nvPicPr>
        <p:blipFill>
          <a:blip r:embed="rId1"/>
          <a:stretch/>
        </p:blipFill>
        <p:spPr>
          <a:xfrm>
            <a:off x="1800360" y="1844640"/>
            <a:ext cx="51829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611280" y="404640"/>
            <a:ext cx="784836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400" spc="-1" strike="noStrike">
                <a:solidFill>
                  <a:srgbClr val="4a6300"/>
                </a:solidFill>
                <a:latin typeface="Trebuchet MS"/>
              </a:rPr>
              <a:t>Выдержк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400" spc="-1" strike="noStrike">
                <a:solidFill>
                  <a:srgbClr val="4a6300"/>
                </a:solidFill>
                <a:latin typeface="Trebuchet MS"/>
              </a:rPr>
              <a:t>из интервью 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a6300"/>
                </a:solidFill>
                <a:latin typeface="Trebuchet MS"/>
              </a:rPr>
              <a:t>с тренером верховой езды: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колько человек занимаются конным спортом в вашем клубе? (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коло 70 человек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акова плата за обучение навыкам верховой езды за месяц? (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т 5 000 рублей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колько сейчас может стоить лошадь? (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необученный жеребёнок – от 30 000 рублей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колько стоит содержание лошади в конюшне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15 000 рублей в месяц, при условии, что хозяин сам объезжает и дрессирует лошадь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539640" y="476280"/>
            <a:ext cx="79930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a6300"/>
                </a:solidFill>
                <a:latin typeface="Trebuchet MS"/>
              </a:rPr>
              <a:t>Результаты</a:t>
            </a:r>
            <a:r>
              <a:rPr b="0" lang="ru-RU" sz="1800" spc="-1" strike="noStrike">
                <a:solidFill>
                  <a:srgbClr val="00b050"/>
                </a:solidFill>
                <a:latin typeface="Trebuchet MS"/>
              </a:rPr>
              <a:t> </a:t>
            </a:r>
            <a:r>
              <a:rPr b="1" lang="ru-RU" sz="3400" spc="-1" strike="noStrike">
                <a:solidFill>
                  <a:srgbClr val="4a6300"/>
                </a:solidFill>
                <a:latin typeface="Trebuchet MS"/>
              </a:rPr>
              <a:t>опроса: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 опросе о лошадях участвовали 48 ученик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ыми сложными оказались вопросы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39640" y="3357720"/>
          <a:ext cx="7993080" cy="2973240"/>
        </p:xfrm>
        <a:graphic>
          <a:graphicData uri="http://schemas.openxmlformats.org/drawingml/2006/table">
            <a:tbl>
              <a:tblPr/>
              <a:tblGrid>
                <a:gridCol w="3997440"/>
                <a:gridCol w="3995640"/>
              </a:tblGrid>
              <a:tr h="71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ол-во правильных отв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52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ошадь, участвующая в скачках (скаку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 (1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52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гороженное место для одной лошади (стойло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 (15 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52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Цвет шерсти у животных (ма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684360" y="476280"/>
            <a:ext cx="741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a6300"/>
                </a:solidFill>
                <a:latin typeface="Trebuchet MS"/>
              </a:rPr>
              <a:t>Журнал «Мир лошадей»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Рисунок 2" descr=""/>
          <p:cNvPicPr/>
          <p:nvPr/>
        </p:nvPicPr>
        <p:blipFill>
          <a:blip r:embed="rId1"/>
          <a:stretch/>
        </p:blipFill>
        <p:spPr>
          <a:xfrm>
            <a:off x="2411280" y="1488960"/>
            <a:ext cx="353088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2"/>
          <p:cNvSpPr/>
          <p:nvPr/>
        </p:nvSpPr>
        <p:spPr>
          <a:xfrm>
            <a:off x="324000" y="4762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6300"/>
                </a:solidFill>
                <a:latin typeface="Trebuchet MS"/>
              </a:rPr>
              <a:t>Иллюстрации, выполненные одноклассниками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Рисунок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2246040" cy="27082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4" descr=""/>
          <p:cNvPicPr/>
          <p:nvPr/>
        </p:nvPicPr>
        <p:blipFill>
          <a:blip r:embed="rId2"/>
          <a:stretch/>
        </p:blipFill>
        <p:spPr>
          <a:xfrm>
            <a:off x="2771640" y="1839960"/>
            <a:ext cx="2664000" cy="201780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5" descr=""/>
          <p:cNvPicPr/>
          <p:nvPr/>
        </p:nvPicPr>
        <p:blipFill>
          <a:blip r:embed="rId3"/>
          <a:stretch/>
        </p:blipFill>
        <p:spPr>
          <a:xfrm>
            <a:off x="5940360" y="1828800"/>
            <a:ext cx="3024360" cy="20289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6" descr=""/>
          <p:cNvPicPr/>
          <p:nvPr/>
        </p:nvPicPr>
        <p:blipFill>
          <a:blip r:embed="rId4"/>
          <a:stretch/>
        </p:blipFill>
        <p:spPr>
          <a:xfrm>
            <a:off x="1200240" y="4292640"/>
            <a:ext cx="2903400" cy="20127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7" descr=""/>
          <p:cNvPicPr/>
          <p:nvPr/>
        </p:nvPicPr>
        <p:blipFill>
          <a:blip r:embed="rId5"/>
          <a:stretch/>
        </p:blipFill>
        <p:spPr>
          <a:xfrm>
            <a:off x="5148360" y="4319640"/>
            <a:ext cx="230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6T10:55:21Z</dcterms:created>
  <dc:creator>Acer TravelMate</dc:creator>
  <dc:description/>
  <dc:language>en-US</dc:language>
  <cp:lastModifiedBy>Пользователь Windows</cp:lastModifiedBy>
  <dcterms:modified xsi:type="dcterms:W3CDTF">2021-06-10T09:15:28Z</dcterms:modified>
  <cp:revision>15</cp:revision>
  <dc:subject/>
  <dc:title>Презентация PowerPoint</dc:title>
</cp:coreProperties>
</file>