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EEC-18C6-4B06-B11A-799FA1A0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59F-FFC6-49EC-A60A-017FAA4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49F-73E8-43B7-BB17-DD1BB33A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D9C-8F1E-4D05-BA6B-6CDF4A0A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D39-077E-40F4-B587-E1FCFF4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4F1-7439-4285-81A1-060304EC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9DB-FB6F-4134-8291-F14D093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B86-0099-4F3F-AE2C-B8AC671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B63-0503-4470-BE97-5DCC4C8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6AA-6866-4399-B259-251FB5A6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1EB-BA31-4E04-A942-A8288DC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BE3-B277-48FB-A066-0207947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EB7C-ED49-4799-B087-9E401BDD6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 адрес, имя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9280" y="2205000"/>
            <a:ext cx="41054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называ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95280" y="3429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незнакомыми людь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95280" y="3429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разговарив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8708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незнакомыми людьми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33130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иди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755640" y="3789360"/>
            <a:ext cx="7920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 подозрительных незнакомцах                     взрослым.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572000" y="44845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общ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влекай внимание окружающих: ____________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на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54414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716360" y="122220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кричи, з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3357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ты потерялся, _______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месте.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940360" y="1197000"/>
            <a:ext cx="1548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ой </a:t>
            </a:r>
            <a:br>
              <a:rPr sz="44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:\Users\User\Desktop\2 класс 2020-2021\Методические рек. 2класс\Окружающий мир\открытый урок\04-Novorichni-prigodi-Chervonoi-shapochki-1024x670.jpg"/>
          <p:cNvPicPr/>
          <p:nvPr/>
        </p:nvPicPr>
        <p:blipFill>
          <a:blip r:embed="rId1"/>
          <a:stretch/>
        </p:blipFill>
        <p:spPr>
          <a:xfrm>
            <a:off x="4788000" y="163440"/>
            <a:ext cx="421776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User\Desktop\2 класс 2020-2021\Методические рек. 2класс\Окружающий мир\открытый урок\D8oG-B4UIAA5QI1.jpg"/>
          <p:cNvPicPr/>
          <p:nvPr/>
        </p:nvPicPr>
        <p:blipFill>
          <a:blip r:embed="rId2"/>
          <a:stretch/>
        </p:blipFill>
        <p:spPr>
          <a:xfrm>
            <a:off x="155520" y="135000"/>
            <a:ext cx="422604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User\Desktop\2 класс 2020-2021\Методические рек. 2класс\Окружающий мир\открытый урок\22pe2u.jpg"/>
          <p:cNvPicPr/>
          <p:nvPr/>
        </p:nvPicPr>
        <p:blipFill>
          <a:blip r:embed="rId3"/>
          <a:stretch/>
        </p:blipFill>
        <p:spPr>
          <a:xfrm>
            <a:off x="166680" y="3573360"/>
            <a:ext cx="4226040" cy="299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:\открытый урок\img8 (3).jpg"/>
          <p:cNvPicPr/>
          <p:nvPr/>
        </p:nvPicPr>
        <p:blipFill>
          <a:blip r:embed="rId4"/>
          <a:stretch/>
        </p:blipFill>
        <p:spPr>
          <a:xfrm>
            <a:off x="4632480" y="3571920"/>
            <a:ext cx="4260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 ничего у незнакомых людей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115920"/>
            <a:ext cx="2170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бери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24000" y="1932120"/>
            <a:ext cx="792000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с незнакомыми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дьми в машину.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692280"/>
            <a:ext cx="3106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адись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6265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VID-20210120-WA0033.mp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278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7436"/>
                </a:solidFill>
                <a:latin typeface="Calibri"/>
              </a:rPr>
              <a:t>ОПАСНОС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57200" y="54936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открыл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удив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помог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почувствов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создал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:\Users\User\Desktop\2 класс 2020-2021\Методические рек. 2класс\Окружающий мир\открытый урок\04-Novorichni-prigodi-Chervonoi-shapochki-1024x670.jpg"/>
          <p:cNvPicPr/>
          <p:nvPr/>
        </p:nvPicPr>
        <p:blipFill>
          <a:blip r:embed="rId1"/>
          <a:stretch/>
        </p:blipFill>
        <p:spPr>
          <a:xfrm>
            <a:off x="4788000" y="163440"/>
            <a:ext cx="421776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User\Desktop\2 класс 2020-2021\Методические рек. 2класс\Окружающий мир\открытый урок\D8oG-B4UIAA5QI1.jpg"/>
          <p:cNvPicPr/>
          <p:nvPr/>
        </p:nvPicPr>
        <p:blipFill>
          <a:blip r:embed="rId2"/>
          <a:stretch/>
        </p:blipFill>
        <p:spPr>
          <a:xfrm>
            <a:off x="155520" y="135000"/>
            <a:ext cx="422604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User\Desktop\2 класс 2020-2021\Методические рек. 2класс\Окружающий мир\открытый урок\22pe2u.jpg"/>
          <p:cNvPicPr/>
          <p:nvPr/>
        </p:nvPicPr>
        <p:blipFill>
          <a:blip r:embed="rId3"/>
          <a:stretch/>
        </p:blipFill>
        <p:spPr>
          <a:xfrm>
            <a:off x="166680" y="3573360"/>
            <a:ext cx="422604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:\открытый урок\img8 (3).jpg"/>
          <p:cNvPicPr/>
          <p:nvPr/>
        </p:nvPicPr>
        <p:blipFill>
          <a:blip r:embed="rId4"/>
          <a:stretch/>
        </p:blipFill>
        <p:spPr>
          <a:xfrm>
            <a:off x="4632480" y="3571920"/>
            <a:ext cx="4260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98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0" y="3429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ком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ем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мся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ЕЗНАКОМЫЙ ЧЕЛОВЕК 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– это человек, которого ты не знаеш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5327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ерь незнакомым людя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71280" y="3933720"/>
            <a:ext cx="75214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41511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когда придут взрослы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41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ообща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5:38:38Z</dcterms:created>
  <dc:creator>user</dc:creator>
  <dc:description/>
  <dc:language>en-US</dc:language>
  <cp:lastModifiedBy>User</cp:lastModifiedBy>
  <dcterms:modified xsi:type="dcterms:W3CDTF">2021-06-10T07:33:00Z</dcterms:modified>
  <cp:revision>51</cp:revision>
  <dc:subject/>
  <dc:title>Презентация PowerPoint</dc:title>
</cp:coreProperties>
</file>