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B2A-B88C-4A7F-9D7F-66832384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4C0-7E14-43CA-A842-BEF318A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85B-A961-4CAC-A336-7ABDCF91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BE7-8015-40E4-BC04-3D489795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1E4-4F39-4285-B124-5126FB24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353-6365-4A88-ADE6-041B081D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334-ECD9-46BD-8B02-8CDF8437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FD3-1FB9-4271-AE84-4E62E2E4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559-7F05-4767-A4FD-B2F7B781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A6B-5DB2-4EB6-BFB8-9A3A6096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2BF-F0A2-4CB1-8CCF-C3D7110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D1B-FE1E-455E-8BA2-6BB23DB3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C27C-C186-4EA0-80DC-8A346C7F3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й адрес, имя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9280" y="2205000"/>
            <a:ext cx="410544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называ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95280" y="3429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незнакомыми людь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395280" y="3429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разговарив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8708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незнакомыми людьми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10920" y="1413000"/>
            <a:ext cx="33130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иди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755640" y="3789360"/>
            <a:ext cx="7920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 подозрительных незнакомцах                     взрослым.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572000" y="44845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общ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влекай внимание окружающих: ____________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на помощ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544140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4716360" y="1222200"/>
            <a:ext cx="33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кричи, з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24000" y="3357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ли ты потерялся, _______ 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месте.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52624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940360" y="1197000"/>
            <a:ext cx="1548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ой </a:t>
            </a:r>
            <a:br>
              <a:rPr sz="44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C:\Users\User\Desktop\2 класс 2020-2021\Методические рек. 2класс\Окружающий мир\открытый урок\04-Novorichni-prigodi-Chervonoi-shapochki-1024x670.jpg"/>
          <p:cNvPicPr/>
          <p:nvPr/>
        </p:nvPicPr>
        <p:blipFill>
          <a:blip r:embed="rId1"/>
          <a:stretch/>
        </p:blipFill>
        <p:spPr>
          <a:xfrm>
            <a:off x="4788000" y="163440"/>
            <a:ext cx="4217760" cy="3048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User\Desktop\2 класс 2020-2021\Методические рек. 2класс\Окружающий мир\открытый урок\D8oG-B4UIAA5QI1.jpg"/>
          <p:cNvPicPr/>
          <p:nvPr/>
        </p:nvPicPr>
        <p:blipFill>
          <a:blip r:embed="rId2"/>
          <a:stretch/>
        </p:blipFill>
        <p:spPr>
          <a:xfrm>
            <a:off x="155520" y="135000"/>
            <a:ext cx="422604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User\Desktop\2 класс 2020-2021\Методические рек. 2класс\Окружающий мир\открытый урок\22pe2u.jpg"/>
          <p:cNvPicPr/>
          <p:nvPr/>
        </p:nvPicPr>
        <p:blipFill>
          <a:blip r:embed="rId3"/>
          <a:stretch/>
        </p:blipFill>
        <p:spPr>
          <a:xfrm>
            <a:off x="166680" y="3573360"/>
            <a:ext cx="4226040" cy="299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F:\открытый урок\img8 (3).jpg"/>
          <p:cNvPicPr/>
          <p:nvPr/>
        </p:nvPicPr>
        <p:blipFill>
          <a:blip r:embed="rId4"/>
          <a:stretch/>
        </p:blipFill>
        <p:spPr>
          <a:xfrm>
            <a:off x="4632480" y="3571920"/>
            <a:ext cx="4260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 ничего у незнакомых людей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5640" y="115920"/>
            <a:ext cx="2170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бери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324000" y="1932120"/>
            <a:ext cx="792000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с незнакомыми 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дьми в машину.</a:t>
            </a: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692280"/>
            <a:ext cx="3106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садись</a:t>
            </a: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6265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VID-20210120-WA0033.mp4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Узнаем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основные правила безопасного поведения с незнакомц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Научимся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правильно себя вести при встрече с незнакомыми люд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278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17436"/>
                </a:solidFill>
                <a:latin typeface="Calibri"/>
              </a:rPr>
              <a:t>ОПАСНОС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457200" y="549360"/>
            <a:ext cx="81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открыл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удив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помог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почувствов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Я создал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:\Users\User\Desktop\2 класс 2020-2021\Методические рек. 2класс\Окружающий мир\открытый урок\04-Novorichni-prigodi-Chervonoi-shapochki-1024x670.jpg"/>
          <p:cNvPicPr/>
          <p:nvPr/>
        </p:nvPicPr>
        <p:blipFill>
          <a:blip r:embed="rId1"/>
          <a:stretch/>
        </p:blipFill>
        <p:spPr>
          <a:xfrm>
            <a:off x="4788000" y="163440"/>
            <a:ext cx="421776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User\Desktop\2 класс 2020-2021\Методические рек. 2класс\Окружающий мир\открытый урок\D8oG-B4UIAA5QI1.jpg"/>
          <p:cNvPicPr/>
          <p:nvPr/>
        </p:nvPicPr>
        <p:blipFill>
          <a:blip r:embed="rId2"/>
          <a:stretch/>
        </p:blipFill>
        <p:spPr>
          <a:xfrm>
            <a:off x="155520" y="135000"/>
            <a:ext cx="4226040" cy="30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User\Desktop\2 класс 2020-2021\Методические рек. 2класс\Окружающий мир\открытый урок\22pe2u.jpg"/>
          <p:cNvPicPr/>
          <p:nvPr/>
        </p:nvPicPr>
        <p:blipFill>
          <a:blip r:embed="rId3"/>
          <a:stretch/>
        </p:blipFill>
        <p:spPr>
          <a:xfrm>
            <a:off x="166680" y="3573360"/>
            <a:ext cx="422604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F:\открытый урок\img8 (3).jpg"/>
          <p:cNvPicPr/>
          <p:nvPr/>
        </p:nvPicPr>
        <p:blipFill>
          <a:blip r:embed="rId4"/>
          <a:stretch/>
        </p:blipFill>
        <p:spPr>
          <a:xfrm>
            <a:off x="4632480" y="3571920"/>
            <a:ext cx="4260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98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0" y="3429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ком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ем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учимся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Узнаем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основные правила безопасного поведения с незнакомц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Научимся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правильно себя вести при встрече с незнакомыми люд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НЕЗНАКОМЫЙ ЧЕЛОВЕК </a:t>
            </a: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– это человек, которого ты не знаеш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53272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ерь незнакомым людя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71280" y="3933720"/>
            <a:ext cx="75214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41511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когда придут взрослы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95280" y="907560"/>
            <a:ext cx="410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сообща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5:38:38Z</dcterms:created>
  <dc:creator>user</dc:creator>
  <dc:description/>
  <dc:language>en-US</dc:language>
  <cp:lastModifiedBy>User</cp:lastModifiedBy>
  <dcterms:modified xsi:type="dcterms:W3CDTF">2021-06-10T07:33:00Z</dcterms:modified>
  <cp:revision>51</cp:revision>
  <dc:subject/>
  <dc:title>Презентация PowerPoint</dc:title>
</cp:coreProperties>
</file>