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3FC-28AB-4298-ADA6-F379C065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835-E490-49C2-9333-88D7AE12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6FD-E74C-4F7B-878A-F3777ED0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761-58C9-486F-A9EB-F82E47F4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72-1C73-481A-8B43-00B706C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D5F-D6C3-47A5-BC39-8B1B4A62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B81-2EB5-4FF2-B7D3-083BAA6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D2E-E794-40A8-9362-856FC8D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5D7-0282-4A19-A7C8-C756B39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082-65AC-423B-8374-F5E869B5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858-D9EB-4475-A261-2D17818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648-1FF5-43EC-8DD1-A87FEA9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9957-AFAC-4D27-8F56-19F5F49AE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57160"/>
            <a:ext cx="864072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невые учебные задания по математик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ме: «Числовые выраж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214280" y="371484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: формирование знаний о числовых выражениях, умений записывать и находить их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080" y="1988640"/>
            <a:ext cx="4775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Напишите выра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Найдите 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я по образ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числу 14 прибавить 1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4+18=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числа 27 вычесть 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8 увеличить на 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числа 11 вычесть сумму чисел 3 и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числу 2 прибавить 7 и вычесть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ти сумму чисел 17 и 6 и из нее вычесть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2876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 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 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 -3 и более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28760" y="1428840"/>
            <a:ext cx="82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представлений о числовых выраж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2332080"/>
            <a:ext cx="50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Вспомните правило по те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Числовые выражения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Вставьте подходящие слова в определ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в ______ выполнить указанные _______, 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дем ______ выра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66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3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2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1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 не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й применять полученные знания по теме «Числовые выражения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2155320"/>
            <a:ext cx="442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 задач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Решите задачу, записав решение с помощью выраж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бидоне было 24 л молока. Утром взяли 16 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ока, а вечером налили в бидон ещё 12 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молока стало в бидон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8;       Б)20;           В)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2876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 решение верно, выбор неправи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 -Решение неверное, ответ выбран прави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 выполнено не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полученных знаний, умений записывать числовые выражения и находить их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в знаком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24210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Найдите значение выраж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Расставьте выражения в поряд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растания их знач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 + (20 + 30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5 – (4 +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0 + (14 - 6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 + (13 -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 - (6 +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28760" y="2714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и более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знаний и умений по применению числовых выражений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именение в нов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2643120"/>
            <a:ext cx="471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ознакомьтесь с запис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ставьте знаки действия вместо точек, чтобы равенство было вер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9…3…8…9 = 1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8…4…7…5 = 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6…9…7…11= 1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92720" y="28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и более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знаний, умений и навыков по теме «Числовые выражения» для развития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852640"/>
            <a:ext cx="8785440" cy="23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ровневые учебные задания помогают 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бразовательном процессе в условиях дистанционного обучения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существлении дифференцированного подхода в обучении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выявлении знаний по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создании для учени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итуации успеха»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развитии логического мышления и творческих способносте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прогнозировании результата обучения.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20:04:02Z</dcterms:created>
  <dc:creator>user</dc:creator>
  <dc:description/>
  <dc:language>en-US</dc:language>
  <cp:lastModifiedBy>user</cp:lastModifiedBy>
  <dcterms:modified xsi:type="dcterms:W3CDTF">2021-06-10T00:41:44Z</dcterms:modified>
  <cp:revision>19</cp:revision>
  <dc:subject/>
  <dc:title>Уровневые задания по математике по теме: «Числовые выражения»</dc:title>
</cp:coreProperties>
</file>