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0BF-69C2-4ABA-B77F-6F11DA70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459-1396-4ABA-A070-A7C5202A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3FE-DB59-428D-85E8-10A20DBD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1B6-FF78-492D-8974-788BE431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6415-AB54-4CF6-83D3-6CEC3CEA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21B-E035-4816-8C71-94D89AC7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EEA-A2A2-43C2-B7A1-6505AC30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DBD-C889-4AA6-A3EE-006AA015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5437-18C0-4D81-9B3A-91F32FA2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213D-0303-4BF1-ABE0-9D3BBEEE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E5B-CE3B-453E-AA30-E393A559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08A-E752-4DAC-B29D-7CC6833C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0484-5624-4449-B3EE-4D1E25FB8C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857160"/>
            <a:ext cx="8640720" cy="17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Уровневые учебные задания по математик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теме: «Числовые выражени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28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214280" y="371484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ль: формирование знаний о числовых выражениях, умений записывать и находить их зна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уров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080" y="1988640"/>
            <a:ext cx="4775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лгоритм выполнения 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Напишите выраж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Найдите и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ения по образц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бразец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числу 14 прибавить 1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14+18=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числа 27 вычесть 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сло 8 увеличить на 1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числа 11 вычесть сумму чисел 3 и 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числу 2 прибавить 7 и вычесть 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ти сумму чисел 17 и 6 и из нее вычесть 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92876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терии оцени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5»- 0 ошиб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4» -1 ошиб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3» -2 ошиб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2» -3 и более ошиб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428760" y="1428840"/>
            <a:ext cx="82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формирование представлений о числовых выражен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уров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роизве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5840" y="2332080"/>
            <a:ext cx="507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лгоритм выполнения зада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Вспомните правило по тем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Числовые выражения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Вставьте подходящие слова в определе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в ______ выполнить указанные _______, т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йдем ______ выраж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866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терии оцени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5»-3 вер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4»-2 вер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3»-1 вер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2»- невер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428760" y="142884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формирование умений применять полученные знания по теме «Числовые выражения»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уров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2155320"/>
            <a:ext cx="4429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горитм выполнения зад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Прочитай задач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Решите задачу, записав решение с помощью выраж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Выберите правильный отв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бидоне было 24 л молока. Утром взяли 16 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лока, а вечером налили в бидон ещё 12 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олько молока стало в бидоне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)8;       Б)20;           В)1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92876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терии оцени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5»- 0 ошиб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4»- решение верно, выбор неправиль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3» -Решение неверное, ответ выбран правиль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2»- выполнено невер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428760" y="142884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совершенствование полученных знаний, умений записывать числовые выражения и находить их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уров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ение в знаком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560" y="242100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лгоритм выполнения зада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Найдите значение выражен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Расставьте выражения в поряд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зрастания их значен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 + (20 + 30)=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5 – (4 + 4)=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90 + (14 - 6)=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8 + (13 - 4)=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3 - (6 + 4)=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28760" y="27147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терии оцени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5»- 0 ошиб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4»-1 ошиб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3»-2 ошиб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2»-3 и более ошиб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428760" y="1428840"/>
            <a:ext cx="871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совершенствование знаний и умений по применению числовых выражений в практ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 уров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рименение в нов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5480" y="2643120"/>
            <a:ext cx="471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 выполнения зад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Познакомьтесь с запися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Поставьте знаки действия вместо точек, чтобы равенство было вер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9…3…8…9 = 1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8…4…7…5 = 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6…9…7…11= 1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292720" y="28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терии оцени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5»-0 ошиб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4»-1 ошиб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3»-2 ошиб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2»-3 и более ошиб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428760" y="1428840"/>
            <a:ext cx="871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совершенствование знаний, умений и навыков по теме «Числовые выражения» для развития творческих спосо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852640"/>
            <a:ext cx="8785440" cy="236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Уровневые учебные задания помогают в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образовательном процессе в условиях дистанционного обучения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осуществлении дифференцированного подхода в обучении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выявлении знаний по теме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создании для ученик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ситуации успеха»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развитии логического мышления и творческих способностей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прогнозировании результата обучения.</a:t>
            </a:r>
            <a:br>
              <a:rPr sz="3600"/>
            </a:b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6-06T20:04:02Z</dcterms:created>
  <dc:creator>user</dc:creator>
  <dc:description/>
  <dc:language>en-US</dc:language>
  <cp:lastModifiedBy>user</cp:lastModifiedBy>
  <dcterms:modified xsi:type="dcterms:W3CDTF">2021-06-10T00:41:44Z</dcterms:modified>
  <cp:revision>19</cp:revision>
  <dc:subject/>
  <dc:title>Уровневые задания по математике по теме: «Числовые выражения»</dc:title>
</cp:coreProperties>
</file>