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2C6-5111-4087-9C68-F223DC91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4B7-5DF6-4A89-BF9A-DF7A1E17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B51-5954-431A-88D2-910FD8A4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6CF-C90D-4C1C-8480-51F5781A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5EF-73C6-4F02-8BD5-C433DE9A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071-20BF-4C5E-93C3-F489AE6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254-8248-4913-AAFB-1814F83E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718-6101-4AF7-A60B-9E724E2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3DB-1AD4-4955-BDB9-F429D2F3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63A-F3B7-48D4-9E60-66F9CF42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DDB-3C07-4DA2-BB65-3185210C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B05-05D0-46F5-8984-4DFC887E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54DA-118B-4FA6-B423-968B08176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10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81200" y="420840"/>
            <a:ext cx="7966080" cy="144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2290680"/>
            <a:ext cx="64008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23_1"/>
          <p:cNvPicPr/>
          <p:nvPr/>
        </p:nvPicPr>
        <p:blipFill>
          <a:blip r:embed="rId2"/>
          <a:stretch/>
        </p:blipFill>
        <p:spPr>
          <a:xfrm rot="1258800">
            <a:off x="7469280" y="358560"/>
            <a:ext cx="1800000" cy="146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www.DIGITAL.ru\Pictures\открытый урок\Открытый урок (9).JPG"/>
          <p:cNvPicPr/>
          <p:nvPr/>
        </p:nvPicPr>
        <p:blipFill>
          <a:blip r:embed="rId3"/>
          <a:stretch/>
        </p:blipFill>
        <p:spPr>
          <a:xfrm>
            <a:off x="785880" y="1857240"/>
            <a:ext cx="7572240" cy="4429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4"/>
          <a:stretch/>
        </p:blipFill>
        <p:spPr>
          <a:xfrm>
            <a:off x="781200" y="225360"/>
            <a:ext cx="808164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07 Дважды два четыре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~PP1651.WAV" descr=""/>
          <p:cNvPicPr/>
          <p:nvPr/>
        </p:nvPicPr>
        <p:blipFill>
          <a:blip r:embed="rId6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7910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www.DIGITAL.ru\Pictures\открытый урок\Открытый урок (15)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5435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781200" y="396720"/>
            <a:ext cx="7789680" cy="925560"/>
          </a:xfrm>
          <a:prstGeom prst="rect">
            <a:avLst/>
          </a:prstGeom>
          <a:ln w="0">
            <a:noFill/>
          </a:ln>
        </p:spPr>
      </p:pic>
      <p:pic>
        <p:nvPicPr>
          <p:cNvPr id="50" name="~PP3077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Users\www.DIGITAL.ru\Pictures\15-pervoklassniki-goroda-kalinina_thumbnail.jpg"/>
          <p:cNvPicPr/>
          <p:nvPr/>
        </p:nvPicPr>
        <p:blipFill>
          <a:blip r:embed="rId1"/>
          <a:stretch/>
        </p:blipFill>
        <p:spPr>
          <a:xfrm>
            <a:off x="1143000" y="1285920"/>
            <a:ext cx="6929280" cy="47862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371520" y="152280"/>
            <a:ext cx="8394480" cy="908280"/>
          </a:xfrm>
          <a:prstGeom prst="rect">
            <a:avLst/>
          </a:prstGeom>
          <a:ln w="0">
            <a:noFill/>
          </a:ln>
        </p:spPr>
      </p:pic>
      <p:pic>
        <p:nvPicPr>
          <p:cNvPr id="53" name="~PP1295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D:\Фотографии\2009-07-17 уроки информатики (курсы)\уроки информатики (курсы) 951.jpg"/>
          <p:cNvPicPr/>
          <p:nvPr/>
        </p:nvPicPr>
        <p:blipFill>
          <a:blip r:embed="rId1"/>
          <a:stretch/>
        </p:blipFill>
        <p:spPr>
          <a:xfrm>
            <a:off x="2643120" y="1600200"/>
            <a:ext cx="3714840" cy="46864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268200" y="407880"/>
            <a:ext cx="86076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~PP2534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615960"/>
            <a:ext cx="7304040" cy="7556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3" descr="D:\Фотографии\2009-07-17 уроки информатики (курсы)\уроки информатики (курсы) 679.jpg"/>
          <p:cNvPicPr/>
          <p:nvPr/>
        </p:nvPicPr>
        <p:blipFill>
          <a:blip r:embed="rId2"/>
          <a:stretch/>
        </p:blipFill>
        <p:spPr>
          <a:xfrm>
            <a:off x="928800" y="20001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3"/>
          <a:stretch/>
        </p:blipFill>
        <p:spPr>
          <a:xfrm>
            <a:off x="2419200" y="2567160"/>
            <a:ext cx="866880" cy="74916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D:\Фотографии\2009-07-17 уроки информатики (курсы)\уроки информатики (курсы) 679.jpg"/>
          <p:cNvPicPr/>
          <p:nvPr/>
        </p:nvPicPr>
        <p:blipFill>
          <a:blip r:embed="rId4"/>
          <a:stretch/>
        </p:blipFill>
        <p:spPr>
          <a:xfrm>
            <a:off x="3286080" y="200016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5"/>
          <a:stretch/>
        </p:blipFill>
        <p:spPr>
          <a:xfrm>
            <a:off x="4973760" y="2371680"/>
            <a:ext cx="909360" cy="77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www.DIGITAL.ru\Pictures\уроки информатики (курсы) 951.jpg"/>
          <p:cNvPicPr/>
          <p:nvPr/>
        </p:nvPicPr>
        <p:blipFill>
          <a:blip r:embed="rId6"/>
          <a:stretch/>
        </p:blipFill>
        <p:spPr>
          <a:xfrm>
            <a:off x="5857920" y="200016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928800" y="4071960"/>
            <a:ext cx="66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          +         7         =   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           *         2         =   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~PP269.WAV" descr=""/>
          <p:cNvPicPr/>
          <p:nvPr/>
        </p:nvPicPr>
        <p:blipFill>
          <a:blip r:embed="rId7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20840" y="549360"/>
            <a:ext cx="82422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1438200" y="2328840"/>
            <a:ext cx="1335240" cy="18162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3"/>
          <a:stretch/>
        </p:blipFill>
        <p:spPr>
          <a:xfrm>
            <a:off x="2371680" y="2286000"/>
            <a:ext cx="1193760" cy="11462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4"/>
          <a:stretch/>
        </p:blipFill>
        <p:spPr>
          <a:xfrm>
            <a:off x="3114720" y="2328840"/>
            <a:ext cx="1341360" cy="11034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6" descr=""/>
          <p:cNvPicPr/>
          <p:nvPr/>
        </p:nvPicPr>
        <p:blipFill>
          <a:blip r:embed="rId5"/>
          <a:stretch/>
        </p:blipFill>
        <p:spPr>
          <a:xfrm>
            <a:off x="3876840" y="2286000"/>
            <a:ext cx="1328400" cy="11462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6"/>
          <a:stretch/>
        </p:blipFill>
        <p:spPr>
          <a:xfrm>
            <a:off x="4896000" y="2328840"/>
            <a:ext cx="133956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8" descr=""/>
          <p:cNvPicPr/>
          <p:nvPr/>
        </p:nvPicPr>
        <p:blipFill>
          <a:blip r:embed="rId7"/>
          <a:stretch/>
        </p:blipFill>
        <p:spPr>
          <a:xfrm>
            <a:off x="5657760" y="2286000"/>
            <a:ext cx="1193760" cy="11462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9" descr=""/>
          <p:cNvPicPr/>
          <p:nvPr/>
        </p:nvPicPr>
        <p:blipFill>
          <a:blip r:embed="rId8"/>
          <a:stretch/>
        </p:blipFill>
        <p:spPr>
          <a:xfrm>
            <a:off x="6261120" y="2328840"/>
            <a:ext cx="1335240" cy="1816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1714680" y="3714840"/>
            <a:ext cx="58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   *   8   =     8  * 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857160" y="4572000"/>
            <a:ext cx="72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      =       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extBox 13" descr=""/>
          <p:cNvPicPr/>
          <p:nvPr/>
        </p:nvPicPr>
        <p:blipFill>
          <a:blip r:embed="rId9"/>
          <a:stretch/>
        </p:blipFill>
        <p:spPr>
          <a:xfrm>
            <a:off x="1420920" y="5450040"/>
            <a:ext cx="6443640" cy="474480"/>
          </a:xfrm>
          <a:prstGeom prst="rect">
            <a:avLst/>
          </a:prstGeom>
          <a:ln w="0">
            <a:noFill/>
          </a:ln>
        </p:spPr>
      </p:pic>
      <p:pic>
        <p:nvPicPr>
          <p:cNvPr id="76" name="~PP1186.WAV" descr=""/>
          <p:cNvPicPr/>
          <p:nvPr/>
        </p:nvPicPr>
        <p:blipFill>
          <a:blip r:embed="rId10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04:53Z</dcterms:modified>
  <cp:revision>67</cp:revision>
  <dc:subject/>
  <dc:title>Таблица умножения достойна уважения.</dc:title>
</cp:coreProperties>
</file>