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24E-16F0-498D-91DB-141E2405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89D-36FA-4368-AE2A-F5BD4E67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761-21C4-4E77-A3EC-B50C0A69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D52-F510-49FF-B2D7-65FF1303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A1B-1856-417C-9A77-2E5126F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CA6-3FD0-4528-82E5-2A817C5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75A-1EDA-4BD8-86BD-CD1F66F3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D7A-C42F-4977-8517-58ABE93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B45-F3DC-45A3-A00D-0742AC1A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3E0-D4A8-4627-BAF8-EB22D11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CF2-C128-4F19-862E-B1B11EA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CF7-4E0E-4DE2-A2D8-16B4721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00EE-F263-46C7-94C7-12116A814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420840"/>
            <a:ext cx="7966080" cy="144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290680"/>
            <a:ext cx="64008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23_1"/>
          <p:cNvPicPr/>
          <p:nvPr/>
        </p:nvPicPr>
        <p:blipFill>
          <a:blip r:embed="rId2"/>
          <a:stretch/>
        </p:blipFill>
        <p:spPr>
          <a:xfrm rot="1258800">
            <a:off x="7469280" y="358560"/>
            <a:ext cx="1800000" cy="146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www.DIGITAL.ru\Pictures\открытый урок\Открытый урок (9).JPG"/>
          <p:cNvPicPr/>
          <p:nvPr/>
        </p:nvPicPr>
        <p:blipFill>
          <a:blip r:embed="rId3"/>
          <a:stretch/>
        </p:blipFill>
        <p:spPr>
          <a:xfrm>
            <a:off x="785880" y="1857240"/>
            <a:ext cx="7572240" cy="4429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4"/>
          <a:stretch/>
        </p:blipFill>
        <p:spPr>
          <a:xfrm>
            <a:off x="781200" y="225360"/>
            <a:ext cx="80816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07 Дважды два четыр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~PP1651.WAV" descr=""/>
          <p:cNvPicPr/>
          <p:nvPr/>
        </p:nvPicPr>
        <p:blipFill>
          <a:blip r:embed="rId6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7910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www.DIGITAL.ru\Pictures\открытый урок\Открытый урок (15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543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396720"/>
            <a:ext cx="7789680" cy="925560"/>
          </a:xfrm>
          <a:prstGeom prst="rect">
            <a:avLst/>
          </a:prstGeom>
          <a:ln w="0">
            <a:noFill/>
          </a:ln>
        </p:spPr>
      </p:pic>
      <p:pic>
        <p:nvPicPr>
          <p:cNvPr id="50" name="~PP3077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www.DIGITAL.ru\Pictures\15-pervoklassniki-goroda-kalinina_thumbnail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29280" cy="4786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371520" y="152280"/>
            <a:ext cx="8394480" cy="908280"/>
          </a:xfrm>
          <a:prstGeom prst="rect">
            <a:avLst/>
          </a:prstGeom>
          <a:ln w="0">
            <a:noFill/>
          </a:ln>
        </p:spPr>
      </p:pic>
      <p:pic>
        <p:nvPicPr>
          <p:cNvPr id="53" name="~PP1295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:\Фотографии\2009-07-17 уроки информатики (курсы)\уроки информатики (курсы) 951.jpg"/>
          <p:cNvPicPr/>
          <p:nvPr/>
        </p:nvPicPr>
        <p:blipFill>
          <a:blip r:embed="rId1"/>
          <a:stretch/>
        </p:blipFill>
        <p:spPr>
          <a:xfrm>
            <a:off x="2643120" y="1600200"/>
            <a:ext cx="3714840" cy="4686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407880"/>
            <a:ext cx="86076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~PP2534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615960"/>
            <a:ext cx="7304040" cy="7556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D:\Фотографии\2009-07-17 уроки информатики (курсы)\уроки информатики (курсы) 679.jpg"/>
          <p:cNvPicPr/>
          <p:nvPr/>
        </p:nvPicPr>
        <p:blipFill>
          <a:blip r:embed="rId2"/>
          <a:stretch/>
        </p:blipFill>
        <p:spPr>
          <a:xfrm>
            <a:off x="928800" y="20001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2419200" y="2567160"/>
            <a:ext cx="866880" cy="7491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D:\Фотографии\2009-07-17 уроки информатики (курсы)\уроки информатики (курсы) 679.jpg"/>
          <p:cNvPicPr/>
          <p:nvPr/>
        </p:nvPicPr>
        <p:blipFill>
          <a:blip r:embed="rId4"/>
          <a:stretch/>
        </p:blipFill>
        <p:spPr>
          <a:xfrm>
            <a:off x="3286080" y="200016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5"/>
          <a:stretch/>
        </p:blipFill>
        <p:spPr>
          <a:xfrm>
            <a:off x="4973760" y="2371680"/>
            <a:ext cx="909360" cy="77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www.DIGITAL.ru\Pictures\уроки информатики (курсы) 951.jpg"/>
          <p:cNvPicPr/>
          <p:nvPr/>
        </p:nvPicPr>
        <p:blipFill>
          <a:blip r:embed="rId6"/>
          <a:stretch/>
        </p:blipFill>
        <p:spPr>
          <a:xfrm>
            <a:off x="5857920" y="20001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928800" y="407196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          +         7         =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           *         2         =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~PP269.WAV" descr=""/>
          <p:cNvPicPr/>
          <p:nvPr/>
        </p:nvPicPr>
        <p:blipFill>
          <a:blip r:embed="rId7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20840" y="549360"/>
            <a:ext cx="824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1438200" y="2328840"/>
            <a:ext cx="1335240" cy="1816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3"/>
          <a:stretch/>
        </p:blipFill>
        <p:spPr>
          <a:xfrm>
            <a:off x="2371680" y="2286000"/>
            <a:ext cx="1193760" cy="11462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4"/>
          <a:stretch/>
        </p:blipFill>
        <p:spPr>
          <a:xfrm>
            <a:off x="3114720" y="2328840"/>
            <a:ext cx="1341360" cy="1103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5"/>
          <a:stretch/>
        </p:blipFill>
        <p:spPr>
          <a:xfrm>
            <a:off x="3876840" y="2286000"/>
            <a:ext cx="1328400" cy="11462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6"/>
          <a:stretch/>
        </p:blipFill>
        <p:spPr>
          <a:xfrm>
            <a:off x="4896000" y="2328840"/>
            <a:ext cx="133956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8" descr=""/>
          <p:cNvPicPr/>
          <p:nvPr/>
        </p:nvPicPr>
        <p:blipFill>
          <a:blip r:embed="rId7"/>
          <a:stretch/>
        </p:blipFill>
        <p:spPr>
          <a:xfrm>
            <a:off x="5657760" y="2286000"/>
            <a:ext cx="1193760" cy="11462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9" descr=""/>
          <p:cNvPicPr/>
          <p:nvPr/>
        </p:nvPicPr>
        <p:blipFill>
          <a:blip r:embed="rId8"/>
          <a:stretch/>
        </p:blipFill>
        <p:spPr>
          <a:xfrm>
            <a:off x="6261120" y="2328840"/>
            <a:ext cx="1335240" cy="1816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1714680" y="3714840"/>
            <a:ext cx="58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   *   8   =     8  * 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857160" y="457200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      =       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13" descr=""/>
          <p:cNvPicPr/>
          <p:nvPr/>
        </p:nvPicPr>
        <p:blipFill>
          <a:blip r:embed="rId9"/>
          <a:stretch/>
        </p:blipFill>
        <p:spPr>
          <a:xfrm>
            <a:off x="1420920" y="5450040"/>
            <a:ext cx="6443640" cy="474480"/>
          </a:xfrm>
          <a:prstGeom prst="rect">
            <a:avLst/>
          </a:prstGeom>
          <a:ln w="0">
            <a:noFill/>
          </a:ln>
        </p:spPr>
      </p:pic>
      <p:pic>
        <p:nvPicPr>
          <p:cNvPr id="76" name="~PP1186.WAV" descr=""/>
          <p:cNvPicPr/>
          <p:nvPr/>
        </p:nvPicPr>
        <p:blipFill>
          <a:blip r:embed="rId10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04:53Z</dcterms:modified>
  <cp:revision>67</cp:revision>
  <dc:subject/>
  <dc:title>Таблица умножения достойна уважения.</dc:title>
</cp:coreProperties>
</file>