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534-2B77-4AA7-A139-6F1F3948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412-96F5-4698-B079-1EE2D6F9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CE0-CD82-40A4-9304-9A31F3CB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390-5B6A-4026-AC2B-04F8F598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E9C-7E51-471A-9C17-7B536A8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376-D5AB-46CE-B1E6-F9BBFCEA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82A-62B5-44AD-B757-EE47E8F5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B5D-1071-45B9-B50E-B881DC5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282-0615-4347-B04D-EB1EB0E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BC1-C4E0-4CB2-897B-7AEC1AF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F4C-6826-4BD9-ACF4-077886E6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7BA-9791-4B28-B3E9-5B3B4BF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963-305A-4EF2-87EC-5AF73C272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http://i036.radikal.ru/0805/23/e806646975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171468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993600" y="457200"/>
            <a:ext cx="6973920" cy="119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Фотографии\2009-07-17 уроки информатики (курсы)\уроки информатики (курсы) 127.bmp"/>
          <p:cNvPicPr/>
          <p:nvPr/>
        </p:nvPicPr>
        <p:blipFill>
          <a:blip r:embed="rId4"/>
          <a:stretch/>
        </p:blipFill>
        <p:spPr>
          <a:xfrm rot="1066200">
            <a:off x="6832080" y="4903920"/>
            <a:ext cx="1471680" cy="1471320"/>
          </a:xfrm>
          <a:prstGeom prst="rect">
            <a:avLst/>
          </a:prstGeom>
          <a:ln w="0">
            <a:noFill/>
          </a:ln>
        </p:spPr>
      </p:pic>
      <p:pic>
        <p:nvPicPr>
          <p:cNvPr id="44" name="~PP1700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http://i033.radikal.ru/0805/40/0b4c5e5b1e3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428840"/>
            <a:ext cx="6215040" cy="48798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2011320" y="281160"/>
            <a:ext cx="5121360" cy="85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Фотографии\2009-07-17 уроки информатики (курсы)\уроки информатики (курсы) 126.bmp"/>
          <p:cNvPicPr/>
          <p:nvPr/>
        </p:nvPicPr>
        <p:blipFill>
          <a:blip r:embed="rId4"/>
          <a:stretch/>
        </p:blipFill>
        <p:spPr>
          <a:xfrm rot="745200">
            <a:off x="6928920" y="642600"/>
            <a:ext cx="135756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~PP959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12:22Z</dcterms:modified>
  <cp:revision>67</cp:revision>
  <dc:subject/>
  <dc:title>Таблица умножения достойна уважения.</dc:title>
</cp:coreProperties>
</file>