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119-4BBF-4D70-9DFB-3FE789F7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C222-343D-4D53-B6E0-8E5EE1E0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8A0A-23B5-4F8B-BAF2-2FA234D7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0CA-CFE9-44F0-A206-19888AFC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FB2B-EB37-4E28-BDF4-C184F18F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551-955D-47F4-9FD2-C63D38D0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FBC-D8E8-42B9-B26C-39CC4957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EB6-56ED-4115-980A-9632AEF7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E50-2076-4DA2-B0C7-73EAAE4F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44F-3B15-48CB-8B07-57D736AF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E80-88AF-4671-B195-B16B090A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F8C-58A1-4815-835B-F95E79B1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1B1B-EC5C-4533-B19A-85644B589B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http://i036.radikal.ru/0805/23/e8066469751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1714680"/>
            <a:ext cx="5715000" cy="4572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3"/>
          <a:stretch/>
        </p:blipFill>
        <p:spPr>
          <a:xfrm>
            <a:off x="993600" y="457200"/>
            <a:ext cx="6973920" cy="1195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Фотографии\2009-07-17 уроки информатики (курсы)\уроки информатики (курсы) 127.bmp"/>
          <p:cNvPicPr/>
          <p:nvPr/>
        </p:nvPicPr>
        <p:blipFill>
          <a:blip r:embed="rId4"/>
          <a:stretch/>
        </p:blipFill>
        <p:spPr>
          <a:xfrm rot="1066200">
            <a:off x="6832080" y="4903920"/>
            <a:ext cx="1471680" cy="1471320"/>
          </a:xfrm>
          <a:prstGeom prst="rect">
            <a:avLst/>
          </a:prstGeom>
          <a:ln w="0">
            <a:noFill/>
          </a:ln>
        </p:spPr>
      </p:pic>
      <p:pic>
        <p:nvPicPr>
          <p:cNvPr id="44" name="~PP1700.WAV" descr=""/>
          <p:cNvPicPr/>
          <p:nvPr/>
        </p:nvPicPr>
        <p:blipFill>
          <a:blip r:embed="rId5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3" descr="http://i033.radikal.ru/0805/40/0b4c5e5b1e3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1428840"/>
            <a:ext cx="6215040" cy="48798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" descr=""/>
          <p:cNvPicPr/>
          <p:nvPr/>
        </p:nvPicPr>
        <p:blipFill>
          <a:blip r:embed="rId3"/>
          <a:stretch/>
        </p:blipFill>
        <p:spPr>
          <a:xfrm>
            <a:off x="2011320" y="281160"/>
            <a:ext cx="5121360" cy="858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D:\Фотографии\2009-07-17 уроки информатики (курсы)\уроки информатики (курсы) 126.bmp"/>
          <p:cNvPicPr/>
          <p:nvPr/>
        </p:nvPicPr>
        <p:blipFill>
          <a:blip r:embed="rId4"/>
          <a:stretch/>
        </p:blipFill>
        <p:spPr>
          <a:xfrm rot="745200">
            <a:off x="6928920" y="642600"/>
            <a:ext cx="1357560" cy="1285920"/>
          </a:xfrm>
          <a:prstGeom prst="rect">
            <a:avLst/>
          </a:prstGeom>
          <a:ln w="0">
            <a:noFill/>
          </a:ln>
        </p:spPr>
      </p:pic>
      <p:pic>
        <p:nvPicPr>
          <p:cNvPr id="48" name="~PP959.WAV" descr=""/>
          <p:cNvPicPr/>
          <p:nvPr/>
        </p:nvPicPr>
        <p:blipFill>
          <a:blip r:embed="rId5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8:40:01Z</dcterms:created>
  <dc:creator>home</dc:creator>
  <dc:description/>
  <dc:language>en-US</dc:language>
  <cp:lastModifiedBy>home</cp:lastModifiedBy>
  <dcterms:modified xsi:type="dcterms:W3CDTF">2013-01-20T10:12:22Z</dcterms:modified>
  <cp:revision>67</cp:revision>
  <dc:subject/>
  <dc:title>Таблица умножения достойна уважения.</dc:title>
</cp:coreProperties>
</file>