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0DEF-A9D4-49DD-A436-D0CE4907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D07F-5C9F-479A-97B0-2EA78668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5F78-E389-4E5A-8F24-F5F8903E5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F8C2-3412-4B33-95AC-22EA7F93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5DBF-9EFA-4561-81A1-9BC6D0CE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088D-52E9-4A16-8D9D-80869496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7CE5-6580-4911-BE56-7883ADDE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9C2D-C46E-454B-B305-B2779ACA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CB0-4244-442E-9C54-7D87A39B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E68E-3803-4CC6-A5B6-155219E8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C1E8-726C-4EC7-80D4-929903F6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C75D-B922-422D-B402-3415D6F9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42DD-26E4-4D2E-8057-19D240DDFC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-244440" y="622440"/>
            <a:ext cx="9632880" cy="1206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www.DIGITAL.ru\Pictures\открытый урок\Открытый урок (33) - копия.JPG"/>
          <p:cNvPicPr/>
          <p:nvPr/>
        </p:nvPicPr>
        <p:blipFill>
          <a:blip r:embed="rId2"/>
          <a:stretch/>
        </p:blipFill>
        <p:spPr>
          <a:xfrm>
            <a:off x="1233360" y="1600200"/>
            <a:ext cx="6677280" cy="4708440"/>
          </a:xfrm>
          <a:prstGeom prst="rect">
            <a:avLst/>
          </a:prstGeom>
          <a:ln w="0">
            <a:noFill/>
          </a:ln>
        </p:spPr>
      </p:pic>
      <p:pic>
        <p:nvPicPr>
          <p:cNvPr id="43" name="~PP1249.WAV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8:40:01Z</dcterms:created>
  <dc:creator>home</dc:creator>
  <dc:description/>
  <dc:language>en-US</dc:language>
  <cp:lastModifiedBy>home</cp:lastModifiedBy>
  <dcterms:modified xsi:type="dcterms:W3CDTF">2013-01-20T10:16:32Z</dcterms:modified>
  <cp:revision>66</cp:revision>
  <dc:subject/>
  <dc:title>Таблица умножения достойна уважения.</dc:title>
</cp:coreProperties>
</file>