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32F-9699-472A-9236-7820821C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273-0751-481E-A334-F42594FC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C1F-B3AE-4C17-8DD3-069D36BC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4AB-3B8E-4BC1-93EA-B1975481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22E-1D51-4ADC-8C04-257F7C68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598-4574-4EED-9A72-17216F63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4BC-0963-48C2-9B89-C4FB1001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861-DE0D-4AB0-965C-E0C6AAA0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1C7-DB2B-409F-AD5B-7C0738D1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609-6B11-4171-9BF4-790C94F2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626-BFF7-4BDB-80E4-367DD44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792-FDB6-416B-9E79-29A3CB63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3DAB-2905-4236-BF28-8932CEEDAA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244440" y="622440"/>
            <a:ext cx="9632880" cy="1206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www.DIGITAL.ru\Pictures\открытый урок\Открытый урок (33) - копия.JPG"/>
          <p:cNvPicPr/>
          <p:nvPr/>
        </p:nvPicPr>
        <p:blipFill>
          <a:blip r:embed="rId2"/>
          <a:stretch/>
        </p:blipFill>
        <p:spPr>
          <a:xfrm>
            <a:off x="1233360" y="1600200"/>
            <a:ext cx="6677280" cy="4708440"/>
          </a:xfrm>
          <a:prstGeom prst="rect">
            <a:avLst/>
          </a:prstGeom>
          <a:ln w="0">
            <a:noFill/>
          </a:ln>
        </p:spPr>
      </p:pic>
      <p:pic>
        <p:nvPicPr>
          <p:cNvPr id="43" name="~PP1249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16:32Z</dcterms:modified>
  <cp:revision>66</cp:revision>
  <dc:subject/>
  <dc:title>Таблица умножения достойна уважения.</dc:title>
</cp:coreProperties>
</file>