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C62-7ED6-4190-8B2C-D3C6B739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96F-E2C8-400A-94AC-80FF9F6D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856-5A71-4FD4-9179-43FA3B9F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A7B-62C1-43BB-9CA7-C83D0311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C5C-EC5F-4C3A-9843-649AB70E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165-0677-44CD-8210-D76BF337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45D-B445-4C55-A11D-875B04FC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944-465C-4F9A-8F16-24764CF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BB0-2556-493B-98B8-A8754357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867-8939-4A63-9685-C146FDA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9C5-5664-4ADB-98E9-5D1BEFC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41E-7529-4460-85A1-C126F9EF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68DD-8773-4320-9DDD-33745E987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24256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*2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*5=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*4=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*6=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*8=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http://i013.radikal.ru/0805/6f/7739e07a86bd.jpg"/>
          <p:cNvPicPr/>
          <p:nvPr/>
        </p:nvPicPr>
        <p:blipFill>
          <a:blip r:embed="rId2"/>
          <a:stretch/>
        </p:blipFill>
        <p:spPr>
          <a:xfrm>
            <a:off x="2428920" y="1357200"/>
            <a:ext cx="6143760" cy="49294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2279520" y="341280"/>
            <a:ext cx="6231240" cy="95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Фотографии\2009-07-17 уроки информатики (курсы)\уроки информатики (курсы) 135.bmp"/>
          <p:cNvPicPr/>
          <p:nvPr/>
        </p:nvPicPr>
        <p:blipFill>
          <a:blip r:embed="rId4"/>
          <a:stretch/>
        </p:blipFill>
        <p:spPr>
          <a:xfrm>
            <a:off x="571680" y="4572000"/>
            <a:ext cx="1614240" cy="1614600"/>
          </a:xfrm>
          <a:prstGeom prst="rect">
            <a:avLst/>
          </a:prstGeom>
          <a:ln w="0">
            <a:noFill/>
          </a:ln>
        </p:spPr>
      </p:pic>
      <p:pic>
        <p:nvPicPr>
          <p:cNvPr id="46" name="~PP2872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http://i023.radikal.ru/0805/5d/076f090b01fd.jpg"/>
          <p:cNvPicPr/>
          <p:nvPr/>
        </p:nvPicPr>
        <p:blipFill>
          <a:blip r:embed="rId1"/>
          <a:stretch/>
        </p:blipFill>
        <p:spPr>
          <a:xfrm>
            <a:off x="800280" y="128592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http://i036.radikal.ru/0805/86/74b868f27c66.jpg"/>
          <p:cNvPicPr/>
          <p:nvPr/>
        </p:nvPicPr>
        <p:blipFill>
          <a:blip r:embed="rId2"/>
          <a:stretch/>
        </p:blipFill>
        <p:spPr>
          <a:xfrm>
            <a:off x="4572000" y="135720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493560" y="457200"/>
            <a:ext cx="815688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www.DIGITAL.ru\Pictures\nashi_mult-prev[1] - копия (2).jpg"/>
          <p:cNvPicPr/>
          <p:nvPr/>
        </p:nvPicPr>
        <p:blipFill>
          <a:blip r:embed="rId4"/>
          <a:stretch/>
        </p:blipFill>
        <p:spPr>
          <a:xfrm>
            <a:off x="7143840" y="1278000"/>
            <a:ext cx="1218960" cy="1079280"/>
          </a:xfrm>
          <a:prstGeom prst="rect">
            <a:avLst/>
          </a:prstGeom>
          <a:ln w="0">
            <a:noFill/>
          </a:ln>
        </p:spPr>
      </p:pic>
      <p:pic>
        <p:nvPicPr>
          <p:cNvPr id="51" name="~PP3243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18:38Z</dcterms:modified>
  <cp:revision>65</cp:revision>
  <dc:subject/>
  <dc:title>Таблица умножения достойна уважения.</dc:title>
</cp:coreProperties>
</file>