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005-BD76-4105-A49F-BB8A019C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F8E-C5EE-47B7-B20A-C013E335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3D7-FABD-4E9D-B6FA-D95B8CD7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8AB-4108-488B-B53F-2684C9B3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82E-9B07-4D3B-863E-B6F791A6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3F1-48B9-477E-99A2-0D8973AC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47F-7A63-49A4-A599-2E225BA3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B49-7AE1-4FA7-A062-1690D545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0A7-461F-4B00-B151-46BFC224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528-B1B9-4858-A1AC-EB1C732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2EE-046F-41CE-BCFD-B11D279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D81-B318-4C4A-9721-EE04DE6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2B8-53AE-43A9-A9EB-E2EABA5AF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http://i023.radikal.ru/0805/73/633d2e40b2c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1600200"/>
            <a:ext cx="5429160" cy="4525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781200" y="304920"/>
            <a:ext cx="7369200" cy="115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www.DIGITAL.ru\Pictures\nashi_mult-prev[1] - копия.jpg"/>
          <p:cNvPicPr/>
          <p:nvPr/>
        </p:nvPicPr>
        <p:blipFill>
          <a:blip r:embed="rId4"/>
          <a:stretch/>
        </p:blipFill>
        <p:spPr>
          <a:xfrm rot="1266600">
            <a:off x="6773400" y="1500120"/>
            <a:ext cx="1438200" cy="1317600"/>
          </a:xfrm>
          <a:prstGeom prst="rect">
            <a:avLst/>
          </a:prstGeom>
          <a:ln w="0">
            <a:noFill/>
          </a:ln>
        </p:spPr>
      </p:pic>
      <p:pic>
        <p:nvPicPr>
          <p:cNvPr id="44" name="~PP1615.WAV" descr=""/>
          <p:cNvPicPr/>
          <p:nvPr/>
        </p:nvPicPr>
        <p:blipFill>
          <a:blip r:embed="rId5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antn027"/>
          <p:cNvPicPr/>
          <p:nvPr/>
        </p:nvPicPr>
        <p:blipFill>
          <a:blip r:embed="rId1"/>
          <a:stretch/>
        </p:blipFill>
        <p:spPr>
          <a:xfrm rot="535200">
            <a:off x="5724360" y="3933720"/>
            <a:ext cx="3011760" cy="2513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2"/>
          <a:stretch/>
        </p:blipFill>
        <p:spPr>
          <a:xfrm>
            <a:off x="993600" y="1554120"/>
            <a:ext cx="7156800" cy="23227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2011320" y="476280"/>
            <a:ext cx="5127840" cy="944640"/>
          </a:xfrm>
          <a:prstGeom prst="rect">
            <a:avLst/>
          </a:prstGeom>
          <a:ln w="0">
            <a:noFill/>
          </a:ln>
        </p:spPr>
      </p:pic>
      <p:pic>
        <p:nvPicPr>
          <p:cNvPr id="48" name="~PP2801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20:36Z</dcterms:modified>
  <cp:revision>65</cp:revision>
  <dc:subject/>
  <dc:title>Таблица умножения достойна уважения.</dc:title>
</cp:coreProperties>
</file>