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0A77-6987-406E-B654-D25EA06F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F0C9-4E09-4BF6-A266-DB12E64D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9E2F-A05C-44EC-A254-DB99F2BA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9845-A42A-43A5-B47B-9FC20FBEF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7520-AA1F-4246-B15F-DC2ECE66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E8D4-4385-4FDD-A588-13CB5316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A613-24B6-4AA1-A9D0-E65502F9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6C0D-35DE-4D54-B3B2-2B82C2FB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D3A0-6464-4114-BB64-C18D537A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FC8E-0DB8-4CC5-9D17-3980BF0D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08AB-E527-453F-9A10-7D09619D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934F-52D0-4649-8A9D-A19D5119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B7C9-0443-475A-8C20-097782F6E8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одержимое 3" descr="http://i023.radikal.ru/0805/73/633d2e40b2c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85960" y="1600200"/>
            <a:ext cx="5429160" cy="452592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3"/>
          <a:stretch/>
        </p:blipFill>
        <p:spPr>
          <a:xfrm>
            <a:off x="781200" y="304920"/>
            <a:ext cx="7369200" cy="1152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Users\www.DIGITAL.ru\Pictures\nashi_mult-prev[1] - копия.jpg"/>
          <p:cNvPicPr/>
          <p:nvPr/>
        </p:nvPicPr>
        <p:blipFill>
          <a:blip r:embed="rId4"/>
          <a:stretch/>
        </p:blipFill>
        <p:spPr>
          <a:xfrm rot="1266600">
            <a:off x="6773400" y="1500120"/>
            <a:ext cx="1438200" cy="1317600"/>
          </a:xfrm>
          <a:prstGeom prst="rect">
            <a:avLst/>
          </a:prstGeom>
          <a:ln w="0">
            <a:noFill/>
          </a:ln>
        </p:spPr>
      </p:pic>
      <p:pic>
        <p:nvPicPr>
          <p:cNvPr id="44" name="~PP1615.WAV" descr=""/>
          <p:cNvPicPr/>
          <p:nvPr/>
        </p:nvPicPr>
        <p:blipFill>
          <a:blip r:embed="rId5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3" descr="antn027"/>
          <p:cNvPicPr/>
          <p:nvPr/>
        </p:nvPicPr>
        <p:blipFill>
          <a:blip r:embed="rId1"/>
          <a:stretch/>
        </p:blipFill>
        <p:spPr>
          <a:xfrm rot="535200">
            <a:off x="5724360" y="3933720"/>
            <a:ext cx="3011760" cy="251316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5" descr=""/>
          <p:cNvPicPr/>
          <p:nvPr/>
        </p:nvPicPr>
        <p:blipFill>
          <a:blip r:embed="rId2"/>
          <a:stretch/>
        </p:blipFill>
        <p:spPr>
          <a:xfrm>
            <a:off x="993600" y="1554120"/>
            <a:ext cx="7156800" cy="232272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6" descr=""/>
          <p:cNvPicPr/>
          <p:nvPr/>
        </p:nvPicPr>
        <p:blipFill>
          <a:blip r:embed="rId3"/>
          <a:stretch/>
        </p:blipFill>
        <p:spPr>
          <a:xfrm>
            <a:off x="2011320" y="476280"/>
            <a:ext cx="5127840" cy="944640"/>
          </a:xfrm>
          <a:prstGeom prst="rect">
            <a:avLst/>
          </a:prstGeom>
          <a:ln w="0">
            <a:noFill/>
          </a:ln>
        </p:spPr>
      </p:pic>
      <p:pic>
        <p:nvPicPr>
          <p:cNvPr id="48" name="~PP2801.WAV" descr=""/>
          <p:cNvPicPr/>
          <p:nvPr/>
        </p:nvPicPr>
        <p:blipFill>
          <a:blip r:embed="rId4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8:40:01Z</dcterms:created>
  <dc:creator>home</dc:creator>
  <dc:description/>
  <dc:language>en-US</dc:language>
  <cp:lastModifiedBy>home</cp:lastModifiedBy>
  <dcterms:modified xsi:type="dcterms:W3CDTF">2013-01-20T10:20:36Z</dcterms:modified>
  <cp:revision>65</cp:revision>
  <dc:subject/>
  <dc:title>Таблица умножения достойна уважения.</dc:title>
</cp:coreProperties>
</file>