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7D3-14CB-4417-8140-9837171D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B71-5031-45A8-B340-1F93C66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CCD-AAAB-4421-B16B-559E1B36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39A-715E-4EF1-A08A-04174E4D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109-55BF-4075-A91B-CDE4435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5FC-0157-42B1-8703-3A160CF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137-0241-4AED-B8BD-3BCE9CC2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A3C-24D5-4D93-BAE7-B2FE566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8D6-E27A-448E-AE9D-5FFBF0A4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EAE-2B44-42B9-8DBD-11FFE8E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0E5-9DED-47C2-908E-47C4919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D20-EC9E-4B90-8296-B03F2C4F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363-54B1-4E2B-A138-27FC40F61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10720" cy="19573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993600" y="1914480"/>
            <a:ext cx="6797880" cy="2151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689040" y="1925640"/>
            <a:ext cx="291312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8" descr=""/>
          <p:cNvPicPr/>
          <p:nvPr/>
        </p:nvPicPr>
        <p:blipFill>
          <a:blip r:embed="rId4"/>
          <a:stretch/>
        </p:blipFill>
        <p:spPr>
          <a:xfrm>
            <a:off x="689040" y="2408400"/>
            <a:ext cx="1689120" cy="626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5"/>
          <a:stretch/>
        </p:blipFill>
        <p:spPr>
          <a:xfrm>
            <a:off x="-6480" y="2852640"/>
            <a:ext cx="3084480" cy="14814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0" descr=""/>
          <p:cNvPicPr/>
          <p:nvPr/>
        </p:nvPicPr>
        <p:blipFill>
          <a:blip r:embed="rId6"/>
          <a:stretch/>
        </p:blipFill>
        <p:spPr>
          <a:xfrm>
            <a:off x="5943600" y="2066760"/>
            <a:ext cx="2401920" cy="1968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1" descr=""/>
          <p:cNvPicPr/>
          <p:nvPr/>
        </p:nvPicPr>
        <p:blipFill>
          <a:blip r:embed="rId7"/>
          <a:stretch/>
        </p:blipFill>
        <p:spPr>
          <a:xfrm>
            <a:off x="1517760" y="4664160"/>
            <a:ext cx="6108480" cy="1633320"/>
          </a:xfrm>
          <a:prstGeom prst="rect">
            <a:avLst/>
          </a:prstGeom>
          <a:ln w="0">
            <a:noFill/>
          </a:ln>
        </p:spPr>
      </p:pic>
      <p:pic>
        <p:nvPicPr>
          <p:cNvPr id="48" name="~PP2524.WAV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999800"/>
            <a:ext cx="7286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951200" y="457200"/>
            <a:ext cx="540684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P2250096.JPG"/>
          <p:cNvPicPr/>
          <p:nvPr/>
        </p:nvPicPr>
        <p:blipFill>
          <a:blip r:embed="rId2"/>
          <a:stretch/>
        </p:blipFill>
        <p:spPr>
          <a:xfrm>
            <a:off x="963720" y="2071800"/>
            <a:ext cx="7215120" cy="40003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762120" y="2060640"/>
            <a:ext cx="5065560" cy="974520"/>
          </a:xfrm>
          <a:prstGeom prst="rect">
            <a:avLst/>
          </a:prstGeom>
          <a:ln w="0">
            <a:noFill/>
          </a:ln>
        </p:spPr>
      </p:pic>
      <p:pic>
        <p:nvPicPr>
          <p:cNvPr id="53" name="~PP1911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www.DIGITAL.ru\Pictures\открытый урок\Открытый урок (16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2"/>
          <a:stretch/>
        </p:blipFill>
        <p:spPr>
          <a:xfrm>
            <a:off x="2011320" y="420840"/>
            <a:ext cx="5121360" cy="9381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407880"/>
            <a:ext cx="6108480" cy="1208160"/>
          </a:xfrm>
          <a:prstGeom prst="rect">
            <a:avLst/>
          </a:prstGeom>
          <a:ln w="0">
            <a:noFill/>
          </a:ln>
        </p:spPr>
      </p:pic>
      <p:pic>
        <p:nvPicPr>
          <p:cNvPr id="57" name="~PP3198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:\DCIM\100OLYMP\P2220093.JPG"/>
          <p:cNvPicPr/>
          <p:nvPr/>
        </p:nvPicPr>
        <p:blipFill>
          <a:blip r:embed="rId1"/>
          <a:stretch/>
        </p:blipFill>
        <p:spPr>
          <a:xfrm>
            <a:off x="785880" y="2071800"/>
            <a:ext cx="7429320" cy="3547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1968480" y="603360"/>
            <a:ext cx="5207040" cy="1012680"/>
          </a:xfrm>
          <a:prstGeom prst="rect">
            <a:avLst/>
          </a:prstGeom>
          <a:ln w="0">
            <a:noFill/>
          </a:ln>
        </p:spPr>
      </p:pic>
      <p:pic>
        <p:nvPicPr>
          <p:cNvPr id="60" name="~PP1153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Users\www.DIGITAL.ru\Pictures\открытый урок\Открытый урок (28).JPG"/>
          <p:cNvPicPr/>
          <p:nvPr/>
        </p:nvPicPr>
        <p:blipFill>
          <a:blip r:embed="rId1"/>
          <a:stretch/>
        </p:blipFill>
        <p:spPr>
          <a:xfrm>
            <a:off x="4357800" y="1857240"/>
            <a:ext cx="3714480" cy="4268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1957320" y="401760"/>
            <a:ext cx="5218200" cy="1025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353880" y="2120760"/>
            <a:ext cx="4437360" cy="1109880"/>
          </a:xfrm>
          <a:prstGeom prst="rect">
            <a:avLst/>
          </a:prstGeom>
          <a:ln w="0">
            <a:noFill/>
          </a:ln>
        </p:spPr>
      </p:pic>
      <p:pic>
        <p:nvPicPr>
          <p:cNvPr id="65" name="~PP1472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3:40Z</dcterms:modified>
  <cp:revision>66</cp:revision>
  <dc:subject/>
  <dc:title>Таблица умножения достойна уважения.</dc:title>
</cp:coreProperties>
</file>