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190-A8CE-45B0-8389-96B2D63D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856-36CB-4A49-9394-F29B438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519-8775-4D59-9B6E-CE817B50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03A-F2ED-4464-807E-D99AE1A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BACD-CD7D-4FA7-8563-0BB9B15D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FBE8-EBF4-4C21-940F-F4C29503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D32C-7985-4D92-B12E-2B937C0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260A-F9DC-4BB0-BE16-2FB11EB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7105-B440-442C-88FA-5F97E2F0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010F-1CA3-41D7-9D19-52E60572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99FA-0D7C-47F6-A9D7-9EE3B2BB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FCE-CA79-4B83-8CF6-276AE97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4267-9A25-4F21-AC1A-49E2B50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2A0-EC04-475E-98C8-8A49B4C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3F5-3F1E-44CA-BD20-9E9281EB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771A-B5A6-4753-9DE9-8BDF7B2B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0A77-A09D-4E3C-A54E-29424D1A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892-9ECD-41B1-911B-43BD5A5D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80D-BCFC-4DB1-A2D7-EDEBC00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ECC-0F36-4C51-902E-B5F0C52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401-AE93-486B-B803-7A109F6F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213-5C6C-43D7-99F8-4276EF0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B95-825F-4BF4-9AD8-FBDC112B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EDC-D81C-41DC-A882-E8B5DE6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3F3-2095-4609-9465-B1F85D057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2de75a8025ea.png"/>
          <p:cNvPicPr/>
          <p:nvPr/>
        </p:nvPicPr>
        <p:blipFill>
          <a:blip r:embed="rId3"/>
          <a:stretch/>
        </p:blipFill>
        <p:spPr>
          <a:xfrm>
            <a:off x="5724360" y="4292640"/>
            <a:ext cx="3297240" cy="24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2" name="Прямоугольник 7"/>
          <p:cNvGrpSpPr/>
          <p:nvPr/>
        </p:nvGrpSpPr>
        <p:grpSpPr>
          <a:xfrm>
            <a:off x="-60480" y="-36360"/>
            <a:ext cx="225720" cy="6967440"/>
            <a:chOff x="-60480" y="-36360"/>
            <a:chExt cx="225720" cy="6967440"/>
          </a:xfrm>
        </p:grpSpPr>
        <p:pic>
          <p:nvPicPr>
            <p:cNvPr id="4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2257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8"/>
          <p:cNvGrpSpPr/>
          <p:nvPr/>
        </p:nvGrpSpPr>
        <p:grpSpPr>
          <a:xfrm>
            <a:off x="9028080" y="-36360"/>
            <a:ext cx="225360" cy="6967440"/>
            <a:chOff x="9028080" y="-36360"/>
            <a:chExt cx="225360" cy="696744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9028080" y="-36360"/>
              <a:ext cx="22536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09000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9"/>
          <p:cNvGrpSpPr/>
          <p:nvPr/>
        </p:nvGrpSpPr>
        <p:grpSpPr>
          <a:xfrm>
            <a:off x="49320" y="-36360"/>
            <a:ext cx="9107280" cy="212400"/>
            <a:chOff x="49320" y="-36360"/>
            <a:chExt cx="9107280" cy="212400"/>
          </a:xfrm>
        </p:grpSpPr>
        <p:pic>
          <p:nvPicPr>
            <p:cNvPr id="49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9320" y="-36360"/>
              <a:ext cx="91072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00" y="0"/>
              <a:ext cx="89899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10"/>
          <p:cNvGrpSpPr/>
          <p:nvPr/>
        </p:nvGrpSpPr>
        <p:grpSpPr>
          <a:xfrm>
            <a:off x="42840" y="6724800"/>
            <a:ext cx="9107640" cy="206280"/>
            <a:chOff x="42840" y="6724800"/>
            <a:chExt cx="9107640" cy="206280"/>
          </a:xfrm>
        </p:grpSpPr>
        <p:pic>
          <p:nvPicPr>
            <p:cNvPr id="52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2840" y="6724800"/>
              <a:ext cx="910764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1520" y="6757920"/>
              <a:ext cx="89917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555-496C-4AEB-981F-850EF6FF8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96880" y="2023920"/>
            <a:ext cx="8077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00000" y="1989000"/>
            <a:ext cx="7786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нутрикласс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нутришко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гиона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ежрегиона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еждународ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724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Мини –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могут укладываться в один урок или менее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Краткосроч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ребуют выделения 4 – 6 уроков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Уроки используются для координации деятельности участников проектных групп, тогда как основная работа по сбору информации, изготовлению продукта и подготовке презентации осуществляется во внеклассной деятельности и дома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едель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ыполняются в группах в ходе проектной недели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х выполнение занимает примерно 30 – 40 часов и целиком проходит при участии руководителя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Годич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могут выполняться как в группах, так и индивидуально. Весь годичный проект – от определения проблемы и темы до презентации выполняются во внеурочное время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72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отивацион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ланирующий – подготовитель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нформационно-операцион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флексивно-оценоч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ектировани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оиск информации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ду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545"/>
                </a:solidFill>
                <a:latin typeface="Calibri"/>
              </a:rPr>
              <a:t>Важное правило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: каждый этап работы над проектом должен иметь свой продукт!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798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видеожурнал или видеофильм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презентации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спектакли (в том числе кукольные), концерты, показы моделей одежд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устные журнал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викторины и игры с применением знаний по теме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тематические выставки рисунков, скульптур, поделок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газеты, журналы, книги, картотеки (информационные проекты)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макет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действующие модели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швейные и кулинарные изделия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8832600" cy="1347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флекс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гулят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оисково-исследовательски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коммуникат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зентационные умения и навыки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920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В корне меняются отношения «учитель – ученик»:</a:t>
            </a: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             ученик субъект обучения – учитель партнер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едагог имеет возможность использовать разные дидактические подходы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3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о мере выполнения работы интерес к предмету у учащихся возрастает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4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роекты сплачивают детей, развивают коммуникабельность, умение работать в команде и ответственность за совместную работу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5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роектная деятельность позволяет учиться на собственном опыте и опыте других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6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Видимый результат деятельности приносит огромное удовлетворение учащимся и может даже повысить самооценку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7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овышение уровня ИКТ-компетенции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1. Работа над проектом объемная, кропотливая, поэтому возникает проблема перегрузки учащихся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2. Дети – люди увлекающиеся, поэтому работу начинают с желанием, энтузиазмом, но, сталкиваясь с трудностями могут бросить работу над проектом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3. Не всегда хватает умений и навыков работы на компьютере, особенно у учащихся начальных классов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4. Самая большая проблема для учителя – не превратиться в ментора, диктующего свое мнение, или взвалить на себя всю работу, оставив детям самый минимум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5. Возрастает нагрузка на учителя.</a:t>
            </a:r>
            <a:br>
              <a:rPr sz="2200"/>
            </a:b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684360" y="836640"/>
            <a:ext cx="79912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особый вид целенаправленной, познавательной, в целом самостоятельной деятельности учащихся, осуществляемой под гибким руководством учителя, преследующего конкретные дидактические цели, направленной на решение творческой, исследовательской, личностно или социально значимой проблемы и на получение конкретного результата в виде материального и/или идеального продукт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663040" cy="172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актико-ориентированны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сследовательски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нформационны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творчески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олево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86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Нацелен на социальные интересы самих участников проекта или внешнего заказчика.</a:t>
            </a: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Продукт заранее определен и может быть использован в жизни класса, школы, микрорайона, города, государства. Палитра разнообразна – от учебного пособия для кабинета до пакета рекомендаций по восстановлению экономики России. Важно оценить реальность использования продукта на практике и его способность решить поставленную проблему.</a:t>
            </a: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30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По структуре напоминает подлинно научное исследование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Он включает обоснование актуальности избранной темы, обозначение задач исследования, обязательное выдвижение гипотезы с последующей ее проверкой, обсуждение полученных результатов. При этом используются методы современной науки: лабораторный эксперимент, моделирование, социологический опрос и другие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Направлен на сбор информации о каком-то объекте, явлении с целью ее анализа, обобщения и представления для широкой аудитории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ыходом такого проекта часто является публикация в СМИ, в т.ч. в Интернете. Результатом такого проекта может быть и создание информационной среды класса или школы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дполагает максимально свободный и нетрадиционный подход к оформлению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п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азработка и реализация такого проекта наиболее сложна. Участвуя в нем, проектанты берут на себя роли литературных или исторических персонажей, выдуманных героев и т.п. Результат проекта остается открытым до самого окончания. Чем завершится судебное заседание? Будет ли разрешен конфликт и заключен договор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227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Монопроекты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проводятся, как правило, в рамках одного предмета или одной области знания, хотя и могут использовать информацию из других областей знания и деятельности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Межпредметные проекты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выполняются исключительно во внеурочное время и под руководством нескольких специалистов в различных областях знания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00:25Z</dcterms:created>
  <dc:creator>Юзер</dc:creator>
  <dc:description/>
  <dc:language>en-US</dc:language>
  <cp:lastModifiedBy>Юзер</cp:lastModifiedBy>
  <dcterms:modified xsi:type="dcterms:W3CDTF">2013-02-24T17:31:58Z</dcterms:modified>
  <cp:revision>8</cp:revision>
  <dc:subject/>
  <dc:title>ПРОЕКТНАЯ ДЕЯТЕЛЬНОСТЬ В ШКОЛЕ</dc:title>
</cp:coreProperties>
</file>