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4A4-7F8B-4F2C-AE3F-A04AC4EF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FEA-5166-4F26-BBC6-36E5E43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F37-E48A-40EE-8DC3-8D7AAD48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ABD-5AF7-4450-B44B-D1F3FDA5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3F51-B695-4E39-BBEC-3C2A9402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937D-1928-48A9-8A43-D6D2EBFD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9363-1D9D-4597-AC3F-F71BABD3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C8C-E97F-424F-A8E6-679E68B7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17EB-E868-4194-ADE1-BB498FD0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FE88-9120-4D7C-92FC-C64D4CB4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0288-8E71-4532-8D23-F61A905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33A-2C57-44AC-BEF5-25A24E57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6C8A-B5B8-4EDF-9D20-6CACB0EA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C0D6-5CC4-4486-B3B7-22E3FC5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7DB6-5784-4237-977C-30E184DA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C30A-425C-409B-B115-0E613CA8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C91-ABC6-4AF5-9BB3-EC55F6EC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3C7-D2D5-4165-B5E5-13E97BC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1B5-804B-4F15-B98F-667860B4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072-65C6-4D75-96FD-334119AB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F4E-07DB-4853-A0E2-7BE06B75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FEB-46EB-40D7-8C97-07075EF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B12-F9C3-4C1A-AC4A-ACFA2B2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ADB-07A2-4516-8E2D-02238D0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645-6213-4D15-9698-94F7D3EAA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2de75a8025ea.png"/>
          <p:cNvPicPr/>
          <p:nvPr/>
        </p:nvPicPr>
        <p:blipFill>
          <a:blip r:embed="rId3"/>
          <a:stretch/>
        </p:blipFill>
        <p:spPr>
          <a:xfrm>
            <a:off x="5724360" y="4292640"/>
            <a:ext cx="3297240" cy="24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2" name="Прямоугольник 7"/>
          <p:cNvGrpSpPr/>
          <p:nvPr/>
        </p:nvGrpSpPr>
        <p:grpSpPr>
          <a:xfrm>
            <a:off x="-60480" y="-36360"/>
            <a:ext cx="225720" cy="6967440"/>
            <a:chOff x="-60480" y="-36360"/>
            <a:chExt cx="225720" cy="6967440"/>
          </a:xfrm>
        </p:grpSpPr>
        <p:pic>
          <p:nvPicPr>
            <p:cNvPr id="4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2257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рямоугольник 8"/>
          <p:cNvGrpSpPr/>
          <p:nvPr/>
        </p:nvGrpSpPr>
        <p:grpSpPr>
          <a:xfrm>
            <a:off x="9028080" y="-36360"/>
            <a:ext cx="225360" cy="6967440"/>
            <a:chOff x="9028080" y="-36360"/>
            <a:chExt cx="225360" cy="696744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9028080" y="-36360"/>
              <a:ext cx="22536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909000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9"/>
          <p:cNvGrpSpPr/>
          <p:nvPr/>
        </p:nvGrpSpPr>
        <p:grpSpPr>
          <a:xfrm>
            <a:off x="49320" y="-36360"/>
            <a:ext cx="9107280" cy="212400"/>
            <a:chOff x="49320" y="-36360"/>
            <a:chExt cx="9107280" cy="212400"/>
          </a:xfrm>
        </p:grpSpPr>
        <p:pic>
          <p:nvPicPr>
            <p:cNvPr id="49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9320" y="-36360"/>
              <a:ext cx="91072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08000" y="0"/>
              <a:ext cx="89899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оугольник 10"/>
          <p:cNvGrpSpPr/>
          <p:nvPr/>
        </p:nvGrpSpPr>
        <p:grpSpPr>
          <a:xfrm>
            <a:off x="42840" y="6724800"/>
            <a:ext cx="9107640" cy="206280"/>
            <a:chOff x="42840" y="6724800"/>
            <a:chExt cx="9107640" cy="206280"/>
          </a:xfrm>
        </p:grpSpPr>
        <p:pic>
          <p:nvPicPr>
            <p:cNvPr id="52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2840" y="6724800"/>
              <a:ext cx="910764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01520" y="6757920"/>
              <a:ext cx="89917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96F1-6E2A-40CE-B63F-8C4566C09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96880" y="2023920"/>
            <a:ext cx="8077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725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900000" y="1989000"/>
            <a:ext cx="7786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внутрикласс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внутришколь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гиональ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межрегиональ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международны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724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Мини –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могут укладываться в один урок или менее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Краткосрочные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требуют выделения 4 – 6 уроков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Уроки используются для координации деятельности участников проектных групп, тогда как основная работа по сбору информации, изготовлению продукта и подготовке презентации осуществляется во внеклассной деятельности и дома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едельные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ыполняются в группах в ходе проектной недели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Их выполнение занимает примерно 30 – 40 часов и целиком проходит при участии руководителя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Годичные проекты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могут выполняться как в группах, так и индивидуально. Весь годичный проект – от определения проблемы и темы до презентации выполняются во внеурочное время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724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мотивацион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ланирующий – подготовитель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нформационно-операцион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флексивно-оценочный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оектирование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оиск информации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оду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545"/>
                </a:solidFill>
                <a:latin typeface="Calibri"/>
              </a:rPr>
              <a:t>Важное правило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: каждый этап работы над проектом должен иметь свой продукт!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1798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видеожурнал или видеофильм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презентации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спектакли (в том числе кукольные), концерты, показы моделей одежды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устные журналы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викторины и игры с применением знаний по теме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тематические выставки рисунков, скульптур, поделок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газеты, журналы, книги, картотеки (информационные проекты)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макеты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действующие модели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швейные и кулинарные изделия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89000" y="212760"/>
            <a:ext cx="8832600" cy="1347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флексивны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егулятивны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оисково-исследовательски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коммуникативные умени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езентационные умения и навыки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920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В корне меняются отношения «учитель – ученик»:</a:t>
            </a: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             ученик субъект обучения – учитель партнер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едагог имеет возможность использовать разные дидактические подходы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3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о мере выполнения работы интерес к предмету у учащихся возрастает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4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роекты сплачивают детей, развивают коммуникабельность, умение работать в команде и ответственность за совместную работу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5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роектная деятельность позволяет учиться на собственном опыте и опыте других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6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Видимый результат деятельности приносит огромное удовлетворение учащимся и может даже повысить самооценку.</a:t>
            </a:r>
            <a:br>
              <a:rPr sz="2200"/>
            </a:br>
            <a:r>
              <a:rPr b="1" lang="ru-RU" sz="2200" spc="-1" strike="noStrike">
                <a:solidFill>
                  <a:srgbClr val="4c4545"/>
                </a:solidFill>
                <a:latin typeface="Calibri"/>
              </a:rPr>
              <a:t>7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 Повышение уровня ИКТ-компетенции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1. Работа над проектом объемная, кропотливая, поэтому возникает проблема перегрузки учащихся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2. Дети – люди увлекающиеся, поэтому работу начинают с желанием, энтузиазмом, но, сталкиваясь с трудностями могут бросить работу над проектом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3. Не всегда хватает умений и навыков работы на компьютере, особенно у учащихся начальных классов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4. Самая большая проблема для учителя – не превратиться в ментора, диктующего свое мнение, или взвалить на себя всю работу, оставив детям самый минимум.</a:t>
            </a: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4c4545"/>
                </a:solidFill>
                <a:latin typeface="Calibri"/>
              </a:rPr>
              <a:t>5. Возрастает нагрузка на учителя.</a:t>
            </a:r>
            <a:br>
              <a:rPr sz="2200"/>
            </a:br>
            <a:endParaRPr b="0" lang="en-US" sz="2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684360" y="836640"/>
            <a:ext cx="79912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особый вид целенаправленной, познавательной, в целом самостоятельной деятельности учащихся, осуществляемой под гибким руководством учителя, преследующего конкретные дидактические цели, направленной на решение творческой, исследовательской, личностно или социально значимой проблемы и на получение конкретного результата в виде материального и/или идеального продукт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8663040" cy="172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актико-ориентированны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сследовательски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нформационны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творчески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олевой проект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865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Нацелен на социальные интересы самих участников проекта или внешнего заказчика.</a:t>
            </a:r>
            <a:endParaRPr b="0" lang="en-US" sz="27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4c4545"/>
                </a:solidFill>
                <a:latin typeface="Calibri"/>
              </a:rPr>
              <a:t>Продукт заранее определен и может быть использован в жизни класса, школы, микрорайона, города, государства. Палитра разнообразна – от учебного пособия для кабинета до пакета рекомендаций по восстановлению экономики России. Важно оценить реальность использования продукта на практике и его способность решить поставленную проблему.</a:t>
            </a:r>
            <a:endParaRPr b="0" lang="en-US" sz="27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8242560" cy="130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По структуре напоминает подлинно научное исследование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Он включает обоснование актуальности избранной темы, обозначение задач исследования, обязательное выдвижение гипотезы с последующей ее проверкой, обсуждение полученных результатов. При этом используются методы современной науки: лабораторный эксперимент, моделирование, социологический опрос и другие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Направлен на сбор информации о каком-то объекте, явлении с целью ее анализа, обобщения и представления для широкой аудитории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Выходом такого проекта часто является публикация в СМИ, в т.ч. в Интернете. Результатом такого проекта может быть и создание информационной среды класса или школы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едполагает максимально свободный и нетрадиционный подход к оформлению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п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Разработка и реализация такого проекта наиболее сложна. Участвуя в нем, проектанты берут на себя роли литературных или исторических персонажей, выдуманных героев и т.п. Результат проекта остается открытым до самого окончания. Чем завершится судебное заседание? Будет ли разрешен конфликт и заключен договор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227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Монопроекты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 проводятся, как правило, в рамках одного предмета или одной области знания, хотя и могут использовать информацию из других областей знания и деятельности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Межпредметные проекты </a:t>
            </a:r>
            <a:r>
              <a:rPr b="0" lang="ru-RU" sz="3000" spc="-1" strike="noStrike">
                <a:solidFill>
                  <a:srgbClr val="4c4545"/>
                </a:solidFill>
                <a:latin typeface="Calibri"/>
              </a:rPr>
              <a:t>выполняются исключительно во внеурочное время и под руководством нескольких специалистов в различных областях знания.</a:t>
            </a: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00:25Z</dcterms:created>
  <dc:creator>Юзер</dc:creator>
  <dc:description/>
  <dc:language>en-US</dc:language>
  <cp:lastModifiedBy>Юзер</cp:lastModifiedBy>
  <dcterms:modified xsi:type="dcterms:W3CDTF">2013-02-24T17:31:58Z</dcterms:modified>
  <cp:revision>8</cp:revision>
  <dc:subject/>
  <dc:title>ПРОЕКТНАЯ ДЕЯТЕЛЬНОСТЬ В ШКОЛЕ</dc:title>
</cp:coreProperties>
</file>