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7217-0DC6-484C-A53E-412F9BC6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7CEE-DFD3-4EE1-85DC-C1B15E57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FE15-4A4A-4CC4-9876-66B7BCD5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D6EE-D901-4485-85E4-5AC152529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AC3E-1A21-4F4A-A4A0-C2D55FAD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5FD8-D781-4F3A-898B-0A71DD62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D2C7-A54E-4E83-A22A-89CA2744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278A-3D23-4DD0-BFE1-28F6CF7A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FA71-9E7C-47ED-A10E-93CE19A7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1D08-8AC5-4ACC-9270-852542F2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E594-E0BD-4EF3-9B87-79AB0F58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5EA8-B6F4-4C48-9B5C-080C8DA6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BC05-1C62-4827-9C9B-22C1F3A4D5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ikipedia.org.ru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6920" y="1773360"/>
            <a:ext cx="7277400" cy="134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 проекта: Растения и животные Красной книги Р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42920" y="4386240"/>
            <a:ext cx="6049800" cy="15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Выполнил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Ладанюк Артём, ученик 1 кла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Руководитель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ирова Ольга Павл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http://www.zin.ru/Animalia/Coleoptera/images/redbru00.jpg"/>
          <p:cNvPicPr/>
          <p:nvPr/>
        </p:nvPicPr>
        <p:blipFill>
          <a:blip r:embed="rId2"/>
          <a:stretch/>
        </p:blipFill>
        <p:spPr>
          <a:xfrm>
            <a:off x="395280" y="3429000"/>
            <a:ext cx="213516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7640" y="620640"/>
            <a:ext cx="675828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 проекта: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яснить, каким животным и растениям грозит исчезновение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:</a:t>
            </a:r>
            <a:br>
              <a:rPr sz="3200"/>
            </a:b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прочитать, какие животные и растения находятся под угрозой исчезновения;</a:t>
            </a:r>
            <a:br>
              <a:rPr sz="3200"/>
            </a:b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ознакомиться с Красной книгой;</a:t>
            </a:r>
            <a:br>
              <a:rPr sz="3200"/>
            </a:b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самостоятельно изготовить Красную книг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67582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расная книга – список и описание редких и находящихся под угрозой исчезновения животных.</a:t>
            </a:r>
            <a:br>
              <a:rPr sz="3200"/>
            </a:b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В Красной книге есть страницы чёрного, красного, жёлтого, белого, серого, зелёного цвет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2" descr="0008-008-CHjornye-stranitsy-zhivotnye-uzhe-vymerli.jpg"/>
          <p:cNvPicPr/>
          <p:nvPr/>
        </p:nvPicPr>
        <p:blipFill>
          <a:blip r:embed="rId2"/>
          <a:stretch/>
        </p:blipFill>
        <p:spPr>
          <a:xfrm>
            <a:off x="3203640" y="3645000"/>
            <a:ext cx="396072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7640" y="404640"/>
            <a:ext cx="6758280" cy="583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каждой местности есть свои исчезающие виды животных и растений.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2"/>
          <a:stretch/>
        </p:blipFill>
        <p:spPr>
          <a:xfrm>
            <a:off x="2195640" y="2349360"/>
            <a:ext cx="642276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7640" y="620640"/>
            <a:ext cx="675828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здание своей Красной книги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2" descr=""/>
          <p:cNvPicPr/>
          <p:nvPr/>
        </p:nvPicPr>
        <p:blipFill>
          <a:blip r:embed="rId2"/>
          <a:stretch/>
        </p:blipFill>
        <p:spPr>
          <a:xfrm>
            <a:off x="2195640" y="1916280"/>
            <a:ext cx="2968560" cy="39560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" descr=""/>
          <p:cNvPicPr/>
          <p:nvPr/>
        </p:nvPicPr>
        <p:blipFill>
          <a:blip r:embed="rId3"/>
          <a:stretch/>
        </p:blipFill>
        <p:spPr>
          <a:xfrm>
            <a:off x="5605560" y="1916280"/>
            <a:ext cx="296856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149976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Calibri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57120" y="2643120"/>
            <a:ext cx="83296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alibri"/>
              </a:rPr>
              <a:t>В Красной книге очень много животных и растений, находящихся под угрозой исчезнов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alibri"/>
              </a:rPr>
              <a:t>Необходимо оберегать растения и живот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7120" y="149976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Calibri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120" y="2643120"/>
            <a:ext cx="83296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99"/>
              </a:spcBef>
              <a:buClr>
                <a:srgbClr val="40404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</a:t>
            </a:r>
            <a:r>
              <a:rPr b="0" lang="ru-RU" sz="3200" spc="-1" strike="noStrike">
                <a:solidFill>
                  <a:srgbClr val="40404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//wikipedia.org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799"/>
              </a:spcBef>
              <a:buClr>
                <a:srgbClr val="40404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http</a:t>
            </a:r>
            <a:r>
              <a:rPr b="0" lang="ru-RU" sz="3200" spc="-1" strike="noStrike">
                <a:solidFill>
                  <a:srgbClr val="40404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//academic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799"/>
              </a:spcBef>
              <a:buClr>
                <a:srgbClr val="40404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http</a:t>
            </a:r>
            <a:r>
              <a:rPr b="0" lang="ru-RU" sz="3200" spc="-1" strike="noStrike">
                <a:solidFill>
                  <a:srgbClr val="40404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//potomy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799"/>
              </a:spcBef>
              <a:buClr>
                <a:srgbClr val="40404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http</a:t>
            </a:r>
            <a:r>
              <a:rPr b="0" lang="ru-RU" sz="3200" spc="-1" strike="noStrike">
                <a:solidFill>
                  <a:srgbClr val="40404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//www.darwin.museum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799"/>
              </a:spcBef>
              <a:buClr>
                <a:srgbClr val="40404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alibri"/>
              </a:rPr>
              <a:t>Стенд «Охраняемые растения на природных территориях Зеленогра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2T19:12:53Z</dcterms:created>
  <dc:creator>Юзер</dc:creator>
  <dc:description/>
  <dc:language>en-US</dc:language>
  <cp:lastModifiedBy>Пользователь Windows</cp:lastModifiedBy>
  <dcterms:modified xsi:type="dcterms:W3CDTF">2021-06-10T07:01:59Z</dcterms:modified>
  <cp:revision>10</cp:revision>
  <dc:subject/>
  <dc:title>Тема проекта: Растения и животные Красной книги РФ</dc:title>
</cp:coreProperties>
</file>