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33F-E857-41FE-B278-1885693A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C34-5725-49B9-85A3-71252BD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5F9-D764-4398-A9C6-DFAA00FC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F00-7795-432F-801F-20FDE5F7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E5F-D41B-42D2-8C6A-21244D5E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DA8-C763-49D6-8CDA-B9E98E3C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9D1-6E41-4F81-B553-39AFE63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178-DD01-42DA-A30B-B16DEDD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C38-1997-4C0A-8BC4-00766EE4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EE6-6AE1-4824-A810-9F97319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6A6-1A84-4AEC-88C8-E676C3D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403-8BAF-4F8C-B216-C16E05E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F644-3F68-48BE-AF5B-E9EFCC1CB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ikipedia.org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1773360"/>
            <a:ext cx="72774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проекта: Растения и животные Красной книги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4386240"/>
            <a:ext cx="6049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аданюк Артём, ученик 1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Руководитель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ирова Ольга Павл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zin.ru/Animalia/Coleoptera/images/redbru00.jpg"/>
          <p:cNvPicPr/>
          <p:nvPr/>
        </p:nvPicPr>
        <p:blipFill>
          <a:blip r:embed="rId2"/>
          <a:stretch/>
        </p:blipFill>
        <p:spPr>
          <a:xfrm>
            <a:off x="395280" y="3429000"/>
            <a:ext cx="21351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758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снить, каким животным и растениям грозит исчезновение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очитать, какие животные и растения находятся под угрозой исчезновения;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ознакомиться с Красной книгой;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амостоятельно изготовить Красную кни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758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асная книга – список и описание редких и находящихся под угрозой исчезновения животных.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В Красной книге есть страницы чёрного, красного, жёлтого, белого, серого, зелёного цве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0008-008-CHjornye-stranitsy-zhivotnye-uzhe-vymerli.jpg"/>
          <p:cNvPicPr/>
          <p:nvPr/>
        </p:nvPicPr>
        <p:blipFill>
          <a:blip r:embed="rId2"/>
          <a:stretch/>
        </p:blipFill>
        <p:spPr>
          <a:xfrm>
            <a:off x="3203640" y="364500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75828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ждой местности есть свои исчезающие виды животных и растений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6422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758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своей Красной книги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2968560" cy="3956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3"/>
          <a:stretch/>
        </p:blipFill>
        <p:spPr>
          <a:xfrm>
            <a:off x="5605560" y="1916280"/>
            <a:ext cx="2968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264312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В Красной книге очень много животных и растений, находящихся под угрозой исчезнов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Необходимо оберегать растения и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64312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wikipedia.org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academic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potomy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www.darwin.museu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Стенд «Охраняемые растения на природных территориях Зелено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9:12:53Z</dcterms:created>
  <dc:creator>Юзер</dc:creator>
  <dc:description/>
  <dc:language>en-US</dc:language>
  <cp:lastModifiedBy>Пользователь Windows</cp:lastModifiedBy>
  <dcterms:modified xsi:type="dcterms:W3CDTF">2021-06-10T07:01:59Z</dcterms:modified>
  <cp:revision>10</cp:revision>
  <dc:subject/>
  <dc:title>Тема проекта: Растения и животные Красной книги РФ</dc:title>
</cp:coreProperties>
</file>