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B43-ED81-44BC-A172-94A74ECC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FD65-6FEE-4218-AC26-CBEA5EB4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177-CC95-4998-A4A3-18FA7CFC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2CB-97D2-4D63-9442-E6AE244F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21EF-6E9A-4FB7-B989-3BFA0336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7293-BD23-4A44-9172-16C68750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BF1D-C74B-4EE1-A20B-C3D76088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D6DE-7C1C-4D8E-8C4E-6D5471D8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8778-AFA5-4E5F-A8F4-E13CAAB9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6046-A55E-4EAD-B639-01725383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867F-38B1-4C91-B63F-A8CBB3BA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FA4B-9282-4E3C-A81E-97BB1D2B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170D-701E-4D53-83D6-9EA36756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6F65-8AD3-4209-90D2-4A1E9F1E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EBF0-E427-4680-BC0C-725EDE30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336C-367E-45C0-9FF1-86A8A01B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5626-5432-417A-AEC6-1A72F800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02D6-155C-4A6B-96BA-D816741B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878-AFCD-4161-A208-C864452B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B45-0CA7-4B6E-94A4-9B7B479A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8BD2-92D6-4DB0-8710-565DC75C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535-E1FD-4B88-97A4-56167A9B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0A6-CEBD-4746-B824-445140F3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E77-0E43-4270-A513-AA5CDDDC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0609-D874-46F9-B622-E213B4EAB44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0B59-0C43-4D8D-BBE0-99E75D2F566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одительское собрание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«Патриотическое воспитание в семье»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«Любовь к Родине начинается с семьи»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Ф. Бэко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3121200"/>
            <a:ext cx="586764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3962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«Патриотизм – это любовь к родине, преданность ей, стремление своими действиями служить ее интересам, ощущение неразрывной связи со своим народом, с его языком, культурой, бытом и нравами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Как научить детей любить свою Родину? Как научить проявлять уважение к труду предков, сохранивших для них и этот мир, и эту страну? Как научить быть достойными их памяти? Т.е. быть патрио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335268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нравственно-патриотическом воспитании огромное значение имеет пример взрослых, в особенности же близких людей. На конкретных фактах из жизни старших членов семьи ((пра)дедушек и (пра)бабушек, участников Великой Отечественной войны, их фронтовых и трудовых подвигов) необходимо привить детям такие важные понятия, как "любовь к Отечеству",  "трудовой подвиг" и т.д. Важно подвести ребенка к пониманию, что мы победили потому, что любим свою Отчизну, Родина чтит своих героев, отдавших жизнь за счастье людей. Их имена увековечены в названиях городов, улиц, площадей, в их честь воздвигнуты памятни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505320" y="152280"/>
            <a:ext cx="50292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инимая активное участие в жизни детского сада, вы, уважаемые родители, подаете самый яркий и позитивный пример своим детям!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 закончить это родительское собрание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 хочется  стихотворением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– русский человек, и русская прир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бовна мне, и я ее по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– русский человек, сын своего народ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с гордостью гляжу на Родину сво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ы сыновей растишь – пилотов, мореходов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 крымских скал, в полуночном кра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– русский человек, сын своего народ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с гордостью гляжу на Родину сво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9956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Цель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Формировать обобщенное представление 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одителей в вопросах воспитания патриотизма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Задачи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емонстрировать 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одителям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 необходимость обсуждения нравственных тем в 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емье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Организовать взаимодействие 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одителей и воспитателя в организации патриотического воспитания детей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Формировать нравственную культуру 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емьи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Расширить знания 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одителей о роли семьи в воспитании патриотических чувств детей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ознакомить 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одителей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 с приёмами и методами 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атриотического воспитания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Быть гражданином - значит сознательно и активно выполнять гражданские обязанности и гражданский долг перед обществом, Родиной, обладать такими качествами личности, как патриотизм. 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724280" y="30481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Зачатки этих качеств надо формировать в ребенке как можно раньше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ебенок впервые открывает Родину в семье. Это ближайшее его окружение, где он черпает такие понятия, как "труд", "долг", "честь", "Родина"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увство 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Родин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 начинается у ребенка с отношения к самым близким людям - отцу, матери, дедушке, бабушке. Это корни, связывающие его с родным домом и ближайшим окружение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86200" y="342900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«Бабушкин сундук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436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ундуке находитс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ольшая красивая книга русских народных сказо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укв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анка варенья, шоколад, конфет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тено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ринные семейные фотограф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рая одежд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крытки памятников города Клинц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ртинки с изображением орденов и медал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инарная книг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14956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современной жизни нам часто приходится слышать слова «патриот», патриотизм», «гражданин». Этим словам несколько тысяч л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 Как вы понимаете смысл этих понятий?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Вот как на этот вопрос ответили дети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Это тот человек который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юбит то место, где родился и вырос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от, кто любит и не забывает свою мать, свой д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то с гордостью осознаёт, что нет на Земле страны лучше наш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готов стать на защиту Отечеств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нает государственную символик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нает свой родной язы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нает историю своей страны, гордится своими предк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23T15:53:54Z</dcterms:created>
  <dc:creator>Maestro</dc:creator>
  <dc:description/>
  <dc:language>en-US</dc:language>
  <cp:lastModifiedBy>Maestro</cp:lastModifiedBy>
  <dcterms:modified xsi:type="dcterms:W3CDTF">2021-06-09T15:15:0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