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7524-30EC-4D3C-A692-5BCBEC55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6FA6-92D0-4EE2-AB59-661C97EA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F2B-28F7-41CE-B941-61C2DB0B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40C5-6DAF-4C2A-8B3B-B2561686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558E-2CB3-41D0-A370-9C475156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2611-85F6-465B-8A3D-CF1ACE6F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653D-2373-4A82-8699-8CE72248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044C-B105-43F0-8BD3-03DD67AA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6601-BA21-4891-90D4-FE98C4D1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F54F-1EAD-49D7-8F9D-26DE0FE1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8BBB-A99A-4449-B491-03253F3D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99BF-9F7E-4D6A-B615-69A1BBAA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A4D2-74A3-4778-BA08-C13CF35D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1E97-FA09-4BDE-95F8-5950726B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3A05-9112-40BC-B300-F80A4512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C495-902B-4FF8-BC81-FAE26C32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AF1F-5173-412B-9229-1896493E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93C2-34A1-4D28-8F45-3296EDD3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C55F-CDEC-473C-9CF7-190B5545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85E1-6138-483A-849A-08D72ED8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2944-E084-49FD-8AE4-E777F757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2673-B3B9-449A-B951-4C8D9B8D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06C8-0A5C-4036-8334-4FC58436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70B-B531-4865-A9E9-BACB0A4B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496A-43DD-4A12-AB92-E31AE5F997A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33E0-2AB0-429B-A988-0C9E098B9C1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Родительское собрание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«Патриотическое воспитание в семье»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«Любовь к Родине начинается с семьи»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Ф. Бэко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8080" y="3121200"/>
            <a:ext cx="586764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39621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«Патриотизм – это любовь к родине, преданность ей, стремление своими действиями служить ее интересам, ощущение неразрывной связи со своим народом, с его языком, культурой, бытом и нравами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48120" y="0"/>
            <a:ext cx="51051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Как научить детей любить свою Родину? Как научить проявлять уважение к труду предков, сохранивших для них и этот мир, и эту страну? Как научить быть достойными их памяти? Т.е. быть патрио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335268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нравственно-патриотическом воспитании огромное значение имеет пример взрослых, в особенности же близких людей. На конкретных фактах из жизни старших членов семьи ((пра)дедушек и (пра)бабушек, участников Великой Отечественной войны, их фронтовых и трудовых подвигов) необходимо привить детям такие важные понятия, как "любовь к Отечеству",  "трудовой подвиг" и т.д. Важно подвести ребенка к пониманию, что мы победили потому, что любим свою Отчизну, Родина чтит своих героев, отдавших жизнь за счастье людей. Их имена увековечены в названиях городов, улиц, площадей, в их честь воздвигнуты памятник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505320" y="152280"/>
            <a:ext cx="502920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инимая активное участие в жизни детского сада, вы, уважаемые родители, подаете самый яркий и позитивный пример своим детям!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 закончить это родительское собрание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 хочется  стихотворением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– русский человек, и русская приро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юбовна мне, и я ее по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– русский человек, сын своего народ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с гордостью гляжу на Родину сво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ы сыновей растишь – пилотов, мореходов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 крымских скал, в полуночном кра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– русский человек, сын своего народ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с гордостью гляжу на Родину сво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9956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Цель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Формировать обобщенное представление 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одителей в вопросах воспитания патриотизма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00600" y="3809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Задачи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емонстрировать 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одителям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 необходимость обсуждения нравственных тем в 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емье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Организовать взаимодействие 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одителей и воспитателя в организации патриотического воспитания детей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Формировать нравственную культуру 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емьи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Расширить знания 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одителей о роли семьи в воспитании патриотических чувств детей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ознакомить 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одителей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 с приёмами и методами 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атриотического воспитания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Быть гражданином - значит сознательно и активно выполнять гражданские обязанности и гражданский долг перед обществом, Родиной, обладать такими качествами личности, как патриотизм. 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724280" y="30481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Зачатки этих качеств надо формировать в ребенке как можно раньше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8380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ебенок впервые открывает Родину в семье. Это ближайшее его окружение, где он черпает такие понятия, как "труд", "долг", "честь", "Родина"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Чувство 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Родин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 начинается у ребенка с отношения к самым близким людям - отцу, матери, дедушке, бабушке. Это корни, связывающие его с родным домом и ближайшим окружение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86200" y="342900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«Бабушкин сундук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436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сундуке находитс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ольшая красивая книга русских народных сказок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уквар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анка варенья, шоколад, конфет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тенок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аринные семейные фотограф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арая одежд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крытки памятников города Клинц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ртинки с изображением орденов и медал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улинарная книга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14956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современной жизни нам часто приходится слышать слова «патриот», патриотизм», «гражданин». Этим словам несколько тысяч ле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 Как вы понимаете смысл этих понятий?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Вот как на этот вопрос ответили дети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Это тот человек который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юбит то место, где родился и вырос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от, кто любит и не забывает свою мать, свой д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то с гордостью осознаёт, что нет на Земле страны лучше наш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готов стать на защиту Отечеств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нает государственную символику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нает свой родной язык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нает историю своей страны, гордится своими предк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23T15:53:54Z</dcterms:created>
  <dc:creator>Maestro</dc:creator>
  <dc:description/>
  <dc:language>en-US</dc:language>
  <cp:lastModifiedBy>Maestro</cp:lastModifiedBy>
  <dcterms:modified xsi:type="dcterms:W3CDTF">2021-06-09T15:15:0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