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7A9C-5975-4DB9-8815-810A47FA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4F01-677C-46F7-AFE4-1733A2CE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BFE8-65CA-425F-9D93-28072FF8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649D-BFB6-44D6-8441-C96E371A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F29C-18DE-4DF4-81DA-6D4B814F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5450-E6D4-4379-A37D-739F3A41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46A5-F270-468F-809B-1AD7B2E5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0016-CE98-4798-AF05-DE7CC741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C5E9-0FED-4DBE-A85E-9720EF33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4DFA-CFC8-41BB-85C4-2F395245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D75C-5D3A-4745-9A52-25EA308A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D61-DBB4-462F-B142-7BC7DC24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9013-A28F-4DD3-9D12-C2A64225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7BD7-8259-40C3-9950-39C55AAA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875D-DF7D-4D00-8327-82CC2BFB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7F6E-79A5-49B7-8CE9-37B2355C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3008-041D-42DF-87FB-3025E332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F877-063C-4C61-9DC4-EC3EB56E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A3CF-52D2-4693-B518-74AFF2F0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137-514B-4A35-B3DE-F620DE57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2AF8-E9E8-488F-9F4B-A865E455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D178-F772-4580-83E5-8CAA32A3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4FE0-6EEF-459E-BCAC-7C367F97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803-2B48-443D-9596-3A3E261F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0986-F712-44D2-B602-855A79D23BD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1E8B-5FDB-4D7C-A461-662949101C9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800080"/>
                </a:solidFill>
                <a:latin typeface="AngsanaUPC"/>
              </a:rPr>
              <a:t>Уголовная ответственность несовершеннолетних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полнил: преподаватель ОБ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авустяненко Виктор Николаеви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.Новочеркасс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БОУСОШ №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403200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68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Лишению свободы несовершеннолетние осужденные подвергаются на срок не свыше 10 лет; наказание  отбывается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есовершеннолетними мужского пола , приговоренными впервые к лишению свободы , а также несовершеннолетними женского пола – в воспитательных  колониях общего режим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есовершеннолетними мужского пола , ранее отбывающими наказание в виде лишения свободы, - в воспитательных колониях усиленного режим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60093"/>
                </a:solidFill>
                <a:latin typeface="Arial"/>
              </a:rPr>
              <a:t>Конец презентаци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 1 января 1997 года введен новый Уголовный кодекс РФ, в котором есть специальный раздел, посвященный уголовной ответственности несовершеннолетни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484360" y="3284640"/>
            <a:ext cx="42800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т. 20, ч. 1 УК РФ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головной ответственности подлежит  лицо, достигшее ко времени совершения преступления шестнадцатилетнего возраст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374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705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К предусмотрены следующие виды наказаний, назначаемые несовершеннолетним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) Штраф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) Лишение права заниматься определенной деятельностью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) Обязательные работ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г) Исправительные работ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д) Арест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е) Лишение свободы на определенный срок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406760" cy="4176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5148360" y="2277000"/>
            <a:ext cx="356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6 статья  уголовного кодекса предусматривает уголовную ответственность за неисполнение обязанностей по воспитанию несовершеннолетнего, если это деяние соединено с жестоким обращением с несовершеннолетни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993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250920" y="1628640"/>
            <a:ext cx="812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 истекшем году на территории области несовершеннолетними, не достигшими возраста уголовной ответственности, совершено 203 общественно-опасных деяния, в которых приняли участие 267 подростков, 154 из которых не достигли возра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476360" y="3068640"/>
            <a:ext cx="51116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есовершеннолетнему могут быть назначены следующие принудительные меры воспитательного воздействия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) предупреждени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) передача под надзор родителей, лиц, их заменяющих, либо специализированного государственного орган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) возложение обязанности загладить причиненный вред 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г) ограничение досуга и установление особых требований к поведению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4T13:38:18Z</dcterms:created>
  <dc:creator>Анна</dc:creator>
  <dc:description/>
  <dc:language>en-US</dc:language>
  <cp:lastModifiedBy>Пользователь</cp:lastModifiedBy>
  <dcterms:modified xsi:type="dcterms:W3CDTF">2011-10-26T09:48:07Z</dcterms:modified>
  <cp:revision>4</cp:revision>
  <dc:subject/>
  <dc:title>Уголовная ответственность несовершеннолетних</dc:title>
</cp:coreProperties>
</file>