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F22-0996-4AA2-8270-B9433D5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23B-BBDE-41EA-A71B-D5307E0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049-5D28-4513-8179-E7459767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E7C-7F27-47E9-BFC5-A12AB993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E4C4-965C-426B-A0D0-0CF1479D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D26E-D988-464E-994D-F8AA1A47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5124-4341-47C9-882E-6692F19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1A52-8A8B-47EB-9EC3-418C74ED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BC68-EBEC-427F-8D12-DE50070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A7FC-BA3D-43D1-8E8C-6AF841B6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6CC6-73C8-4ED3-B382-CFB2512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16C-A31A-4807-8740-7A847793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358-AF73-43BA-A18E-FA76D38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E5A-8A9B-4B45-9D60-4E1C1D9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F6A3-BCC4-4466-AB4B-C29A004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240-009C-40EB-9EFC-2F066727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DF23-8E49-4014-912E-F37563F3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A3E-B723-4707-A8D9-5319C697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C9E-0C0F-4D2D-8074-D1DBB64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EB0-BAA9-43CC-959F-95964F1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F58-CF55-4F8B-A8B9-ED38E796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407-BF1B-436F-B65E-41FC4A7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F0D-F87E-457B-B70F-422E28F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30D-1F27-4FA1-8AC5-E38AA44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8A0D-148C-4229-AD14-6337F119E6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BBC-8484-4737-AB34-D38F0944588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0080"/>
                </a:solidFill>
                <a:latin typeface="AngsanaUPC"/>
              </a:rPr>
              <a:t>Уголо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: преподаватель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вустяненко Виктор Николае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Новочеркас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СОШ 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3200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шению свободы несовершеннолетние осужденные подвергаются на срок не свыше 10 лет; наказание  отбы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приговоренными впервые к лишению свободы , а также несовершеннолетними женского пола – в воспитательных  колониях общего режим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ранее отбывающими наказание в виде лишения свободы, - в 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280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. 20, ч. 1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К предусмотрены следующие виды наказаний, назначаемые несовершеннолетни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06760" cy="41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48360" y="227700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 статья  уголовного кодекса предусматривает уголовную ответственность за неисполнение обязанностей по воспитанию несовершеннолетнего, если это деяние соединено с жестоким обращением с несовершеннолет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62864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стекшем году на территории области несовершеннолетними, не достигшими возраста уголовной ответственности, совершено 203 общественно-опасных деяния, в которых приняли участие 267 подростков, 154 из которых не достигли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1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ему могут быть назначены следующие принудительные меры воспитательного воздейств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, лиц, их заменяющих, либо специализированного государственного орга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8:18Z</dcterms:created>
  <dc:creator>Анна</dc:creator>
  <dc:description/>
  <dc:language>en-US</dc:language>
  <cp:lastModifiedBy>Пользователь</cp:lastModifiedBy>
  <dcterms:modified xsi:type="dcterms:W3CDTF">2011-10-26T09:48:07Z</dcterms:modified>
  <cp:revision>4</cp:revision>
  <dc:subject/>
  <dc:title>Уголовная ответственность несовершеннолетних</dc:title>
</cp:coreProperties>
</file>