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25.png" ContentType="image/png"/>
  <Override PartName="/ppt/media/image24.jpeg" ContentType="image/jpeg"/>
  <Override PartName="/ppt/media/image19.gif" ContentType="image/gif"/>
  <Override PartName="/ppt/media/image4.wmf" ContentType="image/x-wmf"/>
  <Override PartName="/ppt/media/image23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1CF6-458C-4938-BB9B-C56BD5AD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6798-2020-46CE-AAA9-FB1B67BD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8A1D-050C-48C7-B08B-331C0864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F67F-D139-4E92-BB36-D77CB8A9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71A8-23CA-4AEA-89BA-6368FDFF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6DFF-A165-4821-91D2-C82898B2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778C-89DD-4BC3-99CE-B79A236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7BFC-422B-43F5-931B-063C8999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DFA2-132E-4163-8C43-92B6E968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4534-AD72-4EEB-81B1-A5629040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35E4-FB8A-40CC-AD3F-860A3CF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7696-D8D6-4636-90E1-DF193507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57BA-5CB5-495D-8910-0D697826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6D57-11E9-46B2-BA3E-DCB62E90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769B-CBDD-45DE-BE6B-250594E9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4E1F-244A-49FA-ABC4-4B913492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7DD9-FFE1-4C7D-AA29-E5BF7B8A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764D-740E-40F7-B01A-39EA682D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340D-2D8F-46AF-B90F-D288DA3C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F7B7-BFA0-4EFB-889D-E959795C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E03C-1652-4102-AAC1-57626155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1F30-FDC9-42FC-A811-4FD39BA9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BDAE-51C4-4A65-852C-DFEEB2A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01B0-34E0-4AED-9C5C-8316BC9E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433C-A530-4345-B95E-7C461652E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/>
              <a:ahLst/>
              <a:rect l="l" t="t" r="r" b="b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/>
              <a:ahLst/>
              <a:rect l="l" t="t" r="r" b="b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/>
              <a:ahLst/>
              <a:rect l="l" t="t" r="r" b="b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/>
              <a:ahLst/>
              <a:rect l="l" t="t" r="r" b="b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/>
              <a:ahLst/>
              <a:rect l="l" t="t" r="r" b="b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0240" y="1219320"/>
              <a:ext cx="864360" cy="4548600"/>
              <a:chOff x="111024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024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996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86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46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6760"/>
              <a:ext cx="7314840" cy="4098960"/>
              <a:chOff x="914760" y="1436760"/>
              <a:chExt cx="731484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6760"/>
                <a:ext cx="7298640" cy="821520"/>
                <a:chOff x="914760" y="1436760"/>
                <a:chExt cx="729864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6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360" y="17103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160" y="198324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28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0000"/>
                <a:ext cx="7297200" cy="820440"/>
                <a:chOff x="932400" y="252000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00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46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160" y="334044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31320"/>
                <a:ext cx="7298640" cy="820440"/>
                <a:chOff x="914760" y="3631320"/>
                <a:chExt cx="72986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313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360" y="390600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160" y="417780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17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2760"/>
                <a:ext cx="7297200" cy="822960"/>
                <a:chOff x="932400" y="4712760"/>
                <a:chExt cx="72972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2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52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1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160" y="553572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79520" y="1243080"/>
              <a:ext cx="864360" cy="4547520"/>
              <a:chOff x="227952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79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59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55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5360" y="1243080"/>
              <a:ext cx="864360" cy="4547520"/>
              <a:chOff x="346536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2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1200" y="1243080"/>
              <a:ext cx="864360" cy="4547520"/>
              <a:chOff x="46512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29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4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5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88080" y="1243080"/>
              <a:ext cx="862920" cy="4547520"/>
              <a:chOff x="578808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88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4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1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1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47640" y="1243080"/>
              <a:ext cx="864360" cy="4547520"/>
              <a:chOff x="69476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47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5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11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2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AD3C-C4E8-4792-ADC7-3313CCDFA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239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нсультация для родителей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Наказывая, подумай как?»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питатель: Клюка Е.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user\Desktop\2222.jpg"/>
          <p:cNvPicPr/>
          <p:nvPr/>
        </p:nvPicPr>
        <p:blipFill>
          <a:blip r:embed="rId1"/>
          <a:stretch/>
        </p:blipFill>
        <p:spPr>
          <a:xfrm>
            <a:off x="1828800" y="2438280"/>
            <a:ext cx="62485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C:\Documents and Settings\Вадим\Мои документы\Ребенок.jpeg"/>
          <p:cNvPicPr/>
          <p:nvPr/>
        </p:nvPicPr>
        <p:blipFill>
          <a:blip r:embed="rId1"/>
          <a:stretch/>
        </p:blipFill>
        <p:spPr>
          <a:xfrm>
            <a:off x="6934320" y="152280"/>
            <a:ext cx="2068560" cy="2362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H:\ШШККООЛЛАА\ШШШКККОООЛЛЛААА\анимации Гаряева\1056.gif"/>
          <p:cNvPicPr/>
          <p:nvPr/>
        </p:nvPicPr>
        <p:blipFill>
          <a:blip r:embed="rId2"/>
          <a:stretch/>
        </p:blipFill>
        <p:spPr>
          <a:xfrm>
            <a:off x="1143000" y="152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предупредить возможные отрицательные поступки.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ажно подчеркнуть, что наказывается поступок, а не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01_05_00"/>
          <p:cNvPicPr/>
          <p:nvPr/>
        </p:nvPicPr>
        <p:blipFill>
          <a:blip r:embed="rId1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c00000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520" y="1142640"/>
            <a:ext cx="8991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го приемлемость, формы 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:\Documents and Settings\Вадим\Мои документы\Родители1.jpeg"/>
          <p:cNvPicPr/>
          <p:nvPr/>
        </p:nvPicPr>
        <p:blipFill>
          <a:blip r:embed="rId1"/>
          <a:stretch/>
        </p:blipFill>
        <p:spPr>
          <a:xfrm>
            <a:off x="2743200" y="3276720"/>
            <a:ext cx="4229280" cy="30747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680" y="609120"/>
            <a:ext cx="5105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апа вазу опрокинул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то его накажет?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“Это к счастью, Это к счастью!”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ё семейство скажет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у, а если бы к несчастью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Это сделал я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“Ты разиня, Ты растяпа” -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кажет мне семь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6868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 ЧТО СКАЖЕТЕ ВЫ 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1"/>
          <a:srcRect l="2879" t="0" r="2879" b="0"/>
          <a:stretch/>
        </p:blipFill>
        <p:spPr>
          <a:xfrm>
            <a:off x="5486400" y="1676520"/>
            <a:ext cx="3454560" cy="259056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ЕГО НЕ ДОЛЖНО БЫ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20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допустимы физические наказ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Физическое наказание создает лишь иллюзию разрешения конфликта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Я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Ярость приводит к чрезмерности наказания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теричност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 истерическую жестикуляцию и чрезмерность эмоций ребенок неизбежно ответит тем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езнака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сли любовь родителей слепа и безответствен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А НАКАЗ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Наказывая, подумай: Зачем? Для чего? Задайте себе вопрос, почему ребенок так поступил, выясните ситуацию и ответьте себе на вопрос: нужно ли его за это наказывать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Если есть сомнения, наказывать или нет - не наказывать! Никаких наказаний не должно быть «на всякий случай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Наказание никогда не должно вредить здоро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За один раз можно наказать только за один проступок. «Салат» из наказаний не для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Запоздало не наказывать - за давностью все списыв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Наказан значит прощ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Наказание не должно сопровождаться унижением, не должно рассматриваться как торжество силы взрослого над слабостью ребе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609480" y="42840"/>
            <a:ext cx="8070840" cy="11527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762120" y="1066680"/>
            <a:ext cx="77864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 употребляй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я тысячу раз говорил тебе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сколько раз надо повторять..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о чем ты только думаешь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неужели трудно запомнить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ты становишься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ты такой же, как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отстань, некогда мне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почему Лена (Катя, и т.д.) такая, а ты – н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Употребляй чащ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ты у меня самый умный, (красивый и т.д.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как хорошо, что у меня есть ты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ты у меня молодец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я тебя очень люблю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спасибо тебе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без тебя я бы не справ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Georgia"/>
              </a:rPr>
              <a:t>Помнит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Georgia"/>
              </a:rPr>
              <a:t>Воспитывая ребенка, оба родителя и остальные родственники должны действовать согласова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Вадим\Мои документы\Дети и родители12.jpeg"/>
          <p:cNvPicPr/>
          <p:nvPr/>
        </p:nvPicPr>
        <p:blipFill>
          <a:blip r:embed="rId1"/>
          <a:stretch/>
        </p:blipFill>
        <p:spPr>
          <a:xfrm>
            <a:off x="7620120" y="15228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  <p:sp>
        <p:nvSpPr>
          <p:cNvPr id="207" name=""/>
          <p:cNvSpPr txBox="1"/>
          <p:nvPr/>
        </p:nvSpPr>
        <p:spPr>
          <a:xfrm>
            <a:off x="380520" y="9907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Физическое наказание детей следует применят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исключительных случаях,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1981080" y="52578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762120" y="34290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419720" y="838080"/>
            <a:ext cx="44193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438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кинут счастьем будет т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ого ребёнком плохо воспи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бег зелёный выпрямить лег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ухую ветвь один огонь исправ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а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Times New Roman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85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юбите и уважайте своих дете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parents"/>
          <p:cNvPicPr/>
          <p:nvPr/>
        </p:nvPicPr>
        <p:blipFill>
          <a:blip r:embed="rId1"/>
          <a:stretch/>
        </p:blipFill>
        <p:spPr>
          <a:xfrm>
            <a:off x="1030320" y="2951280"/>
            <a:ext cx="44989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33520" y="304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казание и поощрение как основные методы воспитания, преследуют конечную цель - благо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амое дорогое для нас -это наши дети!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 наша задача быть терпеливее с ними 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спитывать  с минимальными психологическими трав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H:\ШШККООЛЛАА\ШШШКККОООЛЛЛААА\анимации Гаряева\смайлики\cache_343148613.gif"/>
          <p:cNvPicPr/>
          <p:nvPr/>
        </p:nvPicPr>
        <p:blipFill>
          <a:blip r:embed="rId1"/>
          <a:stretch/>
        </p:blipFill>
        <p:spPr>
          <a:xfrm>
            <a:off x="6858000" y="533520"/>
            <a:ext cx="211788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Вадим\Мои документы\Учащиеся.jpeg"/>
          <p:cNvPicPr/>
          <p:nvPr/>
        </p:nvPicPr>
        <p:blipFill>
          <a:blip r:embed="rId2"/>
          <a:stretch/>
        </p:blipFill>
        <p:spPr>
          <a:xfrm>
            <a:off x="7162920" y="5116680"/>
            <a:ext cx="175248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user\Desktop\111111.jpg"/>
          <p:cNvPicPr/>
          <p:nvPr/>
        </p:nvPicPr>
        <p:blipFill>
          <a:blip r:embed="rId1"/>
          <a:srcRect l="0" t="0" r="0" b="4794"/>
          <a:stretch/>
        </p:blipFill>
        <p:spPr>
          <a:xfrm>
            <a:off x="1201680" y="345960"/>
            <a:ext cx="7485120" cy="5978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 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C:\Documents and Settings\Вадим\Мои документы\Дети и родители.jpeg"/>
          <p:cNvPicPr/>
          <p:nvPr/>
        </p:nvPicPr>
        <p:blipFill>
          <a:blip r:embed="rId1"/>
          <a:stretch/>
        </p:blipFill>
        <p:spPr>
          <a:xfrm rot="20925600">
            <a:off x="1458720" y="4086000"/>
            <a:ext cx="3020760" cy="19699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72" name="Picture 7" descr="C:\Documents and Settings\Вадим\Мои документы\Дети и родители 6.jpeg"/>
          <p:cNvPicPr/>
          <p:nvPr/>
        </p:nvPicPr>
        <p:blipFill>
          <a:blip r:embed="rId2"/>
          <a:stretch/>
        </p:blipFill>
        <p:spPr>
          <a:xfrm>
            <a:off x="5029200" y="3962520"/>
            <a:ext cx="2514600" cy="2514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609480" y="11430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C:\Documents and Settings\Вадим\Мои документы\Девочка.jpeg"/>
          <p:cNvPicPr/>
          <p:nvPr/>
        </p:nvPicPr>
        <p:blipFill>
          <a:blip r:embed="rId1"/>
          <a:stretch/>
        </p:blipFill>
        <p:spPr>
          <a:xfrm>
            <a:off x="2590920" y="3981600"/>
            <a:ext cx="4005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*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* 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*  Ребенок должен быть информирован о том, за какие проступки последует наказание и в какой форме, 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* 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:\ШШККООЛЛАА\ШШШКККОООЛЛЛААА\анимации Гаряева\05.gif"/>
          <p:cNvPicPr/>
          <p:nvPr/>
        </p:nvPicPr>
        <p:blipFill>
          <a:blip r:embed="rId1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Вадим\Мои документы\Ученик6.jpeg"/>
          <p:cNvPicPr/>
          <p:nvPr/>
        </p:nvPicPr>
        <p:blipFill>
          <a:blip r:embed="rId1"/>
          <a:stretch/>
        </p:blipFill>
        <p:spPr>
          <a:xfrm>
            <a:off x="7467480" y="4952880"/>
            <a:ext cx="1514520" cy="1733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:\ШШККООЛЛАА\ШШШКККОООЛЛЛААА\анимации Гаряева\смайлики\6417892.gif"/>
          <p:cNvPicPr/>
          <p:nvPr/>
        </p:nvPicPr>
        <p:blipFill>
          <a:blip r:embed="rId2"/>
          <a:stretch/>
        </p:blipFill>
        <p:spPr>
          <a:xfrm>
            <a:off x="7620120" y="1447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C:\Documents and Settings\Вадим\Мои документы\Ученик3.jpeg"/>
          <p:cNvPicPr/>
          <p:nvPr/>
        </p:nvPicPr>
        <p:blipFill>
          <a:blip r:embed="rId3"/>
          <a:stretch/>
        </p:blipFill>
        <p:spPr>
          <a:xfrm>
            <a:off x="2133720" y="550548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C:\Documents and Settings\Вадим\Мои документы\Дети и родители2.jpeg"/>
          <p:cNvPicPr/>
          <p:nvPr/>
        </p:nvPicPr>
        <p:blipFill>
          <a:blip r:embed="rId1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pc</cp:lastModifiedBy>
  <dcterms:modified xsi:type="dcterms:W3CDTF">2021-06-10T09:21:31Z</dcterms:modified>
  <cp:revision>76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