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A48-B936-4204-ABA8-D1978935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6A2-D917-4128-8A0E-28227613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2F4-3480-4718-9E28-4C6D0479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2EB-65FD-4518-B8DC-68778A0E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7224-47DA-435A-812C-04D63A51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0654-3737-4B86-B291-D81F709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0B93-33E1-48A9-B8C3-6F52042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FF63-50AE-4F78-B8EA-B6DDE431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C4FE-87E0-4DBD-8991-D66EF1E6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584F-E469-4B82-B1C3-5A6DCBF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410D-3CB6-4850-ADD2-5C0EA71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6D1-0AFB-47D7-93CA-0700F05E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521-CBE2-4488-B59E-28DCD2C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A543-2DF6-498A-95CE-F3CB0BA5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4A0D-59DB-4D89-B6D6-612407F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38B5-40C9-4ED7-AAF1-3F6D0E07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0D13-B526-466A-92C9-86B409EF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FA2-BCA9-40E8-BB52-3C5DCCE5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D40-3747-45BF-BD6D-54ABD350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D7A-CE2F-47F6-88E8-DC95B6C3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3DA-9B4D-4267-856D-E1AC158E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150-4C58-4B95-841F-BE91D39E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4B2-E029-46B0-9671-4FC0284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2C5-6BE5-4F3C-BEF0-A4F9A297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0DB-E021-40BC-8D52-3BCA8441E82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63F-0E02-47EE-AB10-44C2DA265F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755640" y="3573360"/>
            <a:ext cx="7704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5" descr="http://images2.wikia.nocookie.net/__cb20091012152256/science/ru/images/thumb/d/d6/Coat_of_arms_of_the_Soviet_Union.svg/600px-Coat_of_arms_of_the_Soviet_Union.svg.png"/>
          <p:cNvPicPr/>
          <p:nvPr/>
        </p:nvPicPr>
        <p:blipFill>
          <a:blip r:embed="rId1"/>
          <a:stretch/>
        </p:blipFill>
        <p:spPr>
          <a:xfrm>
            <a:off x="785880" y="0"/>
            <a:ext cx="7715160" cy="65008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6360" y="4694400"/>
            <a:ext cx="88758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shot.qip.ru/2000SJi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428760" y="571680"/>
            <a:ext cx="735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31 декабря 1924г.-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II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Съезд Советов ССС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bagnet.org/doc/images/k17.jpg"/>
          <p:cNvPicPr/>
          <p:nvPr/>
        </p:nvPicPr>
        <p:blipFill>
          <a:blip r:embed="rId1"/>
          <a:stretch/>
        </p:blipFill>
        <p:spPr>
          <a:xfrm>
            <a:off x="142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5286240" y="14292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ъезде принята Конституция СССР 1924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357880" y="2571840"/>
            <a:ext cx="357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снове лежали Декларация и Договор 1922г. Устанавливалось единое союзное гражданство: гражданин каждой республики являлся гражданином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лом сохранялись положения Конституции 191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овали ограничения избирательных прав для значительной части нас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24 –т1925гг. Были приняты Конституции союзных республ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142920" y="0"/>
            <a:ext cx="87152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упление в состав СССР советских республ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авах союзных республик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59552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24г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Туркестанская республика разделена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збекскую ССР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уркменскую СС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29г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з Узбекской республики выделилась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джикская СС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36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- Закавказская ССР разделилась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зербайджанскую ССР, Армянскую ССР, Грузинскую ССР, Казахскую ССР, Киргизскую 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40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– с присоединением Прибалтики и Бессарабии вошл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атвийская СС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товская ССР, Эстонская ССР, Молдавская ССР, Карело – Финская 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ациональная политика большевиков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 1917 – 1921 гг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363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кларация прав народов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 всем трудящимся мусульманам России и Вост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кларация трудящихся и эксплуатируемого на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35640" y="1599840"/>
            <a:ext cx="35654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венство и суверенность нар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вободное самоопределение вплоть до отд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ветская республика – как свободный союз свободных н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851280" y="2997360"/>
            <a:ext cx="1657440" cy="502920"/>
          </a:xfrm>
          <a:prstGeom prst="rightArrow">
            <a:avLst>
              <a:gd name="adj1" fmla="val 50000"/>
              <a:gd name="adj2" fmla="val 8239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Национальная политика большевиков в 1917 – 1921 гг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3924360" y="620640"/>
            <a:ext cx="49672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екабрь 1917г. – провозглашение независимости Финляндии, Литвы, Латв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нварь-февраль 1918г. – провозглашение независимости Украины, Эстонии, образование Закавказской демократической республ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1919-1920гг. – военно-политический союз РСФСР, Украины, Белоруссии, Закавказ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1921-1922гг. – военно-хозяйственный со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редпосылки объедин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425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екты объединения республ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2560" y="714240"/>
            <a:ext cx="871524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густ 1922 г. – создание комиссии для подготовки проекта объединения республик в едино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428920" y="27860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В. Ста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643280" y="278604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И. Л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rcRect l="25099" t="0" r="24871" b="4872"/>
          <a:stretch/>
        </p:blipFill>
        <p:spPr>
          <a:xfrm>
            <a:off x="0" y="1714680"/>
            <a:ext cx="2500200" cy="335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2"/>
          <a:srcRect l="30868" t="20704" r="32451" b="20256"/>
          <a:stretch/>
        </p:blipFill>
        <p:spPr>
          <a:xfrm>
            <a:off x="6429240" y="1571760"/>
            <a:ext cx="271476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4572000" y="50720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устройство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ровольный союз суверенных и равноправных республ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214200" y="52149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хождение в состав СССР на правах авт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sssr-my.ru/img/I_sjezd_sovetov_sss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85840" y="28584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0 декабря 1922г. –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Съезд Сове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Герб РСФСР"/>
          <p:cNvPicPr/>
          <p:nvPr/>
        </p:nvPicPr>
        <p:blipFill>
          <a:blip r:embed="rId1"/>
          <a:stretch/>
        </p:blipFill>
        <p:spPr>
          <a:xfrm>
            <a:off x="285840" y="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2217960" y="214200"/>
            <a:ext cx="22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СФ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герб краины"/>
          <p:cNvPicPr/>
          <p:nvPr/>
        </p:nvPicPr>
        <p:blipFill>
          <a:blip r:embed="rId2"/>
          <a:stretch/>
        </p:blipFill>
        <p:spPr>
          <a:xfrm>
            <a:off x="428760" y="1785960"/>
            <a:ext cx="1493640" cy="1627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2156040" y="185724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герб Белоруссии"/>
          <p:cNvPicPr/>
          <p:nvPr/>
        </p:nvPicPr>
        <p:blipFill>
          <a:blip r:embed="rId3"/>
          <a:stretch/>
        </p:blipFill>
        <p:spPr>
          <a:xfrm>
            <a:off x="428760" y="3357720"/>
            <a:ext cx="147924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2290680" y="328608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С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герб ЗСФСР"/>
          <p:cNvPicPr/>
          <p:nvPr/>
        </p:nvPicPr>
        <p:blipFill>
          <a:blip r:embed="rId4"/>
          <a:stretch/>
        </p:blipFill>
        <p:spPr>
          <a:xfrm>
            <a:off x="285840" y="4857840"/>
            <a:ext cx="1963800" cy="1857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8"/>
          <p:cNvSpPr/>
          <p:nvPr/>
        </p:nvSpPr>
        <p:spPr>
          <a:xfrm>
            <a:off x="2075400" y="4714920"/>
            <a:ext cx="21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СФ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Герб проект 1923"/>
          <p:cNvPicPr/>
          <p:nvPr/>
        </p:nvPicPr>
        <p:blipFill>
          <a:blip r:embed="rId5"/>
          <a:stretch/>
        </p:blipFill>
        <p:spPr>
          <a:xfrm>
            <a:off x="5357880" y="14292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4659840" y="3714840"/>
            <a:ext cx="30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СССР -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4572000" y="4643280"/>
            <a:ext cx="44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юз Советских Социалистических Респуб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Принципы устройства единого государств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95920" y="135720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одатель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084280" y="135720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ни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низ 5"/>
          <p:cNvSpPr/>
          <p:nvPr/>
        </p:nvSpPr>
        <p:spPr>
          <a:xfrm>
            <a:off x="1714680" y="1928880"/>
            <a:ext cx="285480" cy="4284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низ 6"/>
          <p:cNvSpPr/>
          <p:nvPr/>
        </p:nvSpPr>
        <p:spPr>
          <a:xfrm>
            <a:off x="6858000" y="185724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28760" y="235728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союзный Съезд Сов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5429160" y="228600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Народных Комисс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38840" y="342900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И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ежду съезд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трелка вниз 10"/>
          <p:cNvSpPr/>
          <p:nvPr/>
        </p:nvSpPr>
        <p:spPr>
          <a:xfrm>
            <a:off x="357120" y="3929040"/>
            <a:ext cx="9288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Стрелка вниз 11"/>
          <p:cNvSpPr/>
          <p:nvPr/>
        </p:nvSpPr>
        <p:spPr>
          <a:xfrm>
            <a:off x="3571920" y="3929040"/>
            <a:ext cx="78588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23200" y="435780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Сою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3091320" y="4357800"/>
            <a:ext cx="33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циональ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85840" y="500076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ители союз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публик пропорционально насел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214800" y="528624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представителей от союзной автономной республи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от автономн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6786720" y="3143160"/>
            <a:ext cx="221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едатели СН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 И. Лен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22-192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. И. Ры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24-193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 М. Моло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30-194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. В. Стал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41—1953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214200" y="0"/>
            <a:ext cx="871560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 ведение союзного правитель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остранные дела, внешняя торгов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оруженные сил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ти сооб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нан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она и гос. безопас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 ведении союзных республи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утренние дела, земледелие;                        - просвящ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. обеспечение, здравоохран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юсти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3:40:35Z</dcterms:created>
  <dc:creator>Игнатова МЛ</dc:creator>
  <dc:description/>
  <dc:language>en-US</dc:language>
  <cp:lastModifiedBy>папа</cp:lastModifiedBy>
  <dcterms:modified xsi:type="dcterms:W3CDTF">2021-06-11T12:38:29Z</dcterms:modified>
  <cp:revision>28</cp:revision>
  <dc:subject/>
  <dc:title>Слайд 1</dc:title>
</cp:coreProperties>
</file>