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4E4-F90D-4234-9588-66A1F59C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C3C-E3C2-408E-951F-0375EEDC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48B-5A68-4FDA-A514-0353B4B5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782-2DB4-4BFC-B6D9-AD7F77DF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F738-5310-4B63-AD0D-67A24491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30C6-FB7E-45E8-A134-6BD6E464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0C31-557F-477F-899B-95E3D826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BB7E-8F27-426D-9F2B-5FC81AA0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4803-88C9-4A7A-B130-59E1A07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1C90-2A25-4871-9C6A-44AC6BE6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0F0D-59AE-42E5-8E68-6ECAD26F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574-8103-4249-B730-1AE7FB35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DB5E-8BDC-4366-9584-1120505B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7FB7-28D9-45B4-9BBE-82EA098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0156-274A-45D6-B083-4DE03D64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FEA9-2691-49A8-9BEA-C84A0579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4E8-707B-4466-A6E5-62A4197D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FB1-D48B-458F-A8CE-E1134810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EE6-7C65-43D5-BD79-1CCDA9D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88F-6900-4A7F-84D4-B7EF60FE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175-2F13-42C4-9C65-397A1161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A1E-D54C-4AD3-B8CF-15053F6C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B9D-ACD8-4BC0-B097-59C62EB3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CB1-4100-41D3-9077-5C24AB4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3EF-C42D-4581-8837-C9E9E196A65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ED89-A9E7-45C5-A47A-0CCB7F426F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755640" y="3573360"/>
            <a:ext cx="7704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5" descr="http://images2.wikia.nocookie.net/__cb20091012152256/science/ru/images/thumb/d/d6/Coat_of_arms_of_the_Soviet_Union.svg/600px-Coat_of_arms_of_the_Soviet_Union.svg.png"/>
          <p:cNvPicPr/>
          <p:nvPr/>
        </p:nvPicPr>
        <p:blipFill>
          <a:blip r:embed="rId1"/>
          <a:stretch/>
        </p:blipFill>
        <p:spPr>
          <a:xfrm>
            <a:off x="785880" y="0"/>
            <a:ext cx="7715160" cy="65008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36360" y="4694400"/>
            <a:ext cx="887580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shot.qip.ru/2000SJi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428760" y="571680"/>
            <a:ext cx="735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31 декабря 1924г.-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II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Съезд Советов ССС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bagnet.org/doc/images/k17.jpg"/>
          <p:cNvPicPr/>
          <p:nvPr/>
        </p:nvPicPr>
        <p:blipFill>
          <a:blip r:embed="rId1"/>
          <a:stretch/>
        </p:blipFill>
        <p:spPr>
          <a:xfrm>
            <a:off x="142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5286240" y="142920"/>
            <a:ext cx="371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ъезде принята Конституция СССР 1924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357880" y="2571840"/>
            <a:ext cx="357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снове лежали Декларация и Договор 1922г. Устанавливалось единое союзное гражданство: гражданин каждой республики являлся гражданином 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лом сохранялись положения Конституции 191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овали ограничения избирательных прав для значительной части нас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24 –т1925гг. Были приняты Конституции союзных республ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142920" y="0"/>
            <a:ext cx="87152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упление в состав СССР советских республ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равах союзных республик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42920" y="159552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24г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Туркестанская республика разделена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збекскую ССР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уркменскую СС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29г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з Узбекской республики выделилась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аджикская СС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36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- Закавказская ССР разделилась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зербайджанскую ССР, Армянскую ССР, Грузинскую ССР, Казахскую ССР, Киргизскую С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40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– с присоединением Прибалтики и Бессарабии вошл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атвийская СС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товская ССР, Эстонская ССР, Молдавская ССР, Карело – Финская С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Национальная политика большевиков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 1917 – 1921 гг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363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екларация прав народов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 всем трудящимся мусульманам России и Вост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екларация трудящихся и эксплуатируемого на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35640" y="1599840"/>
            <a:ext cx="35654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венство и суверенность нар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вободное самоопределение вплоть до отде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оветская республика – как свободный союз свободных н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851280" y="2997360"/>
            <a:ext cx="1657440" cy="502920"/>
          </a:xfrm>
          <a:prstGeom prst="rightArrow">
            <a:avLst>
              <a:gd name="adj1" fmla="val 50000"/>
              <a:gd name="adj2" fmla="val 8239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Национальная политика большевиков в 1917 – 1921 гг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7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3924360" y="620640"/>
            <a:ext cx="49672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екабрь 1917г. – провозглашение независимости Финляндии, Литвы, Латв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Январь-февраль 1918г. – провозглашение независимости Украины, Эстонии, образование Закавказской демократической республ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1919-1920гг. – военно-политический союз РСФСР, Украины, Белоруссии, Закавказ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1921-1922гг. – военно-хозяйственный со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редпосылки объедин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4256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оекты объединения республи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2560" y="714240"/>
            <a:ext cx="871524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густ 1922 г. – создание комиссии для подготовки проекта объединения республик в едино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428920" y="27860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В. Ста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643280" y="278604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И. Л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rcRect l="25099" t="0" r="24871" b="4872"/>
          <a:stretch/>
        </p:blipFill>
        <p:spPr>
          <a:xfrm>
            <a:off x="0" y="1714680"/>
            <a:ext cx="2500200" cy="335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2"/>
          <a:srcRect l="30868" t="20704" r="32451" b="20256"/>
          <a:stretch/>
        </p:blipFill>
        <p:spPr>
          <a:xfrm>
            <a:off x="6429240" y="1571760"/>
            <a:ext cx="271476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4572000" y="50720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тивное устройство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ровольный союз суверенных и равноправных республ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214200" y="52149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хождение в состав СССР на правах автоно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sssr-my.ru/img/I_sjezd_sovetov_sss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85840" y="28584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0 декабря 1922г. –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Съезд Совет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Герб РСФСР"/>
          <p:cNvPicPr/>
          <p:nvPr/>
        </p:nvPicPr>
        <p:blipFill>
          <a:blip r:embed="rId1"/>
          <a:stretch/>
        </p:blipFill>
        <p:spPr>
          <a:xfrm>
            <a:off x="285840" y="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2217960" y="214200"/>
            <a:ext cx="221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СФС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герб краины"/>
          <p:cNvPicPr/>
          <p:nvPr/>
        </p:nvPicPr>
        <p:blipFill>
          <a:blip r:embed="rId2"/>
          <a:stretch/>
        </p:blipFill>
        <p:spPr>
          <a:xfrm>
            <a:off x="428760" y="1785960"/>
            <a:ext cx="1493640" cy="1627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2156040" y="1857240"/>
            <a:ext cx="17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С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герб Белоруссии"/>
          <p:cNvPicPr/>
          <p:nvPr/>
        </p:nvPicPr>
        <p:blipFill>
          <a:blip r:embed="rId3"/>
          <a:stretch/>
        </p:blipFill>
        <p:spPr>
          <a:xfrm>
            <a:off x="428760" y="3357720"/>
            <a:ext cx="147924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2290680" y="3286080"/>
            <a:ext cx="17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СС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герб ЗСФСР"/>
          <p:cNvPicPr/>
          <p:nvPr/>
        </p:nvPicPr>
        <p:blipFill>
          <a:blip r:embed="rId4"/>
          <a:stretch/>
        </p:blipFill>
        <p:spPr>
          <a:xfrm>
            <a:off x="285840" y="4857840"/>
            <a:ext cx="1963800" cy="18572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8"/>
          <p:cNvSpPr/>
          <p:nvPr/>
        </p:nvSpPr>
        <p:spPr>
          <a:xfrm>
            <a:off x="2075400" y="4714920"/>
            <a:ext cx="21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СФС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Герб проект 1923"/>
          <p:cNvPicPr/>
          <p:nvPr/>
        </p:nvPicPr>
        <p:blipFill>
          <a:blip r:embed="rId5"/>
          <a:stretch/>
        </p:blipFill>
        <p:spPr>
          <a:xfrm>
            <a:off x="5357880" y="14292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4659840" y="3714840"/>
            <a:ext cx="301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СССР -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4572000" y="4643280"/>
            <a:ext cx="44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юз Советских Социалистических Республ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Принципы устройства единого государств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95920" y="135720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одатель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084280" y="1357200"/>
            <a:ext cx="36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ни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низ 5"/>
          <p:cNvSpPr/>
          <p:nvPr/>
        </p:nvSpPr>
        <p:spPr>
          <a:xfrm>
            <a:off x="1714680" y="1928880"/>
            <a:ext cx="285480" cy="4284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низ 6"/>
          <p:cNvSpPr/>
          <p:nvPr/>
        </p:nvSpPr>
        <p:spPr>
          <a:xfrm>
            <a:off x="6858000" y="1857240"/>
            <a:ext cx="2858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28760" y="235728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союзный Съезд Сов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5429160" y="228600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Народных Комисс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38840" y="342900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И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между съезд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Стрелка вниз 10"/>
          <p:cNvSpPr/>
          <p:nvPr/>
        </p:nvSpPr>
        <p:spPr>
          <a:xfrm>
            <a:off x="357120" y="3929040"/>
            <a:ext cx="9288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Стрелка вниз 11"/>
          <p:cNvSpPr/>
          <p:nvPr/>
        </p:nvSpPr>
        <p:spPr>
          <a:xfrm>
            <a:off x="3571920" y="3929040"/>
            <a:ext cx="78588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23200" y="435780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Сою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3091320" y="4357800"/>
            <a:ext cx="33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циональ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85840" y="500076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ители союз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публик пропорционально насел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214800" y="528624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представителей от союзной автономной республи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от автономн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6786720" y="3143160"/>
            <a:ext cx="221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едатели СН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 И. Лен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22-192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. И. Ры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24-193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 М. Моло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30-194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. В. Стал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41—1953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214200" y="0"/>
            <a:ext cx="871560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 ведение союзного правитель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остранные дела, внешняя торгов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оруженные сил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ути сооб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нан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она и гос. безопас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 ведении союзных республи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утренние дела, земледелие;                        - просвящ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. обеспечение, здравоохран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юстиц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03:40:35Z</dcterms:created>
  <dc:creator>Игнатова МЛ</dc:creator>
  <dc:description/>
  <dc:language>en-US</dc:language>
  <cp:lastModifiedBy>папа</cp:lastModifiedBy>
  <dcterms:modified xsi:type="dcterms:W3CDTF">2021-06-11T12:38:29Z</dcterms:modified>
  <cp:revision>28</cp:revision>
  <dc:subject/>
  <dc:title>Слайд 1</dc:title>
</cp:coreProperties>
</file>