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268-6C60-4A73-9BE2-21EB33FC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F1D-626D-4755-9ACF-16FB64EE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2A5-F597-409B-BFB5-AD9704FB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095-073C-494C-8EFF-5B9B7222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597C-41DF-4D60-960F-0DD9A8C1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2E7A-3A41-407A-B282-23DB60B6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ED0C-DC07-464C-8D68-FE3751FC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EA60-0B39-435D-83C1-E292046B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335B-ABB9-4848-A388-0563A341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C1A3-38CE-427B-A578-3D657620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7745-BD8F-4944-9C6D-38F9149B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D1F-2B62-49E5-89E7-0AE92477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F0A5-7BFA-464A-9030-2A777BAE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4583-EFBE-4785-B298-7F71ACF0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EE26-8599-42A4-AA6F-9E89B5CD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D9E6-747C-434F-B351-D06F34B8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A5C6-CC08-4866-B5F7-FDE98407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738-CABB-468B-A460-982F99B3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A45-EDCA-451F-A517-4DB61530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874-DC22-4CDF-BFDD-87FBEFD2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33B-74EF-4A08-B305-5F0CF7D7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FCF-B061-4E15-81E9-B6AE1FDC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95A5-466E-4081-81B3-46F6C33B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D95-BB94-4551-8121-0988C777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EAFA-323E-4E6A-A0B5-E21CDACF5C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24B8-4F44-4AE0-ACAB-7119F3E199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утеводитель по городам Липецкой обла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лец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8" descr="Изображение"/>
          <p:cNvPicPr/>
          <p:nvPr/>
        </p:nvPicPr>
        <p:blipFill>
          <a:blip r:embed="rId1"/>
          <a:stretch/>
        </p:blipFill>
        <p:spPr>
          <a:xfrm>
            <a:off x="684360" y="1052640"/>
            <a:ext cx="77040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анков. Краеведческий музе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6" descr="main"/>
          <p:cNvPicPr/>
          <p:nvPr/>
        </p:nvPicPr>
        <p:blipFill>
          <a:blip r:embed="rId1"/>
          <a:stretch/>
        </p:blipFill>
        <p:spPr>
          <a:xfrm>
            <a:off x="684360" y="1484280"/>
            <a:ext cx="770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Лебедянь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7" descr="Фото города Лебедянь (Липецкая область) ."/>
          <p:cNvPicPr/>
          <p:nvPr/>
        </p:nvPicPr>
        <p:blipFill>
          <a:blip r:embed="rId1"/>
          <a:stretch/>
        </p:blipFill>
        <p:spPr>
          <a:xfrm>
            <a:off x="468360" y="1197000"/>
            <a:ext cx="828036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сман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P1010475[1]"/>
          <p:cNvPicPr/>
          <p:nvPr/>
        </p:nvPicPr>
        <p:blipFill>
          <a:blip r:embed="rId1"/>
          <a:stretch/>
        </p:blipFill>
        <p:spPr>
          <a:xfrm>
            <a:off x="2916360" y="1844640"/>
            <a:ext cx="2808000" cy="367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"/>
          <p:cNvPicPr/>
          <p:nvPr/>
        </p:nvPicPr>
        <p:blipFill>
          <a:blip r:embed="rId2"/>
          <a:stretch/>
        </p:blipFill>
        <p:spPr>
          <a:xfrm>
            <a:off x="684360" y="1268280"/>
            <a:ext cx="770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рязи. Церковь Казанской иконы Божией Матер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6" descr="Церковь Казанской иконы Божией Матери, Грязи"/>
          <p:cNvPicPr/>
          <p:nvPr/>
        </p:nvPicPr>
        <p:blipFill>
          <a:blip r:embed="rId1"/>
          <a:stretch/>
        </p:blipFill>
        <p:spPr>
          <a:xfrm>
            <a:off x="395280" y="1341360"/>
            <a:ext cx="80964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донск. Мужской монастыр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7" descr="1144"/>
          <p:cNvPicPr/>
          <p:nvPr/>
        </p:nvPicPr>
        <p:blipFill>
          <a:blip r:embed="rId1"/>
          <a:stretch/>
        </p:blipFill>
        <p:spPr>
          <a:xfrm>
            <a:off x="755640" y="1125360"/>
            <a:ext cx="75614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плыгин. Исторический муз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82880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3280" y="184464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373392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09800" y="373392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10" descr="053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Липецк. Площодь Петра Великого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6" descr="lipetsk_2"/>
          <p:cNvPicPr/>
          <p:nvPr/>
        </p:nvPicPr>
        <p:blipFill>
          <a:blip r:embed="rId1"/>
          <a:stretch/>
        </p:blipFill>
        <p:spPr>
          <a:xfrm>
            <a:off x="684360" y="1557360"/>
            <a:ext cx="77040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2:08:03Z</dcterms:created>
  <dc:creator>User</dc:creator>
  <dc:description/>
  <dc:language>en-US</dc:language>
  <cp:lastModifiedBy>School 23 228</cp:lastModifiedBy>
  <dcterms:modified xsi:type="dcterms:W3CDTF">2021-04-06T08:56:23Z</dcterms:modified>
  <cp:revision>6</cp:revision>
  <dc:subject/>
  <dc:title>Путеводитель по городам Липецкой области</dc:title>
</cp:coreProperties>
</file>