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88A-378A-4729-AEE9-BC40C055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002-C9EB-4644-875B-C43770C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4C1-8B13-44FA-9AF8-60DE97CF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EF8-260B-4FE3-8884-60B39C28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7DAB-DB5C-484A-8403-8C0AFF4E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7F2-CE7C-4E22-9A99-C1DF6560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046D-1A13-46CF-A6D1-7E92B97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9C84-F5DC-4553-8189-4831E368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EA08-B324-487D-9E0F-64AF0C53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053E-3B21-4ED7-8B31-560CFC1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A237-362E-4010-8D8F-B20771A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812-6D2B-449B-B441-A66EE52E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29C4-1DCF-473A-8C99-41361A5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1457-5048-4F73-AA42-36C3A957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BF02-4041-4D55-BDDB-E33BF568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6E89-2EEA-422B-A298-BB663C74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9773-FC69-4AC1-933F-68688028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EAE-0D7C-4058-9003-8370FA17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C2E-0F9E-43D0-9BC2-BEB24930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911-1C97-4401-90FC-633F922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1EA-188A-4281-A63F-40EB97EC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F2C-7006-4DFE-BA93-0A676928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D6B-A86F-4A86-88CA-8F6F5B5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56A-70E5-4D82-A44E-06A288A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5DF6-CD22-4E3F-A138-9AAB559AFA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B38C-F4CA-48B5-92F1-F5407AEC3D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утеводитель по городам Липецкой обла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лец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8" descr="Изображение"/>
          <p:cNvPicPr/>
          <p:nvPr/>
        </p:nvPicPr>
        <p:blipFill>
          <a:blip r:embed="rId1"/>
          <a:stretch/>
        </p:blipFill>
        <p:spPr>
          <a:xfrm>
            <a:off x="684360" y="1052640"/>
            <a:ext cx="77040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нков. Краеведческий музе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main"/>
          <p:cNvPicPr/>
          <p:nvPr/>
        </p:nvPicPr>
        <p:blipFill>
          <a:blip r:embed="rId1"/>
          <a:stretch/>
        </p:blipFill>
        <p:spPr>
          <a:xfrm>
            <a:off x="684360" y="1484280"/>
            <a:ext cx="770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бедян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Фото города Лебедянь (Липецкая область) .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сман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P1010475[1]"/>
          <p:cNvPicPr/>
          <p:nvPr/>
        </p:nvPicPr>
        <p:blipFill>
          <a:blip r:embed="rId1"/>
          <a:stretch/>
        </p:blipFill>
        <p:spPr>
          <a:xfrm>
            <a:off x="2916360" y="1844640"/>
            <a:ext cx="2808000" cy="367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"/>
          <p:cNvPicPr/>
          <p:nvPr/>
        </p:nvPicPr>
        <p:blipFill>
          <a:blip r:embed="rId2"/>
          <a:stretch/>
        </p:blipFill>
        <p:spPr>
          <a:xfrm>
            <a:off x="684360" y="1268280"/>
            <a:ext cx="770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язи. Церковь Казанской иконы Божией Матер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Церковь Казанской иконы Божией Матери, Грязи"/>
          <p:cNvPicPr/>
          <p:nvPr/>
        </p:nvPicPr>
        <p:blipFill>
          <a:blip r:embed="rId1"/>
          <a:stretch/>
        </p:blipFill>
        <p:spPr>
          <a:xfrm>
            <a:off x="395280" y="1341360"/>
            <a:ext cx="8096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донск. Мужской монастыр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1144"/>
          <p:cNvPicPr/>
          <p:nvPr/>
        </p:nvPicPr>
        <p:blipFill>
          <a:blip r:embed="rId1"/>
          <a:stretch/>
        </p:blipFill>
        <p:spPr>
          <a:xfrm>
            <a:off x="755640" y="1125360"/>
            <a:ext cx="7561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плыгин. Исторический муз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3280" y="184464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373392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0" descr="053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ипецк. Площодь Петра Великог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lipetsk_2"/>
          <p:cNvPicPr/>
          <p:nvPr/>
        </p:nvPicPr>
        <p:blipFill>
          <a:blip r:embed="rId1"/>
          <a:stretch/>
        </p:blipFill>
        <p:spPr>
          <a:xfrm>
            <a:off x="684360" y="1557360"/>
            <a:ext cx="770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2:08:03Z</dcterms:created>
  <dc:creator>User</dc:creator>
  <dc:description/>
  <dc:language>en-US</dc:language>
  <cp:lastModifiedBy>School 23 228</cp:lastModifiedBy>
  <dcterms:modified xsi:type="dcterms:W3CDTF">2021-04-06T08:56:23Z</dcterms:modified>
  <cp:revision>6</cp:revision>
  <dc:subject/>
  <dc:title>Путеводитель по городам Липецкой области</dc:title>
</cp:coreProperties>
</file>