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03A-5823-44E9-94C8-F47AC3F0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AD0-AD29-48B5-8E4B-9C44F604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1A4-66DA-4344-B799-123F07B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597-A646-4571-9273-5DAEDB3E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97B-4F31-4788-B7EC-CA08C900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1D87-DE48-4BA0-B185-4D49A84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6A5-5741-4453-A913-A127563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4C92-BFA6-4D14-9B16-E04F44B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0A4-5E6D-4D92-9A03-0835F18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49DA-5EAA-4465-ADE4-F6AAA73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635F-170E-42D8-A6DF-8100946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713-A3B1-4A44-83A9-D4D12CA5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3398-5701-44E2-A2A0-3A49D2C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7B2-6124-4E0B-A68D-45BF891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87A-6A5C-44A7-A5B0-BBD5727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2E2-2A1F-4D61-B475-564939A6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D247-E806-45ED-8489-0AE88FAE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398-0493-40E2-A5D2-FDC297A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648-B94C-4ED8-ADBB-8904075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1F4-BB9F-4F43-9DCC-F78DE209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ABC-DFEC-4F89-9F3A-9744FB8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185-C624-4552-8E15-7651B97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C1F-DE51-42BA-B8EA-0629532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1DE-867D-4A37-8CE8-AAA8209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98FE-C56A-4233-B7A9-F67E4E4FD0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3DF-8726-46E7-BFC2-DEA09F1897A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1187280" y="59040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165400" y="5942160"/>
            <a:ext cx="5176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mbria"/>
              </a:rPr>
              <a:t>Сыктывкар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mbria"/>
              </a:rPr>
              <a:t>20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5040" y="688680"/>
            <a:ext cx="67993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 «Школа искусств»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1520" y="2565360"/>
            <a:ext cx="835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ОСОБЕННОСТИ РАБОТ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ПО ОБНОВЛЕНИЮ ДОПОЛНИТЕЛЬНЫХ ОБЩЕРАЗВИВАЮЩИХ ПРОГРАММ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В ОБЛАСТИ ИСКУС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08000" y="189000"/>
          <a:ext cx="8856720" cy="6589800"/>
        </p:xfrm>
        <a:graphic>
          <a:graphicData uri="http://schemas.openxmlformats.org/drawingml/2006/table">
            <a:tbl>
              <a:tblPr/>
              <a:tblGrid>
                <a:gridCol w="1368360"/>
                <a:gridCol w="2016000"/>
                <a:gridCol w="5472360"/>
              </a:tblGrid>
              <a:tr h="68994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план и содержани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 план составляется в виде таблицы на весь период обучения по годам, указывается перечень разделов и тем, кол-во часов по каждому разделу и теме с разбивкой на теорию и практи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ТП по программе необходимо указать вводное занятие, контрольное занятие в конце каждого полугодия  (промежуточная аттестация) (см. приложение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23" name="Picture 4" descr=""/>
          <p:cNvPicPr/>
          <p:nvPr/>
        </p:nvPicPr>
        <p:blipFill>
          <a:blip r:embed="rId4"/>
          <a:srcRect l="17911" t="0" r="16271" b="7023"/>
          <a:stretch/>
        </p:blipFill>
        <p:spPr>
          <a:xfrm>
            <a:off x="3635280" y="333360"/>
            <a:ext cx="5199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08000" y="57240"/>
          <a:ext cx="9036000" cy="6597720"/>
        </p:xfrm>
        <a:graphic>
          <a:graphicData uri="http://schemas.openxmlformats.org/drawingml/2006/table">
            <a:tbl>
              <a:tblPr/>
              <a:tblGrid>
                <a:gridCol w="1295280"/>
                <a:gridCol w="1728720"/>
                <a:gridCol w="6012000"/>
              </a:tblGrid>
              <a:tr h="6597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план и содержание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т раздел дополняем информацией об особенностях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карантина, неблагоприятной эпид. обстановки, актированных дн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оставляется учебно-тематический план (приме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2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 пишем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возможности организации учебного процесса в очной форме (карантина, неблагоприятной эпидемиологической обстановки, актированных дней), может быть организовано обучение с использованием электронного обучения и дистанционных образовательны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после  основного учебно-тематического плана оформляем отдельный короткий учебно-тематический план 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блирование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 из основного учебно-тематического пла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которые могут быть реализованы с использованием дистанционных образовательных технологий и электронного обучения. Указываем планируемый итоговый продукт учащего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разделе: «Информационно-методическое обеспечение» учебного процесса» прописываем используемые при данной форме обучения ИКТ-средства, платфор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5" name="Объект 2"/>
          <p:cNvGraphicFramePr/>
          <p:nvPr/>
        </p:nvGraphicFramePr>
        <p:xfrm>
          <a:off x="3268800" y="4863960"/>
          <a:ext cx="560232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Объек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8800" y="4863960"/>
                    <a:ext cx="56023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57240"/>
          <a:ext cx="9144000" cy="7497720"/>
        </p:xfrm>
        <a:graphic>
          <a:graphicData uri="http://schemas.openxmlformats.org/drawingml/2006/table">
            <a:tbl>
              <a:tblPr/>
              <a:tblGrid>
                <a:gridCol w="1311120"/>
                <a:gridCol w="1749600"/>
                <a:gridCol w="6083280"/>
              </a:tblGrid>
              <a:tr h="7497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программ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программы учебного предмета должно быть направлено на достижение целей программы и планируемых результатов ее освоения по каждому году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 реферативное описание разделов и тем программ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формлении содержания следует придерживаться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х правил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­содержание составляется в соответствии с учебно-тематическим планом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и порядок расположения разделов и тем должны полностью соответствовать их  формулировке и расположению в учебно-тематическом план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соблюдать деление на теорию и практику по каждому разделу, тем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аждого года обучения целесообразно оформлять отдельн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прописать содержание вводного занятия,  содержание работы при проведении промежуточной аттестаци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57240"/>
          <a:ext cx="9144000" cy="7010280"/>
        </p:xfrm>
        <a:graphic>
          <a:graphicData uri="http://schemas.openxmlformats.org/drawingml/2006/table">
            <a:tbl>
              <a:tblPr/>
              <a:tblGrid>
                <a:gridCol w="1619280"/>
                <a:gridCol w="1944720"/>
                <a:gridCol w="5580000"/>
              </a:tblGrid>
              <a:tr h="70135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, метапредметные, личностные результаты формулируются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соответств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 целями, задачами и содержанием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 по каждому году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овокупность предметных результатов,  личностных качеств, метапредметных компетенций, приобретаемых учащимися при освоении программы.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ются с учетом цели и содержания программы по каждому году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ключают систему основных теоретических знаний и практических умений и навыков, предусмотренных программ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ключают уровень личностного развития ребенка (культура общения и поведения; ценностные ориентации;  способность к самооценке на основе морально-нравственных норм и т.д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– это совокупность способов универсальных учебных действий и коммуникативных навыков, которые обеспечивают способность учащихся к самостоятельному усвоению новых знаний и умен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57240"/>
          <a:ext cx="9144000" cy="6980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982920">
                <a:tc>
                  <a:txBody>
                    <a:bodyPr lIns="29520" rIns="29520" tIns="0" bIns="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 соответствия задач и планируемых результатов освоения программы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а обучения по предмету «Народный танец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ая задач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ить правилам выполнения движений, структуры и ритмической расклад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й предметный результат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т изученные правила выполнения движений, структуры и ритмической расклад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 задач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-двигательные способности, коммуникативные способ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й метапредметный результат: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 определенный уровень музыкально-двигательных и коммуникативных способност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 задач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чувство коллективизма и взаимовыручки; доброжелательное отношение к окружающим; ценностное отношение к своему здоровью, сохранению своего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личностные результа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ожены основы чувства коллективизма и взаимовыручки; доброжелательного отношения к окружающим; ценностного отношения к своему здоровью, сохранению своего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57240"/>
          <a:ext cx="9144000" cy="6396120"/>
        </p:xfrm>
        <a:graphic>
          <a:graphicData uri="http://schemas.openxmlformats.org/drawingml/2006/table">
            <a:tbl>
              <a:tblPr/>
              <a:tblGrid>
                <a:gridCol w="1619280"/>
                <a:gridCol w="1944720"/>
                <a:gridCol w="5580000"/>
              </a:tblGrid>
              <a:tr h="639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реализации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материально-технических условий реализации учебного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борудование, помещения, технические средства обучения, материалы, инструменты, используемые при реализации программ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граммах прописано описание материально-технических условий реализации программы учебного предм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дополн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нем оборудования, техническими средствами обучения, материалами и инструментами, 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еобходимыми для проведения занятий по конкретной программ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теллажи, компьютер, принтер, мультимедиа-проектор, музыкальный центр, видеомагнитофон, DVD-проигрыватель; простой карандаш, акварельные краски, кисти, гуашь, листы форма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и т.п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57240"/>
          <a:ext cx="9144000" cy="6467400"/>
        </p:xfrm>
        <a:graphic>
          <a:graphicData uri="http://schemas.openxmlformats.org/drawingml/2006/table">
            <a:tbl>
              <a:tblPr/>
              <a:tblGrid>
                <a:gridCol w="2771640"/>
                <a:gridCol w="6372360"/>
              </a:tblGrid>
              <a:tr h="6467400">
                <a:tc>
                  <a:txBody>
                    <a:bodyPr lIns="68760" rIns="687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 - методическое обесп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включаем методические рекомендации преподавателям по организации учебной деятельности учащихся 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дополняем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информацией об использовании электронных образовательных ресурсов, информационных технологий в по конкретной программ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к примеру: как используются цифровые сервисы: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oom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yp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; популярные мессенджеры: Viber, WhatsAPP; онлайн-платформы конфере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oom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yp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oogl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ормы и др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ень электронных образовательных ресурсов, используемых при  реализации программы, оформляем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 перечнем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 списка литератур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57240"/>
          <a:ext cx="9144000" cy="6467400"/>
        </p:xfrm>
        <a:graphic>
          <a:graphicData uri="http://schemas.openxmlformats.org/drawingml/2006/table">
            <a:tbl>
              <a:tblPr/>
              <a:tblGrid>
                <a:gridCol w="1547640"/>
                <a:gridCol w="2910240"/>
                <a:gridCol w="4686120"/>
              </a:tblGrid>
              <a:tr h="646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и технологии обучения и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нность используемых методов и форм обуч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ие заявленных технологий обучения (не более 3-ех) содержанию программы, достижению заявленных результатов, соответствие возрасту учащихс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ие заявленных технологий воспитания (не более 2-ух) содержанию программы и плану воспитательной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имерная форма плана воспитательной работы – см. прилож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т раздел программы включа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используемых методов обуч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обу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есный, наглядный, практический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снительно-иллюстративный; репродуктивный; частично-поисковый др.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ивные и интерактивные методы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воспитан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еждение, поощрение, упражнение, стимулирование, мотивация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ческие технолог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ого обучения, группового обучения, дифференцированного обучения, проблемного обучения, дистанционного обучения, игровой деятельност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оровьесберегающие технолог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как система мер, направленных на сохранение здоровья учащихся во время учебно-воспитательного процесс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ьные технологии (характерные для предметной обла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тельные технологи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 «Создание ситуации успеха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ка сотрудниче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манно-личностная технология Ш.А. Амонашвил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57240"/>
          <a:ext cx="9144000" cy="6705360"/>
        </p:xfrm>
        <a:graphic>
          <a:graphicData uri="http://schemas.openxmlformats.org/drawingml/2006/table">
            <a:tbl>
              <a:tblPr/>
              <a:tblGrid>
                <a:gridCol w="1908000"/>
                <a:gridCol w="1943280"/>
                <a:gridCol w="5292720"/>
              </a:tblGrid>
              <a:tr h="701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контроля, промежуточной аттес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ть формы текущего контроля успеваемости и промежуточной аттест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ТП необходимо указать промежуточную аттестацию -  каждое полугодие  завершается   контрольным занят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ормы и методы контроля, промежуточной аттестации, система оценок»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указать формы текущего контроля успеваемости, промежуточной аттестации; указать контрольно-оценочное средство, критерии оцен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, при необходимости, откорректировать,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ратить внимание на грамотную формулировку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ев оценки на: «2» , «1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олняется и прикладывается КТП с указанием формы проведения промежуточной аттестации и средства контроля                       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приложение - образец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олняется и прикладывается фонд контрольно-оценочных средств по разработанной форм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приложение - образец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57240"/>
          <a:ext cx="9144000" cy="670536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670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это перечень основной и дополнительной литературы: учебные пособия, сборники упражнений, хрестомати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равочные пособия: словари, справочники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глядный материал: альбомы, карты, таблиц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сылки на интернет-ресурс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 включает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писок нормативно-правовых докумен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писок литературы для преподава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исок литературы для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писок электронных образовательных ресурс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редства обучения, в том числе электрон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ки литературы должны быть представлены в количестве не менее 5 источников, с обязательным включением информационных источников современных авторов (год издания - не менее 5 лет), и ссылок на интернет-ресурсы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303120" y="29988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733320" y="1508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176040" y="746280"/>
            <a:ext cx="890928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и от 09 ноября 2018 г. №196              г. Москва «Об утверждении Порядка организации и осуществления образовательной деятельности по дополнительным общеобразовательным программам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Концепции развития дополнительного образования детей до 2030 год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еспублики Коми от 11 апреля 2019 г.  № 185 « О стратегии  социально-экономического развития Республики Коми на период до 2035 год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вета МО ГО «Сыктывкар» от 10.12.2019 № 44/2019-619                         "О внесении изменений в решение Совета МО ГО «Сыктывкар» от 08.07.2011 № 03/2011-61 «О Стратегии социально-экономического развития МО ГО «Сыктывкар» до 2030 год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О АМО ГО «Сыктывкар» №299 от 22 марта 2021 г. «Об утверждении типового положения по проектированию дополнительных общеобразовательных программ – дополнительных общеразвивающих программ, реализуемых в муниципальных образовательных организациях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57240"/>
          <a:ext cx="9144000" cy="6611760"/>
        </p:xfrm>
        <a:graphic>
          <a:graphicData uri="http://schemas.openxmlformats.org/drawingml/2006/table">
            <a:tbl>
              <a:tblPr/>
              <a:tblGrid>
                <a:gridCol w="2195640"/>
                <a:gridCol w="6948360"/>
              </a:tblGrid>
              <a:tr h="661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ожения                к програм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язательных приложений                                       к программ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ое планирование на каждый год обуч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контрольно-оценочных средств для осуществления контроля за уровнем освоения программы на каждый год обуч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воспитатель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303120" y="29988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738360" y="204840"/>
            <a:ext cx="83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МАУДО «Школа искусств» реализу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228680" y="1666800"/>
            <a:ext cx="703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предпрофессиональные программ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льные общеразвивающие програм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03120" y="2313000"/>
            <a:ext cx="8661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660033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соответствии с </a:t>
            </a:r>
            <a:r>
              <a:rPr b="1" lang="ru-RU" sz="19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</a:rPr>
              <a:t>п. 2, п. 11 </a:t>
            </a:r>
            <a:r>
              <a:rPr b="1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рядка организации и осуществления образовательной деятельности по дополнительным общеобразовательным программам</a:t>
            </a:r>
            <a:r>
              <a:rPr b="0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утвержденного  приказом Министерства просвещения России от 09 ноября 2018 г. №196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398520" y="5205240"/>
            <a:ext cx="867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. 11. Организации, осуществляющие образовательную деятельность,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ежегодно  обновля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е общеобразовательные программы с учетом развития науки, техники, культуры, экономики, технологий и социальной сфе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316160" y="1035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 с п. 4. ст. 12 Федерального Закона от 29.12.2012     № 273-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95120" y="3716280"/>
            <a:ext cx="8912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. 2. Настоящий Порядок является </a:t>
            </a:r>
            <a:r>
              <a:rPr b="1" lang="ru-RU" sz="1900" spc="-1" strike="noStrike" u="sng">
                <a:solidFill>
                  <a:srgbClr val="c00000"/>
                </a:solidFill>
                <a:uFillTx/>
                <a:latin typeface="Times New Roman CYR"/>
                <a:ea typeface="Times New Roman"/>
              </a:rPr>
              <a:t>обязательным</a:t>
            </a:r>
            <a:r>
              <a:rPr b="0" lang="ru-RU" sz="19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для организаций, осуществляющих образовательную деятельность и реализующих дополнительные общеобразовательные программы (дополнительные общеразвивающие программы и дополнительные предпрофессиональные программы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1187280" y="590400"/>
            <a:ext cx="123192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user\Desktop\2021-04-24_09-49-09.png"/>
          <p:cNvPicPr/>
          <p:nvPr/>
        </p:nvPicPr>
        <p:blipFill>
          <a:blip r:embed="rId2"/>
          <a:srcRect l="0" t="39" r="0" b="2569"/>
          <a:stretch/>
        </p:blipFill>
        <p:spPr>
          <a:xfrm>
            <a:off x="-90360" y="123840"/>
            <a:ext cx="922644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259000" y="3313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333360"/>
          <a:ext cx="8713800" cy="6294600"/>
        </p:xfrm>
        <a:graphic>
          <a:graphicData uri="http://schemas.openxmlformats.org/drawingml/2006/table">
            <a:tbl>
              <a:tblPr/>
              <a:tblGrid>
                <a:gridCol w="1403280"/>
                <a:gridCol w="1551240"/>
                <a:gridCol w="5759280"/>
              </a:tblGrid>
              <a:tr h="629460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сн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ние на соответствие программы действующим нормативным правовым акт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Закон от 29.12.2012 № 273-ФЗ «Об образовании в Российской Федерации» 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://zakon-ob-obrazovanii.ru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иказ Министерства просвещения России от 09 ноября 2018 г. №196 г. Москва «Об утверждении Порядка организации и осуществления образовательной деятельности по дополнительным общеобразовательным программам» [Электронный ресурс]. – Режим доступа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www.garant.ru/products/ipo/prime/doc/72016730/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Проект Концепции развития дополнительного образования детей до 2030 года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q6qh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становление главного санитарного врача РФ от 28.сентября 2020 г. №28 «Об утверждении санитарных правил СП 2.4.3648-20 «Санитарно-эпидемиологические требования к организациям воспитания и обучения, отдыха и оздоровления детей и молодёжи» 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://docs.cntd.ru/document/566085656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становление Правительства Республики Коми от 11 апреля 2019 г. № 185 « О стратегии  социально-экономического развития Республики Коми на период до 2035 года» [Электронный ресурс]. – Режим доступа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jJb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 Решение Совета МО ГО "Сыктывкар" от 10.12.2019 № 44/2019-619 "О внесении изменений в решение Совета МО ГО "Сыктывкар" от 08.07.2011 № 03/2011-61 "О Стратегии социально-экономического развития МО ГО "Сыктывкар" до 2030 года"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jJea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31680"/>
          <a:ext cx="9117000" cy="7529760"/>
        </p:xfrm>
        <a:graphic>
          <a:graphicData uri="http://schemas.openxmlformats.org/drawingml/2006/table">
            <a:tbl>
              <a:tblPr/>
              <a:tblGrid>
                <a:gridCol w="3727440"/>
                <a:gridCol w="5389560"/>
              </a:tblGrid>
              <a:tr h="3110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ояснительной записке необходимо обосновать соответствие программы основным направлениям социально-экономического развития                     г. Сыктывкара и Республики Ко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5-6 предложе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важно обосноват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аша программа способствует реализации определённой стратегической цели социально-экономического развития  Сыктывкара и Республики Ко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обоснования использо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. 50-107 «Стратегии социально-экономического развития Республики Коми на период до 2035 го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419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ояснительной записке при указании формы и режима проведения занятий необходимо сделать ссылку на СП 2.4.3648-20 «Санитарно-эпидемиологические требования к организациям воспитания и обучения, отдыха и оздоровления детей и молодёжи»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образец программы по учебному предмету «Народный танец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ность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программы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обучения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организации образовательного процесса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групповая  /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занятий по организационной структур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чеб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ресат программы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учащиеся младшего школьного возраста от 7 до 9 ле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обучение по программе принимаются все желающие. Запись на обучение осуществляется на основе письменного заявления родителей (законных представителей) через сайт ПФДО Коми (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ttps://komi.pfdo.ru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>
                      <a:noFill/>
                    </a:lnR>
                    <a:lnT w="1440">
                      <a:solidFill>
                        <a:srgbClr val="d9d9d9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404640"/>
          <a:ext cx="8642160" cy="3137040"/>
        </p:xfrm>
        <a:graphic>
          <a:graphicData uri="http://schemas.openxmlformats.org/drawingml/2006/table">
            <a:tbl>
              <a:tblPr/>
              <a:tblGrid>
                <a:gridCol w="2520720"/>
                <a:gridCol w="6121440"/>
              </a:tblGrid>
              <a:tr h="313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ьность программы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3-4 предложения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ет на вопросы мотивации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м обусловлена актуальность программы                             в настоящее врем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чему именно на Вашу программу родители должны привести своего ребенка для обуч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боснование актуальности </a:t>
                      </a: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азироваться на анализе социальных проблем, потребностей общества и социальном заказе и т.д.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0920" y="3284640"/>
          <a:ext cx="8640720" cy="3352680"/>
        </p:xfrm>
        <a:graphic>
          <a:graphicData uri="http://schemas.openxmlformats.org/drawingml/2006/table">
            <a:tbl>
              <a:tblPr/>
              <a:tblGrid>
                <a:gridCol w="2520720"/>
                <a:gridCol w="6120000"/>
              </a:tblGrid>
              <a:tr h="3354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личительные особенности программы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писать название программы, на основе которой спроектирована  Ваша програм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ть, чем программа отличается от уже существующих в данной направлен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ть своеобразие, уникальность програм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личия могут быть и в постановке образовательных задач, в построении учебно-тематического плана, в содержании занятий,                            в использовании оригинальных приемов, методов              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08000" y="189000"/>
          <a:ext cx="8856720" cy="6408720"/>
        </p:xfrm>
        <a:graphic>
          <a:graphicData uri="http://schemas.openxmlformats.org/drawingml/2006/table">
            <a:tbl>
              <a:tblPr/>
              <a:tblGrid>
                <a:gridCol w="936720"/>
                <a:gridCol w="1800000"/>
                <a:gridCol w="6120000"/>
              </a:tblGrid>
              <a:tr h="6408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и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программ (1,2,3 и более лет обучения) формулируем общую цель, обучающие, развивающие, воспитательные зада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на каждый год обучения формулируем  цель и обучающие, развивающие, воспитательные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программы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конкретный образ ожидаемого результата, которого реально можно достичь к определенному моменту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и могут быть направле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развитие ребенка в це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развитие определенных способностей ребен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обеспечение каждому ребенку определенного уровня образ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воспитание учащихс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гармоничного эстетического развития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формулировки цели можно использовать слова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, овладение, формирование, приобщение, укрепление, обучение, реализация, развитие и др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8000" y="189000"/>
          <a:ext cx="8856720" cy="6408720"/>
        </p:xfrm>
        <a:graphic>
          <a:graphicData uri="http://schemas.openxmlformats.org/drawingml/2006/table">
            <a:tbl>
              <a:tblPr/>
              <a:tblGrid>
                <a:gridCol w="936720"/>
                <a:gridCol w="1800000"/>
                <a:gridCol w="6120000"/>
              </a:tblGrid>
              <a:tr h="6408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программ (1,2,3 и более лет обучения) формулируем общую цель, обучающие, развивающие, воспитательные задачи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на каждый год обучения формулируем  цель и обучающие, развивающие, воспитательные задач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программ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–  конкретные, измеримые шаги по достижению цели программы (по годам обучения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подразделяются на группы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формирование теоретических знаний, практических умений  и навыков учащихся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развитие учащихся (на развитие познавательного интереса, творческих способностей, внимания, памяти, мышления, воображения, речи , на развитие умения оценивать свою учебную деятельность и т.д.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формирование личностных качеств учащихся на основе общепринятых общечеловеческих ценностей, морально-нравственных норм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02:26Z</dcterms:created>
  <dc:creator>user</dc:creator>
  <dc:description/>
  <dc:language>en-US</dc:language>
  <cp:lastModifiedBy>user</cp:lastModifiedBy>
  <cp:lastPrinted>2014-08-26T11:36:52Z</cp:lastPrinted>
  <dcterms:modified xsi:type="dcterms:W3CDTF">2021-06-11T08:18:29Z</dcterms:modified>
  <cp:revision>395</cp:revision>
  <dc:subject/>
  <dc:title>Формирование команды бизнес-тренеров</dc:title>
</cp:coreProperties>
</file>