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7.jpeg" ContentType="image/jpeg"/>
  <Override PartName="/ppt/media/image9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77C14-C19F-49FF-8F76-3C3D7591F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58338-8FAD-454E-93E2-101EA6E75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E7FE4-FFD2-4ABB-AFC4-0E0417CF8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BACDB-2265-4958-8714-FD7BE4C9E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63EEA-24D8-4DB3-9A63-EFB3C5A86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31665-3E94-497F-ADF1-8DE79924D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F4AC7-94AE-4DCD-82C0-BE8AB464B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7DFCA-76D0-4EE0-BEA9-E9D62041C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13BD4-7EDE-4692-8799-5622663F7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B7B0A-2DAB-4175-B2C8-31C276B94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3E286-3BAF-45EF-9223-B04AC9F40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7A2C8-9DB7-4CBB-A9DE-E24DF694C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cc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cc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08C38-3897-4FA9-93F6-CE53E5DD4034}" type="slidenum">
              <a:rPr b="0" lang="ru-RU" sz="1400" spc="-1" strike="noStrike">
                <a:solidFill>
                  <a:srgbClr val="cc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280" y="1915920"/>
            <a:ext cx="8353440" cy="194436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«Профессиональная культура как неотъемлемая часть современной 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Beauty - индустрии»</a:t>
            </a:r>
            <a:br>
              <a:rPr sz="4600"/>
            </a:b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1117440" y="271800"/>
            <a:ext cx="6942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Государственное областное бюджетное профессиональное </a:t>
            </a:r>
            <a:endParaRPr b="0" lang="en-US" sz="2000" spc="-1" strike="noStrike">
              <a:solidFill>
                <a:srgbClr val="cc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образовательное учреждение </a:t>
            </a:r>
            <a:endParaRPr b="0" lang="en-US" sz="2000" spc="-1" strike="noStrike">
              <a:solidFill>
                <a:srgbClr val="cc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«Елецкий лицей сферы бытовых услуг»</a:t>
            </a:r>
            <a:endParaRPr b="0" lang="en-US" sz="2000" spc="-1" strike="noStrike">
              <a:solidFill>
                <a:srgbClr val="cc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3" name="Rectangle 4"/>
          <p:cNvSpPr/>
          <p:nvPr/>
        </p:nvSpPr>
        <p:spPr>
          <a:xfrm>
            <a:off x="5879160" y="3868560"/>
            <a:ext cx="2795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Разработчики:</a:t>
            </a:r>
            <a:endParaRPr b="0" lang="en-US" sz="1800" spc="-1" strike="noStrike">
              <a:solidFill>
                <a:srgbClr val="cc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еподаватель дисциплин </a:t>
            </a:r>
            <a:endParaRPr b="0" lang="en-US" sz="1800" spc="-1" strike="noStrike">
              <a:solidFill>
                <a:srgbClr val="cc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офессионального цикла </a:t>
            </a:r>
            <a:endParaRPr b="0" lang="en-US" sz="1800" spc="-1" strike="noStrike">
              <a:solidFill>
                <a:srgbClr val="cc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Щукина Л.М. </a:t>
            </a:r>
            <a:endParaRPr b="0" lang="en-US" sz="1800" spc="-1" strike="noStrike">
              <a:solidFill>
                <a:srgbClr val="cc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4" name="Rectangle 5"/>
          <p:cNvSpPr/>
          <p:nvPr/>
        </p:nvSpPr>
        <p:spPr>
          <a:xfrm>
            <a:off x="3931200" y="6165000"/>
            <a:ext cx="142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Елец 2021 г.</a:t>
            </a:r>
            <a:endParaRPr b="0" lang="en-US" sz="18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5"/>
          <p:cNvSpPr/>
          <p:nvPr/>
        </p:nvSpPr>
        <p:spPr>
          <a:xfrm>
            <a:off x="250920" y="339840"/>
            <a:ext cx="8569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0000"/>
                </a:solidFill>
                <a:latin typeface="Times New Roman"/>
              </a:rPr>
              <a:t>Основными правилами и рекомендациями в системе общения с клиентом</a:t>
            </a:r>
            <a:endParaRPr b="0" lang="en-US" sz="26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67" name="Picture 4" descr="Парик"/>
          <p:cNvPicPr/>
          <p:nvPr/>
        </p:nvPicPr>
        <p:blipFill>
          <a:blip r:embed="rId1"/>
          <a:stretch/>
        </p:blipFill>
        <p:spPr>
          <a:xfrm>
            <a:off x="5091120" y="1268280"/>
            <a:ext cx="4052880" cy="450540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6"/>
          <p:cNvSpPr/>
          <p:nvPr/>
        </p:nvSpPr>
        <p:spPr>
          <a:xfrm>
            <a:off x="250920" y="1344960"/>
            <a:ext cx="4752720" cy="48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Начало визита клиента          </a:t>
            </a:r>
            <a:endParaRPr b="0" lang="en-US" sz="2100" spc="-1" strike="noStrike">
              <a:solidFill>
                <a:srgbClr val="cc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только вы узнали ,что пришел клиент ,встретьте его лично в приемной.</a:t>
            </a:r>
            <a:endParaRPr b="0" lang="en-US" sz="2100" spc="-1" strike="noStrike">
              <a:solidFill>
                <a:srgbClr val="cc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вы еще заняты другим клиентом, найдите минуту, чтобы сказать сколько клиенту придется ждать.</a:t>
            </a:r>
            <a:endParaRPr b="0" lang="en-US" sz="2100" spc="-1" strike="noStrike">
              <a:solidFill>
                <a:srgbClr val="cc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ложите клиенту журналы или чай, кофе. </a:t>
            </a:r>
            <a:endParaRPr b="0" lang="en-US" sz="2100" spc="-1" strike="noStrike">
              <a:solidFill>
                <a:srgbClr val="cc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д мытьем головы определите состояние волос клиента и какие средства он использует для ухода за волосами.</a:t>
            </a:r>
            <a:endParaRPr b="0" lang="en-US" sz="2100" spc="-1" strike="noStrike">
              <a:solidFill>
                <a:srgbClr val="cc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ушайте внимательно, но не отвлекайтесь и не перебивайте</a:t>
            </a:r>
            <a:r>
              <a:rPr b="0" lang="ru-RU" sz="2100" spc="-1" strike="noStrike">
                <a:solidFill>
                  <a:srgbClr val="cc0000"/>
                </a:solidFill>
                <a:latin typeface="Arial"/>
                <a:ea typeface="Times New Roman"/>
              </a:rPr>
              <a:t>.</a:t>
            </a:r>
            <a:endParaRPr b="0" lang="en-US" sz="21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5"/>
          <p:cNvSpPr/>
          <p:nvPr/>
        </p:nvSpPr>
        <p:spPr>
          <a:xfrm>
            <a:off x="285840" y="214200"/>
            <a:ext cx="8569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0000"/>
                </a:solidFill>
                <a:latin typeface="Times New Roman"/>
              </a:rPr>
              <a:t>Основными правилами и рекомендациями в системе общения с клиентом</a:t>
            </a:r>
            <a:endParaRPr b="0" lang="en-US" sz="26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70" name="Picture 3" descr="Парик"/>
          <p:cNvPicPr/>
          <p:nvPr/>
        </p:nvPicPr>
        <p:blipFill>
          <a:blip r:embed="rId1"/>
          <a:stretch/>
        </p:blipFill>
        <p:spPr>
          <a:xfrm>
            <a:off x="5091120" y="1268280"/>
            <a:ext cx="4052880" cy="450540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4"/>
          <p:cNvSpPr/>
          <p:nvPr/>
        </p:nvSpPr>
        <p:spPr>
          <a:xfrm>
            <a:off x="324000" y="931680"/>
            <a:ext cx="47527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. Как вести беседу с клиентом.</a:t>
            </a: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остоянно комментируйте, что вы делаете или собираетесь делать.</a:t>
            </a: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ледите за настроением клиента.</a:t>
            </a: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Избегайте критических, негативных замечаний.</a:t>
            </a: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ставьте за клиентом и собой манеру разговора.</a:t>
            </a: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Не задавайте личных вопросов.</a:t>
            </a: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5"/>
          <p:cNvSpPr/>
          <p:nvPr/>
        </p:nvSpPr>
        <p:spPr>
          <a:xfrm>
            <a:off x="250920" y="339840"/>
            <a:ext cx="8569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0000"/>
                </a:solidFill>
                <a:latin typeface="Times New Roman"/>
              </a:rPr>
              <a:t>Основными правилами и рекомендациями в системе общения с клиентом</a:t>
            </a:r>
            <a:endParaRPr b="0" lang="en-US" sz="26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73" name="Picture 3" descr="Парик"/>
          <p:cNvPicPr/>
          <p:nvPr/>
        </p:nvPicPr>
        <p:blipFill>
          <a:blip r:embed="rId1"/>
          <a:stretch/>
        </p:blipFill>
        <p:spPr>
          <a:xfrm>
            <a:off x="5091120" y="1268280"/>
            <a:ext cx="4052880" cy="450540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4"/>
          <p:cNvSpPr/>
          <p:nvPr/>
        </p:nvSpPr>
        <p:spPr>
          <a:xfrm>
            <a:off x="285840" y="1280880"/>
            <a:ext cx="4752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3. Окончание визита клиента</a:t>
            </a: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Дайте клиенту советы по уходу за волосами.</a:t>
            </a: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осле первого визита предложите визитную карточку.</a:t>
            </a: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Убедитесь, что клиент доволен и предложите ему записаться на следующий визит.</a:t>
            </a: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роводите его до приемной и убедитесь ,что там есть кому принять оплату.</a:t>
            </a: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5"/>
          <p:cNvSpPr/>
          <p:nvPr/>
        </p:nvSpPr>
        <p:spPr>
          <a:xfrm>
            <a:off x="324000" y="3930480"/>
            <a:ext cx="84978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тоящий профессионал бьюти индустрии должен уметь выполнять парикмахерские работы ,отвечающие требованиям современной моды  с учётом индивидуальных особенностей клиента ,учитывая профессиональную культуру как неотъемлемую часть современной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auty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ндустрии.</a:t>
            </a: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76" name="Picture 10" descr="4a9ebb38750235fb928e52237b3b43f2_fitted_740x0"/>
          <p:cNvPicPr/>
          <p:nvPr/>
        </p:nvPicPr>
        <p:blipFill>
          <a:blip r:embed="rId1"/>
          <a:stretch/>
        </p:blipFill>
        <p:spPr>
          <a:xfrm>
            <a:off x="4471920" y="404640"/>
            <a:ext cx="4672080" cy="31006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6" descr=""/>
          <p:cNvPicPr/>
          <p:nvPr/>
        </p:nvPicPr>
        <p:blipFill>
          <a:blip r:embed="rId2"/>
          <a:stretch/>
        </p:blipFill>
        <p:spPr>
          <a:xfrm>
            <a:off x="0" y="428760"/>
            <a:ext cx="4389480" cy="30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5"/>
          <p:cNvSpPr/>
          <p:nvPr/>
        </p:nvSpPr>
        <p:spPr>
          <a:xfrm>
            <a:off x="250920" y="1051560"/>
            <a:ext cx="84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Что больше всего раздражает клиентов в работе мастеров салонов красоты?</a:t>
            </a:r>
            <a:r>
              <a:rPr b="1" lang="en-US" sz="25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2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9" name="Rectangle 6"/>
          <p:cNvSpPr/>
          <p:nvPr/>
        </p:nvSpPr>
        <p:spPr>
          <a:xfrm>
            <a:off x="324000" y="332640"/>
            <a:ext cx="84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ЭТО ИНТЕРЕСНО. АНКЕТИРОВАНИЕ </a:t>
            </a: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80" name="Picture 8" descr="iStock-507215812"/>
          <p:cNvPicPr/>
          <p:nvPr/>
        </p:nvPicPr>
        <p:blipFill>
          <a:blip r:embed="rId1"/>
          <a:stretch/>
        </p:blipFill>
        <p:spPr>
          <a:xfrm>
            <a:off x="2050920" y="2421000"/>
            <a:ext cx="5324760" cy="39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imes New Roman"/>
              </a:rPr>
              <a:t>Анкетирование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4572000" y="907920"/>
            <a:ext cx="3637080" cy="272736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395280" y="3789360"/>
            <a:ext cx="3565440" cy="26748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250920" y="907920"/>
            <a:ext cx="4033800" cy="27385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4"/>
          <a:stretch/>
        </p:blipFill>
        <p:spPr>
          <a:xfrm>
            <a:off x="4284720" y="3789360"/>
            <a:ext cx="4033800" cy="266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218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И</a:t>
            </a:r>
            <a:r>
              <a:rPr b="1" lang="ru-RU" sz="35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ТОГИ АНКЕТИРОВАНИЯ</a:t>
            </a:r>
            <a:endParaRPr b="0" lang="en-US" sz="35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3995640" y="2060640"/>
          <a:ext cx="4086000" cy="3165480"/>
        </p:xfrm>
        <a:graphic>
          <a:graphicData uri="http://schemas.openxmlformats.org/drawingml/2006/table">
            <a:tbl>
              <a:tblPr/>
              <a:tblGrid>
                <a:gridCol w="1361520"/>
                <a:gridCol w="1364400"/>
                <a:gridCol w="13600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cc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cc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cc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noFill/>
                  </a:tcPr>
                </a:tc>
              </a:tr>
              <a:tr h="54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cc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cc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cc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cc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cc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cc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cc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cc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cc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54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cc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cc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cc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cc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cc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cc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88" name="Text Box 47"/>
          <p:cNvSpPr/>
          <p:nvPr/>
        </p:nvSpPr>
        <p:spPr>
          <a:xfrm>
            <a:off x="395280" y="1341360"/>
            <a:ext cx="3384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вольны работой мастеров салонов красоты при оказании парикмахерских услуг   </a:t>
            </a:r>
            <a:endParaRPr b="0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9" name="Text Box 48"/>
          <p:cNvSpPr/>
          <p:nvPr/>
        </p:nvSpPr>
        <p:spPr>
          <a:xfrm>
            <a:off x="250920" y="2781360"/>
            <a:ext cx="3529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довольны организацией рабочего места и качеством оказываемых услуг</a:t>
            </a:r>
            <a:endParaRPr b="0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0" name="Text Box 49"/>
          <p:cNvSpPr/>
          <p:nvPr/>
        </p:nvSpPr>
        <p:spPr>
          <a:xfrm>
            <a:off x="0" y="4221000"/>
            <a:ext cx="378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довольны качеством общения мастера с клиентом </a:t>
            </a:r>
            <a:endParaRPr b="0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1" name="Text Box 53"/>
          <p:cNvSpPr/>
          <p:nvPr/>
        </p:nvSpPr>
        <p:spPr>
          <a:xfrm>
            <a:off x="3780000" y="5373720"/>
            <a:ext cx="444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0%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0%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0%        60%</a:t>
            </a:r>
            <a:endParaRPr b="0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grpSp>
        <p:nvGrpSpPr>
          <p:cNvPr id="92" name="Group 61"/>
          <p:cNvGrpSpPr/>
          <p:nvPr/>
        </p:nvGrpSpPr>
        <p:grpSpPr>
          <a:xfrm>
            <a:off x="3995640" y="2205000"/>
            <a:ext cx="3353040" cy="431640"/>
            <a:chOff x="3995640" y="2205000"/>
            <a:chExt cx="3353040" cy="431640"/>
          </a:xfrm>
        </p:grpSpPr>
        <p:sp>
          <p:nvSpPr>
            <p:cNvPr id="93" name="Rectangle 62"/>
            <p:cNvSpPr/>
            <p:nvPr/>
          </p:nvSpPr>
          <p:spPr>
            <a:xfrm>
              <a:off x="3995640" y="2205000"/>
              <a:ext cx="3353040" cy="43164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94" name="AutoShape 63"/>
            <p:cNvSpPr/>
            <p:nvPr/>
          </p:nvSpPr>
          <p:spPr>
            <a:xfrm>
              <a:off x="3995640" y="2207160"/>
              <a:ext cx="3353040" cy="143640"/>
            </a:xfrm>
            <a:prstGeom prst="roundRect">
              <a:avLst>
                <a:gd name="adj" fmla="val 0"/>
              </a:avLst>
            </a:prstGeom>
            <a:solidFill>
              <a:srgbClr val="00ff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0000"/>
                </a:solidFill>
                <a:latin typeface="Arial"/>
              </a:endParaRPr>
            </a:p>
          </p:txBody>
        </p:sp>
      </p:grpSp>
      <p:grpSp>
        <p:nvGrpSpPr>
          <p:cNvPr id="95" name="Group 64"/>
          <p:cNvGrpSpPr/>
          <p:nvPr/>
        </p:nvGrpSpPr>
        <p:grpSpPr>
          <a:xfrm>
            <a:off x="3995640" y="4076640"/>
            <a:ext cx="1844640" cy="502560"/>
            <a:chOff x="3995640" y="4076640"/>
            <a:chExt cx="1844640" cy="502560"/>
          </a:xfrm>
        </p:grpSpPr>
        <p:sp>
          <p:nvSpPr>
            <p:cNvPr id="96" name="Rectangle 65"/>
            <p:cNvSpPr/>
            <p:nvPr/>
          </p:nvSpPr>
          <p:spPr>
            <a:xfrm>
              <a:off x="3995640" y="4078800"/>
              <a:ext cx="1844640" cy="5004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97" name="AutoShape 66"/>
            <p:cNvSpPr/>
            <p:nvPr/>
          </p:nvSpPr>
          <p:spPr>
            <a:xfrm>
              <a:off x="3995640" y="4076640"/>
              <a:ext cx="1844640" cy="142560"/>
            </a:xfrm>
            <a:prstGeom prst="roundRect">
              <a:avLst>
                <a:gd name="adj" fmla="val 0"/>
              </a:avLst>
            </a:prstGeom>
            <a:solidFill>
              <a:srgbClr val="ff00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0000"/>
                </a:solidFill>
                <a:latin typeface="Arial"/>
              </a:endParaRPr>
            </a:p>
          </p:txBody>
        </p:sp>
      </p:grpSp>
      <p:grpSp>
        <p:nvGrpSpPr>
          <p:cNvPr id="98" name="Group 67"/>
          <p:cNvGrpSpPr/>
          <p:nvPr/>
        </p:nvGrpSpPr>
        <p:grpSpPr>
          <a:xfrm>
            <a:off x="3995640" y="3213000"/>
            <a:ext cx="2565000" cy="502560"/>
            <a:chOff x="3995640" y="3213000"/>
            <a:chExt cx="2565000" cy="502560"/>
          </a:xfrm>
        </p:grpSpPr>
        <p:sp>
          <p:nvSpPr>
            <p:cNvPr id="99" name="Rectangle 68"/>
            <p:cNvSpPr/>
            <p:nvPr/>
          </p:nvSpPr>
          <p:spPr>
            <a:xfrm>
              <a:off x="3995640" y="3215520"/>
              <a:ext cx="2556360" cy="5000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100" name="AutoShape 69"/>
            <p:cNvSpPr/>
            <p:nvPr/>
          </p:nvSpPr>
          <p:spPr>
            <a:xfrm>
              <a:off x="3995640" y="3213000"/>
              <a:ext cx="2565000" cy="201960"/>
            </a:xfrm>
            <a:prstGeom prst="roundRect">
              <a:avLst>
                <a:gd name="adj" fmla="val 0"/>
              </a:avLst>
            </a:prstGeom>
            <a:solidFill>
              <a:srgbClr val="ffff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0000"/>
                </a:solidFill>
                <a:latin typeface="Arial"/>
              </a:endParaRPr>
            </a:p>
          </p:txBody>
        </p:sp>
      </p:grpSp>
    </p:spTree>
  </p:cSld>
  <p:transition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84000" y="2420640"/>
            <a:ext cx="4521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СПАСИБО </a:t>
            </a:r>
            <a:br>
              <a:rPr sz="3600"/>
            </a:b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ЗА ВНИМАНИЕ!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Beauty-Industry"/>
          <p:cNvPicPr/>
          <p:nvPr/>
        </p:nvPicPr>
        <p:blipFill>
          <a:blip r:embed="rId1"/>
          <a:stretch/>
        </p:blipFill>
        <p:spPr>
          <a:xfrm>
            <a:off x="395280" y="189000"/>
            <a:ext cx="8497800" cy="338436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5"/>
          <p:cNvSpPr/>
          <p:nvPr/>
        </p:nvSpPr>
        <p:spPr>
          <a:xfrm>
            <a:off x="324000" y="3670560"/>
            <a:ext cx="8569080" cy="24699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Бьюти-индустрия — это сфера услуг, объединяющая такие направления, как косметология, парикмахерское искусство, ногтевой сервис, визаж, перманентный макияж</a:t>
            </a:r>
            <a:endParaRPr b="0" lang="en-US" sz="2600" spc="-1" strike="noStrike">
              <a:solidFill>
                <a:srgbClr val="cc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6" descr="1487846398 - копия"/>
          <p:cNvPicPr/>
          <p:nvPr/>
        </p:nvPicPr>
        <p:blipFill>
          <a:blip r:embed="rId1"/>
          <a:stretch/>
        </p:blipFill>
        <p:spPr>
          <a:xfrm>
            <a:off x="0" y="1773360"/>
            <a:ext cx="9144000" cy="354492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5"/>
          <p:cNvSpPr/>
          <p:nvPr/>
        </p:nvSpPr>
        <p:spPr>
          <a:xfrm>
            <a:off x="250920" y="1842840"/>
            <a:ext cx="4465440" cy="3445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П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фессиональная культура </a:t>
            </a:r>
            <a:endParaRPr b="0" lang="en-US" sz="2200" spc="-1" strike="noStrike">
              <a:solidFill>
                <a:srgbClr val="cc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бласти Бьюти-индустрии направлена на формирование профессионала-парикмахера </a:t>
            </a:r>
            <a:endParaRPr b="0" lang="en-US" sz="2200" spc="-1" strike="noStrike">
              <a:solidFill>
                <a:srgbClr val="cc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определенными психологическими и нравственными качествами,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бходимыми при общении </a:t>
            </a:r>
            <a:endParaRPr b="0" lang="en-US" sz="2200" spc="-1" strike="noStrike">
              <a:solidFill>
                <a:srgbClr val="cc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людьми, выступающими </a:t>
            </a:r>
            <a:endParaRPr b="0" lang="en-US" sz="2200" spc="-1" strike="noStrike">
              <a:solidFill>
                <a:srgbClr val="cc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роли клиента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ru-RU" sz="22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9" name="Rectangle 7"/>
          <p:cNvSpPr/>
          <p:nvPr/>
        </p:nvSpPr>
        <p:spPr>
          <a:xfrm>
            <a:off x="250920" y="531720"/>
            <a:ext cx="8642160" cy="885960"/>
          </a:xfrm>
          <a:prstGeom prst="rect">
            <a:avLst/>
          </a:prstGeom>
          <a:solidFill>
            <a:srgbClr val="99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ЦЕЛЬ ПРОФЕССИОНАЛЬНОЙ КУЛЬТУРЫ </a:t>
            </a:r>
            <a:endParaRPr b="0" lang="en-US" sz="2600" spc="-1" strike="noStrike">
              <a:solidFill>
                <a:srgbClr val="cc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В БЬЮТИ ИНДУСТРИИ</a:t>
            </a:r>
            <a:endParaRPr b="0" lang="en-US" sz="26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2"/>
          <p:cNvSpPr/>
          <p:nvPr/>
        </p:nvSpPr>
        <p:spPr>
          <a:xfrm>
            <a:off x="250920" y="201600"/>
            <a:ext cx="43923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бьюти-индустрии престиж салона красоты зависит не только от мастерства парикмахера но и от профессионального имижда, так как имидж парикмахера </a:t>
            </a:r>
            <a:endParaRPr b="0" lang="en-US" sz="2200" spc="-1" strike="noStrike">
              <a:solidFill>
                <a:srgbClr val="cc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клиента связан с качеством оказываемых услуг.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2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51" name="Рисунок 2" descr=""/>
          <p:cNvPicPr/>
          <p:nvPr/>
        </p:nvPicPr>
        <p:blipFill>
          <a:blip r:embed="rId1"/>
          <a:stretch/>
        </p:blipFill>
        <p:spPr>
          <a:xfrm>
            <a:off x="4788000" y="260280"/>
            <a:ext cx="4141800" cy="624384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4" descr=""/>
          <p:cNvPicPr/>
          <p:nvPr/>
        </p:nvPicPr>
        <p:blipFill>
          <a:blip r:embed="rId2"/>
          <a:stretch/>
        </p:blipFill>
        <p:spPr>
          <a:xfrm>
            <a:off x="755640" y="3068640"/>
            <a:ext cx="313200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9"/>
          <p:cNvSpPr/>
          <p:nvPr/>
        </p:nvSpPr>
        <p:spPr>
          <a:xfrm>
            <a:off x="324000" y="333000"/>
            <a:ext cx="8642160" cy="4899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СТИЛЬ ОДЕЖДЫ В БЬЮТИ ИНДУСТРИИ</a:t>
            </a:r>
            <a:endParaRPr b="0" lang="en-US" sz="2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324000" y="4723200"/>
            <a:ext cx="8569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Times New Roman"/>
              </a:rPr>
              <a:t>Одежда парикмахера </a:t>
            </a:r>
            <a:r>
              <a:rPr b="1" lang="ru-RU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олжна отвечать всем санитарным гигиеническим требованиям и при этом быть удобной в работе. Опрятный и ухоженный мастер своим внешним видом привлекает клиента и эстетически воздействует на него.</a:t>
            </a:r>
            <a:endParaRPr b="0" lang="en-US" sz="22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55" name="Picture 16" descr="Новый рисунок"/>
          <p:cNvPicPr/>
          <p:nvPr/>
        </p:nvPicPr>
        <p:blipFill>
          <a:blip r:embed="rId1"/>
          <a:stretch/>
        </p:blipFill>
        <p:spPr>
          <a:xfrm>
            <a:off x="539640" y="1052640"/>
            <a:ext cx="8229600" cy="345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5"/>
          <p:cNvSpPr/>
          <p:nvPr/>
        </p:nvSpPr>
        <p:spPr>
          <a:xfrm>
            <a:off x="324000" y="259920"/>
            <a:ext cx="8569080" cy="48996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СТИЛЬ ИНТЕРЬЕРА ПАРИКМАХЕРСКОЙ</a:t>
            </a:r>
            <a:endParaRPr b="0" lang="en-US" sz="2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7" name="AutoShape 8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8" name="AutoShape 11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9" name="AutoShape 13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0" name="AutoShape 15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61" name="Picture 17" descr="large_%D0%A1%D0%BD%D0%B8%D0%BC%D0%BE%D0%BA_%D1%8D%D0%BA%D1%80%D0%B0%D0%BD%D0%B0_%D0%BE%D1%82_2019-04-15_17-38-11"/>
          <p:cNvPicPr/>
          <p:nvPr/>
        </p:nvPicPr>
        <p:blipFill>
          <a:blip r:embed="rId1"/>
          <a:stretch/>
        </p:blipFill>
        <p:spPr>
          <a:xfrm>
            <a:off x="395280" y="907920"/>
            <a:ext cx="8424720" cy="549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Рисунок 2" descr=""/>
          <p:cNvPicPr/>
          <p:nvPr/>
        </p:nvPicPr>
        <p:blipFill>
          <a:blip r:embed="rId1"/>
          <a:stretch/>
        </p:blipFill>
        <p:spPr>
          <a:xfrm>
            <a:off x="539640" y="260280"/>
            <a:ext cx="8136000" cy="63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5"/>
          <p:cNvSpPr/>
          <p:nvPr/>
        </p:nvSpPr>
        <p:spPr>
          <a:xfrm>
            <a:off x="250920" y="141480"/>
            <a:ext cx="856908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3399"/>
                </a:solidFill>
                <a:latin typeface="Times New Roman"/>
              </a:rPr>
              <a:t>Немаловажное значение в профессиональной культуре </a:t>
            </a:r>
            <a:endParaRPr b="0" lang="en-US" sz="2600" spc="-1" strike="noStrike">
              <a:solidFill>
                <a:srgbClr val="cc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3399"/>
                </a:solidFill>
                <a:latin typeface="Times New Roman"/>
              </a:rPr>
              <a:t>в бьюти-индустрии играет поведение и общение специалиста с клиентом.</a:t>
            </a:r>
            <a:endParaRPr b="0" lang="en-US" sz="26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64" name="Picture 6" descr="Новый рисунок (2)"/>
          <p:cNvPicPr/>
          <p:nvPr/>
        </p:nvPicPr>
        <p:blipFill>
          <a:blip r:embed="rId1"/>
          <a:stretch/>
        </p:blipFill>
        <p:spPr>
          <a:xfrm>
            <a:off x="684360" y="1484280"/>
            <a:ext cx="7775280" cy="513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9" descr="Новый рисунок (1)"/>
          <p:cNvPicPr/>
          <p:nvPr/>
        </p:nvPicPr>
        <p:blipFill>
          <a:blip r:embed="rId1"/>
          <a:stretch/>
        </p:blipFill>
        <p:spPr>
          <a:xfrm>
            <a:off x="1403280" y="189000"/>
            <a:ext cx="6769080" cy="66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2T15:57:10Z</dcterms:created>
  <dc:creator>User</dc:creator>
  <dc:description/>
  <dc:language>en-US</dc:language>
  <cp:lastModifiedBy>Денис</cp:lastModifiedBy>
  <dcterms:modified xsi:type="dcterms:W3CDTF">2021-06-11T15:51:42Z</dcterms:modified>
  <cp:revision>78</cp:revision>
  <dc:subject/>
  <dc:title>ПРОФЕССИЯ ПАРИКМАХЕР</dc:title>
</cp:coreProperties>
</file>