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1DCA-48B7-45F4-8EAE-8A482C9C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6DC4-BDEB-4679-B764-985EB795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1CDF-2E3D-4706-B3DC-919B3600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B759-A159-4FDB-9439-EDA07FCA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D898-D23B-4386-943A-9F7A4BE4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123-1910-482E-9161-2A81B91F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ABE6-AC04-401D-A441-41ACEE43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2038-E08F-4ADC-95DC-B1AF5207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68D-7059-4091-93C6-D4A8CD39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634-0897-48AE-ACD2-C64CA05C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13FB-6D97-4870-BC7D-338DC699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E362-0E5A-4CFF-AD1D-31EA90C2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25AF-4182-4D6C-ABF5-7BBA0738E9B1}" type="slidenum">
              <a:rPr b="0" lang="ru-RU" sz="14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353440" cy="1944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Профессиональная культура как неотъемлемая часть современной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Beauty - индустрии»</a:t>
            </a:r>
            <a:br>
              <a:rPr sz="4600"/>
            </a:b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117440" y="271800"/>
            <a:ext cx="694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Государственное областное бюджетное профессиональное 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образовательное учреждение 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«Елецкий лицей сферы бытовых услуг»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879160" y="3868560"/>
            <a:ext cx="279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Разработчики: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подаватель дисциплин 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ессионального цикла 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Щукина Л.М. 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931200" y="61650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Елец 2021 г.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50920" y="339840"/>
            <a:ext cx="856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сновными правилами и рекомендациями в системе общения с клиентом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67" name="Picture 4" descr="Парик"/>
          <p:cNvPicPr/>
          <p:nvPr/>
        </p:nvPicPr>
        <p:blipFill>
          <a:blip r:embed="rId1"/>
          <a:stretch/>
        </p:blipFill>
        <p:spPr>
          <a:xfrm>
            <a:off x="5091120" y="1268280"/>
            <a:ext cx="4052880" cy="45054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250920" y="1344960"/>
            <a:ext cx="47527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чало визита клиента          </a:t>
            </a:r>
            <a:endParaRPr b="0" lang="en-US" sz="21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только вы узнали ,что пришел клиент ,встретьте его лично в приемной.</a:t>
            </a:r>
            <a:endParaRPr b="0" lang="en-US" sz="21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еще заняты другим клиентом, найдите минуту, чтобы сказать сколько клиенту придется ждать.</a:t>
            </a:r>
            <a:endParaRPr b="0" lang="en-US" sz="21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е клиенту журналы или чай, кофе. </a:t>
            </a:r>
            <a:endParaRPr b="0" lang="en-US" sz="21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мытьем головы определите состояние волос клиента и какие средства он использует для ухода за волосами.</a:t>
            </a:r>
            <a:endParaRPr b="0" lang="en-US" sz="21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йте внимательно, но не отвлекайтесь и не перебивайте</a:t>
            </a:r>
            <a:r>
              <a:rPr b="0" lang="ru-RU" sz="2100" spc="-1" strike="noStrike">
                <a:solidFill>
                  <a:srgbClr val="cc000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285840" y="214200"/>
            <a:ext cx="856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сновными правилами и рекомендациями в системе общения с клиентом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70" name="Picture 3" descr="Парик"/>
          <p:cNvPicPr/>
          <p:nvPr/>
        </p:nvPicPr>
        <p:blipFill>
          <a:blip r:embed="rId1"/>
          <a:stretch/>
        </p:blipFill>
        <p:spPr>
          <a:xfrm>
            <a:off x="5091120" y="1268280"/>
            <a:ext cx="4052880" cy="45054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24000" y="931680"/>
            <a:ext cx="475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ак вести беседу с клиентом.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оянно комментируйте, что вы делаете или собираетесь делать.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ите за настроением клиента.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бегайте критических, негативных замечаний.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авьте за клиентом и собой манеру разговора.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задавайте личных вопросов.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250920" y="339840"/>
            <a:ext cx="856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сновными правилами и рекомендациями в системе общения с клиентом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73" name="Picture 3" descr="Парик"/>
          <p:cNvPicPr/>
          <p:nvPr/>
        </p:nvPicPr>
        <p:blipFill>
          <a:blip r:embed="rId1"/>
          <a:stretch/>
        </p:blipFill>
        <p:spPr>
          <a:xfrm>
            <a:off x="5091120" y="1268280"/>
            <a:ext cx="4052880" cy="4505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85840" y="1280880"/>
            <a:ext cx="475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Окончание визита клиента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йте клиенту советы по уходу за волосами.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е первого визита предложите визитную карточку.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бедитесь, что клиент доволен и предложите ему записаться на следующий визит.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одите его до приемной и убедитесь ,что там есть кому принять оплату.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324000" y="3930480"/>
            <a:ext cx="84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й профессионал бьюти индустрии должен уметь выполнять парикмахерские работы ,отвечающие требованиям современной моды  с учётом индивидуальных особенностей клиента ,учитывая профессиональную культуру как неотъемлемую часть современно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uty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дустрии.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76" name="Picture 10" descr="4a9ebb38750235fb928e52237b3b43f2_fitted_740x0"/>
          <p:cNvPicPr/>
          <p:nvPr/>
        </p:nvPicPr>
        <p:blipFill>
          <a:blip r:embed="rId1"/>
          <a:stretch/>
        </p:blipFill>
        <p:spPr>
          <a:xfrm>
            <a:off x="4471920" y="404640"/>
            <a:ext cx="4672080" cy="3100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0" y="428760"/>
            <a:ext cx="4389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250920" y="10515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Что больше всего раздражает клиентов в работе мастеров салонов красоты?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24000" y="332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ЭТО ИНТЕРЕСНО. АНКЕТИРОВАНИЕ 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80" name="Picture 8" descr="iStock-507215812"/>
          <p:cNvPicPr/>
          <p:nvPr/>
        </p:nvPicPr>
        <p:blipFill>
          <a:blip r:embed="rId1"/>
          <a:stretch/>
        </p:blipFill>
        <p:spPr>
          <a:xfrm>
            <a:off x="2050920" y="2421000"/>
            <a:ext cx="53247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Анкетирование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0" y="907920"/>
            <a:ext cx="3637080" cy="2727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3789360"/>
            <a:ext cx="3565440" cy="2674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50920" y="907920"/>
            <a:ext cx="4033800" cy="2738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284720" y="3789360"/>
            <a:ext cx="403380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r>
              <a:rPr b="1" lang="ru-RU" sz="3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ОГИ АНКЕТИРОВАНИЯ</a:t>
            </a:r>
            <a:endParaRPr b="0" lang="en-US" sz="35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995640" y="2060640"/>
          <a:ext cx="4086000" cy="3165480"/>
        </p:xfrm>
        <a:graphic>
          <a:graphicData uri="http://schemas.openxmlformats.org/drawingml/2006/table">
            <a:tbl>
              <a:tblPr/>
              <a:tblGrid>
                <a:gridCol w="1361520"/>
                <a:gridCol w="1364400"/>
                <a:gridCol w="1360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8" name="Text Box 47"/>
          <p:cNvSpPr/>
          <p:nvPr/>
        </p:nvSpPr>
        <p:spPr>
          <a:xfrm>
            <a:off x="395280" y="134136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льны работой мастеров салонов красоты при оказании парикмахерских услуг   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Text Box 48"/>
          <p:cNvSpPr/>
          <p:nvPr/>
        </p:nvSpPr>
        <p:spPr>
          <a:xfrm>
            <a:off x="250920" y="2781360"/>
            <a:ext cx="35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вольны организацией рабочего места и качеством оказываемых услуг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Text Box 49"/>
          <p:cNvSpPr/>
          <p:nvPr/>
        </p:nvSpPr>
        <p:spPr>
          <a:xfrm>
            <a:off x="0" y="4221000"/>
            <a:ext cx="37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вольны качеством общения мастера с клиентом 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Text Box 53"/>
          <p:cNvSpPr/>
          <p:nvPr/>
        </p:nvSpPr>
        <p:spPr>
          <a:xfrm>
            <a:off x="3780000" y="5373720"/>
            <a:ext cx="44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%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%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%        60%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92" name="Group 61"/>
          <p:cNvGrpSpPr/>
          <p:nvPr/>
        </p:nvGrpSpPr>
        <p:grpSpPr>
          <a:xfrm>
            <a:off x="3995640" y="2205000"/>
            <a:ext cx="3353040" cy="431640"/>
            <a:chOff x="3995640" y="2205000"/>
            <a:chExt cx="3353040" cy="431640"/>
          </a:xfrm>
        </p:grpSpPr>
        <p:sp>
          <p:nvSpPr>
            <p:cNvPr id="93" name="Rectangle 62"/>
            <p:cNvSpPr/>
            <p:nvPr/>
          </p:nvSpPr>
          <p:spPr>
            <a:xfrm>
              <a:off x="3995640" y="2205000"/>
              <a:ext cx="3353040" cy="431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4" name="AutoShape 63"/>
            <p:cNvSpPr/>
            <p:nvPr/>
          </p:nvSpPr>
          <p:spPr>
            <a:xfrm>
              <a:off x="3995640" y="2207160"/>
              <a:ext cx="3353040" cy="143640"/>
            </a:xfrm>
            <a:prstGeom prst="roundRect">
              <a:avLst>
                <a:gd name="adj" fmla="val 0"/>
              </a:avLst>
            </a:prstGeom>
            <a:solidFill>
              <a:srgbClr val="00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95" name="Group 64"/>
          <p:cNvGrpSpPr/>
          <p:nvPr/>
        </p:nvGrpSpPr>
        <p:grpSpPr>
          <a:xfrm>
            <a:off x="3995640" y="4076640"/>
            <a:ext cx="1844640" cy="502560"/>
            <a:chOff x="3995640" y="4076640"/>
            <a:chExt cx="1844640" cy="502560"/>
          </a:xfrm>
        </p:grpSpPr>
        <p:sp>
          <p:nvSpPr>
            <p:cNvPr id="96" name="Rectangle 65"/>
            <p:cNvSpPr/>
            <p:nvPr/>
          </p:nvSpPr>
          <p:spPr>
            <a:xfrm>
              <a:off x="3995640" y="4078800"/>
              <a:ext cx="1844640" cy="500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7" name="AutoShape 66"/>
            <p:cNvSpPr/>
            <p:nvPr/>
          </p:nvSpPr>
          <p:spPr>
            <a:xfrm>
              <a:off x="3995640" y="4076640"/>
              <a:ext cx="1844640" cy="142560"/>
            </a:xfrm>
            <a:prstGeom prst="roundRect">
              <a:avLst>
                <a:gd name="adj" fmla="val 0"/>
              </a:avLst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98" name="Group 67"/>
          <p:cNvGrpSpPr/>
          <p:nvPr/>
        </p:nvGrpSpPr>
        <p:grpSpPr>
          <a:xfrm>
            <a:off x="3995640" y="3213000"/>
            <a:ext cx="2565000" cy="502560"/>
            <a:chOff x="3995640" y="3213000"/>
            <a:chExt cx="2565000" cy="502560"/>
          </a:xfrm>
        </p:grpSpPr>
        <p:sp>
          <p:nvSpPr>
            <p:cNvPr id="99" name="Rectangle 68"/>
            <p:cNvSpPr/>
            <p:nvPr/>
          </p:nvSpPr>
          <p:spPr>
            <a:xfrm>
              <a:off x="3995640" y="3215520"/>
              <a:ext cx="2556360" cy="500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00" name="AutoShape 69"/>
            <p:cNvSpPr/>
            <p:nvPr/>
          </p:nvSpPr>
          <p:spPr>
            <a:xfrm>
              <a:off x="3995640" y="3213000"/>
              <a:ext cx="2565000" cy="201960"/>
            </a:xfrm>
            <a:prstGeom prst="roundRect">
              <a:avLst>
                <a:gd name="adj" fmla="val 0"/>
              </a:avLst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84000" y="2420640"/>
            <a:ext cx="452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СПАСИБО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ЗА ВНИМАНИЕ!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Beauty-Industry"/>
          <p:cNvPicPr/>
          <p:nvPr/>
        </p:nvPicPr>
        <p:blipFill>
          <a:blip r:embed="rId1"/>
          <a:stretch/>
        </p:blipFill>
        <p:spPr>
          <a:xfrm>
            <a:off x="395280" y="189000"/>
            <a:ext cx="8497800" cy="3384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324000" y="3670560"/>
            <a:ext cx="8569080" cy="2469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Бьюти-индустрия — это сфера услуг, объединяющая такие направления, как косметология, парикмахерское искусство, ногтевой сервис, визаж, перманентный макияж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1487846398 - копия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3544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250920" y="1842840"/>
            <a:ext cx="4465440" cy="34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фессиональная культура </a:t>
            </a:r>
            <a:endParaRPr b="0" lang="en-US" sz="22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Бьюти-индустрии направлена на формирование профессионала-парикмахера </a:t>
            </a:r>
            <a:endParaRPr b="0" lang="en-US" sz="22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пределенными психологическими и нравственными качествами,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ми при общении </a:t>
            </a:r>
            <a:endParaRPr b="0" lang="en-US" sz="22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людьми, выступающими </a:t>
            </a:r>
            <a:endParaRPr b="0" lang="en-US" sz="22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ли клиент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50920" y="531720"/>
            <a:ext cx="8642160" cy="88596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ЦЕЛЬ ПРОФЕССИОНАЛЬНОЙ КУЛЬТУРЫ 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 БЬЮТИ ИНДУСТРИИ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2"/>
          <p:cNvSpPr/>
          <p:nvPr/>
        </p:nvSpPr>
        <p:spPr>
          <a:xfrm>
            <a:off x="250920" y="201600"/>
            <a:ext cx="4392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ьюти-индустрии престиж салона красоты зависит не только от мастерства парикмахера но и от профессионального имижда, так как имидж парикмахера </a:t>
            </a:r>
            <a:endParaRPr b="0" lang="en-US" sz="22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лиента связан с качеством оказываемых услуг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4141800" cy="62438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755640" y="3068640"/>
            <a:ext cx="3132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9"/>
          <p:cNvSpPr/>
          <p:nvPr/>
        </p:nvSpPr>
        <p:spPr>
          <a:xfrm>
            <a:off x="324000" y="333000"/>
            <a:ext cx="8642160" cy="489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ТИЛЬ ОДЕЖДЫ В БЬЮТИ ИНДУСТРИИ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24000" y="472320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Одежда парикмахера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лжна отвечать всем санитарным гигиеническим требованиям и при этом быть удобной в работе. Опрятный и ухоженный мастер своим внешним видом привлекает клиента и эстетически воздействует на него.</a:t>
            </a:r>
            <a:endParaRPr b="0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55" name="Picture 16" descr="Новый рисунок"/>
          <p:cNvPicPr/>
          <p:nvPr/>
        </p:nvPicPr>
        <p:blipFill>
          <a:blip r:embed="rId1"/>
          <a:stretch/>
        </p:blipFill>
        <p:spPr>
          <a:xfrm>
            <a:off x="539640" y="1052640"/>
            <a:ext cx="822960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324000" y="259920"/>
            <a:ext cx="8569080" cy="4899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ТИЛЬ ИНТЕРЬЕРА ПАРИКМАХЕРСКОЙ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61" name="Picture 17" descr="large_%D0%A1%D0%BD%D0%B8%D0%BC%D0%BE%D0%BA_%D1%8D%D0%BA%D1%80%D0%B0%D0%BD%D0%B0_%D0%BE%D1%82_2019-04-15_17-38-11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13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250920" y="141480"/>
            <a:ext cx="856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Times New Roman"/>
              </a:rPr>
              <a:t>Немаловажное значение в профессиональной культуре 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Times New Roman"/>
              </a:rPr>
              <a:t>в бьюти-индустрии играет поведение и общение специалиста с клиентом.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64" name="Picture 6" descr="Новый рисунок (2)"/>
          <p:cNvPicPr/>
          <p:nvPr/>
        </p:nvPicPr>
        <p:blipFill>
          <a:blip r:embed="rId1"/>
          <a:stretch/>
        </p:blipFill>
        <p:spPr>
          <a:xfrm>
            <a:off x="684360" y="1484280"/>
            <a:ext cx="777528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9" descr="Новый рисунок (1)"/>
          <p:cNvPicPr/>
          <p:nvPr/>
        </p:nvPicPr>
        <p:blipFill>
          <a:blip r:embed="rId1"/>
          <a:stretch/>
        </p:blipFill>
        <p:spPr>
          <a:xfrm>
            <a:off x="1403280" y="189000"/>
            <a:ext cx="6769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5:57:10Z</dcterms:created>
  <dc:creator>User</dc:creator>
  <dc:description/>
  <dc:language>en-US</dc:language>
  <cp:lastModifiedBy>Денис</cp:lastModifiedBy>
  <dcterms:modified xsi:type="dcterms:W3CDTF">2021-06-11T15:51:42Z</dcterms:modified>
  <cp:revision>78</cp:revision>
  <dc:subject/>
  <dc:title>ПРОФЕССИЯ ПАРИКМАХЕР</dc:title>
</cp:coreProperties>
</file>