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F05-5C84-44A9-814A-C1360444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F9D-64E1-45A0-9B95-685EE921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A9D-A47F-446B-A367-DC49B013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398-2418-4CB3-A452-110CFB0E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7061-D87E-4371-9366-7B54DB7C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38BC-FFA7-4E93-9F56-A9E305B7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78E0-B9B4-475B-BCAA-46AF3720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C3CE-D509-4DAF-AE9C-27FAB96A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A329-C82D-4B94-9627-1373F746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8160"/>
            <a:ext cx="821844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0B3C-21AF-49AF-A168-660DBD9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8AEC-3B70-4FEE-8FF7-EEE7A113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F6D-4A57-42BA-876F-8CA831BB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D56B-7488-4060-93D3-8B584E3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E1B2-59B2-4F6A-A0B6-2CA35F2D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C610-A921-4E81-8C98-AA1CC19D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E19F-19D4-461F-9FB7-98814108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9253-27EC-48B0-8804-D223AD52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5F3-6ED1-4CBC-8F65-1BAF010E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AC9-7FE2-4BC8-9B95-390ED301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91C-BF3E-47F2-BCE8-60706567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160"/>
            <a:ext cx="821844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606-DD51-4A6B-85CA-5022222C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8A5-C7D9-425D-A4BD-C37EBA38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6B6-7C9B-425F-9093-373DD20B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410-2863-415E-8D51-367D11FA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0" r="0" b="78305"/>
          <a:stretch/>
        </p:blipFill>
        <p:spPr>
          <a:xfrm>
            <a:off x="0" y="0"/>
            <a:ext cx="9144000" cy="1498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DDE35-AED9-4839-85C9-88463AC43BC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8280" cy="6892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91960" y="3529080"/>
            <a:ext cx="77612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1160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621240" y="6245280"/>
            <a:ext cx="2884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310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0CE2DE-C3DE-4032-9EA5-FC4B50964E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6280" y="3068640"/>
            <a:ext cx="77724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00ae00"/>
                </a:solidFill>
                <a:latin typeface="Arial"/>
              </a:rPr>
              <a:t>Химико-лесной </a:t>
            </a:r>
            <a:br>
              <a:rPr sz="5700"/>
            </a:br>
            <a:r>
              <a:rPr b="1" lang="ru-RU" sz="5700" spc="-1" strike="noStrike">
                <a:solidFill>
                  <a:srgbClr val="00ae00"/>
                </a:solidFill>
                <a:latin typeface="Arial"/>
              </a:rPr>
              <a:t>комплекс</a:t>
            </a:r>
            <a:endParaRPr b="1" lang="en-US" sz="57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0560" y="5335560"/>
            <a:ext cx="690588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ae2c12"/>
                </a:solidFill>
                <a:latin typeface="Arial"/>
              </a:rPr>
              <a:t>Презентацию подготов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ae2c12"/>
                </a:solidFill>
                <a:latin typeface="Arial"/>
              </a:rPr>
              <a:t>Голованова Ольга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ae2c12"/>
                </a:solidFill>
                <a:latin typeface="Arial"/>
              </a:rPr>
              <a:t>учитель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900000" y="179280"/>
            <a:ext cx="73803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34880" y="792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созаготовительная отрас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2"/>
          <p:cNvGrpSpPr/>
          <p:nvPr/>
        </p:nvGrpSpPr>
        <p:grpSpPr>
          <a:xfrm>
            <a:off x="179280" y="3419640"/>
            <a:ext cx="3954600" cy="3235320"/>
            <a:chOff x="179280" y="3419640"/>
            <a:chExt cx="3954600" cy="3235320"/>
          </a:xfrm>
        </p:grpSpPr>
        <p:pic>
          <p:nvPicPr>
            <p:cNvPr id="171" name="Picture 3" descr=""/>
            <p:cNvPicPr/>
            <p:nvPr/>
          </p:nvPicPr>
          <p:blipFill>
            <a:blip r:embed="rId1"/>
            <a:stretch/>
          </p:blipFill>
          <p:spPr>
            <a:xfrm>
              <a:off x="179280" y="3419640"/>
              <a:ext cx="395460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4"/>
            <p:cNvSpPr/>
            <p:nvPr/>
          </p:nvSpPr>
          <p:spPr>
            <a:xfrm>
              <a:off x="179280" y="3419640"/>
              <a:ext cx="3954600" cy="32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5"/>
          <p:cNvGrpSpPr/>
          <p:nvPr/>
        </p:nvGrpSpPr>
        <p:grpSpPr>
          <a:xfrm>
            <a:off x="4214880" y="3419640"/>
            <a:ext cx="4600440" cy="3235320"/>
            <a:chOff x="4214880" y="3419640"/>
            <a:chExt cx="4600440" cy="323532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4214880" y="3419640"/>
              <a:ext cx="460044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4214880" y="3419640"/>
              <a:ext cx="4600440" cy="32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AutoShape 8"/>
          <p:cNvSpPr/>
          <p:nvPr/>
        </p:nvSpPr>
        <p:spPr>
          <a:xfrm>
            <a:off x="900000" y="1800360"/>
            <a:ext cx="7380360" cy="1439640"/>
          </a:xfrm>
          <a:prstGeom prst="roundRect">
            <a:avLst>
              <a:gd name="adj" fmla="val 106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тр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хангельск, Череповец, Котлас, Балахн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нисейск, Лесосибирск, Якутск, Комсомольск-на-Амур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317600" y="3095640"/>
            <a:ext cx="601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34880" y="0"/>
            <a:ext cx="838512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ревообрабатывающая отрас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1523880" y="1854360"/>
            <a:ext cx="6699240" cy="4241520"/>
            <a:chOff x="1523880" y="1854360"/>
            <a:chExt cx="6699240" cy="4241520"/>
          </a:xfrm>
        </p:grpSpPr>
        <p:sp>
          <p:nvSpPr>
            <p:cNvPr id="180" name="Text Box 3"/>
            <p:cNvSpPr/>
            <p:nvPr/>
          </p:nvSpPr>
          <p:spPr>
            <a:xfrm>
              <a:off x="1523880" y="1854360"/>
              <a:ext cx="6699240" cy="42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87440" y="3780000"/>
            <a:ext cx="401328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4680000" y="3759120"/>
            <a:ext cx="3959280" cy="25416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6"/>
          <p:cNvSpPr/>
          <p:nvPr/>
        </p:nvSpPr>
        <p:spPr>
          <a:xfrm>
            <a:off x="900000" y="1979640"/>
            <a:ext cx="7380360" cy="1440000"/>
          </a:xfrm>
          <a:prstGeom prst="roundRect">
            <a:avLst>
              <a:gd name="adj" fmla="val 106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тр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хангельск, Салехард, Нарьян-Мар, Игарк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сноярск, Лесосибирск, Владивос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12240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сохимическ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рас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2"/>
          <p:cNvGrpSpPr/>
          <p:nvPr/>
        </p:nvGrpSpPr>
        <p:grpSpPr>
          <a:xfrm>
            <a:off x="1541520" y="3240000"/>
            <a:ext cx="6014880" cy="3436920"/>
            <a:chOff x="1541520" y="3240000"/>
            <a:chExt cx="6014880" cy="3436920"/>
          </a:xfrm>
        </p:grpSpPr>
        <p:pic>
          <p:nvPicPr>
            <p:cNvPr id="186" name="Picture 3" descr=""/>
            <p:cNvPicPr/>
            <p:nvPr/>
          </p:nvPicPr>
          <p:blipFill>
            <a:blip r:embed="rId1"/>
            <a:stretch/>
          </p:blipFill>
          <p:spPr>
            <a:xfrm>
              <a:off x="1541520" y="3240000"/>
              <a:ext cx="601488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4"/>
            <p:cNvSpPr/>
            <p:nvPr/>
          </p:nvSpPr>
          <p:spPr>
            <a:xfrm>
              <a:off x="1541520" y="3240000"/>
              <a:ext cx="6014880" cy="34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AutoShape 5"/>
          <p:cNvSpPr/>
          <p:nvPr/>
        </p:nvSpPr>
        <p:spPr>
          <a:xfrm>
            <a:off x="949320" y="1654200"/>
            <a:ext cx="7380360" cy="1440000"/>
          </a:xfrm>
          <a:prstGeom prst="roundRect">
            <a:avLst>
              <a:gd name="adj" fmla="val 106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0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тр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хангельск, Кондопога, Волгоград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сноярск, Лесособирск, Братск, Усть-Илимс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Проблемы отрасл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5800" y="1600200"/>
            <a:ext cx="8223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- Неполное использование древе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 Истощение лесов, прилегающих к железным дорогам и судоходным ре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- Сброс в водоемы жидких отходов целлюлозно-бумажной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Пути решения проблем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80996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Лесовосстановительные работы (лесопосад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 Очистные сооружения на ЦБ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- Сплав леса в плотах, или транспортировка автомобильным или железнодорожным транспор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- Создание ЛПК (позволит использовать отхо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57200" y="128520"/>
            <a:ext cx="8362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cc99"/>
                </a:solidFill>
                <a:latin typeface="Arial"/>
              </a:rPr>
              <a:t>Лес — это не только ресурсы:</a:t>
            </a:r>
            <a:br>
              <a:rPr sz="4200"/>
            </a:br>
            <a:r>
              <a:rPr b="1" lang="ru-RU" sz="4200" spc="-1" strike="noStrike">
                <a:solidFill>
                  <a:srgbClr val="ffcc99"/>
                </a:solidFill>
                <a:latin typeface="Arial"/>
              </a:rPr>
              <a:t>лес — это до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31840" y="3774960"/>
            <a:ext cx="2827440" cy="1986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240000" y="1979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6300720" y="1619280"/>
            <a:ext cx="2648160" cy="1985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tretch/>
        </p:blipFill>
        <p:spPr>
          <a:xfrm>
            <a:off x="6300720" y="3780000"/>
            <a:ext cx="2700360" cy="1965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tretch/>
        </p:blipFill>
        <p:spPr>
          <a:xfrm>
            <a:off x="3240000" y="4494240"/>
            <a:ext cx="2879640" cy="1985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6"/>
          <a:stretch/>
        </p:blipFill>
        <p:spPr>
          <a:xfrm>
            <a:off x="231840" y="1614600"/>
            <a:ext cx="2827440" cy="19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7600" y="432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Химическая промышленность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40000" y="1123920"/>
            <a:ext cx="46796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/п имеет широкую сырьевую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/п не знает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/п создает материалы с заранее заданными св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/п обладает минимальной трудоемк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ителями продукции химической промышленности являются все отрасли 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303120" y="1800360"/>
            <a:ext cx="3295800" cy="45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ежотраслевые связ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4" name="AutoShape 2"/>
          <p:cNvSpPr/>
          <p:nvPr/>
        </p:nvSpPr>
        <p:spPr>
          <a:xfrm>
            <a:off x="3780000" y="1619280"/>
            <a:ext cx="539640" cy="504036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040360"/>
              <a:gd name="textAreaBottom" fmla="*/ 5040000 h 5040360"/>
            </a:gdLst>
            <a:ahLst/>
            <a:rect l="textAreaLeft" t="textAreaTop" r="textAreaRight" b="textAreaBottom"/>
            <a:pathLst>
              <a:path w="21600" h="201629">
                <a:moveTo>
                  <a:pt x="63" y="0"/>
                </a:moveTo>
                <a:arcTo wR="63" hR="63" stAng="16200000" swAng="-5400000"/>
                <a:lnTo>
                  <a:pt x="0" y="201566"/>
                </a:lnTo>
                <a:arcTo wR="63" hR="63" stAng="10800000" swAng="-5400000"/>
                <a:lnTo>
                  <a:pt x="21537" y="201629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808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179280" y="161928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179280" y="270036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энерге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179280" y="378000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ур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179280" y="485928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л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179280" y="594036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3600360" y="1979640"/>
            <a:ext cx="1800" cy="43196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3240000" y="197964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240000" y="306072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3240000" y="414036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3240000" y="521964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3240000" y="630072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3600360" y="4140360"/>
            <a:ext cx="179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859280" y="161928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ильная 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4859280" y="216072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859280" y="287964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 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4859280" y="360036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>
            <a:off x="4859280" y="431964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859280" y="504036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4859280" y="575928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ая и цветная металлур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4859280" y="630072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люлозно-бумажная п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4500720" y="1800360"/>
            <a:ext cx="1440" cy="46796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>
            <a:off x="4500720" y="180036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5"/>
          <p:cNvSpPr/>
          <p:nvPr/>
        </p:nvSpPr>
        <p:spPr>
          <a:xfrm>
            <a:off x="4500720" y="234000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>
            <a:off x="4500720" y="306072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7"/>
          <p:cNvSpPr/>
          <p:nvPr/>
        </p:nvSpPr>
        <p:spPr>
          <a:xfrm>
            <a:off x="4500720" y="378000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4500720" y="450072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4500720" y="521964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>
            <a:off x="4500720" y="594036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1"/>
          <p:cNvSpPr/>
          <p:nvPr/>
        </p:nvSpPr>
        <p:spPr>
          <a:xfrm>
            <a:off x="4500720" y="648000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2"/>
          <p:cNvSpPr/>
          <p:nvPr/>
        </p:nvSpPr>
        <p:spPr>
          <a:xfrm>
            <a:off x="4319640" y="4140360"/>
            <a:ext cx="17928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96880" y="1755360"/>
            <a:ext cx="82231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- Северо-Европей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- Центр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- Урало-Поволж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- Сибир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базы ХЛ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900000" y="1079640"/>
            <a:ext cx="2700360" cy="720720"/>
          </a:xfrm>
          <a:prstGeom prst="roundRect">
            <a:avLst>
              <a:gd name="adj" fmla="val 218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5759280" y="1079640"/>
            <a:ext cx="270036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сн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 flipH="1">
            <a:off x="2328480" y="539640"/>
            <a:ext cx="1461960" cy="180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340000" y="539640"/>
            <a:ext cx="1440" cy="54000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780000" y="179280"/>
            <a:ext cx="1618920" cy="900360"/>
          </a:xfrm>
          <a:prstGeom prst="roundRect">
            <a:avLst>
              <a:gd name="adj" fmla="val 218"/>
            </a:avLst>
          </a:prstGeom>
          <a:solidFill>
            <a:srgbClr val="00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ХЛ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5390640" y="539640"/>
            <a:ext cx="1279800" cy="180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659640" y="539640"/>
            <a:ext cx="1440" cy="54000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79280" y="1979640"/>
            <a:ext cx="144000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орно-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179280" y="4319640"/>
            <a:ext cx="126072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ло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879640" y="1979640"/>
            <a:ext cx="197964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алотоннажная хим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879640" y="2700360"/>
            <a:ext cx="162108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. синтез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559640" y="1979640"/>
            <a:ext cx="144000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5580000" y="1979640"/>
            <a:ext cx="144000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859280" y="305928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о-хи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6478560" y="3060720"/>
            <a:ext cx="180180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ческая об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179280" y="3600360"/>
            <a:ext cx="1260720" cy="54000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ин. удобре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1800360" y="4319640"/>
            <a:ext cx="107928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360360" y="2700360"/>
            <a:ext cx="1440000" cy="71928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1800360" y="3600360"/>
            <a:ext cx="1079280" cy="54000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 flipH="1">
            <a:off x="528120" y="1619280"/>
            <a:ext cx="38268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539640" y="1619280"/>
            <a:ext cx="1800" cy="36036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 flipH="1">
            <a:off x="3587400" y="1619280"/>
            <a:ext cx="38268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3959280" y="1619280"/>
            <a:ext cx="1440" cy="36036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2160720" y="1800360"/>
            <a:ext cx="1440" cy="126036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2519280" y="1800360"/>
            <a:ext cx="1800" cy="126036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 flipH="1">
            <a:off x="1790280" y="3060720"/>
            <a:ext cx="381240" cy="144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539640" y="1619280"/>
            <a:ext cx="1800" cy="36036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2519280" y="3060720"/>
            <a:ext cx="360360" cy="144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1619280" y="3419640"/>
            <a:ext cx="1440" cy="126036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H="1">
            <a:off x="1428840" y="3959280"/>
            <a:ext cx="38232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 flipH="1">
            <a:off x="1428840" y="4680000"/>
            <a:ext cx="38232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 flipH="1">
            <a:off x="5388120" y="234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 flipH="1">
            <a:off x="7010280" y="2340000"/>
            <a:ext cx="19872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34"/>
          <p:cNvSpPr/>
          <p:nvPr/>
        </p:nvSpPr>
        <p:spPr>
          <a:xfrm>
            <a:off x="5397480" y="2340000"/>
            <a:ext cx="1440" cy="72072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7199280" y="2340000"/>
            <a:ext cx="1800" cy="72072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6"/>
          <p:cNvSpPr/>
          <p:nvPr/>
        </p:nvSpPr>
        <p:spPr>
          <a:xfrm>
            <a:off x="3240000" y="4859280"/>
            <a:ext cx="126072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интетич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мол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3240000" y="3419640"/>
            <a:ext cx="126072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интетич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аучук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3240000" y="4140360"/>
            <a:ext cx="126072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интетич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олокн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39"/>
          <p:cNvSpPr/>
          <p:nvPr/>
        </p:nvSpPr>
        <p:spPr>
          <a:xfrm>
            <a:off x="3060720" y="3240000"/>
            <a:ext cx="1440" cy="19796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40"/>
          <p:cNvSpPr/>
          <p:nvPr/>
        </p:nvSpPr>
        <p:spPr>
          <a:xfrm flipH="1">
            <a:off x="3049560" y="378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41"/>
          <p:cNvSpPr/>
          <p:nvPr/>
        </p:nvSpPr>
        <p:spPr>
          <a:xfrm flipH="1">
            <a:off x="3049560" y="450072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2"/>
          <p:cNvSpPr/>
          <p:nvPr/>
        </p:nvSpPr>
        <p:spPr>
          <a:xfrm flipH="1">
            <a:off x="3049560" y="5219640"/>
            <a:ext cx="201600" cy="180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3"/>
          <p:cNvSpPr/>
          <p:nvPr/>
        </p:nvSpPr>
        <p:spPr>
          <a:xfrm>
            <a:off x="5219640" y="3780000"/>
            <a:ext cx="1800" cy="72072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4"/>
          <p:cNvSpPr/>
          <p:nvPr/>
        </p:nvSpPr>
        <p:spPr>
          <a:xfrm>
            <a:off x="4678200" y="3780000"/>
            <a:ext cx="1800" cy="126036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45"/>
          <p:cNvSpPr/>
          <p:nvPr/>
        </p:nvSpPr>
        <p:spPr>
          <a:xfrm flipH="1">
            <a:off x="4490640" y="4500720"/>
            <a:ext cx="7398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6"/>
          <p:cNvSpPr/>
          <p:nvPr/>
        </p:nvSpPr>
        <p:spPr>
          <a:xfrm flipH="1">
            <a:off x="4487760" y="378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47"/>
          <p:cNvSpPr/>
          <p:nvPr/>
        </p:nvSpPr>
        <p:spPr>
          <a:xfrm flipH="1">
            <a:off x="4487760" y="5038560"/>
            <a:ext cx="201600" cy="180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48"/>
          <p:cNvSpPr/>
          <p:nvPr/>
        </p:nvSpPr>
        <p:spPr>
          <a:xfrm>
            <a:off x="5219640" y="2340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sq"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9"/>
          <p:cNvSpPr/>
          <p:nvPr/>
        </p:nvSpPr>
        <p:spPr>
          <a:xfrm flipH="1">
            <a:off x="5568840" y="144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0"/>
          <p:cNvSpPr/>
          <p:nvPr/>
        </p:nvSpPr>
        <p:spPr>
          <a:xfrm flipH="1">
            <a:off x="8450280" y="144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51"/>
          <p:cNvSpPr/>
          <p:nvPr/>
        </p:nvSpPr>
        <p:spPr>
          <a:xfrm>
            <a:off x="5580000" y="1440000"/>
            <a:ext cx="1800" cy="53964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52"/>
          <p:cNvSpPr/>
          <p:nvPr/>
        </p:nvSpPr>
        <p:spPr>
          <a:xfrm>
            <a:off x="8640720" y="1440000"/>
            <a:ext cx="1800" cy="53964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3"/>
          <p:cNvSpPr/>
          <p:nvPr/>
        </p:nvSpPr>
        <p:spPr>
          <a:xfrm>
            <a:off x="360360" y="5580000"/>
            <a:ext cx="8280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еография ХЛК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60360" y="1600200"/>
          <a:ext cx="8642520" cy="5051520"/>
        </p:xfrm>
        <a:graphic>
          <a:graphicData uri="http://schemas.openxmlformats.org/drawingml/2006/table">
            <a:tbl>
              <a:tblPr/>
              <a:tblGrid>
                <a:gridCol w="2158920"/>
                <a:gridCol w="2158920"/>
                <a:gridCol w="2382840"/>
                <a:gridCol w="1941840"/>
              </a:tblGrid>
              <a:tr h="756000"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о-Европейс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о-Поволжс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бирс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473400">
                <a:tc gridSpan="4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заготов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 gridSpan="4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ообработ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 gridSpan="4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инеральных удобр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120"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-Б пром-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gridSpan="2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-Б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gridSpan="3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олимер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gridSpan="3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работка полимер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хим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</a:tr>
              <a:tr h="47340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gridSpan="2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органического синтез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507960">
                <a:tc>
                  <a:txBody>
                    <a:bodyPr lIns="90000" rIns="90000" tIns="1648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хим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хим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95280" y="0"/>
            <a:ext cx="953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Факторы размещения важнейших производств ХЛК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76200" y="2039760"/>
          <a:ext cx="8543880" cy="4503960"/>
        </p:xfrm>
        <a:graphic>
          <a:graphicData uri="http://schemas.openxmlformats.org/drawingml/2006/table">
            <a:tbl>
              <a:tblPr/>
              <a:tblGrid>
                <a:gridCol w="2705040"/>
                <a:gridCol w="2732040"/>
                <a:gridCol w="3106800"/>
              </a:tblGrid>
              <a:tr h="660600">
                <a:tc gridSpan="3"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готение к района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160"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и сыр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еспеченным сырьем, водными ресурсами и дешевой электроэнерг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2335320"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изводство серной кислоты,  азотных, фосфорных удобрений, изделий из пластмасс, меб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изводство калийных удобрений, лесозаготовка, лесопиление, производство фан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изводство пластмасс, полимеров, химических волокон, целлюлозы, бумаги, карт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</a:tr>
              <a:tr h="569880">
                <a:tc gridSpan="3"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ий фа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7600" y="432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Центры химической промышленност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360" y="1937880"/>
            <a:ext cx="86407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Горно-химическая отрасль+отрасли, поставляющие сы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ровск, Брянск, Челябинск, Новокузнецк, Ачинск, Анга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Основная 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кт-Петербург, Брянск, Тольятти, Соликамск, Березники, Пермь, Нижний Тагил, Оре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Химия органического син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ославль, Москва, Волгоград, Тверь, Красноя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4320"/>
            <a:ext cx="82249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Лесная </a:t>
            </a:r>
            <a:br>
              <a:rPr sz="4400"/>
            </a:b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промышленность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865760" y="3780000"/>
            <a:ext cx="3773520" cy="2700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752480" y="1749600"/>
            <a:ext cx="586764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442520"/>
            <a:ext cx="809964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Леса России занимают </a:t>
            </a:r>
            <a:r>
              <a:rPr b="0" lang="en-US" sz="2800" spc="-1" strike="noStrike">
                <a:solidFill>
                  <a:srgbClr val="ff3366"/>
                </a:solidFill>
                <a:latin typeface="Arial"/>
              </a:rPr>
              <a:t>45%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ее террит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3366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всех лесов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Лесные площади в России состав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3366"/>
                </a:solidFill>
                <a:latin typeface="Arial"/>
              </a:rPr>
              <a:t>766 млн 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22360" y="3780000"/>
            <a:ext cx="39765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3961080" cy="450036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3"/>
          <p:cNvGrpSpPr/>
          <p:nvPr/>
        </p:nvGrpSpPr>
        <p:grpSpPr>
          <a:xfrm>
            <a:off x="4352760" y="1619280"/>
            <a:ext cx="4462560" cy="4675320"/>
            <a:chOff x="4352760" y="1619280"/>
            <a:chExt cx="4462560" cy="4675320"/>
          </a:xfrm>
        </p:grpSpPr>
        <p:pic>
          <p:nvPicPr>
            <p:cNvPr id="147" name="Picture 4" descr=""/>
            <p:cNvPicPr/>
            <p:nvPr/>
          </p:nvPicPr>
          <p:blipFill>
            <a:blip r:embed="rId2"/>
            <a:stretch/>
          </p:blipFill>
          <p:spPr>
            <a:xfrm>
              <a:off x="4352760" y="1619280"/>
              <a:ext cx="446256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5"/>
            <p:cNvSpPr/>
            <p:nvPr/>
          </p:nvSpPr>
          <p:spPr>
            <a:xfrm>
              <a:off x="4352760" y="1619280"/>
              <a:ext cx="4462560" cy="46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6480" y="-31680"/>
            <a:ext cx="76438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Страны, богатые </a:t>
            </a:r>
            <a:br>
              <a:rPr sz="4400"/>
            </a:b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лесными ресурсам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800360"/>
            <a:ext cx="882036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Канада, СШ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ён, секвойя, д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Бразил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ейба, паль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Финляндия, Швеция, Норве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клен, сос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Конг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ейба, ли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244440"/>
            <a:ext cx="83851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"/>
              </a:rPr>
              <a:t>Основные древесные породы в составе лесов Росс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431640" y="1727280"/>
            <a:ext cx="8382240" cy="4565520"/>
            <a:chOff x="431640" y="1727280"/>
            <a:chExt cx="8382240" cy="456552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431640" y="1727280"/>
              <a:ext cx="838224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"/>
            <p:cNvSpPr/>
            <p:nvPr/>
          </p:nvSpPr>
          <p:spPr>
            <a:xfrm>
              <a:off x="431640" y="1727280"/>
              <a:ext cx="8382240" cy="45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79280" y="-179280"/>
            <a:ext cx="9144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 характеру использования все леса подразделяют на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79280" y="1619280"/>
            <a:ext cx="8666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груп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еса, имеющие природоохранное значение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груп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еса , выполняющие защитные функции, но в ограниченной мере эксплуатируемые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 груп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еса, преимущественно эксплатуационного назначения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360360" y="2519280"/>
            <a:ext cx="2647800" cy="1173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3292560" y="2519280"/>
            <a:ext cx="2647800" cy="1173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6172200" y="2519280"/>
            <a:ext cx="2647800" cy="1173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119640" y="3706920"/>
            <a:ext cx="2648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с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92560" y="3706920"/>
            <a:ext cx="2647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ре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2560" y="3780000"/>
            <a:ext cx="3006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39640" y="1619280"/>
            <a:ext cx="2340000" cy="720720"/>
          </a:xfrm>
          <a:prstGeom prst="ellipse">
            <a:avLst/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а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3419640" y="1619280"/>
            <a:ext cx="2339640" cy="720720"/>
          </a:xfrm>
          <a:prstGeom prst="ellipse">
            <a:avLst/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й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6300720" y="1619280"/>
            <a:ext cx="2340000" cy="720720"/>
          </a:xfrm>
          <a:prstGeom prst="ellipse">
            <a:avLst/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ежотраслевые связ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60360" y="1600200"/>
          <a:ext cx="8224920" cy="4025880"/>
        </p:xfrm>
        <a:graphic>
          <a:graphicData uri="http://schemas.openxmlformats.org/drawingml/2006/table">
            <a:tbl>
              <a:tblPr/>
              <a:tblGrid>
                <a:gridCol w="3898800"/>
                <a:gridCol w="4326120"/>
              </a:tblGrid>
              <a:tr h="804960">
                <a:tc>
                  <a:txBody>
                    <a:bodyPr lIns="90000" rIns="90000" tIns="1648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продук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ой промыш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олучает лесная 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других отрасле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3220920"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остроение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ельств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и, краски (для мебел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у, натрий, отбеливающие химика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изводство бумаг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шины, трактора, станк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готовка и обработка древесины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8:53:47Z</dcterms:created>
  <dc:creator>Ольга Голованова</dc:creator>
  <dc:description/>
  <dc:language>en-US</dc:language>
  <cp:lastModifiedBy>User</cp:lastModifiedBy>
  <cp:lastPrinted>2016-05-03T17:51:45Z</cp:lastPrinted>
  <dcterms:modified xsi:type="dcterms:W3CDTF">2021-06-12T19:51:11Z</dcterms:modified>
  <cp:revision>4</cp:revision>
  <dc:subject/>
  <dc:title>Слайд 1</dc:title>
</cp:coreProperties>
</file>