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AF7-7762-42DB-8043-5BE52346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759-E729-434F-A7FE-AFBB1E0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B1A-29A4-4326-BE99-5A14D639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26F-9F1C-47E1-B44E-99837178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A89-CCFC-4C28-9D39-5258018F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BFD-1C67-4300-9288-343F371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6EE2-4596-4CE0-8F06-A1DCEDA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BB1-E468-4AE3-B440-733C6AF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AF94-BBBC-4749-B4D6-55169A93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844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6460-E4BE-4F5A-A45B-385D06AA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2DFC-0AD4-4B59-8634-79A2227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7F4-AEC7-4076-8B1D-CBF93C1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ADE5-D7DF-4757-BBBE-98D2978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944-D6DB-44CA-B116-603A7E4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D58D-16BB-4CF6-8EED-5FEDC20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0C3E-B9F2-4045-942B-2FBCB0ED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DCAB-9B0F-4DBA-A473-89F1A2AB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2CF-D663-4D52-9DD4-37235A6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6A0-3671-4ADD-B4C8-D24BD3A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0D7-F903-4235-A3C5-96A763DB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844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C9B-304F-4F35-9F9C-293F4675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FBD-BCE3-41DB-BC30-FF4C1BB7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634-68E3-4C7A-A7CE-AF22404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702-E86F-4B93-914B-5A2F0CE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0" r="0" b="78305"/>
          <a:stretch/>
        </p:blipFill>
        <p:spPr>
          <a:xfrm>
            <a:off x="0" y="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692B3-9351-41DB-B498-8EDB4660EE9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8280" cy="6892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960" y="3529080"/>
            <a:ext cx="77612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1160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21240" y="6245280"/>
            <a:ext cx="2884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310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43107C-2E97-426C-86E8-44FEC9094E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6280" y="3068640"/>
            <a:ext cx="77724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00ae00"/>
                </a:solidFill>
                <a:latin typeface="Arial"/>
              </a:rPr>
              <a:t>Химико-лесной </a:t>
            </a:r>
            <a:br>
              <a:rPr sz="5700"/>
            </a:br>
            <a:r>
              <a:rPr b="1" lang="ru-RU" sz="5700" spc="-1" strike="noStrike">
                <a:solidFill>
                  <a:srgbClr val="00ae00"/>
                </a:solidFill>
                <a:latin typeface="Arial"/>
              </a:rPr>
              <a:t>комплекс</a:t>
            </a:r>
            <a:endParaRPr b="1" lang="en-US" sz="57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0560" y="5335560"/>
            <a:ext cx="690588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ae2c12"/>
                </a:solidFill>
                <a:latin typeface="Arial"/>
              </a:rPr>
              <a:t>Презентацию подгото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ae2c12"/>
                </a:solidFill>
                <a:latin typeface="Arial"/>
              </a:rPr>
              <a:t>Голованова Ольг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ae2c12"/>
                </a:solidFill>
                <a:latin typeface="Arial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73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34880" y="792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созаготовительная 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"/>
          <p:cNvGrpSpPr/>
          <p:nvPr/>
        </p:nvGrpSpPr>
        <p:grpSpPr>
          <a:xfrm>
            <a:off x="179280" y="3419640"/>
            <a:ext cx="3954600" cy="3235320"/>
            <a:chOff x="179280" y="3419640"/>
            <a:chExt cx="3954600" cy="3235320"/>
          </a:xfrm>
        </p:grpSpPr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3419640"/>
              <a:ext cx="395460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"/>
            <p:cNvSpPr/>
            <p:nvPr/>
          </p:nvSpPr>
          <p:spPr>
            <a:xfrm>
              <a:off x="179280" y="3419640"/>
              <a:ext cx="39546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5"/>
          <p:cNvGrpSpPr/>
          <p:nvPr/>
        </p:nvGrpSpPr>
        <p:grpSpPr>
          <a:xfrm>
            <a:off x="4214880" y="3419640"/>
            <a:ext cx="4600440" cy="3235320"/>
            <a:chOff x="4214880" y="3419640"/>
            <a:chExt cx="4600440" cy="323532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4214880" y="3419640"/>
              <a:ext cx="460044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4214880" y="3419640"/>
              <a:ext cx="460044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8"/>
          <p:cNvSpPr/>
          <p:nvPr/>
        </p:nvSpPr>
        <p:spPr>
          <a:xfrm>
            <a:off x="900000" y="1800360"/>
            <a:ext cx="7380360" cy="143964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Череповец, Котлас, Балахн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нисейск, Лесосибирск, Якутск, Комсомольск-на-Амур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317600" y="3095640"/>
            <a:ext cx="60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34880" y="0"/>
            <a:ext cx="838512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ревообрабатывающая 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1523880" y="1854360"/>
            <a:ext cx="6699240" cy="4241520"/>
            <a:chOff x="1523880" y="1854360"/>
            <a:chExt cx="6699240" cy="4241520"/>
          </a:xfrm>
        </p:grpSpPr>
        <p:sp>
          <p:nvSpPr>
            <p:cNvPr id="180" name="Text Box 3"/>
            <p:cNvSpPr/>
            <p:nvPr/>
          </p:nvSpPr>
          <p:spPr>
            <a:xfrm>
              <a:off x="1523880" y="1854360"/>
              <a:ext cx="6699240" cy="42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87440" y="3780000"/>
            <a:ext cx="401328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4680000" y="3759120"/>
            <a:ext cx="3959280" cy="25416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900000" y="1979640"/>
            <a:ext cx="7380360" cy="14400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Салехард, Нарьян-Мар, Игарк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сноярск, Лесосибирск, Владивос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12240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сохимиче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ра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1541520" y="3240000"/>
            <a:ext cx="6014880" cy="3436920"/>
            <a:chOff x="1541520" y="3240000"/>
            <a:chExt cx="6014880" cy="3436920"/>
          </a:xfrm>
        </p:grpSpPr>
        <p:pic>
          <p:nvPicPr>
            <p:cNvPr id="186" name="Picture 3" descr=""/>
            <p:cNvPicPr/>
            <p:nvPr/>
          </p:nvPicPr>
          <p:blipFill>
            <a:blip r:embed="rId1"/>
            <a:stretch/>
          </p:blipFill>
          <p:spPr>
            <a:xfrm>
              <a:off x="1541520" y="3240000"/>
              <a:ext cx="601488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4"/>
            <p:cNvSpPr/>
            <p:nvPr/>
          </p:nvSpPr>
          <p:spPr>
            <a:xfrm>
              <a:off x="1541520" y="3240000"/>
              <a:ext cx="6014880" cy="34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AutoShape 5"/>
          <p:cNvSpPr/>
          <p:nvPr/>
        </p:nvSpPr>
        <p:spPr>
          <a:xfrm>
            <a:off x="949320" y="1654200"/>
            <a:ext cx="7380360" cy="14400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0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ангельск, Кондопога, Волгоград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сноярск, Лесособирск, Братск, Усть-Илимс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роблемы отрасл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5800" y="16002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 Неполное использование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 Истощение лесов, прилегающих к железным дорогам и судоходным ре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- Сброс в водоемы жидких отходов целлюлозно-бумажн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ути решения проблем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80996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Лесовосстановительные работы (лесопосад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 Очистные сооружения на ЦБ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- Сплав леса в плотах, или транспортировка автомобильным или железнодорожным тран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оздание ЛПК (позволит использовать отх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128520"/>
            <a:ext cx="8362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cc99"/>
                </a:solidFill>
                <a:latin typeface="Arial"/>
              </a:rPr>
              <a:t>Лес — это не только ресурсы:</a:t>
            </a:r>
            <a:br>
              <a:rPr sz="4200"/>
            </a:br>
            <a:r>
              <a:rPr b="1" lang="ru-RU" sz="4200" spc="-1" strike="noStrike">
                <a:solidFill>
                  <a:srgbClr val="ffcc99"/>
                </a:solidFill>
                <a:latin typeface="Arial"/>
              </a:rPr>
              <a:t>лес — это до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31840" y="3774960"/>
            <a:ext cx="2827440" cy="198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240000" y="1979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300720" y="1619280"/>
            <a:ext cx="2648160" cy="1985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6300720" y="3780000"/>
            <a:ext cx="2700360" cy="1965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3240000" y="4494240"/>
            <a:ext cx="2879640" cy="1985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6"/>
          <a:stretch/>
        </p:blipFill>
        <p:spPr>
          <a:xfrm>
            <a:off x="231840" y="1614600"/>
            <a:ext cx="2827440" cy="19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7600" y="432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Химическая промышленность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40000" y="1123920"/>
            <a:ext cx="46796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имеет широкую сырьев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не знает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создает материалы с заранее зада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/п обладает минимальной трудоемк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ителями продукции химической промышленности являются все отрасли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3120" y="1800360"/>
            <a:ext cx="329580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жотраслевые связ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3780000" y="1619280"/>
            <a:ext cx="539640" cy="504036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040360"/>
              <a:gd name="textAreaBottom" fmla="*/ 5040000 h 5040360"/>
            </a:gdLst>
            <a:ahLst/>
            <a:rect l="textAreaLeft" t="textAreaTop" r="textAreaRight" b="textAreaBottom"/>
            <a:pathLst>
              <a:path w="21600" h="201629">
                <a:moveTo>
                  <a:pt x="63" y="0"/>
                </a:moveTo>
                <a:arcTo wR="63" hR="63" stAng="16200000" swAng="-5400000"/>
                <a:lnTo>
                  <a:pt x="0" y="201566"/>
                </a:lnTo>
                <a:arcTo wR="63" hR="63" stAng="10800000" swAng="-5400000"/>
                <a:lnTo>
                  <a:pt x="21537" y="201629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808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179280" y="161928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79280" y="270036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179280" y="378000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79280" y="485928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79280" y="5940360"/>
            <a:ext cx="3060720" cy="720720"/>
          </a:xfrm>
          <a:prstGeom prst="roundRect">
            <a:avLst>
              <a:gd name="adj" fmla="val 218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3600360" y="1979640"/>
            <a:ext cx="1800" cy="43196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3240000" y="197964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240000" y="306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240000" y="414036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3240000" y="521964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240000" y="630072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600360" y="4140360"/>
            <a:ext cx="17964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859280" y="161928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ильн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4859280" y="216072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859280" y="287964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4859280" y="360036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4859280" y="431964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859280" y="504036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4859280" y="575928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и цветная 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4859280" y="6300720"/>
            <a:ext cx="4140360" cy="360360"/>
          </a:xfrm>
          <a:prstGeom prst="roundRect">
            <a:avLst>
              <a:gd name="adj" fmla="val 440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люлозно-бумажная п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500720" y="1800360"/>
            <a:ext cx="1440" cy="46796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4500720" y="180036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4500720" y="234000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4500720" y="306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4500720" y="378000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4500720" y="4500720"/>
            <a:ext cx="36036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4500720" y="521964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4500720" y="594036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4500720" y="6480000"/>
            <a:ext cx="360360" cy="180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4319640" y="4140360"/>
            <a:ext cx="179280" cy="1440"/>
          </a:xfrm>
          <a:prstGeom prst="line">
            <a:avLst/>
          </a:prstGeom>
          <a:ln cap="sq"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96880" y="1755360"/>
            <a:ext cx="82231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- Северо-Европей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- Цент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- Урало-Поволж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- Сибир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базы ХЛ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900000" y="107964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5759280" y="107964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сн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 flipH="1">
            <a:off x="2328480" y="539640"/>
            <a:ext cx="146196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340000" y="539640"/>
            <a:ext cx="1440" cy="54000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780000" y="179280"/>
            <a:ext cx="1618920" cy="900360"/>
          </a:xfrm>
          <a:prstGeom prst="roundRect">
            <a:avLst>
              <a:gd name="adj" fmla="val 218"/>
            </a:avLst>
          </a:prstGeom>
          <a:solidFill>
            <a:srgbClr val="00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ХЛ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5390640" y="539640"/>
            <a:ext cx="12798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539640"/>
            <a:ext cx="1440" cy="54000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79280" y="1979640"/>
            <a:ext cx="144000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рно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79280" y="431964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ло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879640" y="1979640"/>
            <a:ext cx="197964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алотоннажная хим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879640" y="2700360"/>
            <a:ext cx="162108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. синтез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559640" y="1979640"/>
            <a:ext cx="14400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5580000" y="1979640"/>
            <a:ext cx="14400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859280" y="305928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-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6478560" y="3060720"/>
            <a:ext cx="180180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ая об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179280" y="3600360"/>
            <a:ext cx="1260720" cy="54000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ин. удобре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1800360" y="4319640"/>
            <a:ext cx="107928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360360" y="2700360"/>
            <a:ext cx="1440000" cy="71928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1800360" y="3600360"/>
            <a:ext cx="1079280" cy="54000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H="1">
            <a:off x="528120" y="1619280"/>
            <a:ext cx="38268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539640" y="1619280"/>
            <a:ext cx="180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H="1">
            <a:off x="3587400" y="1619280"/>
            <a:ext cx="38268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959280" y="1619280"/>
            <a:ext cx="144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2160720" y="1800360"/>
            <a:ext cx="144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2519280" y="1800360"/>
            <a:ext cx="180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1790280" y="3060720"/>
            <a:ext cx="381240" cy="14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539640" y="1619280"/>
            <a:ext cx="1800" cy="36036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519280" y="3060720"/>
            <a:ext cx="360360" cy="14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1619280" y="3419640"/>
            <a:ext cx="144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428840" y="3959280"/>
            <a:ext cx="3823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H="1">
            <a:off x="1428840" y="4680000"/>
            <a:ext cx="3823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 flipH="1">
            <a:off x="5388120" y="23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H="1">
            <a:off x="7010280" y="2340000"/>
            <a:ext cx="19872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5397480" y="2340000"/>
            <a:ext cx="144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7199280" y="2340000"/>
            <a:ext cx="180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3240000" y="485928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мол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3240000" y="341964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учу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3240000" y="4140360"/>
            <a:ext cx="1260720" cy="539640"/>
          </a:xfrm>
          <a:prstGeom prst="roundRect">
            <a:avLst>
              <a:gd name="adj" fmla="val 292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интетич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локн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060720" y="3240000"/>
            <a:ext cx="1440" cy="19796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0"/>
          <p:cNvSpPr/>
          <p:nvPr/>
        </p:nvSpPr>
        <p:spPr>
          <a:xfrm flipH="1">
            <a:off x="3049560" y="378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41"/>
          <p:cNvSpPr/>
          <p:nvPr/>
        </p:nvSpPr>
        <p:spPr>
          <a:xfrm flipH="1">
            <a:off x="3049560" y="450072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 flipH="1">
            <a:off x="3049560" y="5219640"/>
            <a:ext cx="2016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5219640" y="3780000"/>
            <a:ext cx="1800" cy="72072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4"/>
          <p:cNvSpPr/>
          <p:nvPr/>
        </p:nvSpPr>
        <p:spPr>
          <a:xfrm>
            <a:off x="4678200" y="3780000"/>
            <a:ext cx="1800" cy="126036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5"/>
          <p:cNvSpPr/>
          <p:nvPr/>
        </p:nvSpPr>
        <p:spPr>
          <a:xfrm flipH="1">
            <a:off x="4490640" y="4500720"/>
            <a:ext cx="7398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6"/>
          <p:cNvSpPr/>
          <p:nvPr/>
        </p:nvSpPr>
        <p:spPr>
          <a:xfrm flipH="1">
            <a:off x="4487760" y="378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47"/>
          <p:cNvSpPr/>
          <p:nvPr/>
        </p:nvSpPr>
        <p:spPr>
          <a:xfrm flipH="1">
            <a:off x="4487760" y="5038560"/>
            <a:ext cx="201600" cy="180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5219640" y="2340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sq"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9"/>
          <p:cNvSpPr/>
          <p:nvPr/>
        </p:nvSpPr>
        <p:spPr>
          <a:xfrm flipH="1">
            <a:off x="5568840" y="14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 flipH="1">
            <a:off x="8450280" y="1440000"/>
            <a:ext cx="201600" cy="1440"/>
          </a:xfrm>
          <a:prstGeom prst="line">
            <a:avLst/>
          </a:prstGeom>
          <a:ln cap="sq"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51"/>
          <p:cNvSpPr/>
          <p:nvPr/>
        </p:nvSpPr>
        <p:spPr>
          <a:xfrm>
            <a:off x="5580000" y="1440000"/>
            <a:ext cx="1800" cy="5396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2"/>
          <p:cNvSpPr/>
          <p:nvPr/>
        </p:nvSpPr>
        <p:spPr>
          <a:xfrm>
            <a:off x="8640720" y="1440000"/>
            <a:ext cx="1800" cy="539640"/>
          </a:xfrm>
          <a:prstGeom prst="line">
            <a:avLst/>
          </a:prstGeom>
          <a:ln cap="sq" w="36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3"/>
          <p:cNvSpPr/>
          <p:nvPr/>
        </p:nvSpPr>
        <p:spPr>
          <a:xfrm>
            <a:off x="360360" y="5580000"/>
            <a:ext cx="8280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еография ХЛК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60360" y="1600200"/>
          <a:ext cx="8642520" cy="505152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382840"/>
                <a:gridCol w="1941840"/>
              </a:tblGrid>
              <a:tr h="75600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о-Европей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о-Поволж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бир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заготов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обработ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 gridSpan="4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инеральных удобр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12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-Б пром-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2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-Б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gridSpan="3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олиме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3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работка полиме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хим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  <a:tr h="47340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gridSpan="2"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органического синтез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507960">
                <a:tc>
                  <a:txBody>
                    <a:bodyPr lIns="90000" rIns="90000" tIns="1648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хим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хим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95280" y="0"/>
            <a:ext cx="953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акторы размещения важнейших производств ХЛК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76200" y="2039760"/>
          <a:ext cx="8543880" cy="4503960"/>
        </p:xfrm>
        <a:graphic>
          <a:graphicData uri="http://schemas.openxmlformats.org/drawingml/2006/table">
            <a:tbl>
              <a:tblPr/>
              <a:tblGrid>
                <a:gridCol w="2705040"/>
                <a:gridCol w="2732040"/>
                <a:gridCol w="3106800"/>
              </a:tblGrid>
              <a:tr h="660600">
                <a:tc gridSpan="3"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готение к района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160"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и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еспеченным сырьем, водными ресурсами и дешевой электроэнерг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2335320"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серной кислоты,  азотных, фосфорных удобрений, изделий из пластмасс, меб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калийных удобрений, лесозаготовка, лесопиление, производство фан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дство пластмасс, полимеров, химических волокон, целлюлозы, бумаги, карт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  <a:tr h="569880">
                <a:tc gridSpan="3"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фа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7600" y="432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Центры химической промышленност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360" y="1937880"/>
            <a:ext cx="86407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Горно-химическая отрасль+отрасли, поставляющие сы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ровск, Брянск, Челябинск, Новокузнецк, Ачинск, Анга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Основная 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кт-Петербург, Брянск, Тольятти, Соликамск, Березники, Пермь, Нижний Тагил, Оре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Химия органического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ославль, Москва, Волгоград, Тверь, Красноя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32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Лесная </a:t>
            </a:r>
            <a:br>
              <a:rPr sz="4400"/>
            </a:b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промышленность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865760" y="3780000"/>
            <a:ext cx="3773520" cy="2700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752480" y="1749600"/>
            <a:ext cx="58676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442520"/>
            <a:ext cx="809964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Леса России занимают </a:t>
            </a: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45%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ее террит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всех лесов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Лесные площади в России состав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3366"/>
                </a:solidFill>
                <a:latin typeface="Arial"/>
              </a:rPr>
              <a:t>766 млн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22360" y="3780000"/>
            <a:ext cx="39765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3961080" cy="450036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3"/>
          <p:cNvGrpSpPr/>
          <p:nvPr/>
        </p:nvGrpSpPr>
        <p:grpSpPr>
          <a:xfrm>
            <a:off x="4352760" y="1619280"/>
            <a:ext cx="4462560" cy="4675320"/>
            <a:chOff x="4352760" y="1619280"/>
            <a:chExt cx="4462560" cy="4675320"/>
          </a:xfrm>
        </p:grpSpPr>
        <p:pic>
          <p:nvPicPr>
            <p:cNvPr id="147" name="Picture 4" descr=""/>
            <p:cNvPicPr/>
            <p:nvPr/>
          </p:nvPicPr>
          <p:blipFill>
            <a:blip r:embed="rId2"/>
            <a:stretch/>
          </p:blipFill>
          <p:spPr>
            <a:xfrm>
              <a:off x="4352760" y="1619280"/>
              <a:ext cx="44625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5"/>
            <p:cNvSpPr/>
            <p:nvPr/>
          </p:nvSpPr>
          <p:spPr>
            <a:xfrm>
              <a:off x="4352760" y="1619280"/>
              <a:ext cx="4462560" cy="46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480" y="-31680"/>
            <a:ext cx="7643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Страны, богатые </a:t>
            </a:r>
            <a:br>
              <a:rPr sz="4400"/>
            </a:b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лесными ресурсам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800360"/>
            <a:ext cx="88203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Канада, СШ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ён, секвойя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Бразил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ейба, паль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Финляндия, Швеция, Норве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лен, сос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66"/>
                </a:solidFill>
                <a:latin typeface="Arial"/>
              </a:rPr>
              <a:t>Кон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ейба, ли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44440"/>
            <a:ext cx="8385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</a:rPr>
              <a:t>Основные древесные породы в составе лесов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431640" y="1727280"/>
            <a:ext cx="8382240" cy="4565520"/>
            <a:chOff x="431640" y="1727280"/>
            <a:chExt cx="8382240" cy="456552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431640" y="1727280"/>
              <a:ext cx="838224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"/>
            <p:cNvSpPr/>
            <p:nvPr/>
          </p:nvSpPr>
          <p:spPr>
            <a:xfrm>
              <a:off x="431640" y="1727280"/>
              <a:ext cx="8382240" cy="45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-179280"/>
            <a:ext cx="9144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 характеру использования все леса подразделяют на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79280" y="1619280"/>
            <a:ext cx="8666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, имеющие природоохранное значение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 , выполняющие защитные функции, но в ограниченной мере эксплуатируемые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еса, преимущественно эксплатуационного назначения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360360" y="2519280"/>
            <a:ext cx="2647800" cy="117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3292560" y="2519280"/>
            <a:ext cx="2647800" cy="1173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6172200" y="2519280"/>
            <a:ext cx="2647800" cy="1173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119640" y="3706920"/>
            <a:ext cx="2648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с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92560" y="3706920"/>
            <a:ext cx="264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2560" y="3780000"/>
            <a:ext cx="3006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39640" y="1619280"/>
            <a:ext cx="234000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3419640" y="1619280"/>
            <a:ext cx="233964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й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6300720" y="1619280"/>
            <a:ext cx="2340000" cy="720720"/>
          </a:xfrm>
          <a:prstGeom prst="ellipse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жотраслевые связи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60360" y="1600200"/>
          <a:ext cx="8224920" cy="4025880"/>
        </p:xfrm>
        <a:graphic>
          <a:graphicData uri="http://schemas.openxmlformats.org/drawingml/2006/table">
            <a:tbl>
              <a:tblPr/>
              <a:tblGrid>
                <a:gridCol w="3898800"/>
                <a:gridCol w="4326120"/>
              </a:tblGrid>
              <a:tr h="804960">
                <a:tc>
                  <a:txBody>
                    <a:bodyPr lIns="90000" rIns="90000" tIns="1648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продук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ой промыш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олучает лесная 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других отрас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3220920">
                <a:tc>
                  <a:txBody>
                    <a:bodyPr lIns="90000" rIns="90000" tIns="1548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остроени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90000" rIns="90000" tIns="1353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, краски (для мебел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у, натрий, отбеливающие химика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изводство бумаг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шины, трактора, станк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готовка и обработка древесины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deb3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53:47Z</dcterms:created>
  <dc:creator>Ольга Голованова</dc:creator>
  <dc:description/>
  <dc:language>en-US</dc:language>
  <cp:lastModifiedBy>User</cp:lastModifiedBy>
  <cp:lastPrinted>2016-05-03T17:51:45Z</cp:lastPrinted>
  <dcterms:modified xsi:type="dcterms:W3CDTF">2021-06-12T19:51:11Z</dcterms:modified>
  <cp:revision>4</cp:revision>
  <dc:subject/>
  <dc:title>Слайд 1</dc:title>
</cp:coreProperties>
</file>