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CE6A-E273-4115-A436-53EF0271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FD0D-B085-4A02-A3BF-D847077D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B6BE-81DE-468A-BFF8-E4655797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E528-6532-4A73-A8AD-821BB622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69AD-8C1A-4EC6-8EBA-C01846C0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FC20-19BE-4F89-A89A-2987BED6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2194-4D7D-4087-9114-0BD76CF9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F1C7-DF6F-46FA-A1D2-0D8BBA56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B119-3683-4D4C-8B0C-D2052ED0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C548-DA23-456A-9A61-EB24ACBA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F33A-C8F7-44CA-9CEA-47BF6CFF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21FB-65A5-4516-A17C-69BB765C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1E7A-86BE-4772-8DDA-9E99E70657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20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Monotype Corsiva"/>
              </a:rPr>
              <a:t>День родного язы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2" descr="солнышко.jpg"/>
          <p:cNvPicPr/>
          <p:nvPr/>
        </p:nvPicPr>
        <p:blipFill>
          <a:blip r:embed="rId1"/>
          <a:stretch/>
        </p:blipFill>
        <p:spPr>
          <a:xfrm>
            <a:off x="10717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1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43040" y="274320"/>
            <a:ext cx="7043760" cy="458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разных странах мира люди сегодня говорят на 6000 языка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ноябре 1999 года н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0-й Генеральной конференции ЮНЕСКО был провозглашен  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дународный день родного языка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5" descr="сказки.jpg"/>
          <p:cNvPicPr/>
          <p:nvPr/>
        </p:nvPicPr>
        <p:blipFill>
          <a:blip r:embed="rId1"/>
          <a:stretch/>
        </p:blipFill>
        <p:spPr>
          <a:xfrm rot="20500800">
            <a:off x="998640" y="2334960"/>
            <a:ext cx="3141720" cy="413388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3" descr="былины.jpg"/>
          <p:cNvPicPr/>
          <p:nvPr/>
        </p:nvPicPr>
        <p:blipFill>
          <a:blip r:embed="rId2"/>
          <a:stretch/>
        </p:blipFill>
        <p:spPr>
          <a:xfrm>
            <a:off x="1428840" y="357120"/>
            <a:ext cx="4846680" cy="32004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песни.jpg"/>
          <p:cNvPicPr/>
          <p:nvPr/>
        </p:nvPicPr>
        <p:blipFill>
          <a:blip r:embed="rId3"/>
          <a:stretch/>
        </p:blipFill>
        <p:spPr>
          <a:xfrm rot="1014000">
            <a:off x="4997160" y="2282400"/>
            <a:ext cx="343512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Игра «Собери пословицу»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68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 живи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500040" y="1285920"/>
            <a:ext cx="27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труда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2857680" y="1357200"/>
            <a:ext cx="62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ытащишь и рыбку из пр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28760" y="2143080"/>
            <a:ext cx="407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друга – ищ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4357800" y="214308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шёл бере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571680" y="3000240"/>
            <a:ext cx="3571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пешиш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3429000" y="3000240"/>
            <a:ext cx="5357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ей насмешиш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2643120" y="378612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ро од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4"/>
          <p:cNvSpPr/>
          <p:nvPr/>
        </p:nvSpPr>
        <p:spPr>
          <a:xfrm>
            <a:off x="6072120" y="3786120"/>
            <a:ext cx="271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жду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2857680" y="45720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у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6"/>
          <p:cNvSpPr/>
          <p:nvPr/>
        </p:nvSpPr>
        <p:spPr>
          <a:xfrm>
            <a:off x="5572080" y="457200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хе ч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7"/>
          <p:cNvSpPr/>
          <p:nvPr/>
        </p:nvSpPr>
        <p:spPr>
          <a:xfrm>
            <a:off x="2571840" y="54291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 познаю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8"/>
          <p:cNvSpPr/>
          <p:nvPr/>
        </p:nvSpPr>
        <p:spPr>
          <a:xfrm>
            <a:off x="6643800" y="54291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е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9"/>
          <p:cNvSpPr/>
          <p:nvPr/>
        </p:nvSpPr>
        <p:spPr>
          <a:xfrm>
            <a:off x="3071880" y="50004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 учи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7T07:45:22Z</dcterms:created>
  <dc:creator>Пользователь</dc:creator>
  <dc:description/>
  <dc:language>en-US</dc:language>
  <cp:lastModifiedBy>Пользователь</cp:lastModifiedBy>
  <dcterms:modified xsi:type="dcterms:W3CDTF">2019-01-30T01:56:00Z</dcterms:modified>
  <cp:revision>45</cp:revision>
  <dc:subject/>
  <dc:title>День родного языка</dc:title>
</cp:coreProperties>
</file>