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8B3-2C40-4DC3-97DD-F36B9A6E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835-9EFA-4E1C-AF2D-813E8718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30E-006F-4DD1-A689-E9EEF59A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81B-4861-40D0-9A7A-F73460E2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CFB-1A32-44B2-A5BF-56FFD8BE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DD2-5820-4A2F-9D04-A007692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733-9B55-4A22-B44B-1A64820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22B-DA51-4E34-BE60-FE00D29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E80-E288-421D-A48B-DAED31E0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FA0-9E17-4F30-A305-2E9FF62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A42-A2F6-4966-9440-6FD2A37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3A8-7969-4C1D-ACFC-267AC38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653-FE12-4E75-B240-283A1D0AE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День родного язы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солнышко.jpg"/>
          <p:cNvPicPr/>
          <p:nvPr/>
        </p:nvPicPr>
        <p:blipFill>
          <a:blip r:embed="rId1"/>
          <a:stretch/>
        </p:blipFill>
        <p:spPr>
          <a:xfrm>
            <a:off x="1071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азных странах мира люди сегодня говорят на 6000 язы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ноябре 1999 года н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0-й Генеральной конференции ЮНЕСКО был провозглашен  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день родного язы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сказки.jpg"/>
          <p:cNvPicPr/>
          <p:nvPr/>
        </p:nvPicPr>
        <p:blipFill>
          <a:blip r:embed="rId1"/>
          <a:stretch/>
        </p:blipFill>
        <p:spPr>
          <a:xfrm rot="20500800">
            <a:off x="998640" y="2334960"/>
            <a:ext cx="3141720" cy="41338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3" descr="былины.jpg"/>
          <p:cNvPicPr/>
          <p:nvPr/>
        </p:nvPicPr>
        <p:blipFill>
          <a:blip r:embed="rId2"/>
          <a:stretch/>
        </p:blipFill>
        <p:spPr>
          <a:xfrm>
            <a:off x="1428840" y="357120"/>
            <a:ext cx="48466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песни.jpg"/>
          <p:cNvPicPr/>
          <p:nvPr/>
        </p:nvPicPr>
        <p:blipFill>
          <a:blip r:embed="rId3"/>
          <a:stretch/>
        </p:blipFill>
        <p:spPr>
          <a:xfrm rot="1014000">
            <a:off x="4997160" y="228240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гра «Собери пословицу»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8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жив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00040" y="12859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857680" y="135720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тащишь и рыбку из п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28760" y="214308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руга – ищ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357800" y="21430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шёл 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71680" y="3000240"/>
            <a:ext cx="357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ш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429000" y="300024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насмеш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643120" y="3786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ро од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6072120" y="3786120"/>
            <a:ext cx="27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д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857680" y="45720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5572080" y="45720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хе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2571840" y="5429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позн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643800" y="54291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3071880" y="5000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уч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07:45:22Z</dcterms:created>
  <dc:creator>Пользователь</dc:creator>
  <dc:description/>
  <dc:language>en-US</dc:language>
  <cp:lastModifiedBy>Пользователь</cp:lastModifiedBy>
  <dcterms:modified xsi:type="dcterms:W3CDTF">2019-01-30T01:56:00Z</dcterms:modified>
  <cp:revision>45</cp:revision>
  <dc:subject/>
  <dc:title>День родного языка</dc:title>
</cp:coreProperties>
</file>