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68C16-EB22-4260-A523-6AC945A735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8B89E-E90B-4A1E-872C-4BCFB394D1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C554-6748-4B2C-BF18-E528F4C9FA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68422-55F4-4C68-BB22-AA6CE7E235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2F058-3C78-4312-99C7-3289D97C12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03FE9-9E94-4EC4-8B50-B48260E538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395C8-F9F1-413B-ACC7-5E94BDC606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C04D5-6458-414A-A4C1-30434F1E83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1CDB9-907B-447E-9E4A-2CDD2ECFF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FD8CF-635C-4CF2-83E2-C131BF5A47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36496-BF87-4268-867E-4111A6EFEB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75DE-C4A3-49D7-BB26-030E519344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68C22-C5F0-4133-805B-B94902A20C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08850-447E-4C64-A483-AC010A383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57806-A5DA-45A2-A425-099C47CDD5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DABB6-66C0-410D-898A-F7EEF1C3E4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C2FA1-35EC-4824-877D-6A09F887DF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056840"/>
            <a:ext cx="9069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05684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05684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056840"/>
            <a:ext cx="9069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079640" y="466560"/>
            <a:ext cx="864072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БДОУ «Детский сад № 2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07209"/>
                </a:solidFill>
                <a:latin typeface="Times New Roman"/>
                <a:ea typeface="Microsoft YaHei"/>
              </a:rPr>
              <a:t>«Создаём для детей летние игры на асфальт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резентация для воспит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дготовила: инструктор по физической культуре Маврова Е. 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3311640" y="2700360"/>
            <a:ext cx="394308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792000" y="792000"/>
            <a:ext cx="84963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2951280" y="1577880"/>
            <a:ext cx="3673440" cy="2468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flipH="1">
            <a:off x="1209600" y="395280"/>
            <a:ext cx="78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ладшие и средние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орожки «Змей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16" descr=""/>
          <p:cNvPicPr/>
          <p:nvPr/>
        </p:nvPicPr>
        <p:blipFill>
          <a:blip r:embed="rId2"/>
          <a:stretch/>
        </p:blipFill>
        <p:spPr>
          <a:xfrm>
            <a:off x="1584360" y="4473720"/>
            <a:ext cx="307800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5688000" y="4519440"/>
            <a:ext cx="31924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63640" y="163440"/>
            <a:ext cx="83487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65440" y="466560"/>
            <a:ext cx="78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Microsoft YaHei"/>
              </a:rPr>
              <a:t>Средние и старшие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Microsoft YaHei"/>
              </a:rPr>
              <a:t>«Дорожки с цифрами, фигурам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1255680" y="1847880"/>
            <a:ext cx="3835440" cy="2504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519880" y="4632480"/>
            <a:ext cx="4270320" cy="2574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1281240" y="4654440"/>
            <a:ext cx="3835440" cy="2552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4"/>
          <a:stretch/>
        </p:blipFill>
        <p:spPr>
          <a:xfrm>
            <a:off x="5530680" y="1809720"/>
            <a:ext cx="383544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6013440" y="792000"/>
            <a:ext cx="30225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5040360" y="1338120"/>
            <a:ext cx="4392720" cy="3102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1008000" y="39528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Солнышко»                              «Сбей кегл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3"/>
          <a:stretch/>
        </p:blipFill>
        <p:spPr>
          <a:xfrm>
            <a:off x="2195640" y="4870440"/>
            <a:ext cx="4233600" cy="2376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128000" y="4788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6624720" y="56340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Весёлые мяч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936720" y="53964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таршие и подготовительные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Класс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6408720" y="1362240"/>
            <a:ext cx="2236680" cy="2984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2"/>
          <a:stretch/>
        </p:blipFill>
        <p:spPr>
          <a:xfrm>
            <a:off x="3197160" y="4317840"/>
            <a:ext cx="3935520" cy="327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3"/>
          <a:stretch/>
        </p:blipFill>
        <p:spPr>
          <a:xfrm>
            <a:off x="1765440" y="1587600"/>
            <a:ext cx="339876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527280" y="5396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Класс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804960" y="1206360"/>
            <a:ext cx="3695760" cy="2772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5327640" y="1117440"/>
            <a:ext cx="3813120" cy="2860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"/>
          <p:cNvPicPr/>
          <p:nvPr/>
        </p:nvPicPr>
        <p:blipFill>
          <a:blip r:embed="rId3"/>
          <a:stretch/>
        </p:blipFill>
        <p:spPr>
          <a:xfrm>
            <a:off x="3435480" y="426096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527280" y="5396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Лабиринт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534960" y="1332000"/>
            <a:ext cx="410832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2"/>
          <a:stretch/>
        </p:blipFill>
        <p:spPr>
          <a:xfrm>
            <a:off x="5238720" y="1360440"/>
            <a:ext cx="4227480" cy="2706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"/>
          <p:cNvPicPr/>
          <p:nvPr/>
        </p:nvPicPr>
        <p:blipFill>
          <a:blip r:embed="rId3"/>
          <a:stretch/>
        </p:blipFill>
        <p:spPr>
          <a:xfrm>
            <a:off x="3110040" y="4365720"/>
            <a:ext cx="42289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527280" y="5396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оч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657360" y="1243080"/>
            <a:ext cx="4383000" cy="2922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"/>
          <p:cNvPicPr/>
          <p:nvPr/>
        </p:nvPicPr>
        <p:blipFill>
          <a:blip r:embed="rId2"/>
          <a:stretch/>
        </p:blipFill>
        <p:spPr>
          <a:xfrm>
            <a:off x="658800" y="4583160"/>
            <a:ext cx="4381560" cy="24606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"/>
          <p:cNvPicPr/>
          <p:nvPr/>
        </p:nvPicPr>
        <p:blipFill>
          <a:blip r:embed="rId3"/>
          <a:stretch/>
        </p:blipFill>
        <p:spPr>
          <a:xfrm>
            <a:off x="5400720" y="4654440"/>
            <a:ext cx="4381560" cy="2451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4"/>
          <a:stretch/>
        </p:blipFill>
        <p:spPr>
          <a:xfrm>
            <a:off x="5510160" y="1308240"/>
            <a:ext cx="39560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576360" y="752400"/>
            <a:ext cx="4962600" cy="6419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5761080" y="752400"/>
            <a:ext cx="4064040" cy="2689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3"/>
          <a:stretch/>
        </p:blipFill>
        <p:spPr>
          <a:xfrm>
            <a:off x="5761080" y="4452840"/>
            <a:ext cx="40352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2T08:30:13Z</dcterms:created>
  <dc:creator/>
  <dc:description/>
  <dc:language>en-US</dc:language>
  <cp:lastModifiedBy>user</cp:lastModifiedBy>
  <dcterms:modified xsi:type="dcterms:W3CDTF">2021-06-13T09:24:38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