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67277-75F0-45AF-9E5E-EFFA46ED9C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5C0AC-ABAA-4B4D-AD97-16CC768675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C74B4-7562-4281-9E41-53CDC73D2E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E77AD-32B6-4894-B9E1-25BF15C2F4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E4092-96AF-4829-BE97-4C75B7882B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FF99A-02A4-4B28-BEF9-E70A6D8B5E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CDD3E-AD08-448D-B1BF-705D1C6842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9A329-C34E-4421-8DF7-654A1BD1DA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84D49-FB37-4E81-99A1-C8D0AEA82D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672A4-B85D-4C36-BCBB-3904E4FB5C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9F1FD-E08A-45FF-B78F-2B4CD6AB6B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E8507-0A60-4BD7-A801-40E3B068AA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1A7CB-83A9-43B3-A45A-11098F59F3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C074F-8899-4359-B2A9-48B5771436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E05A1-BBD4-4A4A-A015-C57C7C13F2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4A36F-EA8E-40A9-AB5D-77CCD2816F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C7BB9-D82E-46FF-A282-E4AC349435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056840"/>
            <a:ext cx="9069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05684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05684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056840"/>
            <a:ext cx="29199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9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5520" y="4056840"/>
            <a:ext cx="29199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4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05684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05684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056840"/>
            <a:ext cx="9069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1079640" y="466560"/>
            <a:ext cx="864072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БДОУ «Детский сад № 2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07209"/>
                </a:solidFill>
                <a:latin typeface="Times New Roman"/>
                <a:ea typeface="Microsoft YaHei"/>
              </a:rPr>
              <a:t>«Создаём для детей летние игры на асфальт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Презентация для воспита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дготовила: инструктор по физической культуре Маврова Е. 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3311640" y="2700360"/>
            <a:ext cx="394308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792000" y="792000"/>
            <a:ext cx="84963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2951280" y="1577880"/>
            <a:ext cx="3673440" cy="2468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flipH="1">
            <a:off x="1209600" y="395280"/>
            <a:ext cx="78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ладшие и средние груп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орожки «Змей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Рисунок 16" descr=""/>
          <p:cNvPicPr/>
          <p:nvPr/>
        </p:nvPicPr>
        <p:blipFill>
          <a:blip r:embed="rId2"/>
          <a:stretch/>
        </p:blipFill>
        <p:spPr>
          <a:xfrm>
            <a:off x="1584360" y="4473720"/>
            <a:ext cx="3078000" cy="2369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tretch/>
        </p:blipFill>
        <p:spPr>
          <a:xfrm>
            <a:off x="5688000" y="4519440"/>
            <a:ext cx="319248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863640" y="163440"/>
            <a:ext cx="83487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765440" y="466560"/>
            <a:ext cx="785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Microsoft YaHei"/>
              </a:rPr>
              <a:t>Средние и старшие груп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Microsoft YaHei"/>
              </a:rPr>
              <a:t>«Дорожки с цифрами, фигурам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1255680" y="1847880"/>
            <a:ext cx="3835440" cy="2504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5519880" y="4632480"/>
            <a:ext cx="4270320" cy="2574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1281240" y="4654440"/>
            <a:ext cx="3835440" cy="2552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4"/>
          <a:stretch/>
        </p:blipFill>
        <p:spPr>
          <a:xfrm>
            <a:off x="5530680" y="1809720"/>
            <a:ext cx="383544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6013440" y="792000"/>
            <a:ext cx="302256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5040360" y="1338120"/>
            <a:ext cx="4392720" cy="3102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1008000" y="395280"/>
            <a:ext cx="81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Солнышко»                              «Сбей кеглю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3"/>
          <a:stretch/>
        </p:blipFill>
        <p:spPr>
          <a:xfrm>
            <a:off x="2195640" y="4870440"/>
            <a:ext cx="4233600" cy="2376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7128000" y="47880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6624720" y="56340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Весёлые мяч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765440" y="395280"/>
            <a:ext cx="6589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936720" y="53964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таршие и подготовительные груп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Класси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Рисунок 4" descr=""/>
          <p:cNvPicPr/>
          <p:nvPr/>
        </p:nvPicPr>
        <p:blipFill>
          <a:blip r:embed="rId1"/>
          <a:stretch/>
        </p:blipFill>
        <p:spPr>
          <a:xfrm>
            <a:off x="6408720" y="1362240"/>
            <a:ext cx="2236680" cy="29844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"/>
          <p:cNvPicPr/>
          <p:nvPr/>
        </p:nvPicPr>
        <p:blipFill>
          <a:blip r:embed="rId2"/>
          <a:stretch/>
        </p:blipFill>
        <p:spPr>
          <a:xfrm>
            <a:off x="3197160" y="4317840"/>
            <a:ext cx="3935520" cy="3278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3"/>
          <a:stretch/>
        </p:blipFill>
        <p:spPr>
          <a:xfrm>
            <a:off x="1765440" y="1587600"/>
            <a:ext cx="339876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765440" y="395280"/>
            <a:ext cx="6589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3527280" y="539640"/>
            <a:ext cx="34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Класси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1"/>
          <a:stretch/>
        </p:blipFill>
        <p:spPr>
          <a:xfrm>
            <a:off x="804960" y="1206360"/>
            <a:ext cx="3695760" cy="2772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"/>
          <p:cNvPicPr/>
          <p:nvPr/>
        </p:nvPicPr>
        <p:blipFill>
          <a:blip r:embed="rId2"/>
          <a:stretch/>
        </p:blipFill>
        <p:spPr>
          <a:xfrm>
            <a:off x="5327640" y="1117440"/>
            <a:ext cx="3813120" cy="2860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3" descr=""/>
          <p:cNvPicPr/>
          <p:nvPr/>
        </p:nvPicPr>
        <p:blipFill>
          <a:blip r:embed="rId3"/>
          <a:stretch/>
        </p:blipFill>
        <p:spPr>
          <a:xfrm>
            <a:off x="3435480" y="426096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765440" y="395280"/>
            <a:ext cx="6589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3527280" y="539640"/>
            <a:ext cx="34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Лабиринт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Рисунок 2" descr=""/>
          <p:cNvPicPr/>
          <p:nvPr/>
        </p:nvPicPr>
        <p:blipFill>
          <a:blip r:embed="rId1"/>
          <a:stretch/>
        </p:blipFill>
        <p:spPr>
          <a:xfrm>
            <a:off x="534960" y="1332000"/>
            <a:ext cx="4108320" cy="27352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2"/>
          <a:stretch/>
        </p:blipFill>
        <p:spPr>
          <a:xfrm>
            <a:off x="5238720" y="1360440"/>
            <a:ext cx="4227480" cy="27068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"/>
          <p:cNvPicPr/>
          <p:nvPr/>
        </p:nvPicPr>
        <p:blipFill>
          <a:blip r:embed="rId3"/>
          <a:stretch/>
        </p:blipFill>
        <p:spPr>
          <a:xfrm>
            <a:off x="3110040" y="4365720"/>
            <a:ext cx="422892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765440" y="395280"/>
            <a:ext cx="6589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765440" y="1768320"/>
            <a:ext cx="65894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527280" y="539640"/>
            <a:ext cx="34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очи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657360" y="1243080"/>
            <a:ext cx="4383000" cy="2922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"/>
          <p:cNvPicPr/>
          <p:nvPr/>
        </p:nvPicPr>
        <p:blipFill>
          <a:blip r:embed="rId2"/>
          <a:stretch/>
        </p:blipFill>
        <p:spPr>
          <a:xfrm>
            <a:off x="658800" y="4583160"/>
            <a:ext cx="4381560" cy="24606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1" descr=""/>
          <p:cNvPicPr/>
          <p:nvPr/>
        </p:nvPicPr>
        <p:blipFill>
          <a:blip r:embed="rId3"/>
          <a:stretch/>
        </p:blipFill>
        <p:spPr>
          <a:xfrm>
            <a:off x="5400720" y="4654440"/>
            <a:ext cx="4381560" cy="2451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4"/>
          <a:stretch/>
        </p:blipFill>
        <p:spPr>
          <a:xfrm>
            <a:off x="5510160" y="1308240"/>
            <a:ext cx="39560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576360" y="752400"/>
            <a:ext cx="4962600" cy="6419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"/>
          <p:cNvPicPr/>
          <p:nvPr/>
        </p:nvPicPr>
        <p:blipFill>
          <a:blip r:embed="rId2"/>
          <a:stretch/>
        </p:blipFill>
        <p:spPr>
          <a:xfrm>
            <a:off x="5761080" y="752400"/>
            <a:ext cx="4064040" cy="2689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"/>
          <p:cNvPicPr/>
          <p:nvPr/>
        </p:nvPicPr>
        <p:blipFill>
          <a:blip r:embed="rId3"/>
          <a:stretch/>
        </p:blipFill>
        <p:spPr>
          <a:xfrm>
            <a:off x="5761080" y="4452840"/>
            <a:ext cx="40352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2T08:30:13Z</dcterms:created>
  <dc:creator/>
  <dc:description/>
  <dc:language>en-US</dc:language>
  <cp:lastModifiedBy>user</cp:lastModifiedBy>
  <dcterms:modified xsi:type="dcterms:W3CDTF">2021-06-13T09:24:38Z</dcterms:modified>
  <cp:revision>6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Произволь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8</vt:r8>
  </property>
</Properties>
</file>