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65C2-24C5-432A-B8D6-94B59A8B281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1A6E-0715-4B09-AF86-1171608EB2A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D217-C494-4958-813A-38E09F9E31F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B3DE-4B25-47BC-AE10-15E6C0D0FC8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21F0-B6C3-455A-BE06-9241665E066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51E0-D761-4E12-B4BD-A95E359E4EA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86ED-2CB3-41BE-8B28-DB47E5941E3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6BCC-E417-443C-9D95-3541FD59440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AA11-165C-43E0-9861-84E921D22BA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AE9B-7755-4DC8-95BB-0D7D0F9D512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607C-BE58-4CBB-821C-195C4F4D224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50C2-880F-4530-8005-32DC99CD798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5263-397F-4214-945C-C0BD1E2008B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EC99-4261-43BA-986F-694C4D77CFC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DC6C-C63E-4726-8EDA-444C4800758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D57A-9CD8-4CF8-A0E2-FAA6A322497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11B6-0CDE-4C24-B086-3F3E2F8DBAB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8873-E2DC-4BEF-A858-8BF72D67B4D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FF33-AE11-42EF-8B32-BC5AAA3740C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52F4-8796-42AA-B6BD-E7168A5471B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7016-9AE5-49D2-9C77-1742EB8C7F1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880E-2CD0-4E76-BCC7-CFD4BC5C219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C4E8-FBA3-4F2C-B414-9C3C267C9A04}"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1EF5-D1FF-46A7-8154-A8CE053F2D3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656D-0903-48B5-A9B5-5BE92B5DF75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7A4A7-3192-4402-A920-548F1FDE3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6E01F-89D0-48F8-8C77-70DFE6F7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1587C-43E7-4DE9-BAA8-37B415C1D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22327-08FC-4670-B9A2-097642AFA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68326-621D-4212-9F35-9761D5E1C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239C6-2AE0-4B31-8FEF-54C3F8E32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7F924-3671-4D95-A6F2-C4DEBC18B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58BB0-D28B-48E8-A929-7132E6BF8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DB4E2-4AA3-4F79-9FAE-6D9F089FF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33F84-12CF-471C-B3E4-C709F0ECF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0D57-A2B7-439A-8A49-1DCFF77F8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EA00-C8BC-46BC-9F4A-B467C349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6A109-6BE9-4F99-AB3F-755087D7B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162BE-66CF-45A9-A83E-55F02C20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5112B-C8C2-4B63-9356-668F16E17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BA5E2-0E4B-4C21-A49B-97C785C03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D3931-5C71-44B8-935A-690AC0225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D0242-F860-44C7-BD6C-A4B39F9F3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2D662-BC14-4FE1-A630-13A262360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FABD35-4BFB-4C09-8CA2-F5FAF77D1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74865-5433-4B95-BB66-548C3C897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89101-D16B-4D4F-BEB0-B6E2B907B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509D-2C9D-43FE-8CE8-A0D1A1114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36A810-5829-4565-AB60-366C98C20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BF4F1-BE78-47E8-93BB-184C645E0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F5CB4-67BE-442E-A150-4E572467B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3600E-D6A5-44D7-B374-A2C494173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664C5-82AD-45FB-A60E-7E6ED0100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2B12BE-5434-47B5-A9C8-B79F7A5F4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D019E1-B6A3-4565-B90E-E5D0B8A62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BB78C-1DCF-4490-9F24-D96F331F5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3FB1F-932C-42AA-B459-2F88168A3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B1A80-4F4A-4B0F-B000-C0F6C6586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1945-7B9B-4EC1-912C-2DC18BF5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63518-CF8A-4784-A5A8-38485F64E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9A90D-98D5-4E40-AF04-7B6B9DFEC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C4387-EFE7-435D-A798-A9A03199B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A5B81-A236-427A-A9C2-C54A5A8C7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32697-50AC-4783-A1EA-0E56D5D1F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CD3D9-3391-4B9A-8B36-4505A187D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0A38E-F394-41D7-A2D6-A9DF67EE8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21EDB-F09F-4A52-BF5B-852AD9001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B2A206-E5D2-4841-B8A1-AC227028F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653ACF-A9F9-4D6A-B936-34CBF7EEF7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30A45-FBE1-4D45-B8EF-1BB40095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60492-1983-4D9F-8C87-F888067B3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31DD9-2A26-4109-955D-F7C3DA0C8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80F37-222E-4EB8-AC0F-BAA351F1A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075B3-AEB3-4CC7-AD1C-6024599E8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847AA-0704-4AEA-BFEF-E25C0D9AC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1AE54-CF2D-40A0-A0AB-91D572F06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F4200-0849-4C6D-A4E4-03568167D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83F86-61A1-4B54-AEB1-039491E64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00E2D-EC74-4E4E-989A-BE911BAB3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E5FDAB-D0F1-47C7-B76F-B017509FC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8BC11-C70C-4BDE-A0B6-D99788FA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6A8071-7453-42DE-918D-99994B350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E900-836D-4406-B710-B9904250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7AC0-88AC-4450-84E2-A9F305201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82C4-DEED-4813-ACB7-79659EA2A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16C9-5D1E-43B5-9030-B13032E7635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BA87-E488-4A6C-BA7E-C7BCCAD197F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3082-7F3F-4049-A4AD-D13DFB27ACB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C61A-A1E3-4621-8161-EC9DBBBD07C9}"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B048-964A-4093-8557-C781EFF8A3E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lyceum8.com/mod/glossary/showentry.php?courseid=501&amp;concept=&#1044;&#1045;&#1051;&#1045;&#1053;&#1048;&#1045;"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Коррекционно-развивающие технологии</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f8d3e"/>
                </a:solidFill>
                <a:latin typeface="Verdana"/>
              </a:rPr>
              <a:t>Метод  поэтапного формирования умственных действий </a:t>
            </a:r>
            <a:br>
              <a:rPr sz="3200"/>
            </a:br>
            <a:endParaRPr b="1" lang="en-US" sz="28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Verdana"/>
              </a:rPr>
              <a:t>Этапы совместной деятельности:</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Verdana"/>
              </a:rPr>
              <a:t> </a:t>
            </a:r>
            <a:r>
              <a:rPr b="0" lang="ru-RU" sz="1400" spc="-1" strike="noStrike">
                <a:solidFill>
                  <a:srgbClr val="000000"/>
                </a:solidFill>
                <a:latin typeface="Verdana"/>
              </a:rPr>
              <a:t>  </a:t>
            </a:r>
            <a:r>
              <a:rPr b="0" lang="ru-RU" sz="1400" spc="-1" strike="noStrike">
                <a:solidFill>
                  <a:srgbClr val="000000"/>
                </a:solidFill>
                <a:latin typeface="Verdana"/>
              </a:rPr>
              <a:t>1. </a:t>
            </a:r>
            <a:r>
              <a:rPr b="0" i="1" lang="ru-RU" sz="1400" spc="-1" strike="noStrike">
                <a:solidFill>
                  <a:srgbClr val="000000"/>
                </a:solidFill>
                <a:latin typeface="Verdana"/>
              </a:rPr>
              <a:t>Этап совместного пошагового выполнения действия по речевой инструкции педагога, </a:t>
            </a:r>
            <a:r>
              <a:rPr b="0" lang="ru-RU" sz="1400" spc="-1" strike="noStrike">
                <a:solidFill>
                  <a:srgbClr val="000000"/>
                </a:solidFill>
                <a:latin typeface="Verdana"/>
              </a:rPr>
              <a:t>где пошаговый контроль обеспечивается педагогом. Таким образом, здесь и программа, и контроль в руках учителя.</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2. </a:t>
            </a:r>
            <a:r>
              <a:rPr b="0" i="1" lang="ru-RU" sz="1400" spc="-1" strike="noStrike">
                <a:solidFill>
                  <a:srgbClr val="000000"/>
                </a:solidFill>
                <a:latin typeface="Verdana"/>
              </a:rPr>
              <a:t>Этап совместного пошагового выполнения действия по наглядной программе </a:t>
            </a:r>
            <a:r>
              <a:rPr b="0" lang="ru-RU" sz="1400" spc="-1" strike="noStrike">
                <a:solidFill>
                  <a:srgbClr val="000000"/>
                </a:solidFill>
                <a:latin typeface="Verdana"/>
              </a:rPr>
              <a:t>– педагог организует следование программе и контрольные действия ребенка: сличение результата с программой. Здесь программирование и контроль разделяются между учителем и учеником.</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3. </a:t>
            </a:r>
            <a:r>
              <a:rPr b="0" i="1" lang="ru-RU" sz="1400" spc="-1" strike="noStrike">
                <a:solidFill>
                  <a:srgbClr val="000000"/>
                </a:solidFill>
                <a:latin typeface="Verdana"/>
              </a:rPr>
              <a:t>Этап совместного выполнения действия по наглядной программе с переходом от пошагового выполнения программы к его более свернутым формам. </a:t>
            </a:r>
            <a:r>
              <a:rPr b="0" lang="ru-RU" sz="1400" spc="-1" strike="noStrike">
                <a:solidFill>
                  <a:srgbClr val="000000"/>
                </a:solidFill>
                <a:latin typeface="Verdana"/>
              </a:rPr>
              <a:t>Здесь программирование и контроль, разделяемые учителем и учеником, становятся более свернутыми, роль учителя в программировании и контроле сокращается.</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4. </a:t>
            </a:r>
            <a:r>
              <a:rPr b="0" i="1" lang="ru-RU" sz="1400" spc="-1" strike="noStrike">
                <a:solidFill>
                  <a:srgbClr val="000000"/>
                </a:solidFill>
                <a:latin typeface="Verdana"/>
              </a:rPr>
              <a:t>Этап самостоятельного выполнения действия по интериоризованной (внутренней) программе с возвращением к наглядной программе при затруднениях. </a:t>
            </a:r>
            <a:r>
              <a:rPr b="0" lang="ru-RU" sz="1400" spc="-1" strike="noStrike">
                <a:solidFill>
                  <a:srgbClr val="000000"/>
                </a:solidFill>
                <a:latin typeface="Verdana"/>
              </a:rPr>
              <a:t>Здесь предусматриваются самостоятельное выполнение действия и его контроль учеником, которые совершаются под наблюдением учителя, следящего за тем, обращается ли ученик при затруднениях к наглядной программе, и при необходимости напоминающего ему об этом. </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 </a:t>
            </a:r>
            <a:r>
              <a:rPr b="0" i="1" lang="ru-RU" sz="1400" spc="-1" strike="noStrike">
                <a:solidFill>
                  <a:srgbClr val="000000"/>
                </a:solidFill>
                <a:latin typeface="Verdana"/>
              </a:rPr>
              <a:t>Этап самостоятельного выполнения действия по внутренней программе или перенос ее на новый материал. </a:t>
            </a:r>
            <a:r>
              <a:rPr b="0" lang="ru-RU" sz="1400" spc="-1" strike="noStrike">
                <a:solidFill>
                  <a:srgbClr val="000000"/>
                </a:solidFill>
                <a:latin typeface="Verdana"/>
              </a:rPr>
              <a:t>Здесь предполагается перенос усвоенного образа действия на новый материал, возможность переноса контролируется педагогом</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	</a:t>
            </a:r>
            <a:r>
              <a:rPr b="1" lang="ru-RU" sz="2400" spc="-1" strike="noStrike">
                <a:solidFill>
                  <a:srgbClr val="000000"/>
                </a:solidFill>
                <a:latin typeface="Verdana"/>
              </a:rPr>
              <a:t>Первый тип упражнений.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0" lang="ru-RU" sz="2400" spc="-1" strike="noStrike">
                <a:solidFill>
                  <a:srgbClr val="000000"/>
                </a:solidFill>
                <a:latin typeface="Verdana"/>
              </a:rPr>
              <a:t>Перед ребенком выкладываются в числовой ряд (до 25) карточки с цифрами (материализованная часть программы). Ему предлагается поочередно правой и левой руками по заданной программе сдвигать карточки или вниз, произнося цифры вслух, или вверх, считая про себя. При этом счет не прерывается. Ребенок имеет зрительную опору счета – цифры на карточках, что помогает ему переключаться с внутреннего проговаривания на внешнюю речь, сохраняя программу счета.</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Второй тип упражнени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0" lang="ru-RU" sz="2800" spc="-1" strike="noStrike">
                <a:solidFill>
                  <a:srgbClr val="000000"/>
                </a:solidFill>
                <a:latin typeface="Verdana"/>
              </a:rPr>
              <a:t>Здесь программа счета подобна той, что использовалась в первом, но реализуется она без материализованной программы, по показу и речевой инструкции преподавателя. Основа упражнения – </a:t>
            </a:r>
            <a:r>
              <a:rPr b="0" i="1" lang="ru-RU" sz="2800" spc="-1" strike="noStrike">
                <a:solidFill>
                  <a:srgbClr val="000000"/>
                </a:solidFill>
                <a:latin typeface="Verdana"/>
              </a:rPr>
              <a:t>шаг, ходьб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Третий тип упражнений </a:t>
            </a:r>
            <a:r>
              <a:rPr b="0" lang="ru-RU" sz="2800" spc="-1" strike="noStrike">
                <a:solidFill>
                  <a:srgbClr val="000000"/>
                </a:solidFill>
                <a:latin typeface="Verdana"/>
              </a:rPr>
              <a:t>позволяет формировать у ребенка понятие числа, используя </a:t>
            </a:r>
            <a:r>
              <a:rPr b="0" i="1" lang="ru-RU" sz="2800" spc="-1" strike="noStrike">
                <a:solidFill>
                  <a:srgbClr val="000000"/>
                </a:solidFill>
                <a:latin typeface="Verdana"/>
              </a:rPr>
              <a:t>вертикальные ряды. </a:t>
            </a:r>
            <a:r>
              <a:rPr b="0" lang="ru-RU" sz="2800" spc="-1" strike="noStrike">
                <a:solidFill>
                  <a:srgbClr val="000000"/>
                </a:solidFill>
                <a:latin typeface="Verdana"/>
              </a:rPr>
              <a:t>В его основе лежит представление любого числа через набор слагаемых, причем слагаемые изменяются по числовому ряд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Четвертый тип упражнений </a:t>
            </a:r>
            <a:r>
              <a:rPr b="0" lang="ru-RU" sz="2800" spc="-1" strike="noStrike">
                <a:solidFill>
                  <a:srgbClr val="000000"/>
                </a:solidFill>
                <a:latin typeface="Verdana"/>
              </a:rPr>
              <a:t>отличается тем, что в нем используется известный способ выделения из натурального ряда чисел, делящихся на какое-нибудь числ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Пятый тип упражнений </a:t>
            </a:r>
            <a:r>
              <a:rPr b="0" lang="ru-RU" sz="2800" spc="-1" strike="noStrike">
                <a:solidFill>
                  <a:srgbClr val="000000"/>
                </a:solidFill>
                <a:latin typeface="Verdana"/>
              </a:rPr>
              <a:t>предполагает работу с таблицами типа таблиц Шульте, где в ячейках – результаты умножения на задуманное число «X» (см. «Школа умножения»). В заданиях этого типа происходит закрепление рядов, которые ребенок получал в упражнениях четвертого тип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еятельностный подход</a:t>
            </a:r>
            <a:endParaRPr b="1" lang="en-US" sz="3600" spc="-1" strike="noStrike">
              <a:solidFill>
                <a:srgbClr val="ff8d3e"/>
              </a:solidFill>
              <a:latin typeface="Verdana"/>
            </a:endParaRPr>
          </a:p>
        </p:txBody>
      </p:sp>
      <p:sp>
        <p:nvSpPr>
          <p:cNvPr id="259" name=""/>
          <p:cNvSpPr txBox="1"/>
          <p:nvPr/>
        </p:nvSpPr>
        <p:spPr>
          <a:xfrm>
            <a:off x="503280" y="529920"/>
            <a:ext cx="8183520" cy="41878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хнология самостоятельной диагностико-коррекционной  работы обучающихся на уроке (Е.Д. Божови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57120" y="5071680"/>
            <a:ext cx="8183520" cy="676440"/>
          </a:xfrm>
          <a:prstGeom prst="rect">
            <a:avLst/>
          </a:prstGeom>
          <a:noFill/>
          <a:ln w="0">
            <a:noFill/>
          </a:ln>
        </p:spPr>
        <p:txBody>
          <a:bodyPr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a1b1c"/>
                </a:solidFill>
                <a:latin typeface="Calibri"/>
                <a:ea typeface="Times New Roman"/>
              </a:rPr>
              <a:t>ДИАГНОСТИКО-КОРРЕКЦИОННЫЙ ПРИЕМ РАБОТЫ НАД ОШИБКАМИ</a:t>
            </a:r>
            <a:br>
              <a:rPr sz="3900"/>
            </a:br>
            <a:endParaRPr b="1" lang="en-US" sz="2500" spc="-1" strike="noStrike">
              <a:solidFill>
                <a:srgbClr val="ff8d3e"/>
              </a:solidFill>
              <a:latin typeface="Verdana"/>
            </a:endParaRPr>
          </a:p>
        </p:txBody>
      </p:sp>
      <p:sp>
        <p:nvSpPr>
          <p:cNvPr id="261" name="PlaceHolder 2"/>
          <p:cNvSpPr>
            <a:spLocks noGrp="1"/>
          </p:cNvSpPr>
          <p:nvPr>
            <p:ph/>
          </p:nvPr>
        </p:nvSpPr>
        <p:spPr>
          <a:xfrm>
            <a:off x="468360" y="5624640"/>
            <a:ext cx="8183520" cy="420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graphicFrame>
        <p:nvGraphicFramePr>
          <p:cNvPr id="262" name=""/>
          <p:cNvGraphicFramePr/>
          <p:nvPr/>
        </p:nvGraphicFramePr>
        <p:xfrm>
          <a:off x="928800" y="1000080"/>
          <a:ext cx="7072200" cy="2930400"/>
        </p:xfrm>
        <a:graphic>
          <a:graphicData uri="http://schemas.openxmlformats.org/drawingml/2006/table">
            <a:tbl>
              <a:tblPr/>
              <a:tblGrid>
                <a:gridCol w="1414440"/>
                <a:gridCol w="1272960"/>
                <a:gridCol w="919440"/>
                <a:gridCol w="849240"/>
                <a:gridCol w="1272960"/>
                <a:gridCol w="1343160"/>
              </a:tblGrid>
              <a:tr h="389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r>
              <a:tr h="423720">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Задача (слово,</a:t>
                      </a:r>
                      <a:br>
                        <a:rPr sz="1600"/>
                      </a:br>
                      <a:r>
                        <a:rPr b="1" lang="ru-RU" sz="1600" spc="-1" strike="noStrike">
                          <a:solidFill>
                            <a:srgbClr val="1a1b1c"/>
                          </a:solidFill>
                          <a:latin typeface="Times New Roman"/>
                          <a:ea typeface="Times New Roman"/>
                        </a:rPr>
                        <a:t>словосочетание или предложение),</a:t>
                      </a:r>
                      <a:br>
                        <a:rPr sz="1600"/>
                      </a:br>
                      <a:r>
                        <a:rPr b="1" lang="ru-RU" sz="1600" spc="-1" strike="noStrike">
                          <a:solidFill>
                            <a:srgbClr val="1a1b1c"/>
                          </a:solidFill>
                          <a:latin typeface="Times New Roman"/>
                          <a:ea typeface="Times New Roman"/>
                        </a:rPr>
                        <a:t>в которой была</a:t>
                      </a:r>
                      <a:br>
                        <a:rPr sz="1600"/>
                      </a:br>
                      <a:r>
                        <a:rPr b="1" lang="ru-RU" sz="1600" spc="-1" strike="noStrike">
                          <a:solidFill>
                            <a:srgbClr val="1a1b1c"/>
                          </a:solidFill>
                          <a:latin typeface="Times New Roman"/>
                          <a:ea typeface="Times New Roman"/>
                        </a:rPr>
                        <a:t>ошибка </a:t>
                      </a:r>
                      <a:endParaRPr b="0" lang="en-US" sz="16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Причины ошибки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Как избежать</a:t>
                      </a:r>
                      <a:br>
                        <a:rPr sz="1600"/>
                      </a:br>
                      <a:r>
                        <a:rPr b="1" lang="ru-RU" sz="1600" spc="-1" strike="noStrike">
                          <a:solidFill>
                            <a:srgbClr val="1a1b1c"/>
                          </a:solidFill>
                          <a:latin typeface="Times New Roman"/>
                          <a:ea typeface="Times New Roman"/>
                        </a:rPr>
                        <a:t>ошибки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Решение похожей</a:t>
                      </a:r>
                      <a:br>
                        <a:rPr sz="1600"/>
                      </a:br>
                      <a:r>
                        <a:rPr b="1" lang="ru-RU" sz="1600" spc="-1" strike="noStrike">
                          <a:solidFill>
                            <a:srgbClr val="1a1b1c"/>
                          </a:solidFill>
                          <a:latin typeface="Times New Roman"/>
                          <a:ea typeface="Times New Roman"/>
                        </a:rPr>
                        <a:t>задачи </a:t>
                      </a:r>
                      <a:endParaRPr b="0" lang="en-US" sz="16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169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Как действовал я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Как надо было</a:t>
                      </a:r>
                      <a:br>
                        <a:rPr sz="1600"/>
                      </a:br>
                      <a:r>
                        <a:rPr b="0" lang="ru-RU" sz="1600" spc="-1" strike="noStrike">
                          <a:solidFill>
                            <a:srgbClr val="1a1b1c"/>
                          </a:solidFill>
                          <a:latin typeface="Times New Roman"/>
                          <a:ea typeface="Times New Roman"/>
                        </a:rPr>
                        <a:t>действовать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Почему я</a:t>
                      </a:r>
                      <a:br>
                        <a:rPr sz="1600"/>
                      </a:br>
                      <a:r>
                        <a:rPr b="0" lang="ru-RU" sz="1600" spc="-1" strike="noStrike">
                          <a:solidFill>
                            <a:srgbClr val="1a1b1c"/>
                          </a:solidFill>
                          <a:latin typeface="Times New Roman"/>
                          <a:ea typeface="Times New Roman"/>
                        </a:rPr>
                        <a:t>ошибся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929120"/>
            <a:ext cx="8183520" cy="100008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9766f"/>
                </a:solidFill>
                <a:latin typeface="Verdana"/>
              </a:rPr>
              <a:t>ОДНА И ДВЕ БУКВЫ Н В ПРИЛАГАТЕЛЬНЫХ, НЕПРОИЗВОДНЫХ ИЛИ</a:t>
            </a:r>
            <a:br>
              <a:rPr sz="1400"/>
            </a:br>
            <a:r>
              <a:rPr b="1" lang="ru-RU" sz="1400" spc="-1" strike="noStrike">
                <a:solidFill>
                  <a:srgbClr val="79766f"/>
                </a:solidFill>
                <a:latin typeface="Verdana"/>
              </a:rPr>
              <a:t>ОБРАЗОВАННЫХ ОТ СУЩЕСТВИТЕЛЬНЫХ </a:t>
            </a:r>
            <a:br>
              <a:rPr sz="1400"/>
            </a:br>
            <a:endParaRPr b="1" lang="en-US" sz="1400" spc="-1" strike="noStrike">
              <a:solidFill>
                <a:srgbClr val="ff8d3e"/>
              </a:solidFill>
              <a:latin typeface="Verdana"/>
            </a:endParaRPr>
          </a:p>
        </p:txBody>
      </p:sp>
      <p:sp>
        <p:nvSpPr>
          <p:cNvPr id="264" name="PlaceHolder 2"/>
          <p:cNvSpPr>
            <a:spLocks noGrp="1"/>
          </p:cNvSpPr>
          <p:nvPr>
            <p:ph/>
          </p:nvPr>
        </p:nvSpPr>
        <p:spPr>
          <a:xfrm>
            <a:off x="468360" y="5624640"/>
            <a:ext cx="8183520" cy="420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pic>
        <p:nvPicPr>
          <p:cNvPr id="265" name="Рисунок 3" descr="Рис."/>
          <p:cNvPicPr/>
          <p:nvPr/>
        </p:nvPicPr>
        <p:blipFill>
          <a:blip r:embed="rId1"/>
          <a:stretch/>
        </p:blipFill>
        <p:spPr>
          <a:xfrm>
            <a:off x="857160" y="500040"/>
            <a:ext cx="7572600" cy="456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928760"/>
            <a:ext cx="8104320" cy="107172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9766f"/>
                </a:solidFill>
                <a:latin typeface="Verdana"/>
              </a:rPr>
              <a:t>ОБРАЗЦЫ СОКРАЩЕННОЙ ЗАПИСИ ХОДА РАССУЖДЕНИЙ </a:t>
            </a:r>
            <a:br>
              <a:rPr sz="1600"/>
            </a:br>
            <a:r>
              <a:rPr b="1" lang="ru-RU" sz="1600" spc="-1" strike="noStrike">
                <a:solidFill>
                  <a:srgbClr val="79766f"/>
                </a:solidFill>
                <a:latin typeface="Verdana"/>
              </a:rPr>
              <a:t>в соответствии с приемом-схемой «Одна и две буквы Н в прилагательных, непроизводных</a:t>
            </a:r>
            <a:br>
              <a:rPr sz="1600"/>
            </a:br>
            <a:r>
              <a:rPr b="1" lang="ru-RU" sz="1600" spc="-1" strike="noStrike">
                <a:solidFill>
                  <a:srgbClr val="79766f"/>
                </a:solidFill>
                <a:latin typeface="Verdana"/>
              </a:rPr>
              <a:t>или образованных от существительных»</a:t>
            </a:r>
            <a:r>
              <a:rPr b="0" lang="ru-RU" sz="1600" spc="-1" strike="noStrike">
                <a:solidFill>
                  <a:srgbClr val="79766f"/>
                </a:solidFill>
                <a:latin typeface="Verdana"/>
              </a:rPr>
              <a:t> </a:t>
            </a:r>
            <a:br>
              <a:rPr sz="1600"/>
            </a:br>
            <a:endParaRPr b="1" lang="en-US" sz="1600" spc="-1" strike="noStrike">
              <a:solidFill>
                <a:srgbClr val="ff8d3e"/>
              </a:solidFill>
              <a:latin typeface="Verdana"/>
            </a:endParaRPr>
          </a:p>
        </p:txBody>
      </p:sp>
      <p:sp>
        <p:nvSpPr>
          <p:cNvPr id="267" name="PlaceHolder 2"/>
          <p:cNvSpPr>
            <a:spLocks noGrp="1"/>
          </p:cNvSpPr>
          <p:nvPr>
            <p:ph/>
          </p:nvPr>
        </p:nvSpPr>
        <p:spPr>
          <a:xfrm>
            <a:off x="642960" y="6071760"/>
            <a:ext cx="8183520" cy="42084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pic>
        <p:nvPicPr>
          <p:cNvPr id="268" name="Рисунок 3" descr="Рис."/>
          <p:cNvPicPr/>
          <p:nvPr/>
        </p:nvPicPr>
        <p:blipFill>
          <a:blip r:embed="rId1"/>
          <a:stretch/>
        </p:blipFill>
        <p:spPr>
          <a:xfrm>
            <a:off x="428760" y="571680"/>
            <a:ext cx="8286480" cy="41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Моделирование технологий</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ика = приемы + средств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Задания I типа. Их назначение в том, чтобы подготовить школьников к новому для них виду работы над ошибками на примере чужих неудач. В каждом из заданий этого типа даются ошибки и ходы рассуждений, которые приводят к ним. От учащихся требуется найти причины каждой ошибки, сделать вывод, как ее избежать в будущем, а также привести в качестве примера похожую задачу и решить ее. Например: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Задание. Ученики часто допускают следующие ошибки: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Задания II типа. Они преследуют две основные цели: а) осуществить принцип индивидуального подхода к учащимся, различающимся темпом и успешностью при овладении новым способом работы над ошибками; б) обеспечить школьникам возможность самоконтроля при самостоятельной работе. Задания имеют форму программированных карточек. Вот одна из них (до черты дается лицевая сторона карточки, за чертой оборотная, по которой ученик может себя проверить); черта является линией сгиба карточки, так что, проверяя себя, ребенок видит на одном поле ответ и свой, и эталонный.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Задание. Найди причины ошибки и сделай вывод о том, как ее избежать. Затем проверь себя по оборотной стороне карточки.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я III типа носят творческий характер. Учащихся просят составить программированные карточки для своих товарищей.</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е.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Составьте карточку для самостоятельной работы над ошибками, адресованную товарищам по классу. В качестве образца используйте имеющиеся у вас карточки.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я IV типа помогают учащимся осуществить переход от работы над чужими ошибками к анализу собственных: ученикам предлагают представить, что приведенные ошибки были допущены ими самими. Например:</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едставь, что это ты допустил такие ошибки: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1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7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йди примеры, которые решены с ошибкой (укажи номера примеров):</a:t>
            </a:r>
            <a:br>
              <a:rPr sz="2400"/>
            </a:br>
            <a:r>
              <a:rPr b="1" lang="ru-RU" sz="2400" spc="-1" strike="noStrike">
                <a:solidFill>
                  <a:srgbClr val="000000"/>
                </a:solidFill>
                <a:latin typeface="Verdana"/>
              </a:rPr>
              <a:t>1) 13:6 = 2 (ост. 1)</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2) 27:2 = 13 (ост.1)</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3) 43:7 = 5 (ост.8)</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4) 98:8 = 11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ОЧЕМУ УЧЕНИК ДОПУСТИЛ ТАКИЕ ОШИБКИ?</a:t>
            </a:r>
            <a:br>
              <a:rPr sz="2400"/>
            </a:br>
            <a:r>
              <a:rPr b="1" lang="ru-RU" sz="2400" spc="-1" strike="noStrike">
                <a:solidFill>
                  <a:srgbClr val="000000"/>
                </a:solidFill>
                <a:latin typeface="Verdana"/>
              </a:rPr>
              <a:t>Что посоветуешь ученику, чтобы он не допускал таких ошибок?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2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8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считай:</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72: 4    211:2    380:5    999: 3    1638:7   832:8    108:9</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000000"/>
                </a:solidFill>
                <a:latin typeface="Verdana"/>
              </a:rPr>
              <a:t>После того как увидишь свой результат, если ты допустил ошибки, выбери задания (подчеркни их другим цветом), которые подойдут тебе для коррекци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Пропуск разряда, не </a:t>
            </a:r>
            <a:r>
              <a:rPr b="0" lang="ru-RU" sz="1800" spc="-1" strike="noStrike" u="sng">
                <a:solidFill>
                  <a:srgbClr val="6b9f25"/>
                </a:solidFill>
                <a:uFillTx/>
                <a:latin typeface="Verdana"/>
                <a:hlinkClick r:id="rId1"/>
              </a:rPr>
              <a:t>деление</a:t>
            </a:r>
            <a:r>
              <a:rPr b="0" lang="ru-RU" sz="1800" spc="-1" strike="noStrike">
                <a:solidFill>
                  <a:srgbClr val="000000"/>
                </a:solidFill>
                <a:latin typeface="Verdana"/>
              </a:rPr>
              <a:t> на разряд;</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ТД (таблица деления);</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Забыл про знак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Не указал переходы;</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Сложение в пределах 20 (* +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При переходе забыл + остаток от предыдущего разряда;</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Не указал заготовк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8.Вычислительные ошибк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3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8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Verdana"/>
              </a:rPr>
              <a:t>Проверь примеры и исправь ошибки</a:t>
            </a:r>
            <a:r>
              <a:rPr b="0" lang="ru-RU" sz="2000" spc="-1" strike="noStrike">
                <a:solidFill>
                  <a:srgbClr val="000000"/>
                </a:solidFill>
                <a:latin typeface="Verdana"/>
              </a:rPr>
              <a:t>, к каждому примеру подбери тип ошибки (в таблице ниже) и </a:t>
            </a:r>
            <a:r>
              <a:rPr b="0" lang="ru-RU" sz="2000" spc="-1" strike="noStrike" u="sng">
                <a:solidFill>
                  <a:srgbClr val="000000"/>
                </a:solidFill>
                <a:uFillTx/>
                <a:latin typeface="Verdana"/>
              </a:rPr>
              <a:t>укажи ее рядом.</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640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85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41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1. Пропуск разряда, не умножил на разряд</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 Вычислительная ошибка (ТУ)</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 Забыл + переход из другого разряда</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 Неверно сложил в пределах 20</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5. Не спланировал переходы</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6. Не сделал заготовки</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4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pic>
        <p:nvPicPr>
          <p:cNvPr id="284" name="Picture 3" descr=""/>
          <p:cNvPicPr/>
          <p:nvPr/>
        </p:nvPicPr>
        <p:blipFill>
          <a:blip r:embed="rId1"/>
          <a:srcRect l="31506" t="50822" r="29785" b="18031"/>
          <a:stretch/>
        </p:blipFill>
        <p:spPr>
          <a:xfrm>
            <a:off x="428760" y="785880"/>
            <a:ext cx="8215200" cy="41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Мисаренко Галина Геннадьевна</a:t>
            </a:r>
            <a:endParaRPr b="1" lang="en-US" sz="3200" spc="-1" strike="noStrike">
              <a:solidFill>
                <a:srgbClr val="ff8d3e"/>
              </a:solidFill>
              <a:latin typeface="Verdana"/>
            </a:endParaRPr>
          </a:p>
        </p:txBody>
      </p:sp>
      <p:sp>
        <p:nvSpPr>
          <p:cNvPr id="286"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ровни трудностей овладения письмом:</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сихофизиологическом (речь как материальный предмет изучения, неразвитая способность к абстрагированию и обобщению и пр.)</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едагогическом (недостаточное внимание к формированию технических навыков письма, несоответствие способов формирования понятий особенностям детского восприятия и мышления, недостаточное внимание учителей к формированию всех частных признаков понятия и "промежуточных" операционных умений и п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8d3e"/>
                </a:solidFill>
                <a:latin typeface="Verdana"/>
              </a:rPr>
              <a:t>Психолого-педагогические основы проектирования коррекционно-развивающих технологий </a:t>
            </a:r>
            <a:br>
              <a:rPr sz="3200"/>
            </a:br>
            <a:endParaRPr b="1" lang="en-US" sz="2000" spc="-1" strike="noStrike">
              <a:solidFill>
                <a:srgbClr val="ff8d3e"/>
              </a:solidFill>
              <a:latin typeface="Verdana"/>
            </a:endParaRPr>
          </a:p>
        </p:txBody>
      </p:sp>
      <p:sp>
        <p:nvSpPr>
          <p:cNvPr id="28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оретическим фундаментом проектирования коррекционно-развивающих технологий стала совокупность идей, заключённых в концепции коррекционно-развивающего обучения, ассоциативно-рефлекторной, когнитивной и деятельностной теориях обучения, теории усвоения поняти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Концептуальные основы</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йропсихологический подхо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ункциональный подхо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тод поэтапного формирования умственных действи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чет тяжести и степени нарушени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ятельностный подход</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9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ология разработана на основании анализа трудностей младших школьников в понимании однокоренных слов и ошибок правописания и нацелено на устранение не столько собственно ошибок, сколько их глубинных причи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8d3e"/>
                </a:solidFill>
                <a:latin typeface="Verdana"/>
              </a:rPr>
              <a:t>В основе ошибок правописания корня, как правило, лежит неумение видеть орфограмму, выполнять нужные действия проверки, а также слабо развитые ассоциативные связи между словами</a:t>
            </a:r>
            <a:endParaRPr b="1" lang="en-US" sz="2000" spc="-1" strike="noStrike">
              <a:solidFill>
                <a:srgbClr val="ff8d3e"/>
              </a:solidFill>
              <a:latin typeface="Verdana"/>
            </a:endParaRPr>
          </a:p>
        </p:txBody>
      </p:sp>
      <p:sp>
        <p:nvSpPr>
          <p:cNvPr id="29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Ошибки многих учеников в поиске корня слова часто бывают обусловлены особенностями восприятия и понимания детьми самогo определения этого понятия. Оно состоит из двух признаков: во-первых, корень – это общая (одинаковая) часть группы слов, во-вторых, эти слова должны быть родственными (близкими по смыслу). Дети с их пока ещё незрелым мышлением часто опираются лишь на один признак – либо на похожесть части слова, либо на смыс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Три задачи коррекционной работы</a:t>
            </a:r>
            <a:endParaRPr b="1" lang="en-US" sz="3200" spc="-1" strike="noStrike">
              <a:solidFill>
                <a:srgbClr val="ff8d3e"/>
              </a:solidFill>
              <a:latin typeface="Verdana"/>
            </a:endParaRPr>
          </a:p>
        </p:txBody>
      </p:sp>
      <p:sp>
        <p:nvSpPr>
          <p:cNvPr id="29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мочь детям осмыслить сначала один признак корня (его смысловую сторону), затем – другой (буквенную схожесть), после чего соединить их в сознании учеников и научить детей при решении учебных задач направлять внимание то на один, то на другой параметр;</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сширить и активизировать словарный запас;</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точнить и автоматизировать необходимые операционные действи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9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ля решения первой и третьей задач упражнения выстроены в определённом технологическом порядке, который отражает пошаговое осмысление каждой операции с одновременным уточнением основных понятий </a:t>
            </a:r>
            <a:r>
              <a:rPr b="0" i="1" lang="ru-RU" sz="2000" spc="-1" strike="noStrike">
                <a:solidFill>
                  <a:srgbClr val="000000"/>
                </a:solidFill>
                <a:latin typeface="Verdana"/>
              </a:rPr>
              <a:t>корень, проверочное слово, ударный/безударный гласный</a:t>
            </a:r>
            <a:r>
              <a:rPr b="0" lang="ru-RU" sz="2000" spc="-1" strike="noStrike">
                <a:solidFill>
                  <a:srgbClr val="000000"/>
                </a:solidFill>
                <a:latin typeface="Verdana"/>
              </a:rPr>
              <a:t> и наблюдением буквенного состава корня. Очень важно в работе не нарушать их последовательности.</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 решении второй задачи акцент сделан не на самостоятельный подбор родственных слов, а на работу с готовыми наборами, поскольку здесь более важно обогащать и уточнять словарный запас, чем его активизировать.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8d3e"/>
                </a:solidFill>
                <a:latin typeface="Verdana"/>
              </a:rPr>
              <a:t>Технологический план и содержание работы </a:t>
            </a:r>
            <a:endParaRPr b="1" lang="en-US" sz="3200" spc="-1" strike="noStrike">
              <a:solidFill>
                <a:srgbClr val="ff8d3e"/>
              </a:solidFill>
              <a:latin typeface="Verdana"/>
            </a:endParaRPr>
          </a:p>
        </p:txBody>
      </p:sp>
      <p:sp>
        <p:nvSpPr>
          <p:cNvPr id="29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активизируют языковое чутьё, вводят ребёнка в смысловую глубину слов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ереключают внимание со смысла слова на буквенный состав корня, учат видеть его границы</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чат отличать однокоренные слова от синонимов</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ют осмыслить чередование согласных и беглость гласных в корне</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чат распределять внимание между смысловым значением корня и его буквенным составом</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ют осмыслить способы образования сложных слов и видеть в них исходные кор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являются контрольными, показывают, насколько ученик усвоил тему "корень слов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лужат для уточнения понятия </a:t>
            </a:r>
            <a:r>
              <a:rPr b="0" i="1" lang="ru-RU" sz="1400" spc="-1" strike="noStrike">
                <a:solidFill>
                  <a:srgbClr val="000000"/>
                </a:solidFill>
                <a:latin typeface="Verdana"/>
              </a:rPr>
              <a:t>ударение</a:t>
            </a:r>
            <a:r>
              <a:rPr b="0" lang="ru-RU" sz="1400" spc="-1" strike="noStrike">
                <a:solidFill>
                  <a:srgbClr val="000000"/>
                </a:solidFill>
                <a:latin typeface="Verdana"/>
              </a:rPr>
              <a:t> и его смыслоразличительной роли. Они учат ребёнка произвольно переносить ударение с одного гласного звука на другой.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ормируют умение слышать безударные гласные [а], [и] в слове и реагировать на них как на "опасные" мест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точняют понятие </a:t>
            </a:r>
            <a:r>
              <a:rPr b="0" i="1" lang="ru-RU" sz="1400" spc="-1" strike="noStrike">
                <a:solidFill>
                  <a:srgbClr val="000000"/>
                </a:solidFill>
                <a:latin typeface="Verdana"/>
              </a:rPr>
              <a:t>проверочное слово</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ет осмыслить последовательность действий по выбору буквы гласного звука в корне</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дно из слов вопроса может подсказать тебе ответ. Найди его и подчеркн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ем пугает врагов жук-рогач? Где живут ласточки-береговушки? Что умеет делать белка-летяга? Чем питаются личинки бабочки-крапивницы и бабочки-капустницы?</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пытайся догадаться, из какого слова «выросли» данные слова. Если будет трудно, тебе помогут слова в скобках.</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ветить (рассвет, светлячок, Светлана)</a:t>
            </a:r>
            <a:br>
              <a:rPr sz="2800"/>
            </a:b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Внимательно рассмотри слова. Вдумайся в их смысл. Как ты думаешь, можно ли в каждом слове увидеть корень, из которого оно "выросл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ушевый, блинный, разгрузить, дождичек, слоновник, крабовы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pic>
        <p:nvPicPr>
          <p:cNvPr id="306" name="Picture 2" descr=""/>
          <p:cNvPicPr/>
          <p:nvPr/>
        </p:nvPicPr>
        <p:blipFill>
          <a:blip r:embed="rId1"/>
          <a:srcRect l="21878" t="41929" r="17702" b="27372"/>
          <a:stretch/>
        </p:blipFill>
        <p:spPr>
          <a:xfrm>
            <a:off x="428760" y="500040"/>
            <a:ext cx="8286480" cy="4071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0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читай слова парами. Скажи, все ли они однокоренные? Выпиши группы однокоренных родственных слов и обозначь в них корен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вца — ягнята. Тигр — тигрята. Коза — козлята. Лошадь — жеребят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Функциональный подход</a:t>
            </a:r>
            <a:endParaRPr b="1" lang="en-US" sz="3600" spc="-1" strike="noStrike">
              <a:solidFill>
                <a:srgbClr val="ff8d3e"/>
              </a:solidFill>
              <a:latin typeface="Verdana"/>
            </a:endParaRPr>
          </a:p>
        </p:txBody>
      </p:sp>
      <p:sp>
        <p:nvSpPr>
          <p:cNvPr id="234" name=""/>
          <p:cNvSpPr txBox="1"/>
          <p:nvPr/>
        </p:nvSpPr>
        <p:spPr>
          <a:xfrm>
            <a:off x="514080" y="529920"/>
            <a:ext cx="3932280" cy="4389480"/>
          </a:xfrm>
          <a:prstGeom prst="rect">
            <a:avLst/>
          </a:prstGeom>
          <a:noFill/>
          <a:ln w="0">
            <a:noFill/>
          </a:ln>
        </p:spPr>
        <p:txBody>
          <a:bodyPr lIns="182880" tIns="91440" anchor="t">
            <a:normAutofit/>
          </a:bodyPr>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зовите и узнайте предмет (Урок 1).</a:t>
            </a:r>
            <a:endParaRPr b="0" lang="en-US" sz="2000" spc="-1" strike="noStrike">
              <a:solidFill>
                <a:srgbClr val="000000"/>
              </a:solidFill>
              <a:latin typeface="Verdana"/>
            </a:endParaRPr>
          </a:p>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пределите его главные свойства и отношения между ними (Урок 2).</a:t>
            </a:r>
            <a:endParaRPr b="0" lang="en-US" sz="2000" spc="-1" strike="noStrike">
              <a:solidFill>
                <a:srgbClr val="000000"/>
              </a:solidFill>
              <a:latin typeface="Verdana"/>
            </a:endParaRPr>
          </a:p>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остоятельно опишите незнакомый овощ (Урок 3).</a:t>
            </a:r>
            <a:endParaRPr b="0" lang="en-US" sz="2000" spc="-1" strike="noStrike">
              <a:solidFill>
                <a:srgbClr val="000000"/>
              </a:solidFill>
              <a:latin typeface="Verdana"/>
            </a:endParaRPr>
          </a:p>
          <a:p>
            <a:pPr marL="609480" indent="-60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тап проверки д\з:</a:t>
            </a:r>
            <a:endParaRPr b="0" lang="en-US" sz="20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Сложите название текста из букв, разбросанных на панно (осень).</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ерите цвета осени из полосок, лежащих на столе учителя (10 полосок).</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спомните, что говорилось в тексте о «золотой осени», найдите, прочитайте (выборочное чтение).</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 чем говорит этот цвет полоски; найдите на доске слова, подходящие по смыслу и т.д.</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Раздели данные слова на две группы. Расскажи по плану, как ты будешь это делать.</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лан действий:</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 </a:t>
            </a:r>
            <a:r>
              <a:rPr b="0" i="1" lang="ru-RU" sz="2000" spc="-1" strike="noStrike">
                <a:solidFill>
                  <a:srgbClr val="000000"/>
                </a:solidFill>
                <a:latin typeface="Verdana"/>
              </a:rPr>
              <a:t>прочитаю</a:t>
            </a:r>
            <a:r>
              <a:rPr b="0" lang="ru-RU" sz="2000" spc="-1" strike="noStrike">
                <a:solidFill>
                  <a:srgbClr val="000000"/>
                </a:solidFill>
                <a:latin typeface="Verdana"/>
              </a:rPr>
              <a:t>: Времянка, резной, вовремя, вырезать, порезать, время, повременить, резчик, резак;</a:t>
            </a:r>
            <a:br>
              <a:rPr sz="2000"/>
            </a:br>
            <a:r>
              <a:rPr b="0" lang="ru-RU" sz="2000" spc="-1" strike="noStrike">
                <a:solidFill>
                  <a:srgbClr val="000000"/>
                </a:solidFill>
                <a:latin typeface="Verdana"/>
              </a:rPr>
              <a:t>2) </a:t>
            </a:r>
            <a:r>
              <a:rPr b="0" i="1" lang="ru-RU" sz="2000" spc="-1" strike="noStrike">
                <a:solidFill>
                  <a:srgbClr val="000000"/>
                </a:solidFill>
                <a:latin typeface="Verdana"/>
              </a:rPr>
              <a:t>разделю на две группы по смыслу</a:t>
            </a:r>
            <a:r>
              <a:rPr b="0" lang="ru-RU" sz="2000" spc="-1" strike="noStrike">
                <a:solidFill>
                  <a:srgbClr val="000000"/>
                </a:solidFill>
                <a:latin typeface="Verdana"/>
              </a:rPr>
              <a:t>: времянка, вовремя, время, повременить — резной, вырезать, резчик, резак; </a:t>
            </a:r>
            <a:br>
              <a:rPr sz="2000"/>
            </a:br>
            <a:r>
              <a:rPr b="0" lang="ru-RU" sz="2000" spc="-1" strike="noStrike">
                <a:solidFill>
                  <a:srgbClr val="000000"/>
                </a:solidFill>
                <a:latin typeface="Verdana"/>
              </a:rPr>
              <a:t>3)</a:t>
            </a:r>
            <a:r>
              <a:rPr b="0" i="1" lang="ru-RU" sz="2000" spc="-1" strike="noStrike">
                <a:solidFill>
                  <a:srgbClr val="000000"/>
                </a:solidFill>
                <a:latin typeface="Verdana"/>
              </a:rPr>
              <a:t> проверю: </a:t>
            </a:r>
            <a:r>
              <a:rPr b="0" lang="ru-RU" sz="2000" spc="-1" strike="noStrike">
                <a:solidFill>
                  <a:srgbClr val="000000"/>
                </a:solidFill>
                <a:latin typeface="Verdana"/>
              </a:rPr>
              <a:t>...; </a:t>
            </a:r>
            <a:br>
              <a:rPr sz="2000"/>
            </a:br>
            <a:r>
              <a:rPr b="0" lang="ru-RU" sz="2000" spc="-1" strike="noStrike">
                <a:solidFill>
                  <a:srgbClr val="000000"/>
                </a:solidFill>
                <a:latin typeface="Verdana"/>
              </a:rPr>
              <a:t>4) сделаю вывод: это группа однокоренных слов.</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бег, повар, отвар, варенье, бегун, забег, наваристый, убегать.</a:t>
            </a:r>
            <a:br>
              <a:rPr sz="2000"/>
            </a:br>
            <a:r>
              <a:rPr b="0" lang="ru-RU" sz="2000" spc="-1" strike="noStrike">
                <a:solidFill>
                  <a:srgbClr val="000000"/>
                </a:solidFill>
                <a:latin typeface="Verdana"/>
              </a:rPr>
              <a:t> </a:t>
            </a:r>
            <a:endParaRPr b="0" lang="en-US" sz="2000" spc="-1" strike="noStrike">
              <a:solidFill>
                <a:srgbClr val="000000"/>
              </a:solidFill>
              <a:latin typeface="Verdana"/>
            </a:endParaRPr>
          </a:p>
        </p:txBody>
      </p:sp>
      <p:pic>
        <p:nvPicPr>
          <p:cNvPr id="311" name="Рисунок 3" descr="группа однокоренных с корнем"/>
          <p:cNvPicPr/>
          <p:nvPr/>
        </p:nvPicPr>
        <p:blipFill>
          <a:blip r:embed="rId1"/>
          <a:stretch/>
        </p:blipFill>
        <p:spPr>
          <a:xfrm>
            <a:off x="2571840" y="3143160"/>
            <a:ext cx="3571920" cy="37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нимательно рассмотри план действий. Расскажи кому-нибудь или себе, как ты будешь выполнять это упражнение</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лан действий:</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a:t>
            </a:r>
            <a:r>
              <a:rPr b="0" i="1" lang="ru-RU" sz="1800" spc="-1" strike="noStrike">
                <a:solidFill>
                  <a:srgbClr val="000000"/>
                </a:solidFill>
                <a:latin typeface="Verdana"/>
              </a:rPr>
              <a:t>прочитаю</a:t>
            </a:r>
            <a:r>
              <a:rPr b="0" lang="ru-RU" sz="1800" spc="-1" strike="noStrike">
                <a:solidFill>
                  <a:srgbClr val="000000"/>
                </a:solidFill>
                <a:latin typeface="Verdana"/>
              </a:rPr>
              <a:t>: Валит снег, вялый листок, завяла трава, книжный развал, цветок увял, огромный валун …</a:t>
            </a:r>
            <a:br>
              <a:rPr sz="1800"/>
            </a:br>
            <a:r>
              <a:rPr b="0" lang="ru-RU" sz="1800" spc="-1" strike="noStrike">
                <a:solidFill>
                  <a:srgbClr val="000000"/>
                </a:solidFill>
                <a:latin typeface="Verdana"/>
              </a:rPr>
              <a:t>2) </a:t>
            </a:r>
            <a:r>
              <a:rPr b="0" i="1" lang="ru-RU" sz="1800" spc="-1" strike="noStrike">
                <a:solidFill>
                  <a:srgbClr val="000000"/>
                </a:solidFill>
                <a:latin typeface="Verdana"/>
              </a:rPr>
              <a:t>разделю на две группы по смыслу</a:t>
            </a:r>
            <a:r>
              <a:rPr b="0" lang="ru-RU" sz="1800" spc="-1" strike="noStrike">
                <a:solidFill>
                  <a:srgbClr val="000000"/>
                </a:solidFill>
                <a:latin typeface="Verdana"/>
              </a:rPr>
              <a:t>: валит снег, книжный развал, огромный валун,, образовался завал —вялый листок, завяла трава, цветок увял, вяленый лещ, вялить рыбу; </a:t>
            </a:r>
            <a:br>
              <a:rPr sz="1800"/>
            </a:br>
            <a:r>
              <a:rPr b="0" lang="ru-RU" sz="1800" spc="-1" strike="noStrike">
                <a:solidFill>
                  <a:srgbClr val="000000"/>
                </a:solidFill>
                <a:latin typeface="Verdana"/>
              </a:rPr>
              <a:t>3)</a:t>
            </a:r>
            <a:r>
              <a:rPr b="0" i="1" lang="ru-RU" sz="1800" spc="-1" strike="noStrike">
                <a:solidFill>
                  <a:srgbClr val="000000"/>
                </a:solidFill>
                <a:latin typeface="Verdana"/>
              </a:rPr>
              <a:t> проверю: </a:t>
            </a:r>
            <a:br>
              <a:rPr sz="1800"/>
            </a:br>
            <a:r>
              <a:rPr b="0" lang="ru-RU" sz="1800" spc="-1" strike="noStrike">
                <a:solidFill>
                  <a:srgbClr val="000000"/>
                </a:solidFill>
                <a:latin typeface="Verdana"/>
              </a:rPr>
              <a:t>4) сделаю вывод: это две группы однокоренных слов; </a:t>
            </a:r>
            <a:br>
              <a:rPr sz="1800"/>
            </a:br>
            <a:r>
              <a:rPr b="0" lang="ru-RU" sz="1800" spc="-1" strike="noStrike">
                <a:solidFill>
                  <a:srgbClr val="000000"/>
                </a:solidFill>
                <a:latin typeface="Verdana"/>
              </a:rPr>
              <a:t>5) </a:t>
            </a:r>
            <a:r>
              <a:rPr b="0" i="1" lang="ru-RU" sz="1800" spc="-1" strike="noStrike">
                <a:solidFill>
                  <a:srgbClr val="000000"/>
                </a:solidFill>
                <a:latin typeface="Verdana"/>
              </a:rPr>
              <a:t>напишу</a:t>
            </a:r>
            <a:r>
              <a:rPr b="0" lang="ru-RU"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сной орех, лисьи повадки, пожилой лесник, пойманная лисица, дальний лесок, редкий перелесок, рассерженные лисы, лесничий дядя Гоша.</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14" name="Рисунок 3" descr="развал корень"/>
          <p:cNvPicPr/>
          <p:nvPr/>
        </p:nvPicPr>
        <p:blipFill>
          <a:blip r:embed="rId1"/>
          <a:stretch/>
        </p:blipFill>
        <p:spPr>
          <a:xfrm>
            <a:off x="2571840" y="3214800"/>
            <a:ext cx="2703600" cy="293400"/>
          </a:xfrm>
          <a:prstGeom prst="rect">
            <a:avLst/>
          </a:prstGeom>
          <a:ln w="0">
            <a:noFill/>
          </a:ln>
        </p:spPr>
      </p:pic>
      <p:pic>
        <p:nvPicPr>
          <p:cNvPr id="315" name="Рисунок 4" descr="валит корень 2"/>
          <p:cNvPicPr/>
          <p:nvPr/>
        </p:nvPicPr>
        <p:blipFill>
          <a:blip r:embed="rId2"/>
          <a:stretch/>
        </p:blipFill>
        <p:spPr>
          <a:xfrm>
            <a:off x="3884760" y="3714840"/>
            <a:ext cx="2330280" cy="35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аздели данные слова на две группы. Выдели корень. Подчеркни глаголы.</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Летает, ледяной, летчик, летный, ледышка, полет, лед, подледный, обледенелый.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Внимательно рассмотри данные слова и попытайся определить, из одного или из двух разных корней они "выросли". Выбери по смыслу корень и вставь вместо точек.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олеть, болтать, заболел, болтун.</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горь Михайлович работает в …нице. Люба – ужасная …ушка, она может вы…ать все секреты. Бабушка тяжело ……на. Врач делал записи в истории …езн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pic>
        <p:nvPicPr>
          <p:cNvPr id="321" name="Picture 3" descr=""/>
          <p:cNvPicPr/>
          <p:nvPr/>
        </p:nvPicPr>
        <p:blipFill>
          <a:blip r:embed="rId1"/>
          <a:srcRect l="24708" t="32229" r="23682" b="33597"/>
          <a:stretch/>
        </p:blipFill>
        <p:spPr>
          <a:xfrm>
            <a:off x="357120" y="1000080"/>
            <a:ext cx="8501040" cy="3786120"/>
          </a:xfrm>
          <a:prstGeom prst="rect">
            <a:avLst/>
          </a:prstGeom>
          <a:ln w="0">
            <a:noFill/>
          </a:ln>
        </p:spPr>
      </p:pic>
      <p:sp>
        <p:nvSpPr>
          <p:cNvPr id="32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8d3e"/>
                </a:solidFill>
                <a:latin typeface="Verdana"/>
              </a:rPr>
              <a:t>учат отличать однокоренные слова от синонимов</a:t>
            </a:r>
            <a:endParaRPr b="1" lang="en-US" sz="2800" spc="-1" strike="noStrike">
              <a:solidFill>
                <a:srgbClr val="ff8d3e"/>
              </a:solidFill>
              <a:latin typeface="Verdana"/>
            </a:endParaRPr>
          </a:p>
        </p:txBody>
      </p:sp>
      <p:sp>
        <p:nvSpPr>
          <p:cNvPr id="32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читай слова. Скажи, пожалуйста, близки ли они по смыслу? А являются ли они однокоренным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звание, имя, кличка, прозвище, наименование.</a:t>
            </a: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26" name="Picture 2" descr=""/>
          <p:cNvPicPr/>
          <p:nvPr/>
        </p:nvPicPr>
        <p:blipFill>
          <a:blip r:embed="rId1"/>
          <a:srcRect l="23798" t="36811" r="21537" b="18839"/>
          <a:stretch/>
        </p:blipFill>
        <p:spPr>
          <a:xfrm>
            <a:off x="357120" y="428760"/>
            <a:ext cx="8358120" cy="435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28" name="Picture 2" descr=""/>
          <p:cNvPicPr/>
          <p:nvPr/>
        </p:nvPicPr>
        <p:blipFill>
          <a:blip r:embed="rId1"/>
          <a:srcRect l="21878" t="41929" r="18660" b="37608"/>
          <a:stretch/>
        </p:blipFill>
        <p:spPr>
          <a:xfrm>
            <a:off x="1071720" y="785880"/>
            <a:ext cx="7072200" cy="3643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30" name="Picture 2" descr=""/>
          <p:cNvPicPr/>
          <p:nvPr/>
        </p:nvPicPr>
        <p:blipFill>
          <a:blip r:embed="rId1"/>
          <a:srcRect l="20917" t="31693" r="20580" b="30782"/>
          <a:stretch/>
        </p:blipFill>
        <p:spPr>
          <a:xfrm>
            <a:off x="428760" y="714240"/>
            <a:ext cx="8358120" cy="3643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Технология развития эмоциональной сферы младших школьников  (И.П. Воропаева)</a:t>
            </a:r>
            <a:endParaRPr b="1" lang="en-US" sz="3200" spc="-1" strike="noStrike">
              <a:solidFill>
                <a:srgbClr val="ff8d3e"/>
              </a:solidFill>
              <a:latin typeface="Verdana"/>
            </a:endParaRPr>
          </a:p>
        </p:txBody>
      </p:sp>
      <p:sp>
        <p:nvSpPr>
          <p:cNvPr id="332"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ерез эмоциональные механизмы:  эм. реагирование – эм. дифференциация – эм-ролевая идентификация – эм. обособление.</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еагирование – мимика, пантомимика, тактильная риторика (ритмические импровизации, ритмические игры).</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ифференциация – развитие отдельных элементов внешней эм. выразительности.</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дентификация – действия, в которых обязательно присутствует полож. и отриц. персонаж.</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особление – снятие психоэм. напряжения, закрепление полож. настроения.</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Нейропсихологический подход</a:t>
            </a:r>
            <a:endParaRPr b="1" lang="en-US" sz="3200" spc="-1" strike="noStrike">
              <a:solidFill>
                <a:srgbClr val="ff8d3e"/>
              </a:solidFill>
              <a:latin typeface="Verdana"/>
            </a:endParaRPr>
          </a:p>
        </p:txBody>
      </p:sp>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ология работы с числовым рядом</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5 циклов заданий:</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1) числовой ряд в упроченных ситуациях;</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2) числовой ряд в прям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3) количественный ряд в прям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4) числовой ряд в обратн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5) параллельные ряды.</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Диагностическая игра «Пропавшая обезьяна»</a:t>
            </a:r>
            <a:endParaRPr b="1" lang="en-US" sz="3200" spc="-1" strike="noStrike">
              <a:solidFill>
                <a:srgbClr val="ff8d3e"/>
              </a:solidFill>
              <a:latin typeface="Verdana"/>
            </a:endParaRPr>
          </a:p>
        </p:txBody>
      </p:sp>
      <p:sp>
        <p:nvSpPr>
          <p:cNvPr id="3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ума, кума, не видела ли мою обезьяну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А какая она? — спрашивает кума-экспериментатор.</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льшая или маленькая твоя обезьянка?</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хвост у неё длинный?</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какие у неё руки?</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как она прыгает с ветки на ветку?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ловить мух?</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строить рожицы? Покажи, какие.</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петь? Спой её любимую песню.</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КАРТА-ХАРАКТЕРИСТИКА </a:t>
            </a:r>
            <a:br>
              <a:rPr sz="2400"/>
            </a:br>
            <a:r>
              <a:rPr b="1" lang="ru-RU" sz="2400" spc="-1" strike="noStrike">
                <a:solidFill>
                  <a:srgbClr val="ff8d3e"/>
                </a:solidFill>
                <a:latin typeface="Verdana"/>
              </a:rPr>
              <a:t>ВНЕШНЕЙ ЭМОЦИОНАЛЬНОЙ ВЫРАЗИТЕЛЬНОСТИ</a:t>
            </a:r>
            <a:endParaRPr b="1" lang="en-US" sz="2400" spc="-1" strike="noStrike">
              <a:solidFill>
                <a:srgbClr val="ff8d3e"/>
              </a:solidFill>
              <a:latin typeface="Verdana"/>
            </a:endParaRPr>
          </a:p>
        </p:txBody>
      </p:sp>
      <p:pic>
        <p:nvPicPr>
          <p:cNvPr id="336" name="Picture 2" descr=""/>
          <p:cNvPicPr/>
          <p:nvPr/>
        </p:nvPicPr>
        <p:blipFill>
          <a:blip r:embed="rId1"/>
          <a:srcRect l="24755" t="23164" r="23455" b="25664"/>
          <a:stretch/>
        </p:blipFill>
        <p:spPr>
          <a:xfrm>
            <a:off x="428760" y="428760"/>
            <a:ext cx="8286480" cy="4500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Эмоциональное реагирование</a:t>
            </a:r>
            <a:endParaRPr b="1" lang="en-US" sz="3200" spc="-1" strike="noStrike">
              <a:solidFill>
                <a:srgbClr val="ff8d3e"/>
              </a:solidFill>
              <a:latin typeface="Verdana"/>
            </a:endParaRPr>
          </a:p>
        </p:txBody>
      </p:sp>
      <p:sp>
        <p:nvSpPr>
          <p:cNvPr id="33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Жеребьёвки, считалки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Небылицы-перевертыш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Докучные сказк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Эмоциональная дифференциация, идентификация</a:t>
            </a:r>
            <a:endParaRPr b="1" lang="en-US" sz="3200" spc="-1" strike="noStrike">
              <a:solidFill>
                <a:srgbClr val="ff8d3e"/>
              </a:solidFill>
              <a:latin typeface="Verdana"/>
            </a:endParaRPr>
          </a:p>
        </p:txBody>
      </p:sp>
      <p:sp>
        <p:nvSpPr>
          <p:cNvPr id="34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i="1" lang="ru-RU" sz="2800" spc="-1" strike="noStrike">
                <a:solidFill>
                  <a:srgbClr val="000000"/>
                </a:solidFill>
                <a:latin typeface="Verdana"/>
              </a:rPr>
              <a:t>приговорки </a:t>
            </a:r>
            <a:r>
              <a:rPr b="0" lang="ru-RU" sz="2800" spc="-1" strike="noStrike">
                <a:solidFill>
                  <a:srgbClr val="000000"/>
                </a:solidFill>
                <a:latin typeface="Verdana"/>
              </a:rPr>
              <a:t>и </a:t>
            </a:r>
            <a:r>
              <a:rPr b="0" i="1" lang="ru-RU" sz="2800" spc="-1" strike="noStrike">
                <a:solidFill>
                  <a:srgbClr val="000000"/>
                </a:solidFill>
                <a:latin typeface="Verdana"/>
              </a:rPr>
              <a:t>заклич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гровые песни и игры-драматизаци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ём исполнения одной и той же роли разными участника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Эмоциональное обособление</a:t>
            </a:r>
            <a:endParaRPr b="1" lang="en-US" sz="3600" spc="-1" strike="noStrike">
              <a:solidFill>
                <a:srgbClr val="ff8d3e"/>
              </a:solidFill>
              <a:latin typeface="Verdana"/>
            </a:endParaRPr>
          </a:p>
        </p:txBody>
      </p:sp>
      <p:sp>
        <p:nvSpPr>
          <p:cNvPr id="3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Дразнил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Молчанк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Страшилки, </a:t>
            </a:r>
            <a:r>
              <a:rPr b="0" lang="ru-RU" sz="2800" spc="-1" strike="noStrike">
                <a:solidFill>
                  <a:srgbClr val="000000"/>
                </a:solidFill>
                <a:latin typeface="Verdana"/>
              </a:rPr>
              <a:t>или страшные истори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3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Числовой ряд в упроченных ситуациях</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ачестве первых коррекционных заданий были взяты такие, которые, с одной стороны, включали числовой ряд в упроченные ситуации и облегчали оперирование им, а с другой стороны, были направлены на избирательную актуализацию числового ряда, что позволяло отрабатывать активный характер действия, бороться со стереотипией.</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ачестве упроченных ситуаций выступали:</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сюжеты сказок «Репка», «Теремок»;</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ориентация в нумерации этажей и подъездов дома, ступенек лестницы;</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оперирование цифрами на циферблате часов и телефоне.</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заданиях по сюжетам сказок числовой ряд воспроизводился с самого начала, то есть максимально упроченно, в ситуациях с этажами и лестницей требовалась избирательная актуализация ряда (со 2-го по 8-й этаж, «шагай через ступеньку»).</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1" lang="ru-RU" sz="2400" spc="-1" strike="noStrike">
                <a:solidFill>
                  <a:srgbClr val="000000"/>
                </a:solidFill>
                <a:latin typeface="Verdana"/>
              </a:rPr>
              <a:t>Числовой ряд в прямом порядке </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 втором этапе использовались задания на актуализацию в соответствии с программой последовательности чисел в прямом порядке до 10. Сюда входили задания на нахождение цифр, расположенных в случайном порядке в таблице или неструктурированном поле (первый вид заданий известен как «таблицы Шульте», второй – как trail-making test); кроме того, использовались задания на копирование и самостоятельное составление таких таблиц, а также рисование предметов по пронумерованным точкам.</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Количественный ряд в прямом порядке. </a:t>
            </a:r>
            <a:r>
              <a:rPr b="0" lang="ru-RU" sz="2000" spc="-1" strike="noStrike">
                <a:solidFill>
                  <a:srgbClr val="000000"/>
                </a:solidFill>
                <a:latin typeface="Verdana"/>
              </a:rPr>
              <a:t>Вышеназванным целям служили и задания следующего цикла, где в пунктах маршрута или в ячейках таблиц Шульте были не цифры (с их абстрактным обозначением количества), а множество предметов – от 1 до 10. Их конкретность, необходимость самостоятельно абстрагировать признак количества делали эти задания более сложными для детей, чем предыдущие.</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одних заданиях этого цикла («Грибки», «Горох», «Лепестки») ребенок находил минимальное число предметов, обозначал количество цифрой и переходил к следующему. Написанная цифра могла служить опорой для последующего поиска, она маркировала пройденный путь и сужала поле поиска. В остальных заданиях этого цикла (варианты заданий с точками) ребенок был лишен опоры на цифры.</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Параллельные ряды. </a:t>
            </a:r>
            <a:r>
              <a:rPr b="0" lang="ru-RU" sz="2200" spc="-1" strike="noStrike">
                <a:solidFill>
                  <a:srgbClr val="000000"/>
                </a:solidFill>
                <a:latin typeface="Verdana"/>
              </a:rPr>
              <a:t>Последний цикл был проведен на наиболее сложном материале – параллельных рядах, требующих большего распределения внимания и, соответственно, большей опоры на программу.</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Задания с параллельными рядами предполагают одновременное выполнение двух подпрограмм. Они могут быть:</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а) идентичными (два ряда цифр в прямом или обратном порядке);</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б) аналогичными (прямой порядок букв и цифр по алфавиту);</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в) разнонаправленными (один ряд в прямом порядке, второй – в обратном).</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9:30:47Z</dcterms:created>
  <dc:creator>Acer</dc:creator>
  <dc:description/>
  <dc:language>en-US</dc:language>
  <cp:lastModifiedBy>Voloda</cp:lastModifiedBy>
  <dcterms:modified xsi:type="dcterms:W3CDTF">2021-06-13T04:13:14Z</dcterms:modified>
  <cp:revision>11</cp:revision>
  <dc:subject/>
  <dc:title>Коррекционно-развивающие технологии</dc:title>
</cp:coreProperties>
</file>