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8E2-B3B0-4F50-A66E-FAA28F6D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CFD-685D-4A52-B40D-79C9A7BE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DF285C-2E0C-46E0-A60D-02C74C51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41C333-DE72-477A-A2C6-ADE01B59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65AEDE-32A2-47F0-BB68-03028624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D53E3F-49D1-40D3-B9A1-39288C68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F0233A-4644-4843-B3B3-ADA08F50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863F19-2065-4BBD-9A64-4B7DA6F0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2BEE82-EE46-44D8-8632-02C4074F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1258B6-A2EA-4CEB-B17B-DE707FF8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5A8702-9794-4CD6-90DB-7014A7AF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36CB7-2722-403F-8A2A-9D8141E2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3277-2683-4AC3-B830-5C7296E7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C180A-A719-4438-A316-37625000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746CB-7F3A-45EE-8D8E-7C37991D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BDA4C-4637-478E-9820-BFA7C6D2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C186C-4263-41C1-A76C-2BD10D51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E42E0-7843-4715-A036-AE694AF0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74D66-495C-4977-A8BF-CEAAA49A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883D4-3163-4152-9FC2-062A6924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15471-730C-4F35-9916-7804F865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5D341-8C42-4506-9A94-FE69957F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0A26B-A90C-42CF-9156-54F897AB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BB9-7AC2-4D1D-BF07-98CCF5C4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FC833-73A2-4637-8BEA-1A21CB07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26ED91-23DF-4468-BD32-9CF712B7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E726BA-CE94-4EA2-8860-32B9FEC1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9D5595-6586-417A-B05D-D6229272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9B49E1-537F-4626-89F6-830132EA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429225-8DFE-40FF-A132-AF445F82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C5630A-0B39-4A8F-9685-3D4E757B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8BA19E-C061-4A25-9B23-B63B6538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8A4A07-147C-4987-9DA3-676054B3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379ED2-911B-4E25-A9AE-0724B703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C13F-5E34-4750-B097-F1C06933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8BEA77-8452-4CFE-A0C1-6230F031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20B282-5E94-47CD-9A40-334565A7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E145A0-85A8-4E89-BFD2-5BEB767F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46B2B9-22AA-4DB0-A23B-D44FBDD4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878D66-8474-4EBD-B258-2585BBFE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9DA6E8-7AB6-4D12-82A2-8C7511B8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227414-7997-4510-A824-750A5D43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B942C2-DEE2-47DC-8385-384B23A1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33118F-E945-4404-9678-E2A605EB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D39421-A8D6-4F70-A9FA-DC5B01E3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01EC-FBDE-4B5A-895F-A139DF84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391E1C-C2CE-4C38-BC78-20984A88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106049-9803-4501-85E1-F0A68313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29615F-20CF-40C0-A6AB-7FEEECFB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ADE6AC-7BBC-4BE4-B69F-7AA55B12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32ED80-147D-4008-A117-5400D172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5DE1CA-E3CD-4382-8CDF-42265CED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D31544-F2B2-4CAB-930A-DDDB4DF6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AE0CDA-81F9-4D04-B13A-5AF3684F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3E8A06-3FC5-41EA-AAF0-45C5BC6C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3801E3-55A9-4E22-AA4B-9BF89E0A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7B59-CCE9-422D-9DC5-32C8DB50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195E9D-3CAF-4F56-9910-94A22580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D0F7D7-122F-429F-871F-34B825B5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625B8B-5DB0-4022-AAF5-B77DC711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3AC344-847C-4717-BEF4-4AE654E3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36B6C0-2176-423A-BE05-21BD2DA5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FEA923-79CE-4DCE-B3B5-4F41AB0B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41560F-5631-40E7-9C75-22CDDA40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0F2D-F7D0-43D7-9340-DC7384F1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23BB-554E-46C2-9289-CC8F6BD2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8F28-8427-4175-A350-3151F2EB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CE70-1DA7-4569-BCB6-002AF832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BAB-6AB9-42E0-A97B-D22DB885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53E9-5835-43AF-89D0-3F9D9F9C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429E-E5AD-4789-9190-F2E695A1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90EA-DCF3-4D20-A9D9-C7E95A86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B95F-951C-4F7B-A938-D5CB99CD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F2F6-E99D-4BA8-8478-43BC9E21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B2681-F017-4880-B602-4875FD43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107A3-2657-4ABD-A3CE-292B97A5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A5326-FF29-405C-90F1-5C05F2EC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8CF6-A1A1-4ABA-B0E8-E68B6273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63BA-F8B8-48AF-9FBC-B03B81D5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475-6AFA-4929-92CE-69A836B1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8519-992B-4B56-A057-25A72C74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59B06-FC20-4D52-AEA7-63EED717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D9396-B03D-496F-8FEC-25AC1EDF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6B172-81A7-41AE-8AC2-2A6660A2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929D8-91AE-4809-97E4-04546277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BF96-6545-416B-BE8F-8788920D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69261-EC30-4643-92E3-858D916E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7C931-01B6-430A-8E69-5A83A686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CB8E7-E0B7-4F53-AFF4-ED832EA8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07C98-FC56-4587-8AC9-9250821C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A85-99C7-4459-B124-B4B5564E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44AF9-F9B2-4319-AACA-B05B908C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05F72-7140-46EC-9187-EA9114BC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672CC-31DB-44CA-9FD8-FB23E329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96D89-F8FF-41B5-B744-168A67EE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4D781-5181-487E-8CA5-3B17095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4A2F3-2F1E-46E8-A23A-B0D2D5BE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2C13A-0443-4761-812B-5F81BA78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B0BF9-DCE1-4B1B-A88A-8FCB76AB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46195-1B01-4450-8CF9-50B45E69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32B26-412F-44D0-AB49-22F33DED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762-DD0C-42E1-B769-CD9E8716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D2FAA-4F7E-492D-A1C7-3786E080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7E03A-D245-4CCC-8EA2-F1666B12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35B00-08B4-43D2-B4F2-7D19472F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0F7A5-612F-4FFC-A22C-7ECF4A1B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DF3C9-37AC-4389-8F21-46C14A9B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D6139-9DD8-4EBE-9634-1C376C51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D4A22-70EC-4849-AC4F-0C0B7E77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3BA6F-5D81-41EF-A22F-85E12FDD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52B31-4FA1-48F3-9C79-60E9108B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0386C-82F0-4976-A7D5-F794E30F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389-F858-4DCF-B821-A5D2C192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D72F0-6F98-42E7-83DD-55490806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C3CDF-A397-4EED-9720-334AB22D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69749-90DB-42C8-B99E-53B3A5CC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E54C6-1B47-4CCF-B09F-845BF264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9D3A6-FF83-46CC-818C-CF6EA47A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47859-D994-4ADB-B4E1-60B60F64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585E4-497F-493C-B9CB-086AC49A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6B127-D137-46E0-B825-0949F5ED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0A0E9-543B-461B-B840-4E8FC470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9C0C6-E48D-48BB-A7B9-9BCA2C27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F4B-3F7E-4449-85E8-46B8543A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F7CBF-A1A1-4D32-9869-A73F9EA2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49C41-620D-4A49-AAEB-8A0142F1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FE76B-7873-4E16-9E7E-5008E475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9F5B8-68EB-4E48-AFC2-1BC345FD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A5D6F-18E7-4C7F-B8CE-965CFA59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7DC51-9223-4630-8C2B-77B82E0D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B7DC7-B4C6-43AA-AC71-AEC4ACD5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BF3C8-7CD1-4612-8199-4044D047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1CAC1-91B1-4B85-BADD-84002986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8522E-1766-420F-A0D6-A2223E42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9D2-95B2-4851-A310-839959EA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F059D-4378-4613-975C-04255C01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36D13-103C-42AB-B2AF-FF0FAF2F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0AC72-5B5D-4193-8DDB-E0AA7C9E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D257A-80F1-4E2B-8425-08B53EC4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84110-8821-4B1B-AEC1-54005D6F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D6C5D-2715-485A-ADEA-7BDC71A2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282C8-8036-47A4-AA0B-F30E8CF3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BDE35-E877-4125-82DD-ECDC5EBE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44BCD-A398-4624-A61E-CDA6692C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BD339-EE7E-43CA-87B2-210CC09A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AB5-B377-42C7-BDD6-38A19684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462C7-F132-490B-AC7D-5082DDD4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7776D-BE42-4BBD-96BB-CB5003D3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946CE-9A81-410C-9249-01C01C2C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706F0-EC76-45F5-B94B-7450BB93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BE185-0C8E-4528-B86C-639462D4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AEBB5-F09E-4B01-BE63-D9869581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4CF04-D001-4833-B7DB-7870E09A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12366A-EBD7-49BE-8CD1-19CBE930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959194-AA12-4803-B1B9-EFCDDB06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703C87-0F89-48DB-B6E7-D247DF2D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8CA5-1648-43CA-8EFA-1B72341FB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F5D4-68F1-4A6C-BCAC-4060EB21CC3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DE12-2EEE-43FE-B0FC-782ECD870F7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FF96-C019-40C7-9744-D75DDF3627D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3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DB05-0BA0-4001-8501-5B2C86238B1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5041-6588-4D08-82B6-738318364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C21E-CE4D-436E-9D85-8253DF850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60F0-233E-454F-AD85-1AEEDB288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B279-DA18-48D5-ACB5-F89E3974D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66B8-7778-4B0A-96B0-002D22016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BEFB-8B1F-4E61-9D7D-84440E44620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56C0-419B-4FB5-9382-FFF565A10E4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793D-F647-4AF6-BDEE-24BD74DEE6F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Язык и речь.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Формулы вежлив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усский язык. 4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Прямоугольник 1"/>
          <p:cNvSpPr/>
          <p:nvPr/>
        </p:nvSpPr>
        <p:spPr>
          <a:xfrm>
            <a:off x="-14400" y="45496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ерезвоните, пожалуйста, через несколько мину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ередай мне соль, пожалуй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жалуйста, оплатите проез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Рисунок 2" descr=""/>
          <p:cNvPicPr/>
          <p:nvPr/>
        </p:nvPicPr>
        <p:blipFill>
          <a:blip r:embed="rId1"/>
          <a:stretch/>
        </p:blipFill>
        <p:spPr>
          <a:xfrm>
            <a:off x="4973760" y="600120"/>
            <a:ext cx="3809880" cy="3778200"/>
          </a:xfrm>
          <a:prstGeom prst="rect">
            <a:avLst/>
          </a:prstGeom>
          <a:ln w="0">
            <a:noFill/>
          </a:ln>
        </p:spPr>
      </p:pic>
      <p:sp>
        <p:nvSpPr>
          <p:cNvPr id="635" name="Прямоугольник 3"/>
          <p:cNvSpPr/>
          <p:nvPr/>
        </p:nvSpPr>
        <p:spPr>
          <a:xfrm>
            <a:off x="0" y="44280"/>
            <a:ext cx="878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- Как выделяется это слово «пожалуйста» в  предложения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оставьте свои предложения с этим сло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Звуко-буквенный анализ слова «пожалус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Прямоугольник 1"/>
          <p:cNvSpPr/>
          <p:nvPr/>
        </p:nvSpPr>
        <p:spPr>
          <a:xfrm>
            <a:off x="2438280" y="23760"/>
            <a:ext cx="449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b6e5a"/>
                </a:solidFill>
                <a:latin typeface="Arial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2"/>
          <p:cNvSpPr/>
          <p:nvPr/>
        </p:nvSpPr>
        <p:spPr>
          <a:xfrm>
            <a:off x="249120" y="990720"/>
            <a:ext cx="672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гра «Доскажи словечк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3"/>
          <p:cNvSpPr/>
          <p:nvPr/>
        </p:nvSpPr>
        <p:spPr>
          <a:xfrm>
            <a:off x="222120" y="182880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ает даже ледяная глыб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слова тёплого...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зеленеет старый пен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услышит..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льчик вежливый и развит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ворит при встрече..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во Франции, и в Да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рощанье говорят..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5"/>
          <p:cNvSpPr/>
          <p:nvPr/>
        </p:nvSpPr>
        <p:spPr>
          <a:xfrm>
            <a:off x="10058400" y="1344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b6e5a"/>
                </a:solidFill>
                <a:latin typeface="Arial"/>
              </a:rPr>
              <a:t>спаси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6"/>
          <p:cNvSpPr/>
          <p:nvPr/>
        </p:nvSpPr>
        <p:spPr>
          <a:xfrm>
            <a:off x="10210680" y="28195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b6e5a"/>
                </a:solidFill>
                <a:latin typeface="Arial"/>
              </a:rPr>
              <a:t>добр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7"/>
          <p:cNvSpPr/>
          <p:nvPr/>
        </p:nvSpPr>
        <p:spPr>
          <a:xfrm>
            <a:off x="10515600" y="4267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b6e5a"/>
                </a:solidFill>
                <a:latin typeface="Arial"/>
              </a:rPr>
              <a:t>здравств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"/>
          <p:cNvSpPr/>
          <p:nvPr/>
        </p:nvSpPr>
        <p:spPr>
          <a:xfrm>
            <a:off x="10363320" y="53341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b6e5a"/>
                </a:solidFill>
                <a:latin typeface="Arial"/>
              </a:rPr>
              <a:t>до сви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-0.67083 0.12801 E">
                                      <p:cBhvr>
                                        <p:cTn id="6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L -0.62917 0.06852 E">
                                      <p:cBhvr>
                                        <p:cTn id="10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-0.57083 0.01297 E">
                                      <p:cBhvr>
                                        <p:cTn id="14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-0.5625 -0.00926 E">
                                      <p:cBhvr>
                                        <p:cTn id="18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Прямоугольник 1"/>
          <p:cNvSpPr/>
          <p:nvPr/>
        </p:nvSpPr>
        <p:spPr>
          <a:xfrm>
            <a:off x="636840" y="193680"/>
            <a:ext cx="69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b6e5a"/>
                </a:solidFill>
                <a:latin typeface="Arial"/>
              </a:rPr>
              <a:t>Подведение итогов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4"/>
          <p:cNvSpPr/>
          <p:nvPr/>
        </p:nvSpPr>
        <p:spPr>
          <a:xfrm>
            <a:off x="228600" y="137160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 какой целью мы употребляем в речи «вежливые» с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ие формулы вежливости мы изобрели сегодня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Рисунок 5" descr=""/>
          <p:cNvPicPr/>
          <p:nvPr/>
        </p:nvPicPr>
        <p:blipFill>
          <a:blip r:embed="rId1"/>
          <a:stretch/>
        </p:blipFill>
        <p:spPr>
          <a:xfrm>
            <a:off x="4494240" y="3733920"/>
            <a:ext cx="313704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Прямоугольник 1"/>
          <p:cNvSpPr/>
          <p:nvPr/>
        </p:nvSpPr>
        <p:spPr>
          <a:xfrm>
            <a:off x="3589200" y="179280"/>
            <a:ext cx="501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b6e5a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Рисунок 2" descr=""/>
          <p:cNvPicPr/>
          <p:nvPr/>
        </p:nvPicPr>
        <p:blipFill>
          <a:blip r:embed="rId1"/>
          <a:stretch/>
        </p:blipFill>
        <p:spPr>
          <a:xfrm>
            <a:off x="4105440" y="3965400"/>
            <a:ext cx="4572000" cy="285768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3"/>
          <p:cNvSpPr/>
          <p:nvPr/>
        </p:nvSpPr>
        <p:spPr>
          <a:xfrm>
            <a:off x="0" y="167652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пр. 3 (с. 7) — подготовить сообщ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Рисунок 1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05920" cy="6400800"/>
          </a:xfrm>
          <a:prstGeom prst="rect">
            <a:avLst/>
          </a:prstGeom>
          <a:ln w="0">
            <a:noFill/>
          </a:ln>
        </p:spPr>
      </p:pic>
      <p:sp>
        <p:nvSpPr>
          <p:cNvPr id="602" name="TextBox 2"/>
          <p:cNvSpPr/>
          <p:nvPr/>
        </p:nvSpPr>
        <p:spPr>
          <a:xfrm>
            <a:off x="1600200" y="99072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eceef"/>
                </a:solidFill>
                <a:latin typeface="Arial"/>
              </a:rPr>
              <a:t>Четвертое сентябр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eceef"/>
                </a:solidFill>
                <a:latin typeface="Arial"/>
              </a:rPr>
              <a:t>Классная раб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05" name="Picture 2" descr="K:\ProPowerPoint\Шаблоны\ОБРАЗОВАНИЕ\Школьная доска\ShkolDoskaPrint.jpg"/>
          <p:cNvPicPr/>
          <p:nvPr/>
        </p:nvPicPr>
        <p:blipFill>
          <a:blip r:embed="rId1"/>
          <a:stretch/>
        </p:blipFill>
        <p:spPr>
          <a:xfrm>
            <a:off x="-71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Прямая соединительная линия 7"/>
          <p:cNvSpPr/>
          <p:nvPr/>
        </p:nvSpPr>
        <p:spPr>
          <a:xfrm>
            <a:off x="285840" y="1905120"/>
            <a:ext cx="864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9"/>
          <p:cNvSpPr/>
          <p:nvPr/>
        </p:nvSpPr>
        <p:spPr>
          <a:xfrm>
            <a:off x="320760" y="2438280"/>
            <a:ext cx="857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1"/>
          <p:cNvSpPr/>
          <p:nvPr/>
        </p:nvSpPr>
        <p:spPr>
          <a:xfrm>
            <a:off x="285840" y="1816200"/>
            <a:ext cx="8858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Propisi"/>
                <a:ea typeface="Times New Roman"/>
              </a:rPr>
              <a:t>Зз  Зз  Зз  Зз  З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Propisi"/>
                <a:ea typeface="Times New Roman"/>
              </a:rPr>
              <a:t>зс  сз  зс  сз  з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Propisi"/>
                <a:ea typeface="Times New Roman"/>
              </a:rPr>
              <a:t>Завод, завтрак, заяц, здоровье, здравствуй.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Propis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12"/>
          <p:cNvSpPr/>
          <p:nvPr/>
        </p:nvSpPr>
        <p:spPr>
          <a:xfrm>
            <a:off x="142920" y="3124080"/>
            <a:ext cx="864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428760" y="421488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Propis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17"/>
          <p:cNvSpPr/>
          <p:nvPr/>
        </p:nvSpPr>
        <p:spPr>
          <a:xfrm>
            <a:off x="268200" y="3886200"/>
            <a:ext cx="8642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21"/>
          <p:cNvSpPr/>
          <p:nvPr/>
        </p:nvSpPr>
        <p:spPr>
          <a:xfrm>
            <a:off x="500040" y="33577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Propis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Propis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22"/>
          <p:cNvSpPr/>
          <p:nvPr/>
        </p:nvSpPr>
        <p:spPr>
          <a:xfrm>
            <a:off x="142920" y="4594320"/>
            <a:ext cx="864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25"/>
          <p:cNvSpPr/>
          <p:nvPr/>
        </p:nvSpPr>
        <p:spPr>
          <a:xfrm>
            <a:off x="285840" y="5410080"/>
            <a:ext cx="849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йдите однокоренны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делите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 каких словах мы сегодня будем говорить? Назовите тему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32c16"/>
                </a:solidFill>
                <a:latin typeface="Century Schoolbook"/>
              </a:rPr>
              <a:t>АКТУАЛИЗАЦИЯ ЗНАНИЙ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616" name="Прямоугольник 2"/>
          <p:cNvGrpSpPr/>
          <p:nvPr/>
        </p:nvGrpSpPr>
        <p:grpSpPr>
          <a:xfrm>
            <a:off x="-176040" y="365040"/>
            <a:ext cx="9253440" cy="6407280"/>
            <a:chOff x="-176040" y="365040"/>
            <a:chExt cx="9253440" cy="6407280"/>
          </a:xfrm>
        </p:grpSpPr>
        <p:pic>
          <p:nvPicPr>
            <p:cNvPr id="61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176040" y="365040"/>
              <a:ext cx="9253440" cy="640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0" y="457200"/>
              <a:ext cx="8915400" cy="60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70c0"/>
                  </a:solidFill>
                  <a:latin typeface="Century Schoolbook"/>
                </a:rPr>
                <a:t>Прочитайте. Выпишите слова вежливост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70c0"/>
                  </a:solidFill>
                  <a:latin typeface="Century Schoolbook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Встречу, новый разговор мы со «здравствуйте» начнём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Чтобы что-то попросить. Нужно вежливыми быть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Мы «пожалуйста» добавим — будут все довольны нами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Если наступил на ножку, хоть случайно, хоть немножко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Сразу говори «простите» или лучше «извините»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Если бабушка с утра пирожок тебе дала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Ты возьми, скажи «спасибо» — станет бабушка счастливой!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Каждый скажет на прощанье, уходя, всем «до свиданья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Century Schoolbook"/>
              </a:rPr>
              <a:t>ПРОВЕР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0" name="TextBox 2"/>
          <p:cNvSpPr/>
          <p:nvPr/>
        </p:nvSpPr>
        <p:spPr>
          <a:xfrm>
            <a:off x="152280" y="59220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дравствуйте,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жалуйста,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остите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, извините, простите, до свидан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3"/>
          <p:cNvSpPr/>
          <p:nvPr/>
        </p:nvSpPr>
        <p:spPr>
          <a:xfrm>
            <a:off x="0" y="584208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можно проверить написанные вами сло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ите ещё три «вежливых» слова с непроверяемым на­пис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Рисунок 4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53341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0" y="228600"/>
            <a:ext cx="8762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САМООПРЕДЕЛЕНИЕ К ДЕЯТЕЛЬНОСТИ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4" name="Прямоугольник 2"/>
          <p:cNvSpPr/>
          <p:nvPr/>
        </p:nvSpPr>
        <p:spPr>
          <a:xfrm>
            <a:off x="187200" y="4919760"/>
            <a:ext cx="853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важно употреблять в речи «вежливые» с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ют человека, который постоянно использует такие слова в своей речи?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ежливым, воспитанны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ие чувства вызывает у вас общение с таким челове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омогают эти слова в жизни? Приведите примеры си­туаций из собствен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3"/>
          <p:cNvSpPr/>
          <p:nvPr/>
        </p:nvSpPr>
        <p:spPr>
          <a:xfrm>
            <a:off x="187200" y="144792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вар. К слову «вежливый» подберите слова </a:t>
            </a: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синонимы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вар. Найти слова </a:t>
            </a: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антонимы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к слову «вежливы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РАБОТА ПО УЧЕБНИКУ </a:t>
            </a:r>
            <a:br>
              <a:rPr sz="3200"/>
            </a:b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УПР. 3 (С. 7)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7" name="Picture 3" descr="C:\Users\Лидия\Desktop\4950995_3.jpg"/>
          <p:cNvPicPr/>
          <p:nvPr/>
        </p:nvPicPr>
        <p:blipFill>
          <a:blip r:embed="rId1"/>
          <a:stretch/>
        </p:blipFill>
        <p:spPr>
          <a:xfrm>
            <a:off x="3048120" y="609480"/>
            <a:ext cx="5410080" cy="3818160"/>
          </a:xfrm>
          <a:prstGeom prst="rect">
            <a:avLst/>
          </a:prstGeom>
          <a:ln w="0">
            <a:noFill/>
          </a:ln>
        </p:spPr>
      </p:pic>
      <p:sp>
        <p:nvSpPr>
          <p:cNvPr id="628" name="Прямоугольник 2"/>
          <p:cNvSpPr/>
          <p:nvPr/>
        </p:nvSpPr>
        <p:spPr>
          <a:xfrm>
            <a:off x="0" y="4427640"/>
            <a:ext cx="8771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читайте группы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каких случаях вы употребите слов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спасибо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 в каких слу­чаях —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благодарю вас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ие ещё слова приветствия вы зна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акие слова вы скажете, здороваясь с друзьями, со взрослым человеком? Назовите слова извинения. Когда мы употребляем эти с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чего нам так много «вежливых» слов с одинаковым смысл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ите слова группами по заданию учеб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4920" y="6480"/>
            <a:ext cx="8510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ЭТАЛОН ПРОВЕР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324000" y="1052640"/>
          <a:ext cx="8351640" cy="5630760"/>
        </p:xfrm>
        <a:graphic>
          <a:graphicData uri="http://schemas.openxmlformats.org/drawingml/2006/table">
            <a:tbl>
              <a:tblPr/>
              <a:tblGrid>
                <a:gridCol w="2090520"/>
                <a:gridCol w="6261120"/>
              </a:tblGrid>
              <a:tr h="61020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лова прощ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Речевая ситу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17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о свидания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любой ситу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51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сего хорошего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сего доброго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любой ситуации с оттенком пожел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980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о встречи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ситуации, когда предполагается последующая встреча, вместо до сви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1020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ощайте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 прощании на длительный срок или навсег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51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покойной ночи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оброй ночи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щание на 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17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частливо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сле непринуждённой дружеской бес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51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ивет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ка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ружеское прощание; употребляется при обращении с хорошо знакомыми, близкими люд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entury Schoolbook"/>
              </a:rPr>
              <a:t>ФИЗМИНУТКА.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32" name="Рисунок 3" descr=""/>
          <p:cNvPicPr/>
          <p:nvPr/>
        </p:nvPicPr>
        <p:blipFill>
          <a:blip r:embed="rId1"/>
          <a:stretch/>
        </p:blipFill>
        <p:spPr>
          <a:xfrm>
            <a:off x="1254240" y="2438280"/>
            <a:ext cx="5790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Администратор</cp:lastModifiedBy>
  <dcterms:modified xsi:type="dcterms:W3CDTF">2021-06-13T13:30:3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