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8.png" ContentType="image/png"/>
  <Override PartName="/ppt/media/image14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E1C2-488E-46EF-80EC-B98216D8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306F-2634-4D80-B004-8BB6D991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A6CF3B-647A-4CB8-8591-B7710BC7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0867A4-7A1B-4D70-9C50-7B8EE4E4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D57BE8-305A-4200-890E-685335C9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C68805-4242-4E69-9B2C-905C8C88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098A09-F3FD-4CB6-BF2E-BDF0222A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065EDE-28BD-4780-8F0A-2DF9F455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3BAB0D-8778-4148-B114-C5C79287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C77458-BD87-4445-BB6A-FB534DF1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7B83D0-8BB7-4BBD-8209-FA3CDB13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3B578-6F37-4DE3-86DF-50C747667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D985-6D14-40A5-B608-9B1C99BEF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1ABCBE-5B3B-4D01-9A83-414196C5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7832F-A9C5-4778-8DAA-0A9B78E7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E7969-3ECC-4C87-A6CE-B96E5900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5C8339-8FB1-4101-8635-AD351EC1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B4DF09-9BDB-4C62-9F94-F8421150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C50ECA-D00D-42C7-B246-D388DA10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C6476-C4DE-4C94-B36C-0B7B999A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7C930D-2CD0-4AE6-B15E-056F5849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B712FB-F1FE-47E5-A233-A60634A0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28CC8C-1494-49AE-9DEA-FB57BADDE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73BF-E82F-4C32-AA2D-69788D0A2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9ADF7-7DDB-4D27-B091-A8B901B63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7EF7606-57E3-479E-8C5D-A505B6065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FF8BA8-AC49-401C-B79C-F7537AAA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096E9D0-7246-41A8-9AB5-903F8D3C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1C5564-147F-46A6-8801-9A47A95B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942904-90F8-47CF-B44E-A286BF4F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D65C0DC-3497-4E29-8BF4-4E78AD83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EA9FC2-0C5E-43A9-92E8-BB85B7E7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47B19B-F213-408B-A313-F215B3EA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27A001-0CE3-4FF3-89BD-4D29FD76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A26A-0FA2-4985-939A-0D7465E27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BD7DE8-6AAA-43CD-A136-60101D4B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87D429-918F-4580-AE7A-1E73EBE54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2AAF26-78DC-4366-AE9E-F6DB8E144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8A138B7-B470-400E-830D-662848DA8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6AC5336-61FF-48A8-B605-AD24157B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D6AC30B-80F7-4F2B-8DAA-8306B765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E6E3E46-B3CA-4CBB-B801-3CC6DDB9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1FD9065-7E62-451D-8196-FF6B5446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440B688-5290-4DCA-B361-148499A1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90764F-B986-4356-B8AE-D68F7FAE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5600-037C-4EA7-8B55-7B65157A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7476D54-0567-422C-B762-93B1497E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B8919D-E92A-46AD-9192-7CFA83A0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1FA82D-F38B-44F4-B4BB-EFBBC61A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21691E0-AFCF-463D-A7EB-EDB55B26C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0133170-2949-4591-8344-81D89835E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D07C00-5BFB-47EC-AD7A-43D86E7CE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DC173F-0686-405F-BD53-4206C274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C86233-B3FA-4F61-9E30-EBB27B58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F065BF-7312-412D-8992-B1ADA1A7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B9B540-137E-4B3C-9416-0B8FBB05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0AA8-BD12-4C77-99C0-AC6DF420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046052-FFF9-4553-9F62-51F33D28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59CB4D-FBBD-409A-A24D-48355433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2B41B4-56F6-4AB0-9A4A-D8E0179A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45F43F-5CF2-454C-AD27-B6048853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F6AF24-85BA-4CB1-9B4A-E6726655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2CFA5E-B1BC-483F-861C-BD8E349F4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44F1FD-72B9-4599-870F-72EB37162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D781-00EF-4492-AF45-C3EE539A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0D8C-DBE5-4146-B416-7379F0FD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B88A-1111-49AA-8533-D9C0BB11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C777-7DB3-410C-B7EB-D4D8ECDC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DD10-84E6-4530-B9DF-7673A3BE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B2E1-F892-4FCE-B658-C5941FE6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F4E4-60AE-44F9-AB12-3A0C5613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859E-D974-466A-9D50-08990A9B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595E-185C-4B48-B185-551629788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ACFF-EE58-4200-8599-D69F86C34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EED00-795B-45F8-BEEF-94ECD01D3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131CE-AD5B-4931-9001-C21B8436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99F95-BBD9-4063-8781-73E68D84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D596E-36F4-45D0-9713-3D407447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D849F-3E64-4460-9A82-B855DACF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C28D-C98A-4350-842D-8752624F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7E863-ADA0-412D-89DE-D65C22FC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966F6-AEC6-4349-BA4C-DCD2FB1D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0806E-9539-4B5C-86B6-F6D568E9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7E14A-7908-4BAB-B1D7-C54067A9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8AD66-5AD1-406D-AA7B-A877FE8C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45190-DB8E-484E-AC03-CEA547518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FA192-10A6-4AF0-A9B0-78840CFC2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53A42-2518-4D69-BA7C-8DC48F5A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3E24E-25AC-4AE6-8CAD-83218186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49CF1-8A7C-4CFC-B5EB-843A60B4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3CED-8C9D-413B-877B-65CB1705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A6D16-1CBF-4AA9-A57E-AE9987F0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896C3-5B93-48EC-B0AD-51586A3C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AB4D9-B9EA-47C8-A2B5-33FA1D1F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2DFC9-0F86-4655-AAAF-5E6D69B1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4C020-C9A0-458D-A63F-DB3175D8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4EE67-9A4C-4E9D-AD99-C5242A7A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2B4B0-9CEE-4C51-BB4B-57116B48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957A8-38A8-484E-9CE4-933BAE219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77B27-83D7-4754-BAC7-E3CEDBCF3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B1E3F-5496-4F7C-86A9-99D453B7F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B56C-8E0A-47E1-BD95-C80453D2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04292-C58F-4115-8460-AEE15465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832A4-4976-45DE-9BE3-034466E1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2F18F-829D-46EE-A5AD-6F81F424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ED596-A8A4-4C2E-BD3A-8DC9B862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69818-4897-45E5-B9B0-6B84D8F3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26A05-98F1-4F3A-89F4-690011AE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01111-5E64-4FCA-BDAB-78EFB0FE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A53A1-CBEE-4C9D-A217-2ACF10F3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92CE1-DAF8-4D47-BA76-93B3B2AA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1499C-0A50-433F-BB52-3C9B434DA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F74B-5845-4DC7-B50B-FE1B41A6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C1FE6-8D7D-4673-A0E7-7F733F1E6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BBB48-1AC2-4E4E-876B-B98B626FA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7E509-22F0-4252-9834-7175A069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481CF-6D6F-47AD-B896-2F05DCEE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7F178-41FF-4AA0-9128-EF52C67F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1B1C2-3326-4090-9F32-A4C36753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6FAAE-DBC1-4C13-8860-E9A6F7AB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6F4CD-3B57-49EE-8F28-F19A8973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AA846-342D-4BA7-8932-20751305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2CD41-3A61-4E14-93ED-1A15C04A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8FAE-058A-420C-B5EA-F0494432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EE1E2-A6FA-4997-B1EC-D6ADB69B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A5EB1-842A-44B0-B214-FD4557BE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C973E-552A-46D6-B02E-7DECF29C0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354EB-FCAF-4836-A5F9-348C49022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4CCE1-7856-485C-B263-77400BC0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162B2-1D45-454D-B8BD-1DB6B3BE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EA874-0A0B-4409-B90B-E737C71F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1CC63-067B-4300-BBC4-907A35C5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C8109-7E44-4721-BEB0-C026A616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09441-057A-4BA4-83B4-6C57A45A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B483-C0F4-404F-97F6-312A84CF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B3FAD-7F48-42CC-B41A-67A3C98A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2F90B-FB7B-414B-A490-5D6E7243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A00C5-7FBF-4767-BD01-EF39FDA9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2EFE9-6B3B-4A7D-98A5-590A76A36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3052B-819C-4B11-9C00-2F069802E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3756D-F6EA-4F5E-BFC4-0F0E79B76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0CB91-9804-45F8-B496-E8653D25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025D7-E9CB-4C4B-A248-4211343C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7E1E5-6F42-4225-8C2F-B416E042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D607C-2A7F-4B12-91EB-9850765B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9E36-73DC-4C77-BF1D-BEF8B8D2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27CAD-48AE-46B7-B2A8-49CF681F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56103-278F-4EDC-B871-D26F9D3E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9FE78-6066-489C-9951-2617F213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51776-CDC1-4B8D-8FDB-8B9EE9C8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7AEF0-D914-49EF-9C61-AC0B3C0C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F7302-8C26-4CA1-8896-C4B9B6DC8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375F9-5C36-4CBF-84C5-4FDCCCF9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3790D2-BA55-4AFF-B680-530E461DC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1BD615-F067-478F-A292-EA7F19C1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C58524-F619-4EA4-B62C-A4ED4257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1D92-94C1-47DF-89E9-10A41456F4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8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9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0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860C-5B33-4E62-8CCD-0F9395428996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sldNum" idx="3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04EF-B5EC-48AB-9CE8-9DAC0C36B602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ftr" idx="3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sldNum" idx="3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BDD1-356B-464F-9798-A8EB6C1EA72F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ftr" idx="3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sldNum" idx="3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A2E0-D032-4E8A-9B4E-B85134867F8A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ftr" idx="3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907C-0F5E-48A4-8A15-E8A04D81CD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5C3A-ABBC-4C09-B04B-49FC06CD7F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BB00-1F73-4D67-8666-E351A76508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2588-0A58-45BD-A01B-02E6D946CA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3B9C-E237-4E84-ACBC-6D7B7A8CB6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F974-8E91-4A89-BBBE-F4866E8BB70A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4FEB-3FE5-48EC-A829-BC361311A896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C2CF-E492-4DCA-A2ED-DD030A53B718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ftr" idx="2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Язык и речь. 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Формулы вежлив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Русский язык. 4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МК «Школа Ро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Прямоугольник 1"/>
          <p:cNvSpPr/>
          <p:nvPr/>
        </p:nvSpPr>
        <p:spPr>
          <a:xfrm>
            <a:off x="-14400" y="454968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ерезвоните, пожалуйста, через несколько мину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ередай мне соль, пожалуйс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ожалуйста, оплатите проезд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Рисунок 2" descr=""/>
          <p:cNvPicPr/>
          <p:nvPr/>
        </p:nvPicPr>
        <p:blipFill>
          <a:blip r:embed="rId1"/>
          <a:stretch/>
        </p:blipFill>
        <p:spPr>
          <a:xfrm>
            <a:off x="4973760" y="600120"/>
            <a:ext cx="3809880" cy="3778200"/>
          </a:xfrm>
          <a:prstGeom prst="rect">
            <a:avLst/>
          </a:prstGeom>
          <a:ln w="0">
            <a:noFill/>
          </a:ln>
        </p:spPr>
      </p:pic>
      <p:sp>
        <p:nvSpPr>
          <p:cNvPr id="635" name="Прямоугольник 3"/>
          <p:cNvSpPr/>
          <p:nvPr/>
        </p:nvSpPr>
        <p:spPr>
          <a:xfrm>
            <a:off x="0" y="44280"/>
            <a:ext cx="878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- Как выделяется это слово «пожалуйста» в  предложения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Составьте свои предложения с этим сло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Звуко-буквенный анализ слова «пожалус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Прямоугольник 1"/>
          <p:cNvSpPr/>
          <p:nvPr/>
        </p:nvSpPr>
        <p:spPr>
          <a:xfrm>
            <a:off x="2438280" y="23760"/>
            <a:ext cx="449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b6e5a"/>
                </a:solidFill>
                <a:latin typeface="Arial"/>
              </a:rPr>
              <a:t>Рефлекс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Прямоугольник 2"/>
          <p:cNvSpPr/>
          <p:nvPr/>
        </p:nvSpPr>
        <p:spPr>
          <a:xfrm>
            <a:off x="249120" y="990720"/>
            <a:ext cx="672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гра «Доскажи словечк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Прямоугольник 3"/>
          <p:cNvSpPr/>
          <p:nvPr/>
        </p:nvSpPr>
        <p:spPr>
          <a:xfrm>
            <a:off x="222120" y="1828800"/>
            <a:ext cx="8534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тает даже ледяная глыб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 слова тёплого...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зеленеет старый пен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гда услышит..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льчик вежливый и развит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ворит при встрече..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во Франции, и в Да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прощанье говорят...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5"/>
          <p:cNvSpPr/>
          <p:nvPr/>
        </p:nvSpPr>
        <p:spPr>
          <a:xfrm>
            <a:off x="10058400" y="13446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b6e5a"/>
                </a:solidFill>
                <a:latin typeface="Arial"/>
              </a:rPr>
              <a:t>спасиб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6"/>
          <p:cNvSpPr/>
          <p:nvPr/>
        </p:nvSpPr>
        <p:spPr>
          <a:xfrm>
            <a:off x="10210680" y="281952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b6e5a"/>
                </a:solidFill>
                <a:latin typeface="Arial"/>
              </a:rPr>
              <a:t>добры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7"/>
          <p:cNvSpPr/>
          <p:nvPr/>
        </p:nvSpPr>
        <p:spPr>
          <a:xfrm>
            <a:off x="10515600" y="42670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b6e5a"/>
                </a:solidFill>
                <a:latin typeface="Arial"/>
              </a:rPr>
              <a:t>здравств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8"/>
          <p:cNvSpPr/>
          <p:nvPr/>
        </p:nvSpPr>
        <p:spPr>
          <a:xfrm>
            <a:off x="10363320" y="53341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b6e5a"/>
                </a:solidFill>
                <a:latin typeface="Arial"/>
              </a:rPr>
              <a:t>до сви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9259E-006 L -0.67083 0.12801 E">
                                      <p:cBhvr>
                                        <p:cTn id="6" dur="20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7037E-006 L -0.62917 0.06852 E">
                                      <p:cBhvr>
                                        <p:cTn id="10" dur="2000" fill="hold"/>
                                        <p:tgtEl>
                                          <p:spTgt spid="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81481E-006 L -0.57083 0.01297 E">
                                      <p:cBhvr>
                                        <p:cTn id="14" dur="2000" fill="hold"/>
                                        <p:tgtEl>
                                          <p:spTgt spid="6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7 L -0.5625 -0.00926 E">
                                      <p:cBhvr>
                                        <p:cTn id="18" dur="2000" fill="hold"/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Прямоугольник 1"/>
          <p:cNvSpPr/>
          <p:nvPr/>
        </p:nvSpPr>
        <p:spPr>
          <a:xfrm>
            <a:off x="636840" y="193680"/>
            <a:ext cx="693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b6e5a"/>
                </a:solidFill>
                <a:latin typeface="Arial"/>
              </a:rPr>
              <a:t>Подведение итогов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Прямоугольник 4"/>
          <p:cNvSpPr/>
          <p:nvPr/>
        </p:nvSpPr>
        <p:spPr>
          <a:xfrm>
            <a:off x="228600" y="1371600"/>
            <a:ext cx="8458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 какой целью мы употребляем в речи «вежливые» сло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ие формулы вежливости мы изобрели сегодня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Рисунок 5" descr=""/>
          <p:cNvPicPr/>
          <p:nvPr/>
        </p:nvPicPr>
        <p:blipFill>
          <a:blip r:embed="rId1"/>
          <a:stretch/>
        </p:blipFill>
        <p:spPr>
          <a:xfrm>
            <a:off x="4494240" y="3733920"/>
            <a:ext cx="313704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Прямоугольник 1"/>
          <p:cNvSpPr/>
          <p:nvPr/>
        </p:nvSpPr>
        <p:spPr>
          <a:xfrm>
            <a:off x="3589200" y="179280"/>
            <a:ext cx="501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b6e5a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Рисунок 2" descr=""/>
          <p:cNvPicPr/>
          <p:nvPr/>
        </p:nvPicPr>
        <p:blipFill>
          <a:blip r:embed="rId1"/>
          <a:stretch/>
        </p:blipFill>
        <p:spPr>
          <a:xfrm>
            <a:off x="4105440" y="3965400"/>
            <a:ext cx="4572000" cy="2857680"/>
          </a:xfrm>
          <a:prstGeom prst="rect">
            <a:avLst/>
          </a:prstGeom>
          <a:ln w="0">
            <a:noFill/>
          </a:ln>
        </p:spPr>
      </p:pic>
      <p:sp>
        <p:nvSpPr>
          <p:cNvPr id="648" name="Прямоугольник 3"/>
          <p:cNvSpPr/>
          <p:nvPr/>
        </p:nvSpPr>
        <p:spPr>
          <a:xfrm>
            <a:off x="0" y="1676520"/>
            <a:ext cx="883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Упр. 3 (с. 7) — подготовить сообщ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Рисунок 1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305920" cy="6400800"/>
          </a:xfrm>
          <a:prstGeom prst="rect">
            <a:avLst/>
          </a:prstGeom>
          <a:ln w="0">
            <a:noFill/>
          </a:ln>
        </p:spPr>
      </p:pic>
      <p:sp>
        <p:nvSpPr>
          <p:cNvPr id="602" name="TextBox 2"/>
          <p:cNvSpPr/>
          <p:nvPr/>
        </p:nvSpPr>
        <p:spPr>
          <a:xfrm>
            <a:off x="1600200" y="990720"/>
            <a:ext cx="624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eceef"/>
                </a:solidFill>
                <a:latin typeface="Arial"/>
              </a:rPr>
              <a:t>Четвертое сентябр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eceef"/>
                </a:solidFill>
                <a:latin typeface="Arial"/>
              </a:rPr>
              <a:t>Классная рабо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05" name="Picture 2" descr="K:\ProPowerPoint\Шаблоны\ОБРАЗОВАНИЕ\Школьная доска\ShkolDoskaPrint.jpg"/>
          <p:cNvPicPr/>
          <p:nvPr/>
        </p:nvPicPr>
        <p:blipFill>
          <a:blip r:embed="rId1"/>
          <a:stretch/>
        </p:blipFill>
        <p:spPr>
          <a:xfrm>
            <a:off x="-71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6" name="Прямая соединительная линия 7"/>
          <p:cNvSpPr/>
          <p:nvPr/>
        </p:nvSpPr>
        <p:spPr>
          <a:xfrm>
            <a:off x="285840" y="1905120"/>
            <a:ext cx="8642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ая соединительная линия 9"/>
          <p:cNvSpPr/>
          <p:nvPr/>
        </p:nvSpPr>
        <p:spPr>
          <a:xfrm>
            <a:off x="320760" y="2438280"/>
            <a:ext cx="8570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оугольник 11"/>
          <p:cNvSpPr/>
          <p:nvPr/>
        </p:nvSpPr>
        <p:spPr>
          <a:xfrm>
            <a:off x="285840" y="1816200"/>
            <a:ext cx="885816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Propisi"/>
                <a:ea typeface="Times New Roman"/>
              </a:rPr>
              <a:t>Зз  Зз  Зз  Зз  З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Propisi"/>
                <a:ea typeface="Times New Roman"/>
              </a:rPr>
              <a:t>зс  сз  зс  сз  з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Propisi"/>
                <a:ea typeface="Times New Roman"/>
              </a:rPr>
              <a:t>Завод, завтрак, заяц, здоровье, здравствуй.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Propis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ая соединительная линия 12"/>
          <p:cNvSpPr/>
          <p:nvPr/>
        </p:nvSpPr>
        <p:spPr>
          <a:xfrm>
            <a:off x="142920" y="3124080"/>
            <a:ext cx="8642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15"/>
          <p:cNvSpPr/>
          <p:nvPr/>
        </p:nvSpPr>
        <p:spPr>
          <a:xfrm>
            <a:off x="428760" y="4214880"/>
            <a:ext cx="871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Propis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ая соединительная линия 17"/>
          <p:cNvSpPr/>
          <p:nvPr/>
        </p:nvSpPr>
        <p:spPr>
          <a:xfrm>
            <a:off x="268200" y="3886200"/>
            <a:ext cx="8642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оугольник 21"/>
          <p:cNvSpPr/>
          <p:nvPr/>
        </p:nvSpPr>
        <p:spPr>
          <a:xfrm>
            <a:off x="500040" y="33577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Propisi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Propis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ая соединительная линия 22"/>
          <p:cNvSpPr/>
          <p:nvPr/>
        </p:nvSpPr>
        <p:spPr>
          <a:xfrm>
            <a:off x="142920" y="4594320"/>
            <a:ext cx="8642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25"/>
          <p:cNvSpPr/>
          <p:nvPr/>
        </p:nvSpPr>
        <p:spPr>
          <a:xfrm>
            <a:off x="285840" y="5410080"/>
            <a:ext cx="849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айдите однокоренные 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Выделите кор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 каких словах мы сегодня будем говорить? Назовите тему ур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b32c16"/>
                </a:solidFill>
                <a:latin typeface="Century Schoolbook"/>
              </a:rPr>
              <a:t>АКТУАЛИЗАЦИЯ ЗНАНИЙ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grpSp>
        <p:nvGrpSpPr>
          <p:cNvPr id="616" name="Прямоугольник 2"/>
          <p:cNvGrpSpPr/>
          <p:nvPr/>
        </p:nvGrpSpPr>
        <p:grpSpPr>
          <a:xfrm>
            <a:off x="-176040" y="365040"/>
            <a:ext cx="9253440" cy="6407280"/>
            <a:chOff x="-176040" y="365040"/>
            <a:chExt cx="9253440" cy="6407280"/>
          </a:xfrm>
        </p:grpSpPr>
        <p:pic>
          <p:nvPicPr>
            <p:cNvPr id="617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-176040" y="365040"/>
              <a:ext cx="9253440" cy="640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0" y="457200"/>
              <a:ext cx="8915400" cy="60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70c0"/>
                  </a:solidFill>
                  <a:latin typeface="Century Schoolbook"/>
                </a:rPr>
                <a:t>Прочитайте. Выпишите слова вежливости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70c0"/>
                  </a:solidFill>
                  <a:latin typeface="Century Schoolbook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Встречу, новый разговор мы со «здравствуйте» начнём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Чтобы что-то попросить. Нужно вежливыми быть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Мы «пожалуйста» добавим — будут все довольны нами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Если наступил на ножку, хоть случайно, хоть немножко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Сразу говори «простите» или лучше «извините»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Если бабушка с утра пирожок тебе дала,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Ты возьми, скажи «спасибо» — станет бабушка счастливой!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Каждый скажет на прощанье, уходя, всем «до свиданья»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75c01"/>
                </a:solidFill>
                <a:latin typeface="Century Schoolbook"/>
              </a:rPr>
              <a:t>ПРОВЕРКА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0" name="TextBox 2"/>
          <p:cNvSpPr/>
          <p:nvPr/>
        </p:nvSpPr>
        <p:spPr>
          <a:xfrm>
            <a:off x="152280" y="59220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Здравствуйте,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ожалуйста,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остите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, извините, простите, до свидань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Прямоугольник 3"/>
          <p:cNvSpPr/>
          <p:nvPr/>
        </p:nvSpPr>
        <p:spPr>
          <a:xfrm>
            <a:off x="0" y="584208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к можно проверить написанные вами слов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шите ещё три «вежливых» слова с непроверяемым на­писа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Рисунок 4" descr=""/>
          <p:cNvPicPr/>
          <p:nvPr/>
        </p:nvPicPr>
        <p:blipFill>
          <a:blip r:embed="rId1"/>
          <a:stretch/>
        </p:blipFill>
        <p:spPr>
          <a:xfrm>
            <a:off x="3352680" y="1905120"/>
            <a:ext cx="533412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120" y="228600"/>
            <a:ext cx="8762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САМООПРЕДЕЛЕНИЕ К ДЕЯТЕЛЬНОСТИ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4" name="Прямоугольник 2"/>
          <p:cNvSpPr/>
          <p:nvPr/>
        </p:nvSpPr>
        <p:spPr>
          <a:xfrm>
            <a:off x="187200" y="4919760"/>
            <a:ext cx="8534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 важно употреблять в речи «вежливые» сло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называют человека, который постоянно использует такие слова в своей речи?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ежливым, воспитанным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кие чувства вызывает у вас общение с таким человек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помогают эти слова в жизни? Приведите примеры си­туаций из собственно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3"/>
          <p:cNvSpPr/>
          <p:nvPr/>
        </p:nvSpPr>
        <p:spPr>
          <a:xfrm>
            <a:off x="187200" y="1447920"/>
            <a:ext cx="8534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1вар. К слову «вежливый» подберите слова </a:t>
            </a:r>
            <a:r>
              <a:rPr b="1" i="1" lang="ru-RU" sz="3600" spc="-1" strike="noStrike">
                <a:solidFill>
                  <a:srgbClr val="0070c0"/>
                </a:solidFill>
                <a:latin typeface="Arial"/>
              </a:rPr>
              <a:t>синонимы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2 вар. Найти слова </a:t>
            </a:r>
            <a:r>
              <a:rPr b="1" i="1" lang="ru-RU" sz="3600" spc="-1" strike="noStrike">
                <a:solidFill>
                  <a:srgbClr val="0070c0"/>
                </a:solidFill>
                <a:latin typeface="Arial"/>
              </a:rPr>
              <a:t>антонимы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к слову «вежливы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РАБОТА ПО УЧЕБНИКУ </a:t>
            </a:r>
            <a:br>
              <a:rPr sz="3200"/>
            </a:b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УПР. 3 (С. 7).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27" name="Picture 3" descr="C:\Users\Лидия\Desktop\4950995_3.jpg"/>
          <p:cNvPicPr/>
          <p:nvPr/>
        </p:nvPicPr>
        <p:blipFill>
          <a:blip r:embed="rId1"/>
          <a:stretch/>
        </p:blipFill>
        <p:spPr>
          <a:xfrm>
            <a:off x="3048120" y="609480"/>
            <a:ext cx="5410080" cy="3818160"/>
          </a:xfrm>
          <a:prstGeom prst="rect">
            <a:avLst/>
          </a:prstGeom>
          <a:ln w="0">
            <a:noFill/>
          </a:ln>
        </p:spPr>
      </p:pic>
      <p:sp>
        <p:nvSpPr>
          <p:cNvPr id="628" name="Прямоугольник 2"/>
          <p:cNvSpPr/>
          <p:nvPr/>
        </p:nvSpPr>
        <p:spPr>
          <a:xfrm>
            <a:off x="0" y="4427640"/>
            <a:ext cx="8771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рочитайте группы с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 каких случаях вы употребите слово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спасибо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 в каких слу­чаях —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благодарю вас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кие ещё слова приветствия вы знает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Какие слова вы скажете, здороваясь с друзьями, со взрослым человеком? Назовите слова извинения. Когда мы употребляем эти сло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чего нам так много «вежливых» слов с одинаковым смысл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шите слова группами по заданию учеб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94920" y="6480"/>
            <a:ext cx="85107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entury Schoolbook"/>
              </a:rPr>
              <a:t>ЭТАЛОН ПРОВЕРК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324000" y="1052640"/>
          <a:ext cx="8351640" cy="5630760"/>
        </p:xfrm>
        <a:graphic>
          <a:graphicData uri="http://schemas.openxmlformats.org/drawingml/2006/table">
            <a:tbl>
              <a:tblPr/>
              <a:tblGrid>
                <a:gridCol w="2090520"/>
                <a:gridCol w="6261120"/>
              </a:tblGrid>
              <a:tr h="61020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Слова прощ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Речевая ситу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41796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До свидания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 любой ситу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1512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Всего хорошего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Всего доброго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 любой ситуации с оттенком пожел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82980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До встречи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 ситуации, когда предполагается последующая встреча, вместо до свид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1020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рощайте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и прощании на длительный срок или навсег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91512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Спокойной ночи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Доброй ночи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ощание на ноч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1796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Счастливо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сле непринуждённой дружеской бесе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91512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ривет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ока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ружеское прощание; употребляется при обращении с хорошо знакомыми, близкими людь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Century Schoolbook"/>
              </a:rPr>
              <a:t>ФИЗМИНУТКА.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32" name="Рисунок 3" descr=""/>
          <p:cNvPicPr/>
          <p:nvPr/>
        </p:nvPicPr>
        <p:blipFill>
          <a:blip r:embed="rId1"/>
          <a:stretch/>
        </p:blipFill>
        <p:spPr>
          <a:xfrm>
            <a:off x="1254240" y="2438280"/>
            <a:ext cx="57909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Администратор</cp:lastModifiedBy>
  <dcterms:modified xsi:type="dcterms:W3CDTF">2021-06-13T13:30:34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