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15.jpeg" ContentType="image/jpeg"/>
  <Override PartName="/ppt/media/image24.wmf" ContentType="image/x-wmf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28.wmf" ContentType="image/x-wmf"/>
  <Override PartName="/ppt/media/image6.jpeg" ContentType="image/jpeg"/>
  <Override PartName="/ppt/media/image30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29.wmf" ContentType="image/x-wmf"/>
  <Override PartName="/ppt/media/image32.wmf" ContentType="image/x-wmf"/>
  <Override PartName="/ppt/media/image33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jpeg" ContentType="image/jpeg"/>
  <Override PartName="/ppt/media/image14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21.png" ContentType="image/pn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DDB1-9631-4561-B2C1-DFED476378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254D-DEF7-4F83-9CC8-B373F9676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1895-1048-40DD-AFF9-F33A997571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F198-8CFC-46CC-9643-2DFC9E7DF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052-6EFE-42E7-93F1-475DAE8B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212-6419-4C52-AE7A-B399305F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DBA-4C6B-4007-9A0E-C664D39D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746-FD44-457C-9F97-421FBB8A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5F2B-30EF-4017-827F-957E1542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48FB-D88E-40B4-93CC-72A0548D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47F2-18F0-455E-992F-E9AE3AB2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3FA8-393A-4707-BBBD-823C587F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DF78-F714-467E-80DA-85D19191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D933-B823-4E82-8803-9AA8FD37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DCCB-BD4C-4B69-BF21-F3B3EFA3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4CD-1CF7-4031-BC0E-1CF3335E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BF3D-1A0A-4BEE-9637-3A930D0A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7D93-D4AB-44FE-B093-AF7879C6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0B67-184E-40D1-B27D-02092291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A842-4FED-42CB-9B4E-5E6A74F0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8015-6980-4491-ADF0-71A4DB6C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5545E-1305-4FBF-A258-8E30031B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B5A1-369E-448D-85BD-26641D7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5EF74-D61B-41B9-89D9-C294E602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3E5F-608F-41C4-94FF-CB469419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736C-DF0E-4598-B602-926EEE30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980-F412-4ED5-BF96-418E8C70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3A65-5F7E-49D5-B846-38D518FA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0AD6-4551-4849-B533-D8F7D944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0163-26AE-4A65-8110-87582A81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50E1-B468-425E-801F-8467A7F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55EA-F92C-4AC3-9939-8839EFA6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F74C-5147-416F-B923-D3298362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C11B-3853-465C-B737-09E430DC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F8BE5-1DFA-428F-AB22-E2EDFAE6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504D5-A7A1-43FF-A923-E192F9AE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7A0F-9F99-4BE0-8EA5-FEC76665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56E-F718-4861-8E10-9FDEED7C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42FB-EC9B-490E-BFD3-17AFA023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358AF-1156-45E5-AD8A-8372C405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2779B-2E94-4CF9-A5A2-F758CFDA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F375-AF45-4CAE-9172-4C3E7F70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8011-F1F7-46C1-BF32-9D708F8E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38315-F2B0-4621-9EEF-E449B1A6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56E2A-848C-4DB8-8D0C-955E83FC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617B-CD20-441D-B8A1-D2D140E6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1111-DD8D-4889-B9F1-20AD6DCF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66C64-54D3-4306-AD3D-63830997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61E-54DF-41DE-BA5E-61ECE70E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FA46E-F67F-4319-9C85-B191B6D5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5C242-312F-423B-981C-E80DE466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C9F48-CECD-4E00-8619-134984D3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339AD-4EA7-4186-BD5B-BC35CFBD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34B32-3E2F-468C-A54C-2DD95F88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20E7C-CA46-46FC-9FC8-5713B2A8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A93CD-A13E-44FA-A188-12D6AFAC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C6D6-4D43-45B5-AB39-0F0CC028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03903-81FB-4359-9531-51E1314F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1560B-D4F2-4E3B-B8F8-A679D823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B70-DB16-4801-9C28-42B8C41E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B79A3-427F-41FE-8E6A-B3566743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D949D-ECD6-4245-896A-E93113F4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D2999-30D8-4AC2-B005-35F21AD0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D46DF-EF83-4D69-B1D9-0A93C65C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3A921-747D-43D1-9594-E807AF78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C4104-FF05-4DE4-AACE-792D2998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AE9A2-A798-434C-A296-5EFD814A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CC46D-110B-4224-84BD-0BE22620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ABBB2-796C-4E44-B0B7-C772AE98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35D4D-6052-478B-B095-CE6800ED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EB7-4781-4014-9189-3EA22D17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AB09-4783-420E-8D2D-3A244296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7693C-AAC9-4E4F-B8C6-881FCB40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6A96C-3A0E-4EE2-802D-40C7AF2F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EE6B7-8718-4EFF-B5F6-A5709BF0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6BE9A-65A3-4999-A153-797A55C7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2DCEC-F6E1-4FA5-9B60-4F4B8EA6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4F31D-DB97-41A2-9F30-267F85DA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2AE1F-F883-499F-92BC-DAE7D2B7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FDC0-FC76-4309-A79A-FC90034E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E0A3A-6833-4D49-BE3F-CC3D71E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D7E-C543-4030-A8F5-14E3FF0F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DC63-A704-4DF5-AFE4-E802E58C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A3C79-080F-47B3-94ED-0F156A23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50889-1731-4FAF-96C1-2C8EC416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8CB9F-D838-4802-876F-3AD40AB8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A1D67-71B7-4F0C-B201-3FA27D44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08665-C944-4DD0-A53B-D6CC8522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4E85E-E178-44A8-904D-7A860159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4729D-C7F2-4673-BC18-E329E2C3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49FED-A624-40D2-9C37-BAFAD78A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6F23-E989-4A50-8398-53DFAAE0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352-8ACE-47E5-96A2-116FBB9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4EC25-60B5-4BDA-8CBE-C87E69E7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07E7B-1439-4BD2-B75C-0D54D841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AD120-52D2-4424-BBAB-4B5134F4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9F959-6426-41F3-8229-F54F6B79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D031D-9A73-4F8F-89E8-A1DE0067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26D69-5224-4323-A897-1CBEAA28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BD9A7-5693-4488-BA6B-11984542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284F-11DF-40B6-A745-59D816C1F2E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99AA-6DFA-456F-B9AB-8EE5ECC0F3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7EC3-8BC1-49FA-A77A-CA6FF11961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D750-6988-4F4C-B3EE-E2FD9DB95D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FE71-A87E-44C3-9F87-965068BA379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DD18-A8EE-45FD-9EAA-C0C68D2E676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38EF-5D30-455D-B843-18D5BE5586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149F-FD8C-4E69-9AE5-11BDA7E7CB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46280" y="1103400"/>
            <a:ext cx="7245360" cy="28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Прямоугольник 3"/>
          <p:cNvSpPr/>
          <p:nvPr/>
        </p:nvSpPr>
        <p:spPr>
          <a:xfrm>
            <a:off x="1571760" y="285840"/>
            <a:ext cx="635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5436a"/>
                </a:solidFill>
                <a:latin typeface="Arial"/>
              </a:rPr>
              <a:t>ТОГБОУ «Центр лечебной педагогики и дифференцированного обучения»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4" descr="http://www.kostyor.ru/deti/img/klad.jpg"/>
          <p:cNvPicPr/>
          <p:nvPr/>
        </p:nvPicPr>
        <p:blipFill>
          <a:blip r:embed="rId1"/>
          <a:stretch/>
        </p:blipFill>
        <p:spPr>
          <a:xfrm>
            <a:off x="1055520" y="870120"/>
            <a:ext cx="1393920" cy="19476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2"/>
          <p:cNvSpPr/>
          <p:nvPr/>
        </p:nvSpPr>
        <p:spPr>
          <a:xfrm>
            <a:off x="2343600" y="2025720"/>
            <a:ext cx="5883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Формирование начальных числ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и геометрических представлений  у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с ограниченными возможностями здоровья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Этап №4. Знакомство с цифро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76360" y="981000"/>
            <a:ext cx="74995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олько после этого следует показать ребенку цифру и объяснить, что она обозначает. Многие специалисты рекомендуют придумывать ассоциации «На что похожа цифра». Обращайте внимание на цифры, которые окружают вокруг нас в повседневной жизни, например номер вашего дома, квартир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ти учатся не только считать, но и ориентироваться в пространстве и времен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Этап №5. Закрепление устойчивой цепочки взаимосвязи «количество предметов – число – цифра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47640" y="1916280"/>
            <a:ext cx="749952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детей с ОВЗ младшего возраста почти не развито абстрактное и логическое мышление, поэтому ребенок поймет только то, что вы объясните на наглядном пример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язательно предлагайте ребенку выполнять с предметами определенные действия и смотреть на результат, делать вывод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лавное правило — практические действия и многократные тренировк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836280"/>
            <a:ext cx="7499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очень сложный этап для детей с ОВЗ, в связи с нарушением у них взаимосвязи между полушариями головного мозг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достижения успеха необходимо систематически проводить упражнения для стимуляции тонкой  моторики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альчиковые упражнения в сочетании с самомассажем кистей и пальцев рук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инезиологические упражнения(«гимнастика мозга»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лечко, кулак- ребро-ладонь, ухо-нос и д.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Знакомство с отношениями и математическими действиями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пример, попросите положить перед собой 5 кружочков. Затем положите еще несколько. Спросите у ребенка, что изменилось и почему? Вы должны подвести его к выводу, что кружочков стало больше, потому что вы добавили кружочки. Аналогично объясните, что когда предметы убирают, то их становится меньш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обные упражнения нужно проводить практически на каждом занятии, меняя действия (что-то съели, кто-то прилетел, принес и т.п.). Ребенок должен научиться понимать математическую суть обычных действ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ез некоторое время нужно будет поменять подход. Теперь вы должны предлагать ребенку задания, в которых ему самому нужно будет сделать так, чтобы предметов стало больше или меньше. Спрашивайте, в результате каких еще действий количество предметов будет увеличиваться или уменьш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18216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836280"/>
            <a:ext cx="7499520" cy="51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а работа является подготовкой для ознакомления с действиями прибавления и вычитания. Когда вы увидите, что ребенок хорошо усвоил суть действий, пора познакомить его со знаками «плюс» и «минус». Обычно это делают на основе сказки. Придумайте любую историю, в которой есть большой и толстый герой Плюс, который любит, чтобы ему дарили подарки (или приходили в гости и т.п.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rbel"/>
              </a:rPr>
              <a:t>ИГРОВЫЕ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orbe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orbel"/>
              </a:rPr>
              <a:t>ПРИЕМ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0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ие  игровых ситуаций делает процесс обучения интересным, снимает утомляемость, поддерживает внимание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11" descr="Изображение 002"/>
          <p:cNvPicPr/>
          <p:nvPr/>
        </p:nvPicPr>
        <p:blipFill>
          <a:blip r:embed="rId1"/>
          <a:stretch/>
        </p:blipFill>
        <p:spPr>
          <a:xfrm>
            <a:off x="5500800" y="1071720"/>
            <a:ext cx="2233440" cy="1981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Изображение 004"/>
          <p:cNvPicPr/>
          <p:nvPr/>
        </p:nvPicPr>
        <p:blipFill>
          <a:blip r:embed="rId2"/>
          <a:stretch/>
        </p:blipFill>
        <p:spPr>
          <a:xfrm>
            <a:off x="3348000" y="4005360"/>
            <a:ext cx="2641680" cy="2286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5"/>
          <p:cNvSpPr/>
          <p:nvPr/>
        </p:nvSpPr>
        <p:spPr>
          <a:xfrm>
            <a:off x="-685800" y="-36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УРОК- СКАЗ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6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акие приемы вносят в урок атмосферу праздника, поднимают настроение, способствуют формированию учебной мотивации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4" name="Picture 7" descr="Изображение 025"/>
          <p:cNvPicPr/>
          <p:nvPr/>
        </p:nvPicPr>
        <p:blipFill>
          <a:blip r:embed="rId1"/>
          <a:stretch/>
        </p:blipFill>
        <p:spPr>
          <a:xfrm>
            <a:off x="4500720" y="2500200"/>
            <a:ext cx="41148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rbel"/>
              </a:rPr>
              <a:t>Использование нетрадиционных материалов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6" name="Picture 9" descr="Изображение 011"/>
          <p:cNvPicPr/>
          <p:nvPr/>
        </p:nvPicPr>
        <p:blipFill>
          <a:blip r:embed="rId1"/>
          <a:stretch/>
        </p:blipFill>
        <p:spPr>
          <a:xfrm>
            <a:off x="5181480" y="19890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Изображение 012"/>
          <p:cNvPicPr/>
          <p:nvPr/>
        </p:nvPicPr>
        <p:blipFill>
          <a:blip r:embed="rId2"/>
          <a:stretch/>
        </p:blipFill>
        <p:spPr>
          <a:xfrm>
            <a:off x="2643120" y="342900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380988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rbel"/>
              </a:rPr>
              <a:t>ИСПОЛЬЗОВАНИЕ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orbel"/>
              </a:rPr>
              <a:t> РАЗРЕЗНЫХ КАРТИНОК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64880" y="752400"/>
            <a:ext cx="3492360" cy="18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22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о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320"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чат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0" name="Picture 11" descr="Изображение 010"/>
          <p:cNvPicPr/>
          <p:nvPr/>
        </p:nvPicPr>
        <p:blipFill>
          <a:blip r:embed="rId1"/>
          <a:stretch/>
        </p:blipFill>
        <p:spPr>
          <a:xfrm>
            <a:off x="4000680" y="150012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Изображение 016"/>
          <p:cNvPicPr/>
          <p:nvPr/>
        </p:nvPicPr>
        <p:blipFill>
          <a:blip r:embed="rId2"/>
          <a:stretch/>
        </p:blipFill>
        <p:spPr>
          <a:xfrm>
            <a:off x="6324480" y="403848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15444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громную  помощь в овладении элементарными математическими представлениями детям с ОВЗ могут оказать родители. Домашняя обстановка способствует раскрепощению ребенка, и играя с ним дома  можно  закрепить полученные знания. Следует помнить, что принудительное обучение бесполезно и  даже вредно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Применение средств слуховой и зрительной нагляднос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3" name="Picture 24" descr="Изображение 020"/>
          <p:cNvPicPr/>
          <p:nvPr/>
        </p:nvPicPr>
        <p:blipFill>
          <a:blip r:embed="rId1"/>
          <a:stretch/>
        </p:blipFill>
        <p:spPr>
          <a:xfrm>
            <a:off x="4929120" y="157176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6" descr="Изображение 017"/>
          <p:cNvPicPr/>
          <p:nvPr/>
        </p:nvPicPr>
        <p:blipFill>
          <a:blip r:embed="rId2"/>
          <a:stretch/>
        </p:blipFill>
        <p:spPr>
          <a:xfrm>
            <a:off x="1714680" y="4000680"/>
            <a:ext cx="2336760" cy="17524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800" y="373392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Рисунок 9" descr="C:\Documents and Settings\Владелец\Рабочий стол\фото2\P1010102.JPG"/>
          <p:cNvPicPr/>
          <p:nvPr/>
        </p:nvPicPr>
        <p:blipFill>
          <a:blip r:embed="rId3"/>
          <a:srcRect l="0" t="0" r="24006" b="0"/>
          <a:stretch/>
        </p:blipFill>
        <p:spPr>
          <a:xfrm>
            <a:off x="5572080" y="3857760"/>
            <a:ext cx="2928960" cy="27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Пособия, изготовленные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совместно с детьм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30" name="Содержимое 3" descr="SAM_0534 - копия.jpg"/>
          <p:cNvPicPr/>
          <p:nvPr/>
        </p:nvPicPr>
        <p:blipFill>
          <a:blip r:embed="rId1"/>
          <a:stretch/>
        </p:blipFill>
        <p:spPr>
          <a:xfrm>
            <a:off x="1116000" y="1276200"/>
            <a:ext cx="2143080" cy="19767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6" descr="SAM_0537 - копия.jpg"/>
          <p:cNvPicPr/>
          <p:nvPr/>
        </p:nvPicPr>
        <p:blipFill>
          <a:blip r:embed="rId2"/>
          <a:stretch/>
        </p:blipFill>
        <p:spPr>
          <a:xfrm>
            <a:off x="3929040" y="3429000"/>
            <a:ext cx="1565280" cy="18572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0" descr="SAM_0540 - копия.jpg"/>
          <p:cNvPicPr/>
          <p:nvPr/>
        </p:nvPicPr>
        <p:blipFill>
          <a:blip r:embed="rId3"/>
          <a:stretch/>
        </p:blipFill>
        <p:spPr>
          <a:xfrm>
            <a:off x="6286680" y="1285920"/>
            <a:ext cx="2643120" cy="18525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1"/>
          <p:cNvSpPr/>
          <p:nvPr/>
        </p:nvSpPr>
        <p:spPr>
          <a:xfrm>
            <a:off x="1309680" y="5622840"/>
            <a:ext cx="75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обводили и раскрашивали рисунки, вырезали и наклеивали геометрические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Рисунок 4" descr="SAM_0535 - копия.jpg"/>
          <p:cNvPicPr/>
          <p:nvPr/>
        </p:nvPicPr>
        <p:blipFill>
          <a:blip r:embed="rId4"/>
          <a:stretch/>
        </p:blipFill>
        <p:spPr>
          <a:xfrm>
            <a:off x="4079880" y="1314360"/>
            <a:ext cx="1357200" cy="1938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о дети запоминают только то, над чем потрудились их руки, если ребенок что-то рисовал, чертил, вырезал или закрашивал,то это что-то само по себе становится опорой для его памя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т такие веселые фигуры помогают детям определять свойства геометрических фигур (наличие и количество углов, сторон, цвет каждой фигуры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5"/>
          <p:cNvSpPr txBox="1"/>
          <p:nvPr/>
        </p:nvSpPr>
        <p:spPr>
          <a:xfrm>
            <a:off x="252360" y="260280"/>
            <a:ext cx="287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КРУГ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440" name="Object 6"/>
          <p:cNvGraphicFramePr/>
          <p:nvPr/>
        </p:nvGraphicFramePr>
        <p:xfrm>
          <a:off x="1187280" y="1144440"/>
          <a:ext cx="6716880" cy="55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44440"/>
                    <a:ext cx="671688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2" name="Picture 8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Object 3"/>
          <p:cNvGraphicFramePr/>
          <p:nvPr/>
        </p:nvGraphicFramePr>
        <p:xfrm>
          <a:off x="1547640" y="1268280"/>
          <a:ext cx="5904000" cy="544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68280"/>
                    <a:ext cx="5904000" cy="54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WordArt 4"/>
          <p:cNvSpPr txBox="1"/>
          <p:nvPr/>
        </p:nvSpPr>
        <p:spPr>
          <a:xfrm>
            <a:off x="611280" y="189000"/>
            <a:ext cx="7921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ТРЕУГОЛЬНИ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Object 5"/>
          <p:cNvGraphicFramePr/>
          <p:nvPr/>
        </p:nvGraphicFramePr>
        <p:xfrm>
          <a:off x="10800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4"/>
          <p:cNvGraphicFramePr/>
          <p:nvPr/>
        </p:nvGraphicFramePr>
        <p:xfrm>
          <a:off x="3348000" y="5367240"/>
          <a:ext cx="410364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5367240"/>
                    <a:ext cx="41036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7"/>
          <p:cNvGraphicFramePr/>
          <p:nvPr/>
        </p:nvGraphicFramePr>
        <p:xfrm>
          <a:off x="3780000" y="5157720"/>
          <a:ext cx="3168360" cy="11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5157720"/>
                    <a:ext cx="316836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8"/>
          <p:cNvGraphicFramePr/>
          <p:nvPr/>
        </p:nvGraphicFramePr>
        <p:xfrm>
          <a:off x="5003640" y="4287960"/>
          <a:ext cx="1395720" cy="158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4287960"/>
                    <a:ext cx="139572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9"/>
          <p:cNvGraphicFramePr/>
          <p:nvPr/>
        </p:nvGraphicFramePr>
        <p:xfrm>
          <a:off x="3564000" y="2571840"/>
          <a:ext cx="2016000" cy="150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2571840"/>
                    <a:ext cx="201600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10"/>
          <p:cNvGraphicFramePr/>
          <p:nvPr/>
        </p:nvGraphicFramePr>
        <p:xfrm>
          <a:off x="3263760" y="1500120"/>
          <a:ext cx="2592360" cy="113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63760" y="1500120"/>
                    <a:ext cx="2592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12"/>
          <p:cNvGraphicFramePr/>
          <p:nvPr/>
        </p:nvGraphicFramePr>
        <p:xfrm>
          <a:off x="4235400" y="627120"/>
          <a:ext cx="912960" cy="138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0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35400" y="627120"/>
                    <a:ext cx="912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Text Box 13"/>
          <p:cNvSpPr/>
          <p:nvPr/>
        </p:nvSpPr>
        <p:spPr>
          <a:xfrm>
            <a:off x="108000" y="6021360"/>
            <a:ext cx="2303280" cy="74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что похо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14"/>
          <p:cNvGraphicFramePr/>
          <p:nvPr/>
        </p:nvGraphicFramePr>
        <p:xfrm>
          <a:off x="826920" y="981000"/>
          <a:ext cx="1843200" cy="94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3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26920" y="981000"/>
                    <a:ext cx="18432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Picture 17" descr=""/>
          <p:cNvPicPr/>
          <p:nvPr/>
        </p:nvPicPr>
        <p:blipFill>
          <a:blip r:embed="rId17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26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500" autoRev="1" fill="hold"/>
                                        <p:tgtEl>
                                          <p:spTgt spid="4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6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500" autoRev="1" fill="hold"/>
                                        <p:tgtEl>
                                          <p:spTgt spid="4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500" autoRev="1" fill="hold"/>
                                        <p:tgtEl>
                                          <p:spTgt spid="4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6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500" autoRev="1" fill="hold"/>
                                        <p:tgtEl>
                                          <p:spTgt spid="4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Object 3"/>
          <p:cNvGraphicFramePr/>
          <p:nvPr/>
        </p:nvGraphicFramePr>
        <p:xfrm>
          <a:off x="2693880" y="1628640"/>
          <a:ext cx="417204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1628640"/>
                    <a:ext cx="417204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WordArt 4"/>
          <p:cNvSpPr txBox="1"/>
          <p:nvPr/>
        </p:nvSpPr>
        <p:spPr>
          <a:xfrm>
            <a:off x="2340000" y="26028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КВАДРАТ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2"/>
          <p:cNvGraphicFramePr/>
          <p:nvPr/>
        </p:nvGraphicFramePr>
        <p:xfrm>
          <a:off x="2903400" y="189000"/>
          <a:ext cx="526896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3400" y="189000"/>
                    <a:ext cx="52689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WordArt 3"/>
          <p:cNvSpPr txBox="1"/>
          <p:nvPr/>
        </p:nvSpPr>
        <p:spPr>
          <a:xfrm>
            <a:off x="252360" y="260280"/>
            <a:ext cx="316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ОВАЛ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472" name="Picture 5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2"/>
          <p:cNvGraphicFramePr/>
          <p:nvPr/>
        </p:nvGraphicFramePr>
        <p:xfrm>
          <a:off x="1547640" y="1284120"/>
          <a:ext cx="5616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84120"/>
                    <a:ext cx="5616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WordArt 3"/>
          <p:cNvSpPr txBox="1"/>
          <p:nvPr/>
        </p:nvSpPr>
        <p:spPr>
          <a:xfrm>
            <a:off x="179280" y="189000"/>
            <a:ext cx="88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ПРЯМОУГОЛЬНИ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Условия развития познавательных интересо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формировать предметно-практическую деятельность, т.к.   только на этой основе возможно дальнейшее развитие познавательной сфер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опора на личный опыта ребенк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стимулировать познавательные интересы многообразием приемов занимательности (иллюстрацией, игрой, кроссвордами, задачами-шутками, занимательными упражнениями т.д.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специально обучать приемам умственной деятельност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чтобы учиться и развиваться, детям с особыми образовательными нуждами необходима дополнительная стимуляция, помощь и поддержка взрослы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1F3B-FCEB-4DB0-951B-7509017CCCD9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885E-FC6C-4E80-A847-0010678BBE7B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тематика вокруг на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дороге в школу, на прогулке,  или в магазине обращайте внимание детей на форму различных предметов в окружающем мире, их количеств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пример, тарелка круглая, часы круглые, а скатерть квадратна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росите, какую фигуру напоминает тот или иной предмет. 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«Поиграй со мной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торика - «Золушка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а - «Испечем печенье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и счет - «Накроем на стол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гра «Карусель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ь считать в пределах 5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эти игры можно играть не только с мамой на кухне, но и с папой в гараже, с бабушкой в саду, в парке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44480" y="16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34920" y="620640"/>
            <a:ext cx="7499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гко и просто вы можете приобщить ребенка ко многим математическим понятиям, способствовать их лучшему усвоению, поддерживать и развивать и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дость, которую вы доставите ребенку, станет и вашей радостью, проведенные вместе приятные минуты помогут вам сделать добрее и веселее совместную жизн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125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ти с особенностями развития часто не достигают этапа предметно-практической деятельности, их долгое время удовлетворяют простые манипуляции с предметами или сенсорные  ощущения. Некоторые дети пропускают этот этап, переходя к более сложным формам деятельности (например к счетным операциям),которые выполняются ребенком только формальн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69880" y="55080"/>
            <a:ext cx="7499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ика изучения чис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69880" y="919080"/>
            <a:ext cx="749952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накомство с математикой начинается со счета. Ребенок учится считать и запоминает цифр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этом этапе важно сформировать у ребенка представление о том, что число обозначает группу предметов с определенным количеством элемен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этого нужно не просто учить его называть по порядку числа, так он просто заучит числовой ряд. Рекомендуется использовать следующую методику изучения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Этап№1.Мотива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44320" y="1125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юбое занятие с ребенком должно проходить в доброжелательной обстановке. По возможности превращайте свои занятия в игру, отдавайте предпочтение практическим действиям с предметами. Начните занятие с яркого события — дайте ребенку 2 конфеты, надуйте 3 воздушных шара, нарисуйте несколько предметов мелом и т.д. Ваша задача- заинтересовать ребен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Этап№2.Счет предмет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жно, чтобы ребенок соблюдал правильный алгоритм «указал на предмет — назвал число — перешел к следующему предмету — назвал следующее число и т.д.» Поначалу производите эти действия вместе с ребенком — покажите сами, как надо считать, а он пусть повторит, указывайте на предметы, а он должен их считать и наоборо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Этап№3. Закрепл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125000"/>
            <a:ext cx="74995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гда ребенок пересчитает элементы и назовет конечное число, нужно провести закрепл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ще раз пересчитать предметы, но в другом направлен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ожить перед собой столько же кружочков, сколько и предметов — посчитать и и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рисовать (доложить) предметы, чтобы их стало нужное количеств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Игры с число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мотреть вокруг (или на картинку) и сказать, каких предметов соответствующее количеств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щепки, в качестве основы можно использовать любые картонные шаблоны(солнышко, ёж и  т.д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вариу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лшебная яблоньк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мино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5T13:43:44Z</dcterms:created>
  <dc:creator>Захарова</dc:creator>
  <dc:description/>
  <dc:language>en-US</dc:language>
  <cp:lastModifiedBy>Нинулька</cp:lastModifiedBy>
  <cp:lastPrinted>2020-02-24T19:13:47Z</cp:lastPrinted>
  <dcterms:modified xsi:type="dcterms:W3CDTF">2021-06-14T15:48:20Z</dcterms:modified>
  <cp:revision>99</cp:revision>
  <dc:subject/>
  <dc:title>Приемы работы по освоению элементарных математических навыков у детей с ограниченными возможностями</dc:title>
</cp:coreProperties>
</file>