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28.wmf" ContentType="image/x-wmf"/>
  <Override PartName="/ppt/media/image6.jpeg" ContentType="image/jpeg"/>
  <Override PartName="/ppt/media/image30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29.wmf" ContentType="image/x-wmf"/>
  <Override PartName="/ppt/media/image32.wmf" ContentType="image/x-wmf"/>
  <Override PartName="/ppt/media/image33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jpeg" ContentType="image/jpeg"/>
  <Override PartName="/ppt/media/image14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21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DB1A-2D86-4700-9123-0A79821C3F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F038-D23C-4038-B7B2-B78C6A786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5224-3DA1-4793-9D3D-7E2D3C306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A79F-2332-46FD-8D07-41F639B33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434-F0F5-4D8E-9113-BD8FAEDF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8D3-A5B0-43D9-BF82-D6DA5071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701-4C5E-4E98-9123-93DA2355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B98-D718-48F9-ACC9-90AE13FF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6B8A-FF75-4FBB-8E56-206FD903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E1B5-AAB1-4F3F-BB7A-4FAC3C53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3F66-9E50-45F6-890E-492AF07C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5EDA-EC42-4E89-A009-E8925D0E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E9CD-CD80-4240-991C-8C14364A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B86E-A35F-4DEF-8CC2-61B3E52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89BA-2FFD-4D02-A3D5-31CC1FA8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1F7-9334-4DB0-91DB-48E58EA4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F294-AD95-49BE-9BA3-1C526A4C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8FD1-CD48-4F5D-A6D8-A1377898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C11B-9EF1-47B0-BFBB-ECBC2CF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3D62-12F3-4498-96F9-7E774406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7929-2DDE-4287-8361-299A989E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08A67-236F-4A35-A295-0FB5CCAC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8D81-C3A1-4735-A739-DF641B7A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600D-BC0F-4ED5-A667-EEB21340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4B8A-99BB-4CEA-8EE3-68C87AE7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5224-EB45-49AE-A31D-C00C906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2C3-D240-4D7C-B84D-CC521E33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376E-1771-4192-8343-2FA3B170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BFC5-C105-4687-AAFE-814DA81E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17A8-3AA9-4222-ACD0-2A53B6F1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A546-F0ED-40E2-8BC1-89955A9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9307-FD27-4639-9754-7996B69F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C627-4FA9-4814-940A-B3A8D9C4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762E-FCA8-4357-A418-0B935D57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ED54-59E3-4211-B722-934D606A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00D4-A45D-44E4-928A-8C64440F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0DA19-EE0F-42D5-8301-DA66F45C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681-25BB-4C41-8401-B21A38F7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F4400-585A-46F4-9336-4CB33F22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FEDA-C545-46BB-8923-8661A6EC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C77A-681A-4767-9608-55A33716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BCEE-765D-4686-8CFC-6E0E3BD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DA7F-47D0-4016-A798-28C5258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21A8-F83F-4D9A-A4B3-E015C360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81B1-07C4-47DE-B4D1-0B2799B1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3060C-3494-4C06-9C7D-AA0E1520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8AB64-0004-4F89-87D0-5A7AE251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0F416-98A2-44F2-8ECC-C4EEBDCD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3F6-4EAB-4B90-82DA-B1F52655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4063-7260-4107-91C6-8EEC30C0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C5EA7-2843-4CCA-96E9-07008048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A695C-0FBC-40A6-AB37-9140EC01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39F7-D9E7-4F4B-8BBE-FC3EA78E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B93B-7342-4FDC-9EDB-50A448C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C34DA-6F01-4CA0-B99D-1CF146F7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233F1-0A9B-425A-A12C-DD03ECBB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B3E15-3B96-4CD0-B4FD-231B635E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0A04-4668-4640-BC24-C5575EB7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2823-C797-4713-AA0C-424CD298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158-BC62-4936-9AF6-B287BB87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F6CC0-858C-4A08-8E55-4F5E2632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84698-E309-4D7B-9105-597C00D2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F56B8-1C22-4794-BD11-7A8F8175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5216-9CF9-46D9-B044-48B7C3EE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EA292-DDD0-42E4-BD10-98E8528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C5EE6-8AD0-4558-B741-FFF95641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CF1EA-9233-406D-89A2-10B97185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6FD76-9CAB-412F-98C6-A80A51BA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C8F4-DE43-4439-905C-32A33AF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8DBC-1A34-42D1-A902-E73D086D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8E0-E044-4596-9A42-07B634D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E04C9-35B3-4F88-8C84-C405B9DD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706D9-1081-4E6C-BD71-666BC296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F6CA-F1CD-49B2-8FC3-2709D3AE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5B372-883C-4D48-978B-ABAFC06C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5C6BB-80E1-4A22-AB2F-EFC73030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DF9DE-4EDD-463F-B9A9-BF19C3B1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06EDC-165D-4E0F-85A1-B88761AC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B7D6A-AB56-4F35-A7FE-CB4C19A4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24E6F-D5A9-4E25-8791-A67718C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3EE95-355F-4418-8199-D11BCA3C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A15-6D63-4F18-9C78-C395ECF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7901C-1C9F-47D4-833D-653F1CF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7A59C-48F6-44F4-840F-04F7B5E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A4DFD-CAAD-4E7F-BF9C-0874FEE3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C59D2-41B6-4DBD-8C05-022DC2A1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0CB7-2850-4258-B823-A0699371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A04A4-7869-4324-B75A-43513946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3E1BB-0724-46CA-8E4E-74138BDB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DD0DE-0F89-4A7F-A746-95380182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3F4E6-F24F-4EDD-AA5D-C8586AD8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17B77-996E-46BA-ACB8-52F0C161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DB6-8846-49EB-9DB7-C063D6DA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C34A0-510E-4615-B1D7-ED3C126D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4CB24-F984-466A-92C1-3F5B288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14343-971E-4F30-BE69-7EE30FD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5B993-696A-4D38-A5ED-2605B1D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8CC8C-D7D4-44E4-9915-443EE07C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D04EC-D94E-4035-9D41-F48B60CD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9E84-D207-4BA1-A558-9E1A6264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5FA3-E58D-4400-B308-CF97ACBF1B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842D-C090-45BE-9EAB-F541275916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2AFE-FE6A-40C9-8852-BACB85B6FE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FE5-4AFB-4695-942F-CDED7B2BD2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E8F1-0AAE-4A13-A696-6A5C2D33E96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764C-2325-4E21-9D7D-AF80B780AD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C66B-2993-45C8-B968-F392778EC3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4946-B11B-4644-85E6-E9F3EA6765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46280" y="1103400"/>
            <a:ext cx="7245360" cy="28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Прямоугольник 3"/>
          <p:cNvSpPr/>
          <p:nvPr/>
        </p:nvSpPr>
        <p:spPr>
          <a:xfrm>
            <a:off x="1571760" y="285840"/>
            <a:ext cx="635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436a"/>
                </a:solidFill>
                <a:latin typeface="Arial"/>
              </a:rPr>
              <a:t>ТОГБОУ «Центр лечебной педагогики и дифференцированного обучения»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4" descr="http://www.kostyor.ru/deti/img/klad.jpg"/>
          <p:cNvPicPr/>
          <p:nvPr/>
        </p:nvPicPr>
        <p:blipFill>
          <a:blip r:embed="rId1"/>
          <a:stretch/>
        </p:blipFill>
        <p:spPr>
          <a:xfrm>
            <a:off x="1055520" y="870120"/>
            <a:ext cx="1393920" cy="19476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2"/>
          <p:cNvSpPr/>
          <p:nvPr/>
        </p:nvSpPr>
        <p:spPr>
          <a:xfrm>
            <a:off x="2343600" y="2025720"/>
            <a:ext cx="588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Формирование начальных числ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и геометрических представлений  у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с ограниченными возможностями здоровья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Этап №4. Знакомство с цифро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981000"/>
            <a:ext cx="74995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олько после этого следует показать ребенку цифру и объяснить, что она обозначает. Многие специалисты рекомендуют придумывать ассоциации «На что похожа цифра». Обращайте внимание на цифры, которые окружают вокруг нас в повседневной жизни, например номер вашего дома, кварти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ти учатся не только считать, но и ориентироваться в пространстве и време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Этап №5. Закрепление устойчивой цепочки взаимосвязи «количество предметов – число – цифра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47640" y="1916280"/>
            <a:ext cx="749952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детей с ОВЗ младшего возраста почти не развито абстрактное и логическое мышление, поэтому ребенок поймет только то, что вы объясните на наглядном приме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язательно предлагайте ребенку выполнять с предметами определенные действия и смотреть на результат, делать выво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лавное правило — практические действия и многократные тренировк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чень сложный этап для детей с ОВЗ, в связи с нарушением у них взаимосвязи между полушариями головного мозг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достижения успеха необходимо систематически проводить упражнения для стимуляции тонкой  моторики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альчиковые упражнения в сочетании с самомассажем кистей и пальцев рук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инезиологические упражнения(«гимнастика мозга»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лечко, кулак- ребро-ладонь, ухо-нос и д.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Знакомство с отношениями и математическими действиями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пример, попросите положить перед собой 5 кружочков. Затем положите еще несколько. Спросите у ребенка, что изменилось и почему? Вы должны подвести его к выводу, что кружочков стало больше, потому что вы добавили кружочки. Аналогично объясните, что когда предметы убирают, то их становится меньш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обные упражнения нужно проводить практически на каждом занятии, меняя действия (что-то съели, кто-то прилетел, принес и т.п.). Ребенок должен научиться понимать математическую суть обычных действ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з некоторое время нужно будет поменять подход. Теперь вы должны предлагать ребенку задания, в которых ему самому нужно будет сделать так, чтобы предметов стало больше или меньше. Спрашивайте, в результате каких еще действий количество предметов будет увеличиваться или уменьш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18216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836280"/>
            <a:ext cx="7499520" cy="51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а работа является подготовкой для ознакомления с действиями прибавления и вычитания. Когда вы увидите, что ребенок хорошо усвоил суть действий, пора познакомить его со знаками «плюс» и «минус». Обычно это делают на основе сказки. Придумайте любую историю, в которой есть большой и толстый герой Плюс, который любит, чтобы ему дарили подарки (или приходили в гости и т.п.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rbel"/>
              </a:rPr>
              <a:t>ИГРОВЫЕ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orbe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orbel"/>
              </a:rPr>
              <a:t>ПРИЕМ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0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ие  игровых ситуаций делает процесс обучения интересным, снимает утомляемость, поддерживает внимание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11" descr="Изображение 002"/>
          <p:cNvPicPr/>
          <p:nvPr/>
        </p:nvPicPr>
        <p:blipFill>
          <a:blip r:embed="rId1"/>
          <a:stretch/>
        </p:blipFill>
        <p:spPr>
          <a:xfrm>
            <a:off x="5500800" y="1071720"/>
            <a:ext cx="2233440" cy="1981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Изображение 004"/>
          <p:cNvPicPr/>
          <p:nvPr/>
        </p:nvPicPr>
        <p:blipFill>
          <a:blip r:embed="rId2"/>
          <a:stretch/>
        </p:blipFill>
        <p:spPr>
          <a:xfrm>
            <a:off x="3348000" y="4005360"/>
            <a:ext cx="2641680" cy="2286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5"/>
          <p:cNvSpPr/>
          <p:nvPr/>
        </p:nvSpPr>
        <p:spPr>
          <a:xfrm>
            <a:off x="-685800" y="-36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УРОК- СКАЗ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6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акие приемы вносят в урок атмосферу праздника, поднимают настроение, способствуют формированию учебной мотивации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4" name="Picture 7" descr="Изображение 025"/>
          <p:cNvPicPr/>
          <p:nvPr/>
        </p:nvPicPr>
        <p:blipFill>
          <a:blip r:embed="rId1"/>
          <a:stretch/>
        </p:blipFill>
        <p:spPr>
          <a:xfrm>
            <a:off x="4500720" y="2500200"/>
            <a:ext cx="41148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rbel"/>
              </a:rPr>
              <a:t>Использование нетрадиционных материалов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6" name="Picture 9" descr="Изображение 011"/>
          <p:cNvPicPr/>
          <p:nvPr/>
        </p:nvPicPr>
        <p:blipFill>
          <a:blip r:embed="rId1"/>
          <a:stretch/>
        </p:blipFill>
        <p:spPr>
          <a:xfrm>
            <a:off x="5181480" y="19890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Изображение 012"/>
          <p:cNvPicPr/>
          <p:nvPr/>
        </p:nvPicPr>
        <p:blipFill>
          <a:blip r:embed="rId2"/>
          <a:stretch/>
        </p:blipFill>
        <p:spPr>
          <a:xfrm>
            <a:off x="2643120" y="342900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380988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rbel"/>
              </a:rPr>
              <a:t>ИСПОЛЬЗОВАНИ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orbel"/>
              </a:rPr>
              <a:t> РАЗРЕЗНЫХ КАРТИНОК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64880" y="752400"/>
            <a:ext cx="3492360" cy="18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о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чат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Picture 11" descr="Изображение 010"/>
          <p:cNvPicPr/>
          <p:nvPr/>
        </p:nvPicPr>
        <p:blipFill>
          <a:blip r:embed="rId1"/>
          <a:stretch/>
        </p:blipFill>
        <p:spPr>
          <a:xfrm>
            <a:off x="4000680" y="150012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Изображение 016"/>
          <p:cNvPicPr/>
          <p:nvPr/>
        </p:nvPicPr>
        <p:blipFill>
          <a:blip r:embed="rId2"/>
          <a:stretch/>
        </p:blipFill>
        <p:spPr>
          <a:xfrm>
            <a:off x="6324480" y="403848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15444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громную  помощь в овладении элементарными математическими представлениями детям с ОВЗ могут оказать родители. Домашняя обстановка способствует раскрепощению ребенка, и играя с ним дома  можно  закрепить полученные знания. Следует помнить, что принудительное обучение бесполезно и  даже вредн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Применение средств слуховой и зрительной нагляднос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3" name="Picture 24" descr="Изображение 020"/>
          <p:cNvPicPr/>
          <p:nvPr/>
        </p:nvPicPr>
        <p:blipFill>
          <a:blip r:embed="rId1"/>
          <a:stretch/>
        </p:blipFill>
        <p:spPr>
          <a:xfrm>
            <a:off x="4929120" y="157176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6" descr="Изображение 017"/>
          <p:cNvPicPr/>
          <p:nvPr/>
        </p:nvPicPr>
        <p:blipFill>
          <a:blip r:embed="rId2"/>
          <a:stretch/>
        </p:blipFill>
        <p:spPr>
          <a:xfrm>
            <a:off x="1714680" y="4000680"/>
            <a:ext cx="2336760" cy="1752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800" y="373392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Рисунок 9" descr="C:\Documents and Settings\Владелец\Рабочий стол\фото2\P1010102.JPG"/>
          <p:cNvPicPr/>
          <p:nvPr/>
        </p:nvPicPr>
        <p:blipFill>
          <a:blip r:embed="rId3"/>
          <a:srcRect l="0" t="0" r="24006" b="0"/>
          <a:stretch/>
        </p:blipFill>
        <p:spPr>
          <a:xfrm>
            <a:off x="5572080" y="3857760"/>
            <a:ext cx="292896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Пособия, изготовленные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совместно с детьм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30" name="Содержимое 3" descr="SAM_0534 - копия.jpg"/>
          <p:cNvPicPr/>
          <p:nvPr/>
        </p:nvPicPr>
        <p:blipFill>
          <a:blip r:embed="rId1"/>
          <a:stretch/>
        </p:blipFill>
        <p:spPr>
          <a:xfrm>
            <a:off x="1116000" y="1276200"/>
            <a:ext cx="2143080" cy="19767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6" descr="SAM_0537 - копия.jpg"/>
          <p:cNvPicPr/>
          <p:nvPr/>
        </p:nvPicPr>
        <p:blipFill>
          <a:blip r:embed="rId2"/>
          <a:stretch/>
        </p:blipFill>
        <p:spPr>
          <a:xfrm>
            <a:off x="3929040" y="3429000"/>
            <a:ext cx="1565280" cy="18572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0" descr="SAM_0540 - копия.jpg"/>
          <p:cNvPicPr/>
          <p:nvPr/>
        </p:nvPicPr>
        <p:blipFill>
          <a:blip r:embed="rId3"/>
          <a:stretch/>
        </p:blipFill>
        <p:spPr>
          <a:xfrm>
            <a:off x="6286680" y="1285920"/>
            <a:ext cx="2643120" cy="18525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1"/>
          <p:cNvSpPr/>
          <p:nvPr/>
        </p:nvSpPr>
        <p:spPr>
          <a:xfrm>
            <a:off x="1309680" y="5622840"/>
            <a:ext cx="75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обводили и раскрашивали рисунки, вырезали и наклеивали геометрические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Рисунок 4" descr="SAM_0535 - копия.jpg"/>
          <p:cNvPicPr/>
          <p:nvPr/>
        </p:nvPicPr>
        <p:blipFill>
          <a:blip r:embed="rId4"/>
          <a:stretch/>
        </p:blipFill>
        <p:spPr>
          <a:xfrm>
            <a:off x="4079880" y="1314360"/>
            <a:ext cx="1357200" cy="193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о дети запоминают только то, над чем потрудились их руки, если ребенок что-то рисовал, чертил, вырезал или закрашивал,то это что-то само по себе становится опорой для его памя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т такие веселые фигуры помогают детям определять свойства геометрических фигур (наличие и количество углов, сторон, цвет каждой фигуры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5"/>
          <p:cNvSpPr txBox="1"/>
          <p:nvPr/>
        </p:nvSpPr>
        <p:spPr>
          <a:xfrm>
            <a:off x="252360" y="260280"/>
            <a:ext cx="287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КРУГ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440" name="Object 6"/>
          <p:cNvGraphicFramePr/>
          <p:nvPr/>
        </p:nvGraphicFramePr>
        <p:xfrm>
          <a:off x="1187280" y="1144440"/>
          <a:ext cx="671688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44440"/>
                    <a:ext cx="671688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2" name="Picture 8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Object 3"/>
          <p:cNvGraphicFramePr/>
          <p:nvPr/>
        </p:nvGraphicFramePr>
        <p:xfrm>
          <a:off x="1547640" y="1268280"/>
          <a:ext cx="5904000" cy="544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5904000" cy="54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WordArt 4"/>
          <p:cNvSpPr txBox="1"/>
          <p:nvPr/>
        </p:nvSpPr>
        <p:spPr>
          <a:xfrm>
            <a:off x="611280" y="189000"/>
            <a:ext cx="7921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ТРЕУГОЛЬНИ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Object 5"/>
          <p:cNvGraphicFramePr/>
          <p:nvPr/>
        </p:nvGraphicFramePr>
        <p:xfrm>
          <a:off x="10800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4"/>
          <p:cNvGraphicFramePr/>
          <p:nvPr/>
        </p:nvGraphicFramePr>
        <p:xfrm>
          <a:off x="3348000" y="5367240"/>
          <a:ext cx="410364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5367240"/>
                    <a:ext cx="41036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7"/>
          <p:cNvGraphicFramePr/>
          <p:nvPr/>
        </p:nvGraphicFramePr>
        <p:xfrm>
          <a:off x="3780000" y="5157720"/>
          <a:ext cx="3168360" cy="11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5157720"/>
                    <a:ext cx="31683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8"/>
          <p:cNvGraphicFramePr/>
          <p:nvPr/>
        </p:nvGraphicFramePr>
        <p:xfrm>
          <a:off x="5003640" y="4287960"/>
          <a:ext cx="1395720" cy="158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4287960"/>
                    <a:ext cx="139572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9"/>
          <p:cNvGraphicFramePr/>
          <p:nvPr/>
        </p:nvGraphicFramePr>
        <p:xfrm>
          <a:off x="3564000" y="2571840"/>
          <a:ext cx="2016000" cy="15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2571840"/>
                    <a:ext cx="201600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10"/>
          <p:cNvGraphicFramePr/>
          <p:nvPr/>
        </p:nvGraphicFramePr>
        <p:xfrm>
          <a:off x="3263760" y="1500120"/>
          <a:ext cx="2592360" cy="113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63760" y="1500120"/>
                    <a:ext cx="2592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12"/>
          <p:cNvGraphicFramePr/>
          <p:nvPr/>
        </p:nvGraphicFramePr>
        <p:xfrm>
          <a:off x="4235400" y="627120"/>
          <a:ext cx="912960" cy="13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0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35400" y="627120"/>
                    <a:ext cx="912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13"/>
          <p:cNvSpPr/>
          <p:nvPr/>
        </p:nvSpPr>
        <p:spPr>
          <a:xfrm>
            <a:off x="108000" y="6021360"/>
            <a:ext cx="2303280" cy="74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что похо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14"/>
          <p:cNvGraphicFramePr/>
          <p:nvPr/>
        </p:nvGraphicFramePr>
        <p:xfrm>
          <a:off x="826920" y="981000"/>
          <a:ext cx="1843200" cy="94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3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6920" y="981000"/>
                    <a:ext cx="18432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Picture 17" descr=""/>
          <p:cNvPicPr/>
          <p:nvPr/>
        </p:nvPicPr>
        <p:blipFill>
          <a:blip r:embed="rId17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6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500" autoRev="1" fill="hold"/>
                                        <p:tgtEl>
                                          <p:spTgt spid="4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4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500" autoRev="1" fill="hold"/>
                                        <p:tgtEl>
                                          <p:spTgt spid="4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500" autoRev="1" fill="hold"/>
                                        <p:tgtEl>
                                          <p:spTgt spid="4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Object 3"/>
          <p:cNvGraphicFramePr/>
          <p:nvPr/>
        </p:nvGraphicFramePr>
        <p:xfrm>
          <a:off x="2693880" y="1628640"/>
          <a:ext cx="417204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1628640"/>
                    <a:ext cx="417204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WordArt 4"/>
          <p:cNvSpPr txBox="1"/>
          <p:nvPr/>
        </p:nvSpPr>
        <p:spPr>
          <a:xfrm>
            <a:off x="2340000" y="26028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КВАДРАТ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2"/>
          <p:cNvGraphicFramePr/>
          <p:nvPr/>
        </p:nvGraphicFramePr>
        <p:xfrm>
          <a:off x="2903400" y="189000"/>
          <a:ext cx="526896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3400" y="189000"/>
                    <a:ext cx="52689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WordArt 3"/>
          <p:cNvSpPr txBox="1"/>
          <p:nvPr/>
        </p:nvSpPr>
        <p:spPr>
          <a:xfrm>
            <a:off x="252360" y="260280"/>
            <a:ext cx="316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ОВАЛ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72" name="Picture 5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1547640" y="1284120"/>
          <a:ext cx="5616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84120"/>
                    <a:ext cx="5616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WordArt 3"/>
          <p:cNvSpPr txBox="1"/>
          <p:nvPr/>
        </p:nvSpPr>
        <p:spPr>
          <a:xfrm>
            <a:off x="179280" y="189000"/>
            <a:ext cx="88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ПРЯМОУГОЛЬНИ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Условия развития познавательных интерес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формировать предметно-практическую деятельность, т.к.   только на этой основе возможно дальнейшее развитие познавательной сфер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опора на личный опыта ребенк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стимулировать познавательные интересы многообразием приемов занимательности (иллюстрацией, игрой, кроссвордами, задачами-шутками, занимательными упражнениями т.д.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специально обучать приемам умственной деятельност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чтобы учиться и развиваться, детям с особыми образовательными нуждами необходима дополнительная стимуляция, помощь и поддержка взрослы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AE6B-69B8-4BEB-9B49-D7337A0211D1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3824-85AE-44EE-920F-0906FB38A8C6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 вокруг на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дороге в школу, на прогулке,  или в магазине обращайте внимание детей на форму различных предметов в окружающем мире, их количеств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пример, тарелка круглая, часы круглые, а скатерть квадратна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росите, какую фигуру напоминает тот или иной предмет. 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Поиграй со мной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торика - «Золушка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а - «Испечем печенье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и счет - «Накроем на стол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гра «Карусель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ь считать в пределах 5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эти игры можно играть не только с мамой на кухне, но и с папой в гараже, с бабушкой в саду, в парке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44480" y="16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34920" y="620640"/>
            <a:ext cx="7499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гко и просто вы можете приобщить ребенка ко многим математическим понятиям, способствовать их лучшему усвоению, поддерживать и развивать и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дость, которую вы доставите ребенку, станет и вашей радостью, проведенные вместе приятные минуты помогут вам сделать добрее и веселее совместную жизн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125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ти с особенностями развития часто не достигают этапа предметно-практической деятельности, их долгое время удовлетворяют простые манипуляции с предметами или сенсорные  ощущения. Некоторые дети пропускают этот этап, переходя к более сложным формам деятельности (например к счетным операциям),которые выполняются ребенком только формальн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69880" y="55080"/>
            <a:ext cx="7499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ика изучения чис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69880" y="919080"/>
            <a:ext cx="74995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накомство с математикой начинается со счета. Ребенок учится считать и запоминает цифр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этом этапе важно сформировать у ребенка представление о том, что число обозначает группу предметов с определенным количеством элемен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этого нужно не просто учить его называть по порядку числа, так он просто заучит числовой ряд. Рекомендуется использовать следующую методику изучения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Этап№1.Мотива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44320" y="1125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юбое занятие с ребенком должно проходить в доброжелательной обстановке. По возможности превращайте свои занятия в игру, отдавайте предпочтение практическим действиям с предметами. Начните занятие с яркого события — дайте ребенку 2 конфеты, надуйте 3 воздушных шара, нарисуйте несколько предметов мелом и т.д. Ваша задача- заинтересовать ребен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Этап№2.Счет предме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жно, чтобы ребенок соблюдал правильный алгоритм «указал на предмет — назвал число — перешел к следующему предмету — назвал следующее число и т.д.» Поначалу производите эти действия вместе с ребенком — покажите сами, как надо считать, а он пусть повторит, указывайте на предметы, а он должен их считать и наоборо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Этап№3. Закрепл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125000"/>
            <a:ext cx="74995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гда ребенок пересчитает элементы и назовет конечное число, нужно провести закрепл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ще раз пересчитать предметы, но в другом направлен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ожить перед собой столько же кружочков, сколько и предметов — посчитать и и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рисовать (доложить) предметы, чтобы их стало нужное количеств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Игры с число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мотреть вокруг (или на картинку) и сказать, каких предметов соответствующее количеств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щепки, в качестве основы можно использовать любые картонные шаблоны(солнышко, ёж и  т.д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вариу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лшебная яблоньк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мино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13:43:44Z</dcterms:created>
  <dc:creator>Захарова</dc:creator>
  <dc:description/>
  <dc:language>en-US</dc:language>
  <cp:lastModifiedBy>Нинулька</cp:lastModifiedBy>
  <cp:lastPrinted>2020-02-24T19:13:47Z</cp:lastPrinted>
  <dcterms:modified xsi:type="dcterms:W3CDTF">2021-06-14T15:48:20Z</dcterms:modified>
  <cp:revision>99</cp:revision>
  <dc:subject/>
  <dc:title>Приемы работы по освоению элементарных математических навыков у детей с ограниченными возможностями</dc:title>
</cp:coreProperties>
</file>