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F3F-2DAF-4A49-A873-CE823C88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678-DDF8-40E3-A74D-6B61F2A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AFC-1BDA-4F95-A602-C9018240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947-E2BE-4F0F-BB84-90905B87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F2C-C1B8-4589-8E42-5CB2D5FC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A024-9B6F-474A-967B-6900D56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E7F5-4551-40FF-9DC1-C935442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95D9-41E4-4700-8AD3-A48BBBC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2FB-28B6-4F85-B4F4-E1E1BF0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2665-B90F-491E-9663-4383215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CA5-AFDC-4389-AAE2-7991CE2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886-3EE5-46EE-8FA9-0B66F9D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0798-3144-4690-AABC-FB8F3CE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517-1930-4929-8D73-BF31BC7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9A56-75FA-4FD2-B13D-5AF38A5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9326-F468-4400-A02A-13F5D003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3C7B-95BD-47A7-974E-E41DD059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117-8358-453A-A575-68600B0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910-AA5F-4F0B-803D-E348255A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21D-5B2E-4C12-AB55-A465CBA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0E9-C203-4CEB-9F4B-326EE97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AEE-47EA-4E93-AC97-EF4CE23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C41-8A8D-41CC-8212-A6A5467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BD1-D8FB-4BB3-A185-3F2AB29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D7F-0F6F-41C6-BA49-D2C15C38B9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6DD2-7F58-4AA4-B4E5-B3A3A0E20E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МБОУ Исаковская СОШ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Фотосессия со снеговиком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ающиеся 5 и 6 к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расавец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6" descr="SAM_2129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 спортивной площад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6" descr="SAM_2132"/>
          <p:cNvPicPr/>
          <p:nvPr/>
        </p:nvPicPr>
        <p:blipFill>
          <a:blip r:embed="rId1"/>
          <a:stretch/>
        </p:blipFill>
        <p:spPr>
          <a:xfrm>
            <a:off x="395280" y="148428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юбим кататься на лыжах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Picture 6" descr="SAM_2133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граем на школьной площад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6" descr="SAM_2135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ш Снеговик – лыжни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6" descr="SAM_2137"/>
          <p:cNvPicPr/>
          <p:nvPr/>
        </p:nvPicPr>
        <p:blipFill>
          <a:blip r:embed="rId1"/>
          <a:stretch/>
        </p:blipFill>
        <p:spPr>
          <a:xfrm>
            <a:off x="468360" y="1628640"/>
            <a:ext cx="798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ы тоже хотим встать на лыжи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6" descr="SAM_213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ш Снеговик – теннисис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6" descr="SAM_2142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ы тоже любим тенни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Picture 6" descr="SAM_2143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авай с нами играть в теннис снежками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Picture 6" descr="SAM_2145"/>
          <p:cNvPicPr/>
          <p:nvPr/>
        </p:nvPicPr>
        <p:blipFill>
          <a:blip r:embed="rId1"/>
          <a:stretch/>
        </p:blipFill>
        <p:spPr>
          <a:xfrm>
            <a:off x="539640" y="1557360"/>
            <a:ext cx="798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тебе, Снеговик!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м было хорошо с тобой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Picture 6" descr="SAM_2149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ружно взялись лепить снеговик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Picture 6" descr="SAM_2104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о встречи!!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3" name="Picture 6" descr="SAM_2150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ка-пок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5" name="Picture 6" descr="SAM_2152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 ВНИМАНИЕ!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роших новогодних каникул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есело вмест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6" descr="SAM_2106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бота «кипит»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6" descr="SAM_2107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обираем комки снега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SAM_210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ружно и быстр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6" descr="SAM_2111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от сделаем из ветк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6" descr="SAM_2118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уки из прути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Picture 6" descr="SAM_2120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т  мы его наряди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6" descr="SAM_2126"/>
          <p:cNvPicPr/>
          <p:nvPr/>
        </p:nvPicPr>
        <p:blipFill>
          <a:blip r:embed="rId1"/>
          <a:stretch/>
        </p:blipFill>
        <p:spPr>
          <a:xfrm>
            <a:off x="577800" y="1600200"/>
            <a:ext cx="79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4:54:31Z</dcterms:created>
  <dc:creator>User</dc:creator>
  <dc:description/>
  <dc:language>en-US</dc:language>
  <cp:lastModifiedBy>Татьяна</cp:lastModifiedBy>
  <dcterms:modified xsi:type="dcterms:W3CDTF">2021-06-14T13:05:56Z</dcterms:modified>
  <cp:revision>7</cp:revision>
  <dc:subject/>
  <dc:title> Фотосессия снеговика.</dc:title>
</cp:coreProperties>
</file>