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647F-BC2D-4A59-BF4F-EEC46541B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95DC-870D-4D3C-943B-745EE2AC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FA13-6ACA-4D39-B662-5516952F5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B130-5F05-45E2-9F4C-6CCD08BDE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D469-CEF8-479B-A1E6-2DF905C91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3AED-1991-4FB9-BB33-10752FE5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A1CB-A611-4983-A17E-2D3C1647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22FA-1100-4252-9160-2A4D6328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366E-FB08-4C08-8BAE-A178A526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EE03-453B-4C93-8CF6-E9290042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5081-0C2E-4D16-B0B8-7187F79C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10B7-929F-4DF5-8F1D-B1CAE70D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E09C-F0DF-49B7-9407-E15E6134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CE5B-25C6-41AA-B8F4-61E6F93C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760B-AC70-4872-BE44-384A18FB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8911-4AC5-4EB9-ABB8-AE4492999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FD86-C6C1-4CF9-AC85-DE5BDCE6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2C7C-BAD5-4099-9DE3-8F62E2A7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2629-053F-423F-8841-A4E0FD65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B378-DFEA-4177-BB22-67446FED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5D73-6CAE-41A1-B09F-3B12C1CA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DFC2-BCCC-4B5B-875D-E67F5EFC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75AD-2B65-412C-86C2-FAF38E5C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8567-F2F4-4884-B49E-FCEAC803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008E-70D4-439A-8F35-6A41522E63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7676-384B-45F4-9D84-EF3D9A7212F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МБОУ Исаковская СОШ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Фотосессия со снеговиком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учающиеся 5 и 6 к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Красавец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6" descr="SAM_2129"/>
          <p:cNvPicPr/>
          <p:nvPr/>
        </p:nvPicPr>
        <p:blipFill>
          <a:blip r:embed="rId1"/>
          <a:stretch/>
        </p:blipFill>
        <p:spPr>
          <a:xfrm>
            <a:off x="577800" y="1600200"/>
            <a:ext cx="7986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На спортивной площадк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5" name="Picture 6" descr="SAM_2132"/>
          <p:cNvPicPr/>
          <p:nvPr/>
        </p:nvPicPr>
        <p:blipFill>
          <a:blip r:embed="rId1"/>
          <a:stretch/>
        </p:blipFill>
        <p:spPr>
          <a:xfrm>
            <a:off x="395280" y="1484280"/>
            <a:ext cx="7986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Любим кататься на лыжах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7" name="Picture 6" descr="SAM_2133"/>
          <p:cNvPicPr/>
          <p:nvPr/>
        </p:nvPicPr>
        <p:blipFill>
          <a:blip r:embed="rId1"/>
          <a:stretch/>
        </p:blipFill>
        <p:spPr>
          <a:xfrm>
            <a:off x="577800" y="1600200"/>
            <a:ext cx="7986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граем на школьной площадк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9" name="Picture 6" descr="SAM_2135"/>
          <p:cNvPicPr/>
          <p:nvPr/>
        </p:nvPicPr>
        <p:blipFill>
          <a:blip r:embed="rId1"/>
          <a:stretch/>
        </p:blipFill>
        <p:spPr>
          <a:xfrm>
            <a:off x="577800" y="1600200"/>
            <a:ext cx="798660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Наш Снеговик – лыжник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1" name="Picture 6" descr="SAM_2137"/>
          <p:cNvPicPr/>
          <p:nvPr/>
        </p:nvPicPr>
        <p:blipFill>
          <a:blip r:embed="rId1"/>
          <a:stretch/>
        </p:blipFill>
        <p:spPr>
          <a:xfrm>
            <a:off x="468360" y="1628640"/>
            <a:ext cx="79866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Мы тоже хотим встать на лыжи!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3" name="Picture 6" descr="SAM_2138"/>
          <p:cNvPicPr/>
          <p:nvPr/>
        </p:nvPicPr>
        <p:blipFill>
          <a:blip r:embed="rId1"/>
          <a:stretch/>
        </p:blipFill>
        <p:spPr>
          <a:xfrm>
            <a:off x="577800" y="1600200"/>
            <a:ext cx="7986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Наш Снеговик – теннисист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6" descr="SAM_2142"/>
          <p:cNvPicPr/>
          <p:nvPr/>
        </p:nvPicPr>
        <p:blipFill>
          <a:blip r:embed="rId1"/>
          <a:stretch/>
        </p:blipFill>
        <p:spPr>
          <a:xfrm>
            <a:off x="577800" y="1600200"/>
            <a:ext cx="7986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Мы тоже любим теннис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7" name="Picture 6" descr="SAM_2143"/>
          <p:cNvPicPr/>
          <p:nvPr/>
        </p:nvPicPr>
        <p:blipFill>
          <a:blip r:embed="rId1"/>
          <a:stretch/>
        </p:blipFill>
        <p:spPr>
          <a:xfrm>
            <a:off x="577800" y="1600200"/>
            <a:ext cx="7986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Давай с нами играть в теннис снежками!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9" name="Picture 6" descr="SAM_2145"/>
          <p:cNvPicPr/>
          <p:nvPr/>
        </p:nvPicPr>
        <p:blipFill>
          <a:blip r:embed="rId1"/>
          <a:stretch/>
        </p:blipFill>
        <p:spPr>
          <a:xfrm>
            <a:off x="539640" y="1557360"/>
            <a:ext cx="7986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Спасибо тебе, Снеговик! </a:t>
            </a:r>
            <a:br>
              <a:rPr sz="4000"/>
            </a:b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Нам было хорошо с тобой!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1" name="Picture 6" descr="SAM_2149"/>
          <p:cNvPicPr/>
          <p:nvPr/>
        </p:nvPicPr>
        <p:blipFill>
          <a:blip r:embed="rId1"/>
          <a:stretch/>
        </p:blipFill>
        <p:spPr>
          <a:xfrm>
            <a:off x="577800" y="1600200"/>
            <a:ext cx="7986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Дружно взялись лепить снеговика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7" name="Picture 6" descr="SAM_2104"/>
          <p:cNvPicPr/>
          <p:nvPr/>
        </p:nvPicPr>
        <p:blipFill>
          <a:blip r:embed="rId1"/>
          <a:stretch/>
        </p:blipFill>
        <p:spPr>
          <a:xfrm>
            <a:off x="577800" y="1600200"/>
            <a:ext cx="7986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До встречи!!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3" name="Picture 6" descr="SAM_2150"/>
          <p:cNvPicPr/>
          <p:nvPr/>
        </p:nvPicPr>
        <p:blipFill>
          <a:blip r:embed="rId1"/>
          <a:stretch/>
        </p:blipFill>
        <p:spPr>
          <a:xfrm>
            <a:off x="577800" y="1600200"/>
            <a:ext cx="7986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ока-пока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5" name="Picture 6" descr="SAM_2152"/>
          <p:cNvPicPr/>
          <p:nvPr/>
        </p:nvPicPr>
        <p:blipFill>
          <a:blip r:embed="rId1"/>
          <a:stretch/>
        </p:blipFill>
        <p:spPr>
          <a:xfrm>
            <a:off x="577800" y="1600200"/>
            <a:ext cx="7986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СПАСИБО </a:t>
            </a: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ЗА ВНИМАНИЕ!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Хороших новогодних каникул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Весело вмест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9" name="Picture 6" descr="SAM_2106"/>
          <p:cNvPicPr/>
          <p:nvPr/>
        </p:nvPicPr>
        <p:blipFill>
          <a:blip r:embed="rId1"/>
          <a:stretch/>
        </p:blipFill>
        <p:spPr>
          <a:xfrm>
            <a:off x="577800" y="1600200"/>
            <a:ext cx="7986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абота «кипит»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1" name="Picture 6" descr="SAM_2107"/>
          <p:cNvPicPr/>
          <p:nvPr/>
        </p:nvPicPr>
        <p:blipFill>
          <a:blip r:embed="rId1"/>
          <a:stretch/>
        </p:blipFill>
        <p:spPr>
          <a:xfrm>
            <a:off x="577800" y="1600200"/>
            <a:ext cx="7986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Собираем комки снега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3" name="Picture 6" descr="SAM_2108"/>
          <p:cNvPicPr/>
          <p:nvPr/>
        </p:nvPicPr>
        <p:blipFill>
          <a:blip r:embed="rId1"/>
          <a:stretch/>
        </p:blipFill>
        <p:spPr>
          <a:xfrm>
            <a:off x="577800" y="1600200"/>
            <a:ext cx="7986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Дружно и быстро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5" name="Picture 6" descr="SAM_2111"/>
          <p:cNvPicPr/>
          <p:nvPr/>
        </p:nvPicPr>
        <p:blipFill>
          <a:blip r:embed="rId1"/>
          <a:stretch/>
        </p:blipFill>
        <p:spPr>
          <a:xfrm>
            <a:off x="577800" y="1600200"/>
            <a:ext cx="7986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от сделаем из ветки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7" name="Picture 6" descr="SAM_2118"/>
          <p:cNvPicPr/>
          <p:nvPr/>
        </p:nvPicPr>
        <p:blipFill>
          <a:blip r:embed="rId1"/>
          <a:stretch/>
        </p:blipFill>
        <p:spPr>
          <a:xfrm>
            <a:off x="577800" y="1600200"/>
            <a:ext cx="7986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уки из прутиков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9" name="Picture 6" descr="SAM_2120"/>
          <p:cNvPicPr/>
          <p:nvPr/>
        </p:nvPicPr>
        <p:blipFill>
          <a:blip r:embed="rId1"/>
          <a:stretch/>
        </p:blipFill>
        <p:spPr>
          <a:xfrm>
            <a:off x="577800" y="1600200"/>
            <a:ext cx="7986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Вот  мы его нарядил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1" name="Picture 6" descr="SAM_2126"/>
          <p:cNvPicPr/>
          <p:nvPr/>
        </p:nvPicPr>
        <p:blipFill>
          <a:blip r:embed="rId1"/>
          <a:stretch/>
        </p:blipFill>
        <p:spPr>
          <a:xfrm>
            <a:off x="577800" y="1600200"/>
            <a:ext cx="7986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5T14:54:31Z</dcterms:created>
  <dc:creator>User</dc:creator>
  <dc:description/>
  <dc:language>en-US</dc:language>
  <cp:lastModifiedBy>Татьяна</cp:lastModifiedBy>
  <dcterms:modified xsi:type="dcterms:W3CDTF">2021-06-14T13:05:56Z</dcterms:modified>
  <cp:revision>7</cp:revision>
  <dc:subject/>
  <dc:title> Фотосессия снеговика.</dc:title>
</cp:coreProperties>
</file>