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9E70-D363-4A22-8373-D1A7F65B4C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7235-EF1D-4794-AC32-B7B99BAC0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6C5-EA72-4701-8F9E-B73B9146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9CB-6D16-499F-BBF8-58FB39D2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211C4-215C-467F-996F-7B1DE156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E3C7C-54DD-4B3F-8F5C-A6794683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D9284-8295-4D28-A0CE-F3A29EE2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C96E9-9A92-4506-95E1-AFC451E1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CFCA5-540F-4DCD-B2E0-5AC0C0E8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F97AC-97A1-43B2-A509-57DC135A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9268A-2583-422A-A380-34A150E2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F7F2E-06DA-42E4-8C71-29886652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0B9D2-381F-487A-B264-0E3D4DE7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B9871-7880-4B7E-BF58-B012A1C7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E3C-1814-40D3-AC9D-B4E5E76D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6911B-5B36-4B23-9545-BDAE00CD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66400-53D9-4D1E-9DA0-723103C8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1AF5E-0323-4D0D-B3CA-749942A4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185E1-6169-4CEF-AD59-FCA4AC33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DF263-4FED-46EF-BE53-75ECE082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09169-CE83-4538-AE09-B001F105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C8262-A96C-4F20-ABCA-DCC49D66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A73D7-28B3-4AFB-BC1A-8E09D73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8ED9C-2FF3-428A-9B61-BDD977C5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1AE5B-D121-4F08-958D-F10BF1F6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BA0-1D1B-41FF-8BC8-116AC1A4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12AC7-4473-4BB0-9DA1-8A682791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7A5CA-654A-4FA2-A479-47BDD88A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0C456-75C0-4427-B57D-CA2E4630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B01AE-85EE-45B1-B9D8-FB285601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3136A-61B5-4FFA-A45D-CABCA896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8C392-A8A7-4134-B4F8-7C2C4812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0EA6A-BB0B-49DE-A1B3-564B29A7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FA11C-1E28-460A-A3F7-1E6D2D8B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F7E62-AFF9-44BF-9681-21655C41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2BAAB-D94E-4DE9-B7C2-C503D408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CCAA-6BC1-462C-8F57-CFC54BC3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9733C-9845-4C08-8EAD-439EFB58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D9267-DB04-4FAC-8937-60B15D89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6B774-0D7A-424D-AB87-78D99661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99016-340D-4A6E-97E2-D4675ADB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53B72-2536-42F6-A7E9-A43C0141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00BBC-FEB6-46EA-AE64-6BF66E83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5EA91-C6C4-44C4-B089-0BC4D4E2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14632-A3DE-4FF1-9ACE-ADCFF63E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2569B-1B71-4FA6-9E8C-CE859D2C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EECCD-6CCA-489A-B0A6-0BD94A51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E31B-6705-4E02-A55E-F529A068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1BE19-B507-491E-94F2-DC6B8E58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C2E54-E757-44EB-9751-3A427AD4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34134-ADE8-4D9F-A395-B077368E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53F95-4C50-4971-BB11-E965F156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12A26-C28E-4755-B804-B5292DF5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E040C-45C6-4CC8-AAFD-90002707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5F5AD-D204-4DCD-BF19-130A3AF8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91960-9BE5-4D64-B974-39B38F86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4FDB7-3F20-4DE0-8805-337D8CDB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6F635-B9AB-45DD-9412-2751EF34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0A35-C219-421A-94C8-DF1D8F17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AAC29-4161-4123-9D4B-A20E054F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0477E-0ACF-4BCA-9F7F-8D2602DD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C03A7-1668-4730-A657-B8E14B91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72AB3-BAB6-4E85-918D-D08C35FC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5CF0F-E221-4564-9CA3-9D4FF5CF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142B2-85D4-401C-A12D-50CD7799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D1C21-B845-492E-BF59-6ABAED3D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8875-E8A8-4C45-874D-E3134822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A03C-26BC-45F9-88A9-8B6BA736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6CBC-B951-4106-B282-9731FA80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6EC8-6BD7-417A-891A-44C147A0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20A-C114-45B2-AAC7-D93AF7F6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91CB-7A22-418F-B8BD-408CE9CF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1239-6130-4321-ABB7-C4205057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45D9-7DCB-45DF-813F-1C4304C9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AFB0-7F83-477E-8B9E-C5773461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7DA7-3422-447D-83DD-DC0095BF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2943-9C90-47A7-86B0-52610BCE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59CA7-E356-4B7B-9105-273E7098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55FAC-FE15-4A30-A6C6-48D59036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7309-8E02-4ED9-9002-557AFB1C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6B17-40C9-4A36-A8DE-523EFD5A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4C0-A298-4311-B2B2-21A59F23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DA429-075A-4A02-8A48-170D018E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45CD5-1CCF-42D6-9517-F38E69C6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C6B65-2D6E-4B06-B647-ECF7383F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186B3-665C-41E3-AE80-7492F5C3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A6ED5-6F0B-42C8-BB3A-6B50815E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5DDBB-19FA-4DBA-ADC8-A8BE67F7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1169-6071-4766-A723-508B51BD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81F8E-CB69-4DB4-BBDC-9C0DD1B4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9313B-D758-49EC-9209-168F5769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2B0D5-DBD8-455D-9ADE-567E640E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2AB-1317-4E46-804A-C671065C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FC18D-4E2E-48F5-9412-D2597B76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16201-1894-4369-A5E2-53FD1272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8A411-8D7A-4A54-922F-9EF3FC28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2D1CF-B5DE-4C7A-A2E1-82066D07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AACFA-6010-4C4C-BE26-157C7C9A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BA621-96B6-4B54-9D6A-B3A04006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7261A-0270-4548-9096-E2D5B0F8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0B70D-D877-416A-8F99-0CA25DBC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3F8FA-8815-40E1-BB01-3FAB70B6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82DDA-4C27-4105-A018-726392D0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BFA-B8C4-4568-822C-75431A73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D078F-B539-4F56-82D1-D2F50E04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74C63-B36C-4D89-A8D5-22E3361A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CCD40-2ED3-4854-AA7A-C5E61494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AFF10-B3A2-44F1-BACF-05E421A5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B62A8-C78C-4EDD-A4E9-BEE04736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A8BFA-E119-420E-94E2-0BD0515E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BF269-EA71-4C33-ACA4-3258F27B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C6D07-5E1E-48D0-90BF-1DECA6EB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38E8F-00A1-4EEF-BBC4-6CA4369E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44A65-A1CD-4DF4-BE28-A07CBE14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1F4-0DE3-4454-A60F-385B2515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E3F3D-DD7D-403A-A77C-17948C60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11C07-75DB-43F8-8154-AA67E8D5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034A1-A4E8-4338-A9D5-2B74A71B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E18B0-9466-4375-BBDD-F2EEA89F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E910A-D917-4F38-B1CA-A4885B32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FDAC7-0C5E-44D4-91C3-04701320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6C4AF-D5BC-4C15-B8FC-0DE49721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FE41A-C80F-4F33-A002-CCF93917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D55B5-6E79-406C-B3FF-3F1EA94C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371DF-2C42-4B68-B8AB-5256E29E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E73-1D6B-4D28-8AB3-FA28E78B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97DA9-D464-40E1-AD54-90E905D0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B5CAF-2DC6-4B2F-BC21-BEDCF4EE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F8E4A-A120-4E60-89B0-C3DCDA72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45548-A5AF-4F0D-ABD4-C41250C4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43B16-2D00-4C72-9591-FD8CF723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9785B-E43C-4AA3-BE55-A3CF9EC3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AD642-DED2-494D-8D3D-934E9251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ED8E7-0711-4F34-8A3F-7C59678A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1F03B-77B1-4BEA-BB66-4669AB29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75F4D-778B-4D77-8027-99D1F177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AB7-EE24-42C6-B8F6-5DE129D0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46B5A-652E-45F3-9AA9-2B5ABC81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FD70B-6C05-43B2-B1B3-B9D69D7E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C9423-8749-438F-84F7-70782D17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05B3A-80F6-4572-8337-144007F4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DE193-55B1-4A01-ADDF-D4BCCBE5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49FE6-2E88-4A81-A8E1-A8DF3B36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ADB3E-5A79-4A97-B061-87254A9D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5888F-C971-421C-AD5B-F4930F0B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2F48D-49A3-49C7-BFF7-3E49A6E5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40ECE-A5FC-4BFC-87E2-AB219935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BD9-64DB-4C84-BDB9-0ACD8513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9A484-7387-49E1-9236-40245B3E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0F9D9-E555-45F9-BFEC-21F4A70F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43864-A003-43C4-816E-2E21BAD4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6F84A-CDBA-4335-A8C2-EA272349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97F61-9119-4F77-BEC5-BC79BBB1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7C3AE-28E4-41CF-B97E-03AD8845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86B11-641B-4AF0-8CBE-20E21B07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0CD1F-E606-4B1A-AFB8-3D1B45C7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AE97A-3DBB-4093-B6D9-07A06663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C4A94-D51C-4F80-96F4-651719EF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4DB8-8B65-4A59-A3AF-92FE6227884C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9E6B-AF1B-43F5-9AD4-3DB75D4716F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FD81-326D-41C4-A94C-5DDC7203BE24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B169-4DD0-461F-A919-B9D3298C4331}" type="slidenum">
              <a:rPr b="0" lang="ru-RU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EDC5-1D02-483C-BFEC-339D1B733474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0780-9027-4243-8520-D00C777EAD96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8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28DF-8FD8-4349-9168-FC728900C0AF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6C30-F91A-4E2A-A665-1AC7EF04E743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46F9-004C-44EF-A0A2-38AD8A58AB68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F1DA-1846-42BD-AAB0-CA7DCAFF93FA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AA65-9507-48A5-95C0-7A4972B22C04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ED5A-DF52-4CD0-83B0-A825E9288725}" type="slidenum">
              <a:rPr b="0" lang="ru-RU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1626-1875-4649-8AA3-2693EBB484DA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64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4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2590920" cy="1692360"/>
          </a:xfrm>
          <a:prstGeom prst="rect">
            <a:avLst/>
          </a:prstGeom>
          <a:ln w="0">
            <a:noFill/>
          </a:ln>
        </p:spPr>
      </p:pic>
      <p:sp>
        <p:nvSpPr>
          <p:cNvPr id="601" name="WordArt 5"/>
          <p:cNvSpPr txBox="1"/>
          <p:nvPr/>
        </p:nvSpPr>
        <p:spPr>
          <a:xfrm>
            <a:off x="533520" y="380880"/>
            <a:ext cx="8305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ООПАР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02" name="Picture 6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2543040" cy="19162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"/>
          <p:cNvPicPr/>
          <p:nvPr/>
        </p:nvPicPr>
        <p:blipFill>
          <a:blip r:embed="rId3"/>
          <a:stretch/>
        </p:blipFill>
        <p:spPr>
          <a:xfrm>
            <a:off x="228600" y="4343400"/>
            <a:ext cx="2438280" cy="21621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0" descr=""/>
          <p:cNvPicPr/>
          <p:nvPr/>
        </p:nvPicPr>
        <p:blipFill>
          <a:blip r:embed="rId4"/>
          <a:stretch/>
        </p:blipFill>
        <p:spPr>
          <a:xfrm>
            <a:off x="3124080" y="4191120"/>
            <a:ext cx="2743200" cy="19256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1" descr=""/>
          <p:cNvPicPr/>
          <p:nvPr/>
        </p:nvPicPr>
        <p:blipFill>
          <a:blip r:embed="rId5"/>
          <a:stretch/>
        </p:blipFill>
        <p:spPr>
          <a:xfrm>
            <a:off x="6248520" y="4591080"/>
            <a:ext cx="2743200" cy="20476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2" descr=""/>
          <p:cNvPicPr/>
          <p:nvPr/>
        </p:nvPicPr>
        <p:blipFill>
          <a:blip r:embed="rId6"/>
          <a:stretch/>
        </p:blipFill>
        <p:spPr>
          <a:xfrm>
            <a:off x="3962520" y="1066680"/>
            <a:ext cx="2857320" cy="22100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3" descr=""/>
          <p:cNvPicPr/>
          <p:nvPr/>
        </p:nvPicPr>
        <p:blipFill>
          <a:blip r:embed="rId7"/>
          <a:stretch/>
        </p:blipFill>
        <p:spPr>
          <a:xfrm>
            <a:off x="6477120" y="2286000"/>
            <a:ext cx="2514600" cy="209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1"/>
          <p:cNvSpPr/>
          <p:nvPr/>
        </p:nvSpPr>
        <p:spPr>
          <a:xfrm>
            <a:off x="228600" y="-2412000"/>
            <a:ext cx="8686800" cy="92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са и пч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тели погулять две подружки- оса и пчела- в городской парк. Оса увидела пустую банку из-под кока-колы. Оса сказала пчел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Полетели скорей к той банке. Там так вкусно пахнет. Мы с тобой полакомим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Нет. подружка, полетим лучше к липовому дереву. Нектар липовых цветов самый вкусный. Я его очень люб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послушалась оса пчелу. Влетела в банку, там было немножко кока-колы, крылышки намокли, она не смогла выбраться и погибла. А пчела целый день собирала липовый нект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уй нос, куда не над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жал заяц от собак и ушел в лес. В лесу ему хорошо было, да уж много он страху натерпелся и хотел ещё лучше спрятаться. Стал искать ещё глуше место и в овраге наскочил на волка, а волк и схватил его. «Видно, правда, что от добра добра искать не надо. Хотел ещё лучше спрятаться, и вовсе пропал», - подумал заяц.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457200" y="-360"/>
            <a:ext cx="8229600" cy="61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 группа. Запишите предложения, взятые из повести А.С.Пушкина «Дубровский», вставьте пропущенные буквы и графически (квадратными скобками), выделите фразеологизм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 группа. Сравните два текста: детское сочинение и рассказ Л.Н. Толстого. Догадайтесь, какой из них принадлежит перу писателя. Свое мнение обоснуйте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ДЕЛИТЕ ФРАЗЕОЛОГИЗМЫ, ОБЪЯСНИТЕ ИХ ЗНАЧЕНИ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Докажите , что в сочинении фразеологизм использован неудачн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 группа. Запишите предложения, взятые из басен И.А.Крылова, вставьте пропущенные буквы и графически (квадратными скобками), выделите фразеологизм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:\Documents and Settings\Нина\Рабочий стол\спасибо за внима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Картинки по запросу картинка к фразеологизму водить за нос"/>
          <p:cNvPicPr/>
          <p:nvPr/>
        </p:nvPicPr>
        <p:blipFill>
          <a:blip r:embed="rId1"/>
          <a:stretch/>
        </p:blipFill>
        <p:spPr>
          <a:xfrm>
            <a:off x="-1219320" y="0"/>
            <a:ext cx="10211040" cy="708660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667 -0.09444 L -0.46666 -0.02777 E">
                                      <p:cBhvr>
                                        <p:cTn id="6" dur="5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Заголовок 1" descr=""/>
          <p:cNvPicPr/>
          <p:nvPr/>
        </p:nvPicPr>
        <p:blipFill>
          <a:blip r:embed="rId1"/>
          <a:stretch/>
        </p:blipFill>
        <p:spPr>
          <a:xfrm>
            <a:off x="5389560" y="1146240"/>
            <a:ext cx="3430440" cy="5102280"/>
          </a:xfrm>
          <a:prstGeom prst="rect">
            <a:avLst/>
          </a:prstGeom>
          <a:ln w="0">
            <a:noFill/>
          </a:ln>
        </p:spPr>
      </p:pic>
      <p:grpSp>
        <p:nvGrpSpPr>
          <p:cNvPr id="582" name="Рисунок 2"/>
          <p:cNvGrpSpPr/>
          <p:nvPr/>
        </p:nvGrpSpPr>
        <p:grpSpPr>
          <a:xfrm>
            <a:off x="549360" y="933480"/>
            <a:ext cx="4437000" cy="4430520"/>
            <a:chOff x="549360" y="933480"/>
            <a:chExt cx="4437000" cy="4430520"/>
          </a:xfrm>
        </p:grpSpPr>
        <p:pic>
          <p:nvPicPr>
            <p:cNvPr id="583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549360" y="933480"/>
              <a:ext cx="4437000" cy="44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86" name="Picture 8" descr="Картинки по запросу портрет гоголя"/>
          <p:cNvPicPr/>
          <p:nvPr/>
        </p:nvPicPr>
        <p:blipFill>
          <a:blip r:embed="rId3"/>
          <a:stretch/>
        </p:blipFill>
        <p:spPr>
          <a:xfrm>
            <a:off x="1219320" y="1523880"/>
            <a:ext cx="2819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1"/>
          <p:cNvSpPr/>
          <p:nvPr/>
        </p:nvSpPr>
        <p:spPr>
          <a:xfrm>
            <a:off x="0" y="-745920"/>
            <a:ext cx="9144000" cy="77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-знать особенности фразеологизмов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-уметь толковать значения фразеологизмов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-учиться употреблять фразеологизмы в устной и письменной речи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Задание 3. Объяснить по словарю значение фразеологизмов. Зачитать примеры предложений, в которых обыгрывается этот фразеологизм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228564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1 группа. «Сизифов труд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2 группа. «Разрубить гордиев узе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3 группа. «Вавилонское столпотворени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mbria"/>
              </a:rPr>
              <a:t>3адание 4: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1 группа. Выписать фразеологизмы со значением «бездельнича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2 группа. Выписать фразеологизмы со значением «обманыва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3 группа. Выписать фразеологизмы со значением «быстр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WordArt 5"/>
          <p:cNvSpPr txBox="1"/>
          <p:nvPr/>
        </p:nvSpPr>
        <p:spPr>
          <a:xfrm>
            <a:off x="380880" y="30492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БЕЗДЕЛЬНИЧАТЬ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5" name="WordArt 10"/>
          <p:cNvSpPr txBox="1"/>
          <p:nvPr/>
        </p:nvSpPr>
        <p:spPr>
          <a:xfrm>
            <a:off x="1447920" y="3048120"/>
            <a:ext cx="281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ОБМАНЫВАТЬ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6" name="WordArt 11"/>
          <p:cNvSpPr txBox="1"/>
          <p:nvPr/>
        </p:nvSpPr>
        <p:spPr>
          <a:xfrm>
            <a:off x="5791320" y="4572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БЫСТРО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0" y="1143000"/>
            <a:ext cx="38098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6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ДЕТЬ СЛОЖА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6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ТЬ БАКЛ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1295280" y="3809880"/>
            <a:ext cx="38102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ИТЬ ЗА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ТИРАТЬ 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ВОДИТЬ В ЗАБЛ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5"/>
          <p:cNvSpPr/>
          <p:nvPr/>
        </p:nvSpPr>
        <p:spPr>
          <a:xfrm>
            <a:off x="5181480" y="1219320"/>
            <a:ext cx="3733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ОМЯ ГОЛ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 ВСЕ ЛОП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 ВЕСЬ 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 ВСЕХ Н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СУНУВ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 Александровна</dc:creator>
  <dc:description/>
  <dc:language>en-US</dc:language>
  <cp:lastModifiedBy>Пользователь Windows</cp:lastModifiedBy>
  <dcterms:modified xsi:type="dcterms:W3CDTF">2021-06-14T05:45:50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