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7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1805-3A09-4D65-A3FB-FDDC658D0E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C233-1AA0-4157-A692-F3B1C170C4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8C9-3B3E-4799-88F6-8805F207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6F16-BF83-4304-B865-D91D04B9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87F07-F1F7-4500-948D-7C2C311D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6622E-00FC-4979-B3E6-2F1FA3CB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3F061-1E55-4CBE-8826-71D67709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43373-96B4-41B9-97B8-064BA171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79A81-FD21-43CA-BD68-429509AE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1E990-47A1-42DD-ACA9-E521ABA5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180A3-60EB-4025-BCE9-D614C13A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537FD-F78F-4BB1-92D3-0908104C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22803-1BB1-4DB3-A3DE-CA72C14F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B43D9-8B54-4964-99D4-0F73DF91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5351-88B0-4D33-A052-2F0B4F05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E27C4-3591-420C-88BF-8324E375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B1CE6-F222-48B1-B74A-F47FFC9D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26321-D7BC-4CBB-A33A-9F97B26C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B30AA-14D1-4B0F-A3EF-1AF03B53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C02B2-495F-43D3-ADE2-5AAC2056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B8AA3-FB4B-4E22-9FE8-18CE23DF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877C7-347F-4B63-9E04-CE917F2B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F1993-DE20-4128-82B6-4F0E8337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B6A75-1F57-4A72-8571-BF6048E6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6A4F3-306D-42E9-9E6A-EF9BB12D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C19-D135-4BA8-8EA0-81BBCD4A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E472C-E18B-4201-815C-869075AF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52063-3A5E-4A0E-9E27-C3FB413B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84075-D78B-445D-8068-CB2EAB06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61973-1C51-4204-84CD-41D2A13E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1FAA6-EE04-4044-B83C-ACF53354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BC99B-B193-44D1-ADE0-9E07DBC5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D491A-AE34-4A91-BE1C-FCE52E2D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78701-EE79-4F63-96A6-999C3B95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6290F-1FBE-4ADC-A9D4-96971339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2C806-3C4B-4EBA-9CC2-E75D2B9D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0F80-18C7-4B0E-8856-0A98A831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55D50-1FBD-4B9A-B927-7877BC4A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AB844-B08C-4110-BDC3-9A2016D2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F5187-73A9-4673-B231-C86A0B7D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ECACB-C33C-4210-B28D-646A5720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92A06-DEAE-44BB-8C04-76F58B1C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1CDD9-A19A-4855-9EA4-724BCAB5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15809-EA5B-431F-B6A1-D04107C0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19349-07E2-41DA-8B50-6D4B63BD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D1271-20EF-4ADD-BA28-D011D394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F7E68-BA23-41C4-A40B-0A93676F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4BA8-619E-4DB1-BCC0-FE58BEDD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0CD42-CC88-4601-8C7E-B44C688C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BE28E-F27A-410F-9319-B0F9998F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56F64-6CB1-4797-BD7D-97CD716B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E72FF-1198-4E4D-AD00-D5A1334B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56928-4E54-4E1E-8D22-AFF070B4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09F4F-1F2C-4B29-B23E-5801BC37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46D888-E1C2-433D-AC85-8DBADECE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6268E-D2AC-4F9E-90D5-26DB6D71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50C5D-148F-4BFB-A955-923A1116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EDB57-DE34-4CE5-B43B-7EF431E2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E6E0-3689-4CC8-B4DE-C913E662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ACBAF-C664-4FDE-BD08-A3F4A6C8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F76B3-E842-4FB9-A17D-1EDE2A5C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F29D3-A864-4DD6-8D07-9E720515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AA8DB-04BB-49C5-ABDB-DC7BD303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D92226-9FC7-426F-96F8-3A8FF724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62F40F-97A8-452E-AC08-561889C5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DB516F-2E2D-4123-B28B-9B2C4220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DC16-B2B8-44EC-B611-81AE45DF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FA54-787E-4BBD-9D1C-1B38DAEE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D506-548F-4EB3-9AA3-8BF0CE02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AA21-DC6A-40E3-8B65-6F6C7699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6E9-849C-454C-919A-2FF20A67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E6FD-8F3C-4A7F-8354-F3BC71FA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43BB-B06D-4D9E-9A9E-3F80833A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31CD-A799-40F0-874A-CDEE88E0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E0C9-F4ED-4DD9-81E8-1832E6D8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B151-ED68-452A-9009-447D8EA7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2BB59-5509-4147-B33E-161A2BA3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F0325-A4ED-4820-8402-5C4F1A13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B4D6E-FAC8-4042-9CA8-FBED79B6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DEDB2-A4A0-4CE3-B586-2D7D464A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29E9C-2526-4F4E-8DF4-60B46BB2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9F30-A168-4357-9107-0B35906D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D4661-3F1B-4DBB-A6ED-6C7D1B1F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02A66-A684-42BB-BAD4-31408A96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182F6-1A31-43A8-A70C-0A111130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C7FFB-142C-4471-8948-0E183276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39EA5-7E52-4CE6-80E4-ED1D2020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33D47-77B7-4427-BB1F-048623DD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D923D-694B-46C2-ADA0-372BCB20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BC28B-9D25-40E5-890F-363FA231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A71A0-458F-4237-884C-A523A11F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B7288-AE22-430F-982A-AA227366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268B-01A8-47D2-92D3-A031E8CF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033FD-8F2F-434D-AD3A-1E801463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B74D3-F574-4316-826D-534365FE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AC8A9-BA8E-4562-BB7E-AA9035C7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CED39-6DE5-4131-B131-5E421412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DD552-3720-4B51-B51F-F1531A31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536BD-EC0D-441C-8DC8-D4780C99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D9DCE-3DB9-493F-BB05-E2D14282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D9B32-1F16-4F79-A67F-F104E241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86473-773D-4CAC-B876-EEC38392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5CA6C-AD46-4A24-BF2E-C86AE35D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765-B56E-4A03-AABB-2774ACD5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B0907-4E7C-47AB-A137-0706F3EF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A509E-3016-4737-9360-E4824104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C8388-AB7A-48D5-9392-F6667B22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7BB77-76BF-40AF-9E48-87A6A7A8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6838F-F972-4C28-8B8C-9CBA1D1F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99438-E05C-4CC4-A45A-A09CF589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8E92A-FEF4-460D-8523-B56F8A19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B06C5-281B-4BD7-80B7-63FB0456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57767-C013-4B6B-BA6C-6E6873FD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61E95-2D71-4E93-A087-582D9799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8CF-BD52-4D51-AE05-367F296B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18B9A-B2E1-4047-9562-0D5B60DC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E8B45-24F4-4601-B7C9-29C1D7E2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9EA7D-B981-41EE-AFF5-E009EA48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E60F3-55FB-4D0C-8556-F006EAFB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F8E23-8FFC-4A4C-9BED-AC04295D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F447E-A458-4121-9FF3-334324C9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E4B58-B79C-40E3-B256-48AE4D11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B7F1B-C715-4AFE-9209-10EA4265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1FE62-9942-40E4-8B3C-7F96B18A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F43A2-22E6-4383-8B0A-AEE59DBC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2BFB-AEF1-4BB0-B0BB-EA74B7BF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517C5-FBD4-4AED-92E3-EEC74D8E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E6E28-D933-44CE-A531-D96441D3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9AD01-5851-4F68-9400-07F5C724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916B0-0992-4B0A-84FA-C5F774A3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2C46A-1024-4BDD-91D7-DD6C2B6A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B57B6-D18C-40B9-86A9-FBEB3D51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EB54B-9587-4C92-B08E-ECA3A3D3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FAACF-864F-4227-88A7-5A595047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20839-FAD1-42E8-9E76-28E68A5A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61B9A-364A-499C-A43D-ABAE89EC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8153-190E-42AC-AFC5-6490E8EB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A9C59-9575-430A-A159-2F0AFDD0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76B6C-74F1-42C4-8C9A-D23FB7FD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4C9C6-D3B1-4D4F-A2DF-75387451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52616-2DD9-41FC-A6B2-73762E80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2A5AF-85A0-4495-BD05-EE1BB527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C08DB-8880-4F8E-8BC8-7DA49CB0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3035E-8F96-43BD-9270-BF387EEC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D8805-2ECA-4FBD-AF34-ABACA469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1F48F-C7E5-4DEA-B78D-7B1CDA2C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FE39E-144C-48C9-900A-33D9CFB6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499-F348-4A83-9060-B68C20F9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E8B47-CB4D-4F64-BADB-E569FEC2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EDB1E-039E-4580-AB1D-1249428E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AD497-6A09-47C2-B47D-F44A1E97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E7A90-2379-473F-86AB-38AD196A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4B817-D59E-4792-B31A-8DA603AA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D743E-4A08-4C56-94DF-6273090C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BD2B9-A9F1-401D-A1D4-5760ADE9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05667-E2DC-47F8-A21C-AF195857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8DD8B-5511-4F83-9520-961C120B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1A974-D1DE-431F-B5CD-0152B84E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4EA9-1CF1-4547-971A-F13793DFE1BB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AE92-F68C-4788-8092-6B112C838A63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CF81-AC4E-4CA2-8BA4-22FB679380F2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2F4D-6D22-4116-95B6-3A46C4560944}" type="slidenum">
              <a:rPr b="0" lang="ru-RU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74A4-119C-4CE8-9F1E-DD6E39E6C730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FDE1-63AA-45BB-BF8C-20EF64113536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8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65A1-8148-4198-9697-E1E05C162956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3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4C3D-239C-461B-83FE-2B4249507F73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F600-B8FE-4AB0-9744-259E9A057810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0C62-A237-4116-888A-64E0DEA7D5BC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8553-BD08-4959-B788-ADEB57A7590F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E5B1-5FD4-4189-A44F-790E56DA1187}" type="slidenum">
              <a:rPr b="0" lang="ru-RU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4779-385A-4B90-BBC9-414ADC4FE006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648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4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2590920" cy="1692360"/>
          </a:xfrm>
          <a:prstGeom prst="rect">
            <a:avLst/>
          </a:prstGeom>
          <a:ln w="0">
            <a:noFill/>
          </a:ln>
        </p:spPr>
      </p:pic>
      <p:sp>
        <p:nvSpPr>
          <p:cNvPr id="601" name="WordArt 5"/>
          <p:cNvSpPr txBox="1"/>
          <p:nvPr/>
        </p:nvSpPr>
        <p:spPr>
          <a:xfrm>
            <a:off x="533520" y="380880"/>
            <a:ext cx="8305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ООПАР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02" name="Picture 6" descr=""/>
          <p:cNvPicPr/>
          <p:nvPr/>
        </p:nvPicPr>
        <p:blipFill>
          <a:blip r:embed="rId2"/>
          <a:stretch/>
        </p:blipFill>
        <p:spPr>
          <a:xfrm>
            <a:off x="2286000" y="2209680"/>
            <a:ext cx="2543040" cy="19162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9" descr=""/>
          <p:cNvPicPr/>
          <p:nvPr/>
        </p:nvPicPr>
        <p:blipFill>
          <a:blip r:embed="rId3"/>
          <a:stretch/>
        </p:blipFill>
        <p:spPr>
          <a:xfrm>
            <a:off x="228600" y="4343400"/>
            <a:ext cx="2438280" cy="216216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0" descr=""/>
          <p:cNvPicPr/>
          <p:nvPr/>
        </p:nvPicPr>
        <p:blipFill>
          <a:blip r:embed="rId4"/>
          <a:stretch/>
        </p:blipFill>
        <p:spPr>
          <a:xfrm>
            <a:off x="3124080" y="4191120"/>
            <a:ext cx="2743200" cy="19256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1" descr=""/>
          <p:cNvPicPr/>
          <p:nvPr/>
        </p:nvPicPr>
        <p:blipFill>
          <a:blip r:embed="rId5"/>
          <a:stretch/>
        </p:blipFill>
        <p:spPr>
          <a:xfrm>
            <a:off x="6248520" y="4591080"/>
            <a:ext cx="2743200" cy="20476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2" descr=""/>
          <p:cNvPicPr/>
          <p:nvPr/>
        </p:nvPicPr>
        <p:blipFill>
          <a:blip r:embed="rId6"/>
          <a:stretch/>
        </p:blipFill>
        <p:spPr>
          <a:xfrm>
            <a:off x="3962520" y="1066680"/>
            <a:ext cx="2857320" cy="22100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3" descr=""/>
          <p:cNvPicPr/>
          <p:nvPr/>
        </p:nvPicPr>
        <p:blipFill>
          <a:blip r:embed="rId7"/>
          <a:stretch/>
        </p:blipFill>
        <p:spPr>
          <a:xfrm>
            <a:off x="6477120" y="2286000"/>
            <a:ext cx="2514600" cy="209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1"/>
          <p:cNvSpPr/>
          <p:nvPr/>
        </p:nvSpPr>
        <p:spPr>
          <a:xfrm>
            <a:off x="228600" y="-2412000"/>
            <a:ext cx="8686800" cy="92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са и пч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тели погулять две подружки- оса и пчела- в городской парк. Оса увидела пустую банку из-под кока-колы. Оса сказала пчел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Полетели скорей к той банке. Там так вкусно пахнет. Мы с тобой полакомим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Нет. подружка, полетим лучше к липовому дереву. Нектар липовых цветов самый вкусный. Я его очень люб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послушалась оса пчелу. Влетела в банку, там было немножко кока-колы, крылышки намокли, она не смогла выбраться и погибла. А пчела целый день собирала липовый нект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уй нос, куда не над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ежал заяц от собак и ушел в лес. В лесу ему хорошо было, да уж много он страху натерпелся и хотел ещё лучше спрятаться. Стал искать ещё глуше место и в овраге наскочил на волка, а волк и схватил его. «Видно, правда, что от добра добра искать не надо. Хотел ещё лучше спрятаться, и вовсе пропал», - подумал заяц.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457200" y="-360"/>
            <a:ext cx="8229600" cy="61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 группа. Запишите предложения, взятые из повести А.С.Пушкина «Дубровский», вставьте пропущенные буквы и графически (квадратными скобками), выделите фразеологизм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 группа. Сравните два текста: детское сочинение и рассказ Л.Н. Толстого. Догадайтесь, какой из них принадлежит перу писателя. Свое мнение обоснуйте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ДЕЛИТЕ ФРАЗЕОЛОГИЗМЫ, ОБЪЯСНИТЕ ИХ ЗНАЧЕНИ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Докажите , что в сочинении фразеологизм использован неудачн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 группа. Запишите предложения, взятые из басен И.А.Крылова, вставьте пропущенные буквы и графически (квадратными скобками), выделите фразеологизм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C:\Documents and Settings\Нина\Рабочий стол\спасибо за внимани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Картинки по запросу картинка к фразеологизму водить за нос"/>
          <p:cNvPicPr/>
          <p:nvPr/>
        </p:nvPicPr>
        <p:blipFill>
          <a:blip r:embed="rId1"/>
          <a:stretch/>
        </p:blipFill>
        <p:spPr>
          <a:xfrm>
            <a:off x="-1219320" y="0"/>
            <a:ext cx="10211040" cy="708660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667 -0.09444 L -0.46666 -0.02777 E">
                                      <p:cBhvr>
                                        <p:cTn id="6" dur="5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Заголовок 1" descr=""/>
          <p:cNvPicPr/>
          <p:nvPr/>
        </p:nvPicPr>
        <p:blipFill>
          <a:blip r:embed="rId1"/>
          <a:stretch/>
        </p:blipFill>
        <p:spPr>
          <a:xfrm>
            <a:off x="5389560" y="1146240"/>
            <a:ext cx="3430440" cy="5102280"/>
          </a:xfrm>
          <a:prstGeom prst="rect">
            <a:avLst/>
          </a:prstGeom>
          <a:ln w="0">
            <a:noFill/>
          </a:ln>
        </p:spPr>
      </p:pic>
      <p:grpSp>
        <p:nvGrpSpPr>
          <p:cNvPr id="582" name="Рисунок 2"/>
          <p:cNvGrpSpPr/>
          <p:nvPr/>
        </p:nvGrpSpPr>
        <p:grpSpPr>
          <a:xfrm>
            <a:off x="549360" y="933480"/>
            <a:ext cx="4437000" cy="4430520"/>
            <a:chOff x="549360" y="933480"/>
            <a:chExt cx="4437000" cy="4430520"/>
          </a:xfrm>
        </p:grpSpPr>
        <p:pic>
          <p:nvPicPr>
            <p:cNvPr id="583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549360" y="933480"/>
              <a:ext cx="4437000" cy="44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86" name="Picture 8" descr="Картинки по запросу портрет гоголя"/>
          <p:cNvPicPr/>
          <p:nvPr/>
        </p:nvPicPr>
        <p:blipFill>
          <a:blip r:embed="rId3"/>
          <a:stretch/>
        </p:blipFill>
        <p:spPr>
          <a:xfrm>
            <a:off x="1219320" y="1523880"/>
            <a:ext cx="28191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1"/>
          <p:cNvSpPr/>
          <p:nvPr/>
        </p:nvSpPr>
        <p:spPr>
          <a:xfrm>
            <a:off x="0" y="-745920"/>
            <a:ext cx="9144000" cy="77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-знать особенности фразеологизмов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-уметь толковать значения фразеологизмов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-учиться употреблять фразеологизмы в устной и письменной речи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mbria"/>
              </a:rPr>
              <a:t>Задание 3. Объяснить по словарю значение фразеологизмов. Зачитать примеры предложений, в которых обыгрывается этот фразеологизм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228564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1 группа. «Сизифов труд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2 группа. «Разрубить гордиев узел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3 группа. «Вавилонское столпотворени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mbria"/>
              </a:rPr>
              <a:t>3адание 4: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1 группа. Выписать фразеологизмы со значением «бездельнича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2 группа. Выписать фразеологизмы со значением «обманыва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3 группа. Выписать фразеологизмы со значением «быстр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WordArt 5"/>
          <p:cNvSpPr txBox="1"/>
          <p:nvPr/>
        </p:nvSpPr>
        <p:spPr>
          <a:xfrm>
            <a:off x="380880" y="304920"/>
            <a:ext cx="3657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БЕЗДЕЛЬНИЧАТЬ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5" name="WordArt 10"/>
          <p:cNvSpPr txBox="1"/>
          <p:nvPr/>
        </p:nvSpPr>
        <p:spPr>
          <a:xfrm>
            <a:off x="1447920" y="3048120"/>
            <a:ext cx="2819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ОБМАНЫВАТЬ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6" name="WordArt 11"/>
          <p:cNvSpPr txBox="1"/>
          <p:nvPr/>
        </p:nvSpPr>
        <p:spPr>
          <a:xfrm>
            <a:off x="5791320" y="45720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БЫСТРО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0" y="1143000"/>
            <a:ext cx="38098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6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ДЕТЬ СЛОЖА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6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ТЬ БАКЛ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4"/>
          <p:cNvSpPr/>
          <p:nvPr/>
        </p:nvSpPr>
        <p:spPr>
          <a:xfrm>
            <a:off x="1295280" y="3809880"/>
            <a:ext cx="38102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ДИТЬ ЗА 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ТИРАТЬ 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ВОДИТЬ В ЗАБЛ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5"/>
          <p:cNvSpPr/>
          <p:nvPr/>
        </p:nvSpPr>
        <p:spPr>
          <a:xfrm>
            <a:off x="5181480" y="1219320"/>
            <a:ext cx="3733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ОМЯ ГОЛ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 ВСЕ ЛОП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 ВЕСЬ 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 ВСЕХ Н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СУНУВ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 Александровна</dc:creator>
  <dc:description/>
  <dc:language>en-US</dc:language>
  <cp:lastModifiedBy>Пользователь Windows</cp:lastModifiedBy>
  <dcterms:modified xsi:type="dcterms:W3CDTF">2021-06-14T05:45:50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