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38B-9747-4A80-ACE7-0D88C428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D96-8533-465A-B4C5-5299F75E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3A6-58E9-48FF-8A87-EF5F7DCF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A6F-7CA5-44C6-B1DC-57E7A254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9546-4D0F-43C3-8DB7-1BBC1D91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E3CB-1094-4EBD-9ED2-D073C275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3868-345C-4301-82B9-4370B09E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55C6-E8A4-4666-A9CE-E3B1635D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99C3-126D-42D0-B11C-D463E485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E8FB-2A05-4BBA-803A-EAE85516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5A7F-8DA1-46D5-9118-AC1AD557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97F-FFAE-4BAA-AA88-3F737DE8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0389-B048-4721-B201-C8B79D3B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A7AA-6A50-4A3A-BA5F-031E5183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0929-9898-4841-968C-B2B3E3D6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231B-4273-4D7C-92FE-1712F6FD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0EA4-B42C-4975-8B21-6B1C79A1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BA34-3609-439E-B398-A6050890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8A17-15FB-46C4-B835-212FC7B5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A7D90-C9A3-49CC-AE10-CAD33C4D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4921-B0E5-48AC-AE2F-3AF63A00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53C8C-6CCD-4411-9D6D-773BDD42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FEC-CE75-41F6-92E2-E32D04B2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960E-23AF-43CA-8CFA-E934D637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DDFC-CE82-4C59-9712-2BFC6997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3E6B-7B62-4E08-B3AD-9E20C2D7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80785-50FD-4D55-BAC3-C3985623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3A10-D56B-4B7F-9F4E-F04BCEAC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1E06-1961-4319-8561-804676F9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3864-73CB-4DD1-B553-252F9678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9054-266D-43DC-A9E8-F5F1F20E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6A07B-E68B-4A4E-BB01-2A9259CA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BAA4-93E9-44EE-876A-C81DF926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E33-DF8A-42B0-9ADE-758096B2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1BDF3-2699-4974-96A3-BBB82764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83C32-C703-4F6B-9B2D-79267BE0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6BC8-5FFC-4B94-B042-37E9873B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8C701-AC67-4877-BD35-F1919C6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957A-18D8-45C8-A197-8E4D4D6F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AA323-9DEC-458E-BCFF-4A666B13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E9FE-A067-4682-81D0-70A040BF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0895-DAA0-4CCD-B7F5-5181BF6C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74F95-F2F7-47A4-BCD0-EB8B567D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27491-35BC-4295-B410-0E846F1B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EA7-6A72-4B50-8C83-44A137F6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45D4-C92F-408D-A9D9-ACC559AC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C20B2-2011-4C8F-9158-A665C744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AB85-4BF2-43D0-AAB3-761AF635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A22BB-B486-4F33-8C69-7FB91E6F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CA650-E0F9-446E-B1B0-19D7A596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B205E-8AFB-4359-A0FF-93BD3E96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A0920-5206-41F3-92B2-943F308B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18863-8BE4-4239-823F-8418601B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D73AC-4BB2-4B1F-9623-54549B45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ABE4-7A73-4EF7-96B4-520E580A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2AA-7ACB-43C4-9475-D4D0FED0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E0759-6BCD-43CE-9A3A-7F6257AC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6C96C-8E3E-4DDD-AFBD-570FFC21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39E8E-1CB6-4B7E-9867-CE035F7B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C3F33-FA5C-4F9C-81D3-E038310A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3B9E1-3AA9-47C2-8F5D-E1DA3867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B7BBE-09DF-48E4-A9FF-952799B6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27BF0-8B8C-4791-BD9C-76DC2CC3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6BD3D-2DD1-41FC-B943-A307D8A4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011FC-4965-418D-B160-6887DD0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F0CC9-D545-4D72-B8AC-52396393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C6D-CE0D-4398-B2FD-1E86F65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9E69F-CAC2-4207-90CF-F2204D95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CCEBA-CDF2-4860-BF8D-09D61D36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42A6-6C93-4997-A02B-C3C3F979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B6339-1E9B-472B-99A8-D5088E36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EAC2C-EDFC-4F8E-9679-643A2DFF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850DE-9113-4D55-8CB7-566D0388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24C1F-88E8-4489-9B49-3C065E3E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0747C-1096-4B68-A0DC-4093AE58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68548-0AC9-4B8C-8310-1EDDA542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65C34-15F4-4C20-AC82-E6E8CF84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E7B-D303-402D-AE81-354F67D5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098BA-AB3E-4B50-91EF-45FCCC69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211B0-914B-43C7-8258-798832CA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E45D-D11E-478D-9D37-A55F9846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3212C-0BC3-4C12-91A8-718FDAB3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27F2E-362D-42BD-9F26-5054618B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F97F8-9662-40C7-A2A2-F0893D81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EB6A9-2B06-48E5-A13E-FADE52D2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5DD47-5402-42E8-8BB5-79FB4FD8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C8CD5-4343-4818-9C76-033C22F0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E1E22-F083-4B34-BDB6-8A7F25BA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AC7-F797-41BB-99C6-74EFB76C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CD9C8-AB95-4435-A40A-923BEC1F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C12CC-F3D9-4F7E-98FC-D9FC9990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E4154-8615-4F96-A595-C5D2D464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2217C-836D-4B74-897E-20EC03A2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C10F3-1069-4403-8A0D-C4F94E98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98E86-390B-467F-9DAE-70362604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2A2FA-FB6B-4A85-B0A0-05400A2A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00EC-9681-4C75-84DC-2578483330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442E-0022-48D5-9A58-0965693817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9A82-D49E-496F-8ACC-7BA3781026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94EB-A717-41BE-A365-C89A7B6D50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A752-2A50-496D-8781-DF52B07D68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1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E8BF-DE05-4E6F-ADFA-4396635E6B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F90F-D622-4CA4-9B27-D0A69B9AF4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0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1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FC07-C087-4E5A-9F1D-AAFF7AF695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учитель русского языка и литературы Журавлева Нина Кузьминич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к уроку литературы«Спираль времени. Роман И.С.Тургенева «Отцы и дети в восприятии читателей 21век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« Поколение золотого 21 века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Молодое поколение 21 века – жертвы стереотипов и алкоголя. Нас не волнует, что с нами будет завтра.. Мы думаем, что у нас яркое будущее, но у нас его нет. Мы его разбили, как бутылку дорогого алкоголя. У нас наш « эксклюзивный» мир, где правят деньги. Бессонница. Сидим в контакте. Для нас зависимость от контакта не просто избитая фраза, это уже образ жизни. Вы говорите, что мы глупые, а нам плевать на то, что вы говорите, мы вас не слышим. Мы не любим умные фразы и умные книги. Фраза « один за всех и все за одного» прокатит только, когда  хорошо , а когда плохо , то каждый за себя . Мы курим травку и пьём пиво, энергетики. Каждый рассказывает , как накурился травки .И на самом деле, увы, видели травку не только на картинках . Мы презираем тех у кого нет личного водителя, частного дома и красивых шмоток. Кто мы ? Мы дети богатых родителей , не добившихся в жизни ничег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сставить христианские акценты в трех проблемах романа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четвертая   заповедь : чти отца своего  Греховность непочитания родителей  Как это показано в роман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роман прекрасно иллюстрирует слова апостола о том ,что « лучше жениться, чем разжиться». Приведите при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Тургенев тонко показывает не только грех детей , но и страшную вину отцов . Докажите. Какую библейскую заповедь нарушают от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ак я оцениваю свою работу на уроке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легко было выполни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особенно интересно было выполнять зада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с трудом справился с задание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68360" y="28522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Клише или типовые конструкции- 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это речевые стереотипы, которые мы легко воспроизводим в речи в определенных ситуациях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размышляет над проблем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ный для анализа текст заставил меня задуматься над сложной проблем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именно эта проблема привлекла внимание автора?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предлагает своим читателям задуматься над проблем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амом начале текста автор задается вопросо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долг ( честь, благородство, интеллигентность и т.п.) и какую роль это понятие играет в жиз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а и общес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Заголовок 3"/>
          <p:cNvSpPr/>
          <p:nvPr/>
        </p:nvSpPr>
        <p:spPr>
          <a:xfrm>
            <a:off x="1979640" y="189000"/>
            <a:ext cx="376092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одержимое 4"/>
          <p:cNvSpPr/>
          <p:nvPr/>
        </p:nvSpPr>
        <p:spPr>
          <a:xfrm>
            <a:off x="2284560" y="1170000"/>
            <a:ext cx="685944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spcBef>
                <a:spcPts val="700"/>
              </a:spcBef>
              <a:buClr>
                <a:srgbClr val="8c003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Если читатель не полюбит Базарова со всей его грубостью, бессердечностью, безжалостной сухостью и резкостью, если он его не полюбит, повторяю я, - я виноват и не достиг своей цели» И.С.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8c003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Картинки по запросу портрет тургенева"/>
          <p:cNvPicPr/>
          <p:nvPr/>
        </p:nvPicPr>
        <p:blipFill>
          <a:blip r:embed="rId1"/>
          <a:stretch/>
        </p:blipFill>
        <p:spPr>
          <a:xfrm>
            <a:off x="-1260360" y="0"/>
            <a:ext cx="3887640" cy="736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нение современного читател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339640" y="1125360"/>
            <a:ext cx="63356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Всем своим сердцем люблю творчество Тургенева. Я как минимум три раза прочла роман «Отцы и дети». Я так сильно полюбила этого нахального, жесткого, нетворческого человека, Евгения Базарова, что в конце книги плакала, когда он ум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«Угадай-ка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т то-то, все вы гордецы! Спросили бы, как делали отцы? Учились бы на старших гляд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лодость-то что значит! Ничего-то не знают, никакого порядка. А ведь тоже, глупые, на свою волю хотят… Что будет, как старики перемрут, как будет свет стоять, уж и не знаю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т она нынешняя молодежь! Вот они, наши наследник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«Наша молодежь любит роскошь, она дурно воспитана, она насмехается над начальством и нисколько не уважает старших»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«Наши нынешние дети стали тиранами, они не встают, когда в комнату входит пожилой человек, перечат своим родителям»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Спираль времени»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 И.С.Тургенева «Отцы и дети» в восприятии читателей 21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11280" y="2204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6600" spc="-1" strike="noStrike">
                <a:solidFill>
                  <a:srgbClr val="8c0039"/>
                </a:solidFill>
                <a:latin typeface="Arial"/>
              </a:rPr>
              <a:t>Век надежд и разочарований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Жизненные ценност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т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им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ажение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ь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грамма наблюд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я.....Проанализировать отношение Базарова к семье, доказать несостоятельность его суждений. Проблемы взаимоотношений в современной семье. Формула благополучия семьи…Семья-это ( назвать слагаемые благополучной семь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….Можно ли «Отцы и дети» назвать романом о любви? Существует ли такой тип женщин, как Одинцова в современной России? Тургеневская девушка: миф или реаль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среде современной молодеж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…..Как представляет себе молодое поколение И.С.Тургенев? Провести параллель « молодежь прошлого- современная молодежь». Выразить отношение к полемичной статье «Поколение золотого 21 в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4:49:51Z</dcterms:created>
  <dc:creator>Admin</dc:creator>
  <dc:description/>
  <dc:language>en-US</dc:language>
  <cp:lastModifiedBy>Admin</cp:lastModifiedBy>
  <dcterms:modified xsi:type="dcterms:W3CDTF">2016-11-24T01:25:24Z</dcterms:modified>
  <cp:revision>23</cp:revision>
  <dc:subject/>
  <dc:title>«Спираль времени»</dc:title>
</cp:coreProperties>
</file>