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D2F-3E13-4140-A0AB-8CA385D1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AE1-40F5-411A-8670-24706AA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0DC-B13E-4798-9FA0-ECAB4AC6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D53-8417-4397-8839-07158AC7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1BC3-B52A-4059-B476-BD6249F9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6D70-9D38-486A-BFEB-073EE138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8F2D-3AAE-478D-B7E7-78D1E0D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941-81FA-4F79-BDD3-61CA02F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6618-8C06-4A47-B857-B7AB8379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FC4-C2CA-4A4E-8E15-311D5EF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35C9-1164-4DB7-AAD9-F60B526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BF1-1472-4E3F-8876-D867E755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3565-D1F6-41F4-BAF5-BFF0EFF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602-F956-4890-86D9-EDCD731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D6DE-11A5-49D1-9F6C-17A9526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27BA-1CF8-436E-AA54-F59595E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317C-6070-4AD1-9FF4-936F2D7A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C30D-A5A3-4516-8574-6297613C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943D-2B7C-4955-9AED-D0F39F08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F74C-A267-4C31-AD6B-A447561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BF86-8E74-453A-8923-BED73FA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3DA8-2BDA-4288-8FC5-64C0C846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CF8-81F8-4596-B292-0D13AD5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AA28-DF8E-43AF-AF36-F97FFBB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1381-E608-48C8-A214-4EAC448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D00B-B5BA-43ED-AE94-7B6D5DB6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0C83-B9B2-491C-841E-0404B2A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46DC-12EB-4C46-AC5C-8D8E40E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233E-5B2B-4F41-B610-EDD097F1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08C3-A9A5-41BC-AEE5-EE3261EF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45D1-09F2-4EBF-A779-426B953D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DB53-A0ED-4C52-A54F-3FF9000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29ED-FCDB-4A3D-AD4C-8C200C79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78F-2A58-487B-85BB-86D434D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CC6A-2B80-498F-BD9C-3B9D389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6F98-6812-4C36-A647-7AB5F07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0B92-00C0-4A22-84E3-026887C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862B-A3B5-4AD8-8741-E98E61A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51F2-1E5E-4EB3-82F6-F20420C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B793-DE69-4A65-A55C-179C8A6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2D91-E064-4BF9-BD42-D5567C9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504D-F6D6-479B-871C-DD5EB46F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2B3D-FC88-4F66-9F1E-F72F8EB8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BAA3-1C80-4BCD-87A1-CF92EE9E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E71-6CDD-4D26-8AAA-BE3B236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13450-92CB-4418-958E-B2DE4A0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6BC1-915F-4B32-89E4-AEE2CFDE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8733-D859-4305-9D11-6EB52DF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BE20-F532-4982-8E5F-C708E33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64B4-327A-4C7A-83C4-53317B0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5DEE-A380-4A6D-B288-026D35B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5C18F-11A5-4CE1-A7B5-2C6BBE9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5CBA-6C6D-452E-9654-EA6DD02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1B53-C688-49FE-BD22-47CFF66A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2CD6-9E7E-4715-8697-D263B067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934-E294-43B0-BBD1-C814065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B537-4CFB-4099-9318-7ABBA41B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C02D0-BFEF-4BBB-BD4C-DA193963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48B1-0E58-45A7-917D-5FB73DA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EBE3-33AD-4C43-9C5E-A9035E62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7BC8-D4B1-4DBD-9C70-5DB8DF67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035A-A66B-42E9-AC87-082C706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D5AA-2F48-4A65-93DA-B8064E5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2494-F015-4A1D-9EC0-B459E09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2A20-E06D-4A50-82B5-D9E9850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30B3-38DD-4946-896A-709B652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E8D-6797-4600-9C58-4219854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DA1F-6B1F-45B4-8BAF-296F04C2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1775-08FE-42F7-911E-D608C84B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0B05-C72C-43A2-B48F-0E1FA3C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EE62A-CCF4-40F9-9628-837848F2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BB9B-B3CB-4563-BD89-A81F9F8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F2FF-212C-4A44-BC30-E2F2559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BE6E-719C-4160-9623-FBB5AFFE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C3EE8-8F86-42DA-9AB5-4ADA7EC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9E36-82CA-403E-9293-6493597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08FB-84BD-49AF-AC0F-94EE2C9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945-6713-492E-86AC-22EAFD0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7D83-03C5-419A-A90C-3DE7E8E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F023-8634-438B-86FA-FEBE8EA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2922-0BE9-4A99-BC25-635DEFC6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AFE2-7FC9-417A-AC4B-8AC51258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7B50-1330-4840-8E2F-88B7BCBF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434F-50B5-4BE3-822E-9C4DBD8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CBFE1-F8DA-460F-A97C-4B3FD0F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6884-B432-442D-908B-D403050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584D-4A6A-4865-8ADF-977A78B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7C5E-85BD-4E97-9367-BAC87B69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7CB-C1AB-4F7F-940F-22BD4D5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C2B9-B47E-42CB-9520-56D0897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36A5-2A39-4A3E-BEB6-9CD27D0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96FD-DBF8-4FDD-9156-B67E098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C528-2888-4598-B92F-7FC70D8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BE5FF-DA57-4AA6-9DCE-6065F79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A9C68-0E98-4550-84E3-E8FD040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EC84-D889-467A-B4A2-0510F241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2102-62B9-4D91-AAA8-C2A213F901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7B9-063F-464A-841C-C440E280EF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217-60C5-4CFA-AD2F-63D844C118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037E-ADBD-401D-95D4-8179FB348B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2AA-D91E-4FEA-AAD4-E3F4D4BBDC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D099-6FDE-4E1D-A9CD-0D34A8788D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707A-D472-4301-9CED-035073DFDE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A32-06C8-4AC4-91A1-05191B1610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учитель русского языка и литературы Журавлева Нина Кузьминич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литературы«Спираль времени. Роман И.С.Тургенева «Отцы и дети в восприятии читателей 21ве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« Поколение золотого 21 ве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Молодое поколение 21 века – жертвы стереотипов и алкоголя. Нас не волнует, что с нами будет завтра.. Мы думаем, что у нас яркое будущее, но у нас его нет. Мы его разбили, как бутылку дорогого алкоголя. У нас наш « эксклюзивный» мир, где правят деньги. Бессонница. Сидим в контакте. Для нас зависимость от контакта не просто избитая фраза, это уже образ жизни. Вы говорите, что мы глупые, а нам плевать на то, что вы говорите, мы вас не слышим. Мы не любим умные фразы и умные книги. Фраза « один за всех и все за одного» прокатит только, когда  хорошо , а когда плохо , то каждый за себя . Мы курим травку и пьём пиво, энергетики. Каждый рассказывает , как накурился травки .И на самом деле, увы, видели травку не только на картинках . Мы презираем тех у кого нет личного водителя, частного дома и красивых шмоток. Кто мы ? Мы дети богатых родителей , не добившихся в жизни ничег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сставить христианские акценты в трех проблемах романа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етвертая   заповедь : чти отца своего  Греховность непочитания родителей  Как это показано в роман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оман прекрасно иллюстрирует слова апостола о том ,что « лучше жениться, чем разжиться». 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ургенев тонко показывает не только грех детей , но и страшную вину отцов . Докажите. Какую библейскую заповедь нарушают от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ак я оцениваю свою работу на урок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легко было выполн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особенно интересно было выполнять 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 трудом справился с задани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68360" y="2852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Клише или типовые конструкции-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это речевые стереотипы, которые мы легко воспроизводим в речи в определенных ситуациях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размышляет над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для анализа текст заставил меня задуматься над сложной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именно эта проблема привлекла внимание автора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длагает своим читателям задуматься над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амом начале текста автор задается вопрос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долг ( честь, благородство, интеллигентность и т.п.) и какую роль это понятие играет в жиз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а и обще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Заголовок 3"/>
          <p:cNvSpPr/>
          <p:nvPr/>
        </p:nvSpPr>
        <p:spPr>
          <a:xfrm>
            <a:off x="1979640" y="189000"/>
            <a:ext cx="37609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одержимое 4"/>
          <p:cNvSpPr/>
          <p:nvPr/>
        </p:nvSpPr>
        <p:spPr>
          <a:xfrm>
            <a:off x="2284560" y="1170000"/>
            <a:ext cx="685944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buClr>
                <a:srgbClr val="8c003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Если читатель не полюбит Базарова со всей его грубостью, бессердечностью, безжалостной сухостью и резкостью, если он его не полюбит, повторяю я, - я виноват и не достиг своей цели» И.С.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8c003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Картинки по запросу портрет тургенева"/>
          <p:cNvPicPr/>
          <p:nvPr/>
        </p:nvPicPr>
        <p:blipFill>
          <a:blip r:embed="rId1"/>
          <a:stretch/>
        </p:blipFill>
        <p:spPr>
          <a:xfrm>
            <a:off x="-1260360" y="0"/>
            <a:ext cx="3887640" cy="736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нение современного читател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339640" y="1125360"/>
            <a:ext cx="6335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Всем своим сердцем люблю творчество Тургенева. Я как минимум три раза прочла роман «Отцы и дети». Я так сильно полюбила этого нахального, жесткого, нетворческого человека, Евгения Базарова, что в конце книги плакала, когда он ум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«Угадай-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т то-то, все вы гордецы! Спросили бы, как делали отцы? Учились бы на старших гляд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лодость-то что значит! Ничего-то не знают, никакого порядка. А ведь тоже, глупые, на свою волю хотят… Что будет, как старики перемрут, как будет свет стоять, уж и не зн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т она нынешняя молодежь! Вот они, наши наследник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«Наша молодежь любит роскошь, она дурно воспитана, она насмехается над начальством и нисколько не уважает старших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«Наши нынешние дети стали тиранами, они не встают, когда в комнату входит пожилой человек, перечат своим родителям»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Спираль времени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И.С.Тургенева «Отцы и дети» в восприятии читателей 21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11280" y="2204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6600" spc="-1" strike="noStrike">
                <a:solidFill>
                  <a:srgbClr val="8c0039"/>
                </a:solidFill>
                <a:latin typeface="Arial"/>
              </a:rPr>
              <a:t>Век надежд и разочарований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Жизненные ценност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ение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грамма наблюд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.....Проанализировать отношение Базарова к семье, доказать несостоятельность его суждений. Проблемы взаимоотношений в современной семье. Формула благополучия семьи…Семья-это ( назвать слагаемые благополучной семь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….Можно ли «Отцы и дети» назвать романом о любви? Существует ли такой тип женщин, как Одинцова в современной России? Тургеневская девушка: миф или реа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среде современной молодеж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…..Как представляет себе молодое поколение И.С.Тургенев? Провести параллель « молодежь прошлого- современная молодежь». Выразить отношение к полемичной статье «Поколение золотого 21 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49:51Z</dcterms:created>
  <dc:creator>Admin</dc:creator>
  <dc:description/>
  <dc:language>en-US</dc:language>
  <cp:lastModifiedBy>Admin</cp:lastModifiedBy>
  <dcterms:modified xsi:type="dcterms:W3CDTF">2016-11-24T01:25:24Z</dcterms:modified>
  <cp:revision>23</cp:revision>
  <dc:subject/>
  <dc:title>«Спираль времени»</dc:title>
</cp:coreProperties>
</file>