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480-0F28-4176-B7E2-80EF8C6F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5690-7FBB-4DD2-98CB-EDE23548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2F32C1-0DFB-446E-9514-48FF2572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068228-011B-425E-BA2C-DB9A39A3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7D3E3D-2A9C-4729-B363-068ACFE1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8571B0-FC28-4C3D-9136-1DFDB68A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63FAD9-7396-4244-AEB7-97BFFA89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B2F97C-EC98-4C80-9D5D-1E735964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4DDDAD-F9FD-4F60-A3EE-561CAD83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E8E97C-3328-4C75-BCCD-88B3FFE1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A20141-C043-406B-9BCC-7FAB921C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0BAD-3177-4FB4-A691-310A3D35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9A9-2FEC-43E2-A6DF-10266069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7F2B6-8109-47E7-8A4D-21A781BD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5CF44-D821-4BA9-8515-B0326BEF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FF542-B41B-4E51-894D-300E94BE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C9713-CC78-4EDF-A22A-36414A24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4E5E9-0B25-4194-BC31-CDC14D0F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DC5E4-0173-41D6-B3BE-56AB0B11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858A6-199A-41DD-9F36-10C16C00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79C-D581-4AD7-9A89-BBC7D519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C7FB7-CA50-49B7-895E-5DBFA204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3E82A-2038-4C29-A859-85FECB65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F3074-614D-4531-9517-09C41A3C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8B02D-08B2-4E50-B783-B385BB71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557B0-CC18-4DE5-99F5-01E10B61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71E86-5527-42D6-BF26-BF5F1B38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D7CEE-6DD2-4D2A-BD26-C7DC2E61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CA19A-2770-4C85-BE0B-E3147A2D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ADE3C-DD86-4DB8-92CC-D5B1B8EF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FE56F-A15A-47A1-A802-FC2C76C1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D2C5-04DB-42DA-B096-BA6F2E89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DA962-B1C1-483C-8941-EF016999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FFD94-44B9-48FB-A683-96A60D72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DE3E8-50B1-47B8-B7AB-E48DDA27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86508-F7A6-4EC3-978F-F08A9273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426CB-D639-4D8F-B99A-2F723DB2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FC8E5-CB97-4C23-830E-486CDC70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C1BE2-8EBA-4CBE-9960-87144EA8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8F1C2A-D27B-44BF-A8DB-DCCD3E4E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3A71BB-58C3-43DC-BFCA-7EF235F0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505037-0C75-4B1B-8CE3-56E6DB0F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0A6-5B0F-44A4-8D5D-50A0ECC3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4AC439-3D9C-41EA-A89F-5B346C16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FF2A12-571B-4967-9BB6-FA652B59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7D47B3-FFAB-48F5-AF5B-FC49DE5A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F448C3-A4CD-4E46-84FB-CF821B47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60C44-EB7E-4D7C-921C-56713030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D70737-5A2C-4496-8EC3-732EC749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343242-AD53-4AFD-9DA9-9407EE1A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8B0C9B-32CC-4976-A68C-69D6295C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BE729A-F7D4-4E8C-8997-82606BDA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B3F8B-1A36-48C9-9CB0-226A16BE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E7B-F75B-40EA-911B-7CDE6BE8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81704-F712-4BD2-A41A-36C62DCA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445F9-A6F5-4829-9862-E2917D25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B4AC3-27C0-4AFE-8E8A-089B78FA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A2AE3-D265-4634-8D71-26A4D555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E18E3-B443-49AE-A568-31AD0EF4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EE6E6-F99A-40F2-9F10-73BA5643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C8EED-4D45-4016-8356-381063C8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0061A-64E6-48DB-A82B-8E4CA088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B7188-5356-460A-9E4B-F12C1EED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3144F-4C6F-474D-BBB3-82156F34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704-79B5-44B4-AD1F-2B09B013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6423C-AACF-4C3A-96B7-7587224B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4C15D-467A-4530-9FB7-E18AE152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BAA50-148E-4545-9FDE-22F1F01A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7F20D-55BD-44FD-ADDE-2B016D94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1C836-FDC5-43AD-BD92-44BCCE6A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B0F33-7F55-4498-B213-A0E45B4C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15BAB-9786-46B4-9B32-C798C18C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AC644-CCE5-4FEC-A60E-CC8A8293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BFD68-CFCF-469C-A665-79D3FEF7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7D1CA-EE30-4172-A913-E63AC796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B31-FD09-46B1-831B-8A225BF3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94798-AD98-4DAD-9CAA-70B1A383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0A69A-B669-4BF7-A838-5AAFAC6F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1667A-04D0-4FF5-B133-C113592D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9E32B-87F6-4256-B2FC-F17880E4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ED38A-D612-4B79-AA1C-E2906B70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417A2-A5BB-4943-91A2-D2E56588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A03F5-6B7E-4BE8-8629-C018FF1B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2DFD1-84A5-4A67-B86A-E726237C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802B5-B34B-4505-9E6F-F1FECFCF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9A97D-2B93-4126-B23E-07DD100E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59E-C8F1-4063-B133-54FAC6DE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08C2B-7915-4546-8C13-9F08DA52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187F4-AB1E-4AE7-98DD-395FC353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A618F-8F74-4581-B126-3CA6068E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17D30-1817-47C8-AA7B-E4BC5833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0DA44-DD1B-45D1-8AB1-4A8A5379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FAE26F-B550-4571-8997-0290FC80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66D1E7-29B3-4D59-BA79-62E87401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DE9D8D-D29C-4CCB-86FE-B04276E1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3B48B4-130E-46C8-BEB6-0D5ADFF6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81E121-862B-405A-A8D7-C5B78A0E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D2E-BF8E-4EE1-A8B8-B9AD80A3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861D68-B8A0-4D5D-9BFA-96734FF6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DBE2AD-5F7F-4CC4-A6B0-87D2F4C9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8CF447-BDC4-4215-9DF3-F29152E7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A145E6-E5E3-4258-B4BF-3BC3A56C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9A75AA-F5D3-4B59-9F9C-E51D925C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FC2576-6760-4B1B-9B69-F743EC86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29C1D8-5CC4-496D-B3AE-C6091D5C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53FF85-47D5-41E6-B4F3-2522E765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7D1816-C9C5-4CEA-93C5-50C91D4D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8D5E7E-5466-4EAC-8C37-9834E9B4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3dee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82FD-A9D3-4D1F-830D-BA94F15FFE6C}" type="slidenum">
              <a:rPr b="0" lang="ru-RU" sz="1600" spc="-1" strike="noStrike">
                <a:solidFill>
                  <a:srgbClr val="d3de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3dee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71DD-2C7E-4A49-BD2B-2802C0638240}" type="slidenum">
              <a:rPr b="0" lang="ru-RU" sz="1600" spc="-1" strike="noStrike">
                <a:solidFill>
                  <a:srgbClr val="d3de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3dee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37F6-8F70-4343-AD53-32CFFD70B989}" type="slidenum">
              <a:rPr b="0" lang="ru-RU" sz="1600" spc="-1" strike="noStrike">
                <a:solidFill>
                  <a:srgbClr val="d3de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3dee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8BE9-3E06-46C1-A889-3F3F571DE230}" type="slidenum">
              <a:rPr b="0" lang="ru-RU" sz="1600" spc="-1" strike="noStrike">
                <a:solidFill>
                  <a:srgbClr val="d3de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3dee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A7E0-BD77-47AC-AB00-C5E3E8CD0F09}" type="slidenum">
              <a:rPr b="0" lang="ru-RU" sz="1600" spc="-1" strike="noStrike">
                <a:solidFill>
                  <a:srgbClr val="d3de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3dee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4832-6E57-4540-96F8-0A953086E3C7}" type="slidenum">
              <a:rPr b="0" lang="ru-RU" sz="1600" spc="-1" strike="noStrike">
                <a:solidFill>
                  <a:srgbClr val="d3de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3dee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D21F-B7BB-478E-8322-2926C910D0F9}" type="slidenum">
              <a:rPr b="0" lang="ru-RU" sz="1600" spc="-1" strike="noStrike">
                <a:solidFill>
                  <a:srgbClr val="d3de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3dee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6F66-ED52-4065-9F38-6ECFFF76FD0E}" type="slidenum">
              <a:rPr b="0" lang="ru-RU" sz="1600" spc="-1" strike="noStrike">
                <a:solidFill>
                  <a:srgbClr val="d3de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3dee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F283-2D36-475E-A65B-3506650A2EBD}" type="slidenum">
              <a:rPr b="0" lang="ru-RU" sz="1600" spc="-1" strike="noStrike">
                <a:solidFill>
                  <a:srgbClr val="d3de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s://ru.wikipedia.org/wiki/&#1070;&#1075;&#1086;&#1088;&#1089;&#1082;&#1080;&#1081;_&#1075;&#1086;&#1089;&#1091;&#1076;&#1072;&#1088;&#1089;&#1090;&#1074;&#1077;&#1085;&#1085;&#1099;&#1081;_&#1091;&#1085;&#1080;&#1074;&#1077;&#1088;&#1089;&#1080;&#1090;&#1077;&#1090;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s://ru.wikipedia.org/w/index.php?title=&#1052;&#1080;&#1089;&#1085;&#1101;_(&#1084;&#1080;&#1092;&#1086;&#1083;&#1086;&#1075;&#1080;&#1095;&#1077;&#1089;&#1082;&#1080;&#1081;_&#1087;&#1077;&#1088;&#1089;&#1086;&#1085;&#1072;&#1078;_&#1084;&#1072;&#1085;&#1089;&#1080;)&amp;action=edit&amp;redlink=1" TargetMode="External"/><Relationship Id="rId7" Type="http://schemas.openxmlformats.org/officeDocument/2006/relationships/hyperlink" Target="https://ru.wikipedia.org/wiki/&#1064;&#1077;&#1089;&#1090;&#1072;&#1083;&#1086;&#1074;,_&#1070;&#1074;&#1072;&#1085;_&#1053;&#1080;&#1082;&#1086;&#1083;&#1072;&#1077;&#1074;&#1080;&#1095;#cite_note-:1-4" TargetMode="External"/><Relationship Id="rId8" Type="http://schemas.openxmlformats.org/officeDocument/2006/relationships/hyperlink" Target="https://ru.wikipedia.org/wiki/&#1043;&#1086;&#1089;&#1091;&#1076;&#1072;&#1088;&#1089;&#1090;&#1074;&#1077;&#1085;&#1085;&#1072;&#1103;_&#1087;&#1088;&#1077;&#1084;&#1080;&#1103;_&#1056;&#1057;&#1060;&#1057;&#1056;" TargetMode="Externa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s://ru.wikipedia.org/wiki/&#1061;&#1072;&#1085;&#1090;&#1099;-&#1052;&#1072;&#1085;&#1089;&#1080;&#1081;&#1089;&#1082;&#1080;&#1081;_&#1072;&#1074;&#1090;&#1086;&#1085;&#1086;&#1084;&#1085;&#1099;&#1081;_&#1086;&#1082;&#1088;&#1091;&#1075;_&#8212;_&#1070;&#1075;&#1088;&#1072;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s://ru.wikipedia.org/w/index.php?title=&#1058;&#1086;&#1088;&#1091;&#1084;_&#1052;&#1072;&#1072;_(&#1084;&#1091;&#1079;&#1077;&#1081;)&amp;action=edit&amp;redlink=1" TargetMode="External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s://ru.wikipedia.org/wiki/&#1060;&#1072;&#1082;&#1091;&#1083;&#1100;&#1090;&#1077;&#1090;_&#1085;&#1072;&#1088;&#1086;&#1076;&#1086;&#1074;_&#1050;&#1088;&#1072;&#1081;&#1085;&#1077;&#1075;&#1086;_&#1057;&#1077;&#1074;&#1077;&#1088;&#1072;" TargetMode="External"/><Relationship Id="rId6" Type="http://schemas.openxmlformats.org/officeDocument/2006/relationships/hyperlink" Target="https://ru.wikipedia.org/wiki/&#1056;&#1086;&#1089;&#1089;&#1080;&#1081;&#1089;&#1082;&#1080;&#1081;_&#1075;&#1086;&#1089;&#1091;&#1076;&#1072;&#1088;&#1089;&#1090;&#1074;&#1077;&#1085;&#1085;&#1099;&#1081;_&#1087;&#1077;&#1076;&#1072;&#1075;&#1086;&#1075;&#1080;&#1095;&#1077;&#1089;&#1082;&#1080;&#1081;_&#1091;&#1085;&#1080;&#1074;&#1077;&#1088;&#1089;&#1080;&#1090;&#1077;&#1090;_&#1080;&#1084;&#1077;&#1085;&#1080;_&#1040;._&#1048;._&#1043;&#1077;&#1088;&#1094;&#1077;&#1085;&#1072;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s://ru.wikipedia.org/wiki/&#1061;&#1072;&#1085;&#1090;&#1099;-&#1052;&#1072;&#1085;&#1089;&#1080;&#1081;&#1089;&#1082;" TargetMode="External"/><Relationship Id="rId6" Type="http://schemas.openxmlformats.org/officeDocument/2006/relationships/hyperlink" Target="https://ru.wikipedia.org/wiki/&#1057;&#1086;&#1102;&#1079;_&#1087;&#1080;&#1089;&#1072;&#1090;&#1077;&#1083;&#1077;&#1081;_&#1056;&#1086;&#1089;&#1089;&#1080;&#1080;" TargetMode="External"/><Relationship Id="rId7" Type="http://schemas.openxmlformats.org/officeDocument/2006/relationships/hyperlink" Target="https://ru.wikipedia.org/wiki/&#1058;&#1102;&#1084;&#1077;&#1085;&#1089;&#1082;&#1080;&#1081;_&#1087;&#1077;&#1076;&#1072;&#1075;&#1086;&#1075;&#1080;&#1095;&#1077;&#1089;&#1082;&#1080;&#1081;_&#1080;&#1085;&#1089;&#1090;&#1080;&#1090;&#1091;&#1090;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4"/>
          <p:cNvGrpSpPr/>
          <p:nvPr/>
        </p:nvGrpSpPr>
        <p:grpSpPr>
          <a:xfrm>
            <a:off x="1908000" y="1628640"/>
            <a:ext cx="5616720" cy="2376360"/>
            <a:chOff x="1908000" y="1628640"/>
            <a:chExt cx="5616720" cy="2376360"/>
          </a:xfrm>
        </p:grpSpPr>
        <p:sp>
          <p:nvSpPr>
            <p:cNvPr id="395" name="WordArt 2"/>
            <p:cNvSpPr txBox="1"/>
            <p:nvPr/>
          </p:nvSpPr>
          <p:spPr>
            <a:xfrm>
              <a:off x="1908000" y="1628640"/>
              <a:ext cx="5616720" cy="116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5840">
                    <a:solidFill>
                      <a:srgbClr val="c0c0c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Times New Roman"/>
                </a:rPr>
                <a:t>Биография</a:t>
              </a:r>
              <a:endParaRPr b="0" i="1" lang="en-US" sz="2400" spc="1" strike="noStrike">
                <a:ln w="1584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96" name="WordArt 3"/>
            <p:cNvSpPr txBox="1"/>
            <p:nvPr/>
          </p:nvSpPr>
          <p:spPr>
            <a:xfrm>
              <a:off x="1908000" y="2955240"/>
              <a:ext cx="5195520" cy="104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5840">
                    <a:solidFill>
                      <a:srgbClr val="c0c0c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Times New Roman"/>
                </a:rPr>
                <a:t>Ювана Шесталова</a:t>
              </a:r>
              <a:endParaRPr b="0" i="1" lang="en-US" sz="2400" spc="1" strike="noStrike">
                <a:ln w="1584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397" name="Picture 5" descr="J0153514"/>
          <p:cNvPicPr/>
          <p:nvPr/>
        </p:nvPicPr>
        <p:blipFill>
          <a:blip r:embed="rId1"/>
          <a:stretch/>
        </p:blipFill>
        <p:spPr>
          <a:xfrm>
            <a:off x="7313760" y="0"/>
            <a:ext cx="1830240" cy="18288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J0153514"/>
          <p:cNvPicPr/>
          <p:nvPr/>
        </p:nvPicPr>
        <p:blipFill>
          <a:blip r:embed="rId2"/>
          <a:stretch/>
        </p:blipFill>
        <p:spPr>
          <a:xfrm rot="10800000">
            <a:off x="0" y="5029200"/>
            <a:ext cx="1830240" cy="18288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J0153514"/>
          <p:cNvPicPr/>
          <p:nvPr/>
        </p:nvPicPr>
        <p:blipFill>
          <a:blip r:embed="rId3"/>
          <a:stretch/>
        </p:blipFill>
        <p:spPr>
          <a:xfrm rot="16200000">
            <a:off x="-360" y="720"/>
            <a:ext cx="1830240" cy="1828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J0153514"/>
          <p:cNvPicPr/>
          <p:nvPr/>
        </p:nvPicPr>
        <p:blipFill>
          <a:blip r:embed="rId4"/>
          <a:stretch/>
        </p:blipFill>
        <p:spPr>
          <a:xfrm rot="5400000">
            <a:off x="7314480" y="5028480"/>
            <a:ext cx="1830240" cy="1828800"/>
          </a:xfrm>
          <a:prstGeom prst="rect">
            <a:avLst/>
          </a:prstGeom>
          <a:ln w="0">
            <a:noFill/>
          </a:ln>
        </p:spPr>
      </p:pic>
      <p:sp>
        <p:nvSpPr>
          <p:cNvPr id="401" name="Подзаголовок 2"/>
          <p:cNvSpPr/>
          <p:nvPr/>
        </p:nvSpPr>
        <p:spPr>
          <a:xfrm>
            <a:off x="3708360" y="4869000"/>
            <a:ext cx="46436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Прямоугольник 1"/>
          <p:cNvSpPr/>
          <p:nvPr/>
        </p:nvSpPr>
        <p:spPr>
          <a:xfrm>
            <a:off x="4211640" y="4508640"/>
            <a:ext cx="40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ндреева Г.О., учитель русского языка      и литератур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. Нижние Нарыкары ХМАО-Юг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6"/>
          <p:cNvSpPr/>
          <p:nvPr/>
        </p:nvSpPr>
        <p:spPr>
          <a:xfrm>
            <a:off x="755640" y="1773360"/>
            <a:ext cx="78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9"/>
          <p:cNvSpPr/>
          <p:nvPr/>
        </p:nvSpPr>
        <p:spPr>
          <a:xfrm>
            <a:off x="755640" y="476280"/>
            <a:ext cx="770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2002 по 2011 г. – профессор кафедры филологии </a:t>
            </a:r>
            <a:r>
              <a:rPr b="0" lang="ru-RU" sz="2000" spc="-1" strike="noStrike" u="sng">
                <a:solidFill>
                  <a:srgbClr val="b292ca"/>
                </a:solidFill>
                <a:uFillTx/>
                <a:latin typeface="Arial"/>
                <a:hlinkClick r:id="rId5"/>
              </a:rPr>
              <a:t>Югорского государственного университе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г. Ханты-Мансийс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14" descr=""/>
          <p:cNvPicPr/>
          <p:nvPr/>
        </p:nvPicPr>
        <p:blipFill>
          <a:blip r:embed="rId6"/>
          <a:stretch/>
        </p:blipFill>
        <p:spPr>
          <a:xfrm>
            <a:off x="1403280" y="1557360"/>
            <a:ext cx="64818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" descr="J0153514"/>
          <p:cNvPicPr/>
          <p:nvPr/>
        </p:nvPicPr>
        <p:blipFill>
          <a:blip r:embed="rId5"/>
          <a:stretch/>
        </p:blipFill>
        <p:spPr>
          <a:xfrm rot="16200000">
            <a:off x="118080" y="186120"/>
            <a:ext cx="1471680" cy="140364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9"/>
          <p:cNvSpPr/>
          <p:nvPr/>
        </p:nvSpPr>
        <p:spPr>
          <a:xfrm>
            <a:off x="684360" y="476280"/>
            <a:ext cx="7920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ервы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этап творчества Шесталова - сборник "</a:t>
            </a:r>
            <a:r>
              <a:rPr b="0" lang="ru-RU" sz="2000" spc="-1" strike="noStrike" u="sng">
                <a:solidFill>
                  <a:srgbClr val="b292ca"/>
                </a:solidFill>
                <a:uFillTx/>
                <a:latin typeface="Arial"/>
                <a:hlinkClick r:id="rId6"/>
              </a:rPr>
              <a:t>Миснэ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  (1961), в который включено 79 стихотворений, написанных до 1960 года.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иснэ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онимании поэта - это добрая лесная фея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тор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этап -- это обращение к прозе и жанру поэ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рет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этап (с 1972г.). Фантастическая повесть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Тайна Сорни-Най»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1976). Роман-сказание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Огонь исцеления»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1988) -- сага о роде Шесталовых</a:t>
            </a:r>
            <a:r>
              <a:rPr b="0" lang="ru-RU" sz="2000" spc="-1" strike="noStrike" u="sng" baseline="30000">
                <a:solidFill>
                  <a:srgbClr val="b292ca"/>
                </a:solidFill>
                <a:uFillTx/>
                <a:latin typeface="Arial"/>
                <a:hlinkClick r:id="rId7"/>
              </a:rPr>
              <a:t>[4]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990-е годы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. Шесталов обратился к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ублицистическому жанру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писал о проблемах экологии на родовых землях своего народа, где ведется разработка нефти и газа, о будущем коренных народов Севе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честв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Шесталова тесно связано с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ансийским фольклоро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н прекрасно знал обряды и обычаи своего народа, вводя его легенды в современные стих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охаль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ля писателя стал сборник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"Языческая поэма"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1971), получивший высокие оценки критиков и удостоенный </a:t>
            </a:r>
            <a:r>
              <a:rPr b="0" lang="ru-RU" sz="2000" spc="-1" strike="noStrike" u="sng">
                <a:solidFill>
                  <a:srgbClr val="b292ca"/>
                </a:solidFill>
                <a:uFillTx/>
                <a:latin typeface="Arial"/>
                <a:hlinkClick r:id="rId8"/>
              </a:rPr>
              <a:t>Государственной премии РСФС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1978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5"/>
          <a:stretch/>
        </p:blipFill>
        <p:spPr>
          <a:xfrm>
            <a:off x="611280" y="620640"/>
            <a:ext cx="2232000" cy="30243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0" descr=""/>
          <p:cNvPicPr/>
          <p:nvPr/>
        </p:nvPicPr>
        <p:blipFill>
          <a:blip r:embed="rId6"/>
          <a:stretch/>
        </p:blipFill>
        <p:spPr>
          <a:xfrm>
            <a:off x="3276720" y="189000"/>
            <a:ext cx="2374920" cy="3095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1" descr=""/>
          <p:cNvPicPr/>
          <p:nvPr/>
        </p:nvPicPr>
        <p:blipFill>
          <a:blip r:embed="rId7"/>
          <a:stretch/>
        </p:blipFill>
        <p:spPr>
          <a:xfrm>
            <a:off x="6012000" y="476280"/>
            <a:ext cx="2447640" cy="3240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2" descr=""/>
          <p:cNvPicPr/>
          <p:nvPr/>
        </p:nvPicPr>
        <p:blipFill>
          <a:blip r:embed="rId8"/>
          <a:stretch/>
        </p:blipFill>
        <p:spPr>
          <a:xfrm>
            <a:off x="1187280" y="3357720"/>
            <a:ext cx="2808360" cy="3095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3" descr=""/>
          <p:cNvPicPr/>
          <p:nvPr/>
        </p:nvPicPr>
        <p:blipFill>
          <a:blip r:embed="rId9"/>
          <a:stretch/>
        </p:blipFill>
        <p:spPr>
          <a:xfrm>
            <a:off x="3851280" y="3213000"/>
            <a:ext cx="2592360" cy="3311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4" descr=""/>
          <p:cNvPicPr/>
          <p:nvPr/>
        </p:nvPicPr>
        <p:blipFill>
          <a:blip r:embed="rId10"/>
          <a:stretch/>
        </p:blipFill>
        <p:spPr>
          <a:xfrm>
            <a:off x="6300720" y="3500280"/>
            <a:ext cx="2232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7"/>
          <p:cNvSpPr/>
          <p:nvPr/>
        </p:nvSpPr>
        <p:spPr>
          <a:xfrm>
            <a:off x="1476360" y="189000"/>
            <a:ext cx="64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оугольник 8"/>
          <p:cNvSpPr/>
          <p:nvPr/>
        </p:nvSpPr>
        <p:spPr>
          <a:xfrm>
            <a:off x="755640" y="404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р 5 ноября 2011 г. Похоронен в г. Ханты-Мансийс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Прямоугольник 9"/>
          <p:cNvSpPr/>
          <p:nvPr/>
        </p:nvSpPr>
        <p:spPr>
          <a:xfrm>
            <a:off x="611280" y="12682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2012 году в </a:t>
            </a:r>
            <a:r>
              <a:rPr b="0" lang="ru-RU" sz="1800" spc="-1" strike="noStrike" u="sng">
                <a:solidFill>
                  <a:srgbClr val="b292ca"/>
                </a:solidFill>
                <a:uFillTx/>
                <a:latin typeface="Arial"/>
                <a:hlinkClick r:id="rId5"/>
              </a:rPr>
              <a:t>Ханты-Мансийском автономном округе – Югр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учреждена премия имени Ю. Шесталова за вклад в сохранение и развитие традиционных видов деятельности, культуры и спорта коренных малочисленных народов Севе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Picture 10" descr=""/>
          <p:cNvPicPr/>
          <p:nvPr/>
        </p:nvPicPr>
        <p:blipFill>
          <a:blip r:embed="rId6"/>
          <a:stretch/>
        </p:blipFill>
        <p:spPr>
          <a:xfrm>
            <a:off x="826920" y="2492280"/>
            <a:ext cx="6769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10"/>
          <p:cNvSpPr/>
          <p:nvPr/>
        </p:nvSpPr>
        <p:spPr>
          <a:xfrm>
            <a:off x="684360" y="26028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Ханты-Мансийске создан и в октябре 2014 года открыт Мемориальный кабинет-музей Ювана Шесталова -- первый литературный музей в Юг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Picture 9" descr=""/>
          <p:cNvPicPr/>
          <p:nvPr/>
        </p:nvPicPr>
        <p:blipFill>
          <a:blip r:embed="rId5"/>
          <a:stretch/>
        </p:blipFill>
        <p:spPr>
          <a:xfrm>
            <a:off x="324000" y="1341360"/>
            <a:ext cx="4679640" cy="28083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0" descr=""/>
          <p:cNvPicPr/>
          <p:nvPr/>
        </p:nvPicPr>
        <p:blipFill>
          <a:blip r:embed="rId6"/>
          <a:stretch/>
        </p:blipFill>
        <p:spPr>
          <a:xfrm>
            <a:off x="4572000" y="3357720"/>
            <a:ext cx="4176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7"/>
          <p:cNvSpPr/>
          <p:nvPr/>
        </p:nvSpPr>
        <p:spPr>
          <a:xfrm>
            <a:off x="611280" y="35384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доме в Ханты-Мансийске, где жил Шесталов, установлена мемориальная дос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4859280" y="620640"/>
            <a:ext cx="3992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юне 2014 г. при входе в музей «</a:t>
            </a:r>
            <a:r>
              <a:rPr b="0" lang="ru-RU" sz="1800" spc="-1" strike="noStrike" u="sng">
                <a:solidFill>
                  <a:srgbClr val="b292ca"/>
                </a:solidFill>
                <a:uFillTx/>
                <a:latin typeface="Arial"/>
                <a:hlinkClick r:id="rId5"/>
              </a:rPr>
              <a:t>Торум Ма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 открыта скульптурная композиция, посвященная Ю. Н. Шестало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9" descr=""/>
          <p:cNvPicPr/>
          <p:nvPr/>
        </p:nvPicPr>
        <p:blipFill>
          <a:blip r:embed="rId6"/>
          <a:stretch/>
        </p:blipFill>
        <p:spPr>
          <a:xfrm>
            <a:off x="395280" y="765000"/>
            <a:ext cx="4248000" cy="2592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0" descr=""/>
          <p:cNvPicPr/>
          <p:nvPr/>
        </p:nvPicPr>
        <p:blipFill>
          <a:blip r:embed="rId7"/>
          <a:stretch/>
        </p:blipFill>
        <p:spPr>
          <a:xfrm>
            <a:off x="4788000" y="1844640"/>
            <a:ext cx="3951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Прямоугольник 1"/>
          <p:cNvSpPr/>
          <p:nvPr/>
        </p:nvSpPr>
        <p:spPr>
          <a:xfrm>
            <a:off x="395280" y="1773360"/>
            <a:ext cx="8497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Государственная библиотека Югры» «Твори творение, творец!»</a:t>
            </a:r>
            <a:r>
              <a:rPr b="0" lang="az-Latn-AZ" sz="1400" spc="-1" strike="noStrike">
                <a:solidFill>
                  <a:srgbClr val="ffffff"/>
                </a:solidFill>
                <a:latin typeface="Arial"/>
              </a:rPr>
              <a:t>https://docplayer.ru/29243085-Tvori-tvorenie-tvorec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Palatino Linotype"/>
              </a:rPr>
              <a:t>2.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ебник-хрестоматия для 5 – 9 классов по программе модульного курса «Диалог культур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Arial"/>
              </a:rPr>
              <a:t>https://nsportal.ru/shkola/rodnoy-yazyk-i-literatura/library/2017/01/11/uchebnik-hrestomatiya-dlya-5-9-klassov-p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Прямоугольник 2"/>
          <p:cNvSpPr/>
          <p:nvPr/>
        </p:nvSpPr>
        <p:spPr>
          <a:xfrm>
            <a:off x="3348000" y="404640"/>
            <a:ext cx="19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Прямоугольник 3"/>
          <p:cNvSpPr/>
          <p:nvPr/>
        </p:nvSpPr>
        <p:spPr>
          <a:xfrm>
            <a:off x="395280" y="3141720"/>
            <a:ext cx="820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az-Latn-AZ" sz="1400" spc="-1" strike="noStrike">
                <a:solidFill>
                  <a:srgbClr val="ffffff"/>
                </a:solidFill>
                <a:latin typeface="Arial"/>
              </a:rPr>
              <a:t>https://ru.wikipedia.org/wiki/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есталов,_Юван_Николаеви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az-Latn-AZ" sz="1400" spc="-1" strike="noStrike">
                <a:solidFill>
                  <a:srgbClr val="ffffff"/>
                </a:solidFill>
                <a:latin typeface="Arial"/>
              </a:rPr>
              <a:t>http://ugralit.okrlib.ru/auth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5"/>
          <p:cNvSpPr/>
          <p:nvPr/>
        </p:nvSpPr>
        <p:spPr>
          <a:xfrm>
            <a:off x="3995640" y="407664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ван Шеста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ямоугольник 6"/>
          <p:cNvSpPr/>
          <p:nvPr/>
        </p:nvSpPr>
        <p:spPr>
          <a:xfrm>
            <a:off x="1332000" y="1413000"/>
            <a:ext cx="691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Я пою для века песн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Возрождённого народ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11"/>
          <p:cNvSpPr/>
          <p:nvPr/>
        </p:nvSpPr>
        <p:spPr>
          <a:xfrm>
            <a:off x="4356000" y="162864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эт, Лауреат Государственной премии России, Профессор кафедры ЮНЕСКО "Теория образования в поликультурном обществе" Российского Государственного Педагогического университета им. Герце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109"/>
          <p:cNvSpPr/>
          <p:nvPr/>
        </p:nvSpPr>
        <p:spPr>
          <a:xfrm>
            <a:off x="826920" y="552456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Юван (Иван) Николаевич Шесталов 1937 -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2" descr="http://www.ugrapro.ru/wp-content/uploads/2011/11/shestal_sm.jpg"/>
          <p:cNvPicPr/>
          <p:nvPr/>
        </p:nvPicPr>
        <p:blipFill>
          <a:blip r:embed="rId5"/>
          <a:stretch/>
        </p:blipFill>
        <p:spPr>
          <a:xfrm>
            <a:off x="395280" y="765000"/>
            <a:ext cx="360036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15"/>
          <p:cNvSpPr/>
          <p:nvPr/>
        </p:nvSpPr>
        <p:spPr>
          <a:xfrm>
            <a:off x="324000" y="1197000"/>
            <a:ext cx="4248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дился 22 июня 1937 г. в дер. Камрадка (Хомрат павыл) Березовского района. Отец Шесталова был одним из первых коммунистов, организатором и председателем колхоза, дед по матери – шаманом. Именно деду – прекрасному знатоку и исполнителю национального фольклора – принадлежит основная роль в формировании духовного мира будущего поэ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10" descr=""/>
          <p:cNvPicPr/>
          <p:nvPr/>
        </p:nvPicPr>
        <p:blipFill>
          <a:blip r:embed="rId5"/>
          <a:stretch/>
        </p:blipFill>
        <p:spPr>
          <a:xfrm>
            <a:off x="4859280" y="1268280"/>
            <a:ext cx="3889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10"/>
          <p:cNvSpPr/>
          <p:nvPr/>
        </p:nvSpPr>
        <p:spPr>
          <a:xfrm>
            <a:off x="4500720" y="1844640"/>
            <a:ext cx="439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есталов рано потерял дедушку, бабушку, мать и с 8 лет жил в новой семье отца в хантыйском поселке Тег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школе обучение велось на русском язы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ое первое стихотворение сложил в 12-летнем возрасте по-русс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12" descr=""/>
          <p:cNvPicPr/>
          <p:nvPr/>
        </p:nvPicPr>
        <p:blipFill>
          <a:blip r:embed="rId5"/>
          <a:stretch/>
        </p:blipFill>
        <p:spPr>
          <a:xfrm>
            <a:off x="468360" y="2205000"/>
            <a:ext cx="3816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8"/>
          <p:cNvSpPr/>
          <p:nvPr/>
        </p:nvSpPr>
        <p:spPr>
          <a:xfrm>
            <a:off x="539640" y="1052640"/>
            <a:ext cx="388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окончания Берёзовской средней школы Юван Шесталов по рекомендации окрисполкома поступил на </a:t>
            </a:r>
            <a:r>
              <a:rPr b="0" lang="ru-RU" sz="2000" spc="-1" strike="noStrike" u="sng">
                <a:solidFill>
                  <a:srgbClr val="b292ca"/>
                </a:solidFill>
                <a:uFillTx/>
                <a:latin typeface="Arial"/>
                <a:hlinkClick r:id="rId5"/>
              </a:rPr>
              <a:t>факультет народов Крайнего севера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b292ca"/>
                </a:solidFill>
                <a:uFillTx/>
                <a:latin typeface="Arial"/>
                <a:hlinkClick r:id="rId6"/>
              </a:rPr>
              <a:t>Ленинградского педагогического института имени А. И. Герце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где, вдали от родных мест, полюбил красоту родного язы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3"/>
          <p:cNvSpPr/>
          <p:nvPr/>
        </p:nvSpPr>
        <p:spPr>
          <a:xfrm>
            <a:off x="4052880" y="52434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нинградский институт имени А.И. Герцена для народов Крайнего Сев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11" descr=""/>
          <p:cNvPicPr/>
          <p:nvPr/>
        </p:nvPicPr>
        <p:blipFill>
          <a:blip r:embed="rId7"/>
          <a:stretch/>
        </p:blipFill>
        <p:spPr>
          <a:xfrm>
            <a:off x="4067280" y="620640"/>
            <a:ext cx="4608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6"/>
          <p:cNvSpPr/>
          <p:nvPr/>
        </p:nvSpPr>
        <p:spPr>
          <a:xfrm>
            <a:off x="971640" y="189000"/>
            <a:ext cx="7416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окончания института Шесталов вернулся в </a:t>
            </a:r>
            <a:r>
              <a:rPr b="0" lang="ru-RU" sz="2000" spc="-1" strike="noStrike" u="sng">
                <a:solidFill>
                  <a:srgbClr val="b292ca"/>
                </a:solidFill>
                <a:uFillTx/>
                <a:latin typeface="Arial"/>
                <a:hlinkClick r:id="rId5"/>
              </a:rPr>
              <a:t>Ханты-Мансийс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где работал в редакциях газет, радио и телевидения округа, создавая статьи о людях и событиях своего края, короткие рассказы, зарисов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62 году его приняли в </a:t>
            </a:r>
            <a:r>
              <a:rPr b="0" lang="ru-RU" sz="2000" spc="-1" strike="noStrike" u="sng">
                <a:solidFill>
                  <a:srgbClr val="b292ca"/>
                </a:solidFill>
                <a:uFillTx/>
                <a:latin typeface="Arial"/>
                <a:hlinkClick r:id="rId6"/>
              </a:rPr>
              <a:t>Союз писателей Росс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65 году окончил филологический факультет </a:t>
            </a:r>
            <a:r>
              <a:rPr b="0" lang="ru-RU" sz="2000" spc="-1" strike="noStrike" u="sng">
                <a:solidFill>
                  <a:srgbClr val="b292ca"/>
                </a:solidFill>
                <a:uFillTx/>
                <a:latin typeface="Arial"/>
                <a:hlinkClick r:id="rId7"/>
              </a:rPr>
              <a:t>Тюменского педагогического институ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11" descr=""/>
          <p:cNvPicPr/>
          <p:nvPr/>
        </p:nvPicPr>
        <p:blipFill>
          <a:blip r:embed="rId8"/>
          <a:stretch/>
        </p:blipFill>
        <p:spPr>
          <a:xfrm>
            <a:off x="1979640" y="2565360"/>
            <a:ext cx="4968720" cy="2951280"/>
          </a:xfrm>
          <a:prstGeom prst="rect">
            <a:avLst/>
          </a:prstGeom>
          <a:ln w="0">
            <a:noFill/>
          </a:ln>
        </p:spPr>
      </p:pic>
      <p:sp>
        <p:nvSpPr>
          <p:cNvPr id="437" name="Прямоугольник 11"/>
          <p:cNvSpPr/>
          <p:nvPr/>
        </p:nvSpPr>
        <p:spPr>
          <a:xfrm>
            <a:off x="2050920" y="566100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юменский педагогический инстит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8"/>
          <p:cNvSpPr/>
          <p:nvPr/>
        </p:nvSpPr>
        <p:spPr>
          <a:xfrm>
            <a:off x="684360" y="476280"/>
            <a:ext cx="792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следователь творчества Шесталова Светлана Динисламова отметила, что писателю принадлежит основная роль в возрождении традиционных обрядовых представлений. Так, в 1985 году в поселке Сосьва Березовского района впервые после запрета он организовал «Тулыглап» -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едвежьи игрищ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стоящее время обряд «Тулыглап» на территории Ханты-Мансийского автономного округа проводится регуляр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9" descr=""/>
          <p:cNvPicPr/>
          <p:nvPr/>
        </p:nvPicPr>
        <p:blipFill>
          <a:blip r:embed="rId5"/>
          <a:stretch/>
        </p:blipFill>
        <p:spPr>
          <a:xfrm>
            <a:off x="468360" y="3068640"/>
            <a:ext cx="3456000" cy="33130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0" descr=""/>
          <p:cNvPicPr/>
          <p:nvPr/>
        </p:nvPicPr>
        <p:blipFill>
          <a:blip r:embed="rId6"/>
          <a:stretch/>
        </p:blipFill>
        <p:spPr>
          <a:xfrm>
            <a:off x="4140360" y="3068640"/>
            <a:ext cx="4608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J0153514"/>
          <p:cNvPicPr/>
          <p:nvPr/>
        </p:nvPicPr>
        <p:blipFill>
          <a:blip r:embed="rId1"/>
          <a:stretch/>
        </p:blipFill>
        <p:spPr>
          <a:xfrm rot="16200000">
            <a:off x="-33840" y="34200"/>
            <a:ext cx="1471680" cy="1403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J0153514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" descr="J0153514"/>
          <p:cNvPicPr/>
          <p:nvPr/>
        </p:nvPicPr>
        <p:blipFill>
          <a:blip r:embed="rId3"/>
          <a:stretch/>
        </p:blipFill>
        <p:spPr>
          <a:xfrm rot="10800000">
            <a:off x="0" y="5386320"/>
            <a:ext cx="1405080" cy="14716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J0153514"/>
          <p:cNvPicPr/>
          <p:nvPr/>
        </p:nvPicPr>
        <p:blipFill>
          <a:blip r:embed="rId4"/>
          <a:stretch/>
        </p:blipFill>
        <p:spPr>
          <a:xfrm rot="5400000">
            <a:off x="7706520" y="5420520"/>
            <a:ext cx="1471680" cy="140328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6"/>
          <p:cNvSpPr/>
          <p:nvPr/>
        </p:nvSpPr>
        <p:spPr>
          <a:xfrm>
            <a:off x="4427640" y="1125360"/>
            <a:ext cx="396072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90-е гг. – он ответственный секретарь Ленинградской областной писательской организации, член и редактор издательства журнала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Стерх»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1991), газеты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Белый журавль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профессор кафедры ЮНЕСКО «Теория образования в поликультурном обществе» Российского Государственного педагогического университета им. Герце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12" descr=""/>
          <p:cNvPicPr/>
          <p:nvPr/>
        </p:nvPicPr>
        <p:blipFill>
          <a:blip r:embed="rId5"/>
          <a:stretch/>
        </p:blipFill>
        <p:spPr>
          <a:xfrm>
            <a:off x="826920" y="692280"/>
            <a:ext cx="3313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4:53:12Z</dcterms:created>
  <dc:creator>Женя</dc:creator>
  <dc:description/>
  <dc:language>en-US</dc:language>
  <cp:lastModifiedBy>user</cp:lastModifiedBy>
  <dcterms:modified xsi:type="dcterms:W3CDTF">2021-06-15T06:34:44Z</dcterms:modified>
  <cp:revision>76</cp:revision>
  <dc:subject/>
  <dc:title>Слайд 1</dc:title>
</cp:coreProperties>
</file>