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746-23BD-45CF-8E2C-610BBA1D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16E-5CE9-4E94-98CF-1C2A1193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3B9C63-D7DA-43E1-8A8C-67B7DB89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DF8E13-011B-4FEB-B5D3-8346A233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F3E5FC-0022-43D7-A1CD-0C48F85F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C9913-FC9F-436D-BFBA-B73C6D7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C93101-2DF6-4402-9D5F-F6B28033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D589E-DE5B-4C03-934E-A411718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F8502A-66AD-4A1C-BF4E-BF0DAAB5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5C4978-4457-4474-8321-3EA81E30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C16321-BE16-4F2A-837B-43AF3EFE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A19-028A-49F1-87DB-9050EE7C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161-960E-4EC9-BF7D-D601A262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17C07-5D9B-4DD3-B1D6-655C7E59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6ED52-7B3D-4E18-ACE4-73C99750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5E243-9C83-40D7-91A2-74F110B8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A8ACC-C567-4E28-87DB-B526F336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C2486-CA6F-47B6-904C-394D983A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26996-3F7D-49FA-A94A-7834B4E2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86E25-138B-43CF-9CA4-3D717301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80C-478A-4CDD-8343-111424A8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62B98-021C-4F58-A348-B2EB7C00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FF4EA-3D0A-4E20-B8A2-0C744526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D4263-827C-4F45-B6EA-74E90678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BE3D1-5FF7-46C6-8126-B11CE79E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ECDA8-B21D-46D7-8649-FF3F766B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6EF6-AA25-4F86-B902-47887EF3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4C43-6F22-4F83-B5D0-2844C89F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5213-AA74-460C-B27F-20098452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D69A-41C2-4138-B5E1-D5BA6FD6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E888-6F16-4E15-9E44-9E744DA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3BD-39D1-433A-B445-1F576CF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797CA-3430-40BC-B1EF-F8B41DE8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0843-E6D8-484B-8892-97D8B07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7B93-457E-450F-9357-E2A61E4C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C11C-EDF7-403D-9774-8598D493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BE3E-6353-47EF-A34D-AE717196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B98E-32FA-4E0A-A475-CF480B6A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C5AC-4538-440C-898C-94AACC55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062BE-8C13-45A4-AEC3-18121AF8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C0107-926B-44C4-BFEF-03033C68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73767-17AB-4422-9C5A-45A98445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365-5F45-4986-9BE2-DAF2EF05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96D29-67AE-4C2A-A660-9D9865C7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49FB7-5291-4701-9760-9AB35FE3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4AD4F7-6E52-4663-83CD-D7B566A7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A42C7-B78B-4853-811B-1059BF46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7F210-D28A-4FC0-A29F-13979A8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239F39-8949-4745-956D-DB9FB02B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2DC61-0901-4F51-9B74-974E652E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AC114-00C4-4C80-BB46-EFEEE207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B6CED-4E84-4AEC-915C-686C3C7B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17D3D-E24E-4502-8709-139383BD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49E-C975-4C25-A942-8A4D3D11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B038E-2DEE-4234-AD73-146137DB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4DACF-8789-49F0-8265-8CD64EE1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BDB3-E6B1-4D79-BF79-E2078424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29004-6DB6-47A6-8100-6EE75EE0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63545-71CB-4E43-A3E5-9D1A7D97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D0C35-317B-405A-A42B-5AE0B9C1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44DE7-7CF5-4A84-8495-9791F7D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D454-3590-4EE7-B6C2-FD5B8677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60EA-85F5-4B63-8260-CBA3A9B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5068E-D4F7-418B-BB81-893A315B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333-F27F-4059-8258-D106AEDD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7CD48-29D5-4129-B994-17B74ABD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4F967-4ACA-4BB0-84FF-7897B3B9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55ED2-D1B1-4CDE-A5CA-6526FD8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A8E42-27B7-4AC5-A9A4-8ABA7825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1CAA7-A2AA-40A6-AF67-4748208E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8A540-57E1-4482-A588-093812DE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23977-AD8D-41B1-9267-1AC99096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5E7B0-8E1A-489F-9A75-8A7CED18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D1567-336E-407F-9D13-1B0190F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9A69D-611E-4DFD-9D2D-1950B93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4F9-1531-4543-9C50-4FFE12CD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34EB2-0757-4FE0-929C-8CF48F30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9C118-0909-47FD-B44F-52A7A891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5E0B-6714-40A2-B1F1-4A2C0D25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4CF75-91E6-46D0-BCAB-1BB11269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3D792-2200-4B27-B6F9-ECD39E92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16624-1342-4AAC-9F64-48798891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0B9AD-8904-4CE7-BFB4-D99E4E01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F7343-67D3-4CD9-9716-7E23C208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03C85-F5DD-422E-AE56-2D4272D2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0C0A-41A6-412F-889F-9E3CCE1E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BD2-354D-4301-A78A-47167A7C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5CFEC-7448-4849-8372-27A0239D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3CC2D-3E45-433F-AEE1-EEDD8A68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778C8-7284-4E6B-8703-3DAB2344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EB760-F3E7-4C4C-AB3A-4D3B50AF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F3EE3-65DB-4AA5-8C6D-A95987DF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F0D1CE-44F6-446D-8E63-C3CF3D53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A0DA59-51A1-4793-8348-9A19416D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83069-B324-4ABC-A382-76DC3391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4C4410-2C17-48FC-993F-142C3CBD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D97462-D577-4F2F-A7C7-89ECA738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404-DE04-4601-A816-0F2B2869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BE557-B76A-4D58-B1E8-2234F0C1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D3B12-B985-45E6-9852-CD6C34C0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3ED432-09DF-4959-8EFB-1422A6CB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2C8872-256D-42B7-9925-CE487BF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B8D4B7-CB5A-4532-A6F6-86EFEFD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BDECE-1449-45C9-8431-5D45DD52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98D5F1-BB15-4463-AE7F-39E43170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45DF0C-D2C0-460C-90D9-336DBADD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09CB33-B81E-4BB8-BAEA-8958DF4E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607E59-0774-43C2-BBFB-8DF376AA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2CDF-F4F2-4D09-8D36-A7E88F96CE59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9C38-D369-4C94-88CD-B3F49C943A99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D3E1-6015-401B-8BE2-AD94EDB5C113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0248-9D98-4F71-80EA-98AED831A1C0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CDC8-98F0-4E32-B5AF-2607B8BE816C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0445-A32F-4DE4-9010-270FA1DB0DF9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58F2-2105-42D0-B0D1-9F8B73B8F07B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A17C-F1E2-42B6-A428-1C1244BDB7F5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9FD5-3C61-43C8-A8D1-5B9272586BEF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s://ru.wikipedia.org/wiki/&#1070;&#1075;&#1086;&#1088;&#1089;&#1082;&#1080;&#1081;_&#1075;&#1086;&#1089;&#1091;&#1076;&#1072;&#1088;&#1089;&#1090;&#1074;&#1077;&#1085;&#1085;&#1099;&#1081;_&#1091;&#1085;&#1080;&#1074;&#1077;&#1088;&#1089;&#1080;&#1090;&#1077;&#1090;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s://ru.wikipedia.org/w/index.php?title=&#1052;&#1080;&#1089;&#1085;&#1101;_(&#1084;&#1080;&#1092;&#1086;&#1083;&#1086;&#1075;&#1080;&#1095;&#1077;&#1089;&#1082;&#1080;&#1081;_&#1087;&#1077;&#1088;&#1089;&#1086;&#1085;&#1072;&#1078;_&#1084;&#1072;&#1085;&#1089;&#1080;)&amp;action=edit&amp;redlink=1" TargetMode="External"/><Relationship Id="rId7" Type="http://schemas.openxmlformats.org/officeDocument/2006/relationships/hyperlink" Target="https://ru.wikipedia.org/wiki/&#1064;&#1077;&#1089;&#1090;&#1072;&#1083;&#1086;&#1074;,_&#1070;&#1074;&#1072;&#1085;_&#1053;&#1080;&#1082;&#1086;&#1083;&#1072;&#1077;&#1074;&#1080;&#1095;#cite_note-:1-4" TargetMode="External"/><Relationship Id="rId8" Type="http://schemas.openxmlformats.org/officeDocument/2006/relationships/hyperlink" Target="https://ru.wikipedia.org/wiki/&#1043;&#1086;&#1089;&#1091;&#1076;&#1072;&#1088;&#1089;&#1090;&#1074;&#1077;&#1085;&#1085;&#1072;&#1103;_&#1087;&#1088;&#1077;&#1084;&#1080;&#1103;_&#1056;&#1057;&#1060;&#1057;&#1056;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s://ru.wikipedia.org/wiki/&#1061;&#1072;&#1085;&#1090;&#1099;-&#1052;&#1072;&#1085;&#1089;&#1080;&#1081;&#1089;&#1082;&#1080;&#1081;_&#1072;&#1074;&#1090;&#1086;&#1085;&#1086;&#1084;&#1085;&#1099;&#1081;_&#1086;&#1082;&#1088;&#1091;&#1075;_&#8212;_&#1070;&#1075;&#1088;&#1072;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s://ru.wikipedia.org/w/index.php?title=&#1058;&#1086;&#1088;&#1091;&#1084;_&#1052;&#1072;&#1072;_(&#1084;&#1091;&#1079;&#1077;&#1081;)&amp;action=edit&amp;redlink=1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s://ru.wikipedia.org/wiki/&#1060;&#1072;&#1082;&#1091;&#1083;&#1100;&#1090;&#1077;&#1090;_&#1085;&#1072;&#1088;&#1086;&#1076;&#1086;&#1074;_&#1050;&#1088;&#1072;&#1081;&#1085;&#1077;&#1075;&#1086;_&#1057;&#1077;&#1074;&#1077;&#1088;&#1072;" TargetMode="External"/><Relationship Id="rId6" Type="http://schemas.openxmlformats.org/officeDocument/2006/relationships/hyperlink" Target="https://ru.wikipedia.org/wiki/&#1056;&#1086;&#1089;&#1089;&#1080;&#1081;&#1089;&#1082;&#1080;&#1081;_&#1075;&#1086;&#1089;&#1091;&#1076;&#1072;&#1088;&#1089;&#1090;&#1074;&#1077;&#1085;&#1085;&#1099;&#1081;_&#1087;&#1077;&#1076;&#1072;&#1075;&#1086;&#1075;&#1080;&#1095;&#1077;&#1089;&#1082;&#1080;&#1081;_&#1091;&#1085;&#1080;&#1074;&#1077;&#1088;&#1089;&#1080;&#1090;&#1077;&#1090;_&#1080;&#1084;&#1077;&#1085;&#1080;_&#1040;._&#1048;._&#1043;&#1077;&#1088;&#1094;&#1077;&#1085;&#1072;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s://ru.wikipedia.org/wiki/&#1061;&#1072;&#1085;&#1090;&#1099;-&#1052;&#1072;&#1085;&#1089;&#1080;&#1081;&#1089;&#1082;" TargetMode="External"/><Relationship Id="rId6" Type="http://schemas.openxmlformats.org/officeDocument/2006/relationships/hyperlink" Target="https://ru.wikipedia.org/wiki/&#1057;&#1086;&#1102;&#1079;_&#1087;&#1080;&#1089;&#1072;&#1090;&#1077;&#1083;&#1077;&#1081;_&#1056;&#1086;&#1089;&#1089;&#1080;&#1080;" TargetMode="External"/><Relationship Id="rId7" Type="http://schemas.openxmlformats.org/officeDocument/2006/relationships/hyperlink" Target="https://ru.wikipedia.org/wiki/&#1058;&#1102;&#1084;&#1077;&#1085;&#1089;&#1082;&#1080;&#1081;_&#1087;&#1077;&#1076;&#1072;&#1075;&#1086;&#1075;&#1080;&#1095;&#1077;&#1089;&#1082;&#1080;&#1081;_&#1080;&#1085;&#1089;&#1090;&#1080;&#1090;&#1091;&#1090;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4"/>
          <p:cNvGrpSpPr/>
          <p:nvPr/>
        </p:nvGrpSpPr>
        <p:grpSpPr>
          <a:xfrm>
            <a:off x="1908000" y="1628640"/>
            <a:ext cx="5616720" cy="2376360"/>
            <a:chOff x="1908000" y="1628640"/>
            <a:chExt cx="5616720" cy="2376360"/>
          </a:xfrm>
        </p:grpSpPr>
        <p:sp>
          <p:nvSpPr>
            <p:cNvPr id="395" name="WordArt 2"/>
            <p:cNvSpPr txBox="1"/>
            <p:nvPr/>
          </p:nvSpPr>
          <p:spPr>
            <a:xfrm>
              <a:off x="1908000" y="1628640"/>
              <a:ext cx="5616720" cy="116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5840">
                    <a:solidFill>
                      <a:srgbClr val="c0c0c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Times New Roman"/>
                </a:rPr>
                <a:t>Биография</a:t>
              </a:r>
              <a:endParaRPr b="0" i="1" lang="en-US" sz="2400" spc="1" strike="noStrike">
                <a:ln w="158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6" name="WordArt 3"/>
            <p:cNvSpPr txBox="1"/>
            <p:nvPr/>
          </p:nvSpPr>
          <p:spPr>
            <a:xfrm>
              <a:off x="1908000" y="2955240"/>
              <a:ext cx="5195520" cy="104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5840">
                    <a:solidFill>
                      <a:srgbClr val="c0c0c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Times New Roman"/>
                </a:rPr>
                <a:t>Ювана Шесталова</a:t>
              </a:r>
              <a:endParaRPr b="0" i="1" lang="en-US" sz="2400" spc="1" strike="noStrike">
                <a:ln w="158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397" name="Picture 5" descr="J0153514"/>
          <p:cNvPicPr/>
          <p:nvPr/>
        </p:nvPicPr>
        <p:blipFill>
          <a:blip r:embed="rId1"/>
          <a:stretch/>
        </p:blipFill>
        <p:spPr>
          <a:xfrm>
            <a:off x="7313760" y="0"/>
            <a:ext cx="1830240" cy="1828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J0153514"/>
          <p:cNvPicPr/>
          <p:nvPr/>
        </p:nvPicPr>
        <p:blipFill>
          <a:blip r:embed="rId2"/>
          <a:stretch/>
        </p:blipFill>
        <p:spPr>
          <a:xfrm rot="10800000">
            <a:off x="0" y="5029200"/>
            <a:ext cx="1830240" cy="18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J0153514"/>
          <p:cNvPicPr/>
          <p:nvPr/>
        </p:nvPicPr>
        <p:blipFill>
          <a:blip r:embed="rId3"/>
          <a:stretch/>
        </p:blipFill>
        <p:spPr>
          <a:xfrm rot="16200000">
            <a:off x="-360" y="720"/>
            <a:ext cx="1830240" cy="1828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J0153514"/>
          <p:cNvPicPr/>
          <p:nvPr/>
        </p:nvPicPr>
        <p:blipFill>
          <a:blip r:embed="rId4"/>
          <a:stretch/>
        </p:blipFill>
        <p:spPr>
          <a:xfrm rot="5400000">
            <a:off x="7314480" y="5028480"/>
            <a:ext cx="1830240" cy="1828800"/>
          </a:xfrm>
          <a:prstGeom prst="rect">
            <a:avLst/>
          </a:prstGeom>
          <a:ln w="0">
            <a:noFill/>
          </a:ln>
        </p:spPr>
      </p:pic>
      <p:sp>
        <p:nvSpPr>
          <p:cNvPr id="401" name="Подзаголовок 2"/>
          <p:cNvSpPr/>
          <p:nvPr/>
        </p:nvSpPr>
        <p:spPr>
          <a:xfrm>
            <a:off x="3708360" y="4869000"/>
            <a:ext cx="4643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1"/>
          <p:cNvSpPr/>
          <p:nvPr/>
        </p:nvSpPr>
        <p:spPr>
          <a:xfrm>
            <a:off x="4211640" y="4508640"/>
            <a:ext cx="40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дреева Г.О., учитель русского языка      и литерату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 Нижние Нарыкары ХМАО-Юг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6"/>
          <p:cNvSpPr/>
          <p:nvPr/>
        </p:nvSpPr>
        <p:spPr>
          <a:xfrm>
            <a:off x="755640" y="177336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755640" y="476280"/>
            <a:ext cx="770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2002 по 2011 г. – профессор кафедры филологии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Югорского государственного университе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. Ханты-Мансийс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4" descr=""/>
          <p:cNvPicPr/>
          <p:nvPr/>
        </p:nvPicPr>
        <p:blipFill>
          <a:blip r:embed="rId6"/>
          <a:stretch/>
        </p:blipFill>
        <p:spPr>
          <a:xfrm>
            <a:off x="1403280" y="1557360"/>
            <a:ext cx="6481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J0153514"/>
          <p:cNvPicPr/>
          <p:nvPr/>
        </p:nvPicPr>
        <p:blipFill>
          <a:blip r:embed="rId5"/>
          <a:stretch/>
        </p:blipFill>
        <p:spPr>
          <a:xfrm rot="16200000">
            <a:off x="118080" y="186120"/>
            <a:ext cx="1471680" cy="14036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9"/>
          <p:cNvSpPr/>
          <p:nvPr/>
        </p:nvSpPr>
        <p:spPr>
          <a:xfrm>
            <a:off x="684360" y="476280"/>
            <a:ext cx="792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ервы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ап творчества Шесталова - сборник "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6"/>
              </a:rPr>
              <a:t>Миснэ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  (1961), в который включено 79 стихотворений, написанных до 1960 года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иснэ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онимании поэта - это добрая лесная фея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тор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ап -- это обращение к прозе и жанру поэ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рет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ап (с 1972г.). Фантастическая повес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Тайна Сорни-Най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76). Роман-сказани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Огонь исцеления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88) -- сага о роде Шесталовых</a:t>
            </a:r>
            <a:r>
              <a:rPr b="0" lang="ru-RU" sz="2000" spc="-1" strike="noStrike" u="sng" baseline="30000">
                <a:solidFill>
                  <a:srgbClr val="b292ca"/>
                </a:solidFill>
                <a:uFillTx/>
                <a:latin typeface="Arial"/>
                <a:hlinkClick r:id="rId7"/>
              </a:rPr>
              <a:t>[4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990-е год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. Шесталов обратился 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ублицистическому жанру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писал о проблемах экологии на родовых землях своего народа, где ведется разработка нефти и газа, о будущем коренных народов Сев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честв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Шесталова тесно связано с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нсийским фольклоро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н прекрасно знал обряды и обычаи своего народа, вводя его легенды в современные стих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охаль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писателя стал сборни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"Языческая поэма"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71), получивший высокие оценки критиков и удостоенный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8"/>
              </a:rPr>
              <a:t>Государственной премии РСФС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78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5"/>
          <a:stretch/>
        </p:blipFill>
        <p:spPr>
          <a:xfrm>
            <a:off x="611280" y="620640"/>
            <a:ext cx="2232000" cy="302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0" descr=""/>
          <p:cNvPicPr/>
          <p:nvPr/>
        </p:nvPicPr>
        <p:blipFill>
          <a:blip r:embed="rId6"/>
          <a:stretch/>
        </p:blipFill>
        <p:spPr>
          <a:xfrm>
            <a:off x="3276720" y="189000"/>
            <a:ext cx="2374920" cy="3095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"/>
          <p:cNvPicPr/>
          <p:nvPr/>
        </p:nvPicPr>
        <p:blipFill>
          <a:blip r:embed="rId7"/>
          <a:stretch/>
        </p:blipFill>
        <p:spPr>
          <a:xfrm>
            <a:off x="6012000" y="476280"/>
            <a:ext cx="2447640" cy="3240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2" descr=""/>
          <p:cNvPicPr/>
          <p:nvPr/>
        </p:nvPicPr>
        <p:blipFill>
          <a:blip r:embed="rId8"/>
          <a:stretch/>
        </p:blipFill>
        <p:spPr>
          <a:xfrm>
            <a:off x="1187280" y="3357720"/>
            <a:ext cx="2808360" cy="3095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3" descr=""/>
          <p:cNvPicPr/>
          <p:nvPr/>
        </p:nvPicPr>
        <p:blipFill>
          <a:blip r:embed="rId9"/>
          <a:stretch/>
        </p:blipFill>
        <p:spPr>
          <a:xfrm>
            <a:off x="3851280" y="321300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" descr=""/>
          <p:cNvPicPr/>
          <p:nvPr/>
        </p:nvPicPr>
        <p:blipFill>
          <a:blip r:embed="rId10"/>
          <a:stretch/>
        </p:blipFill>
        <p:spPr>
          <a:xfrm>
            <a:off x="6300720" y="350028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7"/>
          <p:cNvSpPr/>
          <p:nvPr/>
        </p:nvSpPr>
        <p:spPr>
          <a:xfrm>
            <a:off x="1476360" y="18900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8"/>
          <p:cNvSpPr/>
          <p:nvPr/>
        </p:nvSpPr>
        <p:spPr>
          <a:xfrm>
            <a:off x="755640" y="404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р 5 ноября 2011 г. Похоронен в г. Ханты-Мансийс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Прямоугольник 9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2012 году в </a:t>
            </a:r>
            <a:r>
              <a:rPr b="0" lang="ru-RU" sz="18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Ханты-Мансийском автономном округе – Юг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учреждена премия имени Ю. Шесталова за вклад в сохранение и развитие традиционных видов деятельности, культуры и спорта коренных малочисленных народов Сев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10" descr=""/>
          <p:cNvPicPr/>
          <p:nvPr/>
        </p:nvPicPr>
        <p:blipFill>
          <a:blip r:embed="rId6"/>
          <a:stretch/>
        </p:blipFill>
        <p:spPr>
          <a:xfrm>
            <a:off x="826920" y="2492280"/>
            <a:ext cx="6769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0"/>
          <p:cNvSpPr/>
          <p:nvPr/>
        </p:nvSpPr>
        <p:spPr>
          <a:xfrm>
            <a:off x="684360" y="260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анты-Мансийске создан и в октябре 2014 года открыт Мемориальный кабинет-музей Ювана Шесталова -- первый литературный музей в Юг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9" descr=""/>
          <p:cNvPicPr/>
          <p:nvPr/>
        </p:nvPicPr>
        <p:blipFill>
          <a:blip r:embed="rId5"/>
          <a:stretch/>
        </p:blipFill>
        <p:spPr>
          <a:xfrm>
            <a:off x="324000" y="1341360"/>
            <a:ext cx="4679640" cy="28083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0" descr=""/>
          <p:cNvPicPr/>
          <p:nvPr/>
        </p:nvPicPr>
        <p:blipFill>
          <a:blip r:embed="rId6"/>
          <a:stretch/>
        </p:blipFill>
        <p:spPr>
          <a:xfrm>
            <a:off x="4572000" y="335772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7"/>
          <p:cNvSpPr/>
          <p:nvPr/>
        </p:nvSpPr>
        <p:spPr>
          <a:xfrm>
            <a:off x="611280" y="35384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доме в Ханты-Мансийске, где жил Шесталов, установлена мемориальная до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4859280" y="620640"/>
            <a:ext cx="3992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не 2014 г. при входе в музей «</a:t>
            </a:r>
            <a:r>
              <a:rPr b="0" lang="ru-RU" sz="18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Торум Ма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 открыта скульптурная композиция, посвященная Ю. Н. Шестал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9" descr=""/>
          <p:cNvPicPr/>
          <p:nvPr/>
        </p:nvPicPr>
        <p:blipFill>
          <a:blip r:embed="rId6"/>
          <a:stretch/>
        </p:blipFill>
        <p:spPr>
          <a:xfrm>
            <a:off x="395280" y="765000"/>
            <a:ext cx="4248000" cy="2592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"/>
          <p:cNvPicPr/>
          <p:nvPr/>
        </p:nvPicPr>
        <p:blipFill>
          <a:blip r:embed="rId7"/>
          <a:stretch/>
        </p:blipFill>
        <p:spPr>
          <a:xfrm>
            <a:off x="4788000" y="1844640"/>
            <a:ext cx="395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1"/>
          <p:cNvSpPr/>
          <p:nvPr/>
        </p:nvSpPr>
        <p:spPr>
          <a:xfrm>
            <a:off x="395280" y="1773360"/>
            <a:ext cx="8497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Государственная библиотека Югры» «Твори творение, творец!»</a:t>
            </a:r>
            <a:r>
              <a:rPr b="0" lang="az-Latn-AZ" sz="1400" spc="-1" strike="noStrike">
                <a:solidFill>
                  <a:srgbClr val="ffffff"/>
                </a:solidFill>
                <a:latin typeface="Arial"/>
              </a:rPr>
              <a:t>https://docplayer.ru/29243085-Tvori-tvorenie-tvorec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</a:rPr>
              <a:t>2.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ебник-хрестоматия для 5 – 9 классов по программе модульного курса «Диалог культур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Arial"/>
              </a:rPr>
              <a:t>https://nsportal.ru/shkola/rodnoy-yazyk-i-literatura/library/2017/01/11/uchebnik-hrestomatiya-dlya-5-9-klassov-p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2"/>
          <p:cNvSpPr/>
          <p:nvPr/>
        </p:nvSpPr>
        <p:spPr>
          <a:xfrm>
            <a:off x="3348000" y="40464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3"/>
          <p:cNvSpPr/>
          <p:nvPr/>
        </p:nvSpPr>
        <p:spPr>
          <a:xfrm>
            <a:off x="395280" y="3141720"/>
            <a:ext cx="820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az-Latn-AZ" sz="1400" spc="-1" strike="noStrike">
                <a:solidFill>
                  <a:srgbClr val="ffffff"/>
                </a:solidFill>
                <a:latin typeface="Arial"/>
              </a:rPr>
              <a:t>https://ru.wikipedia.org/wiki/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есталов,_Юван_Николае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az-Latn-AZ" sz="1400" spc="-1" strike="noStrike">
                <a:solidFill>
                  <a:srgbClr val="ffffff"/>
                </a:solidFill>
                <a:latin typeface="Arial"/>
              </a:rPr>
              <a:t>http://ugralit.okrlib.ru/auth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5"/>
          <p:cNvSpPr/>
          <p:nvPr/>
        </p:nvSpPr>
        <p:spPr>
          <a:xfrm>
            <a:off x="3995640" y="4076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ван Шест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6"/>
          <p:cNvSpPr/>
          <p:nvPr/>
        </p:nvSpPr>
        <p:spPr>
          <a:xfrm>
            <a:off x="1332000" y="1413000"/>
            <a:ext cx="691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Я пою для века песн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озрождённого народ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1"/>
          <p:cNvSpPr/>
          <p:nvPr/>
        </p:nvSpPr>
        <p:spPr>
          <a:xfrm>
            <a:off x="4356000" y="162864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эт, Лауреат Государственной премии России, Профессор кафедры ЮНЕСКО "Теория образования в поликультурном обществе" Российского Государственного Педагогического университета им. Герце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9"/>
          <p:cNvSpPr/>
          <p:nvPr/>
        </p:nvSpPr>
        <p:spPr>
          <a:xfrm>
            <a:off x="826920" y="55245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ван (Иван) Николаевич Шесталов 1937 -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2" descr="http://www.ugrapro.ru/wp-content/uploads/2011/11/shestal_sm.jpg"/>
          <p:cNvPicPr/>
          <p:nvPr/>
        </p:nvPicPr>
        <p:blipFill>
          <a:blip r:embed="rId5"/>
          <a:stretch/>
        </p:blipFill>
        <p:spPr>
          <a:xfrm>
            <a:off x="395280" y="765000"/>
            <a:ext cx="360036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5"/>
          <p:cNvSpPr/>
          <p:nvPr/>
        </p:nvSpPr>
        <p:spPr>
          <a:xfrm>
            <a:off x="324000" y="1197000"/>
            <a:ext cx="424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лся 22 июня 1937 г. в дер. Камрадка (Хомрат павыл) Березовского района. Отец Шесталова был одним из первых коммунистов, организатором и председателем колхоза, дед по матери – шаманом. Именно деду – прекрасному знатоку и исполнителю национального фольклора – принадлежит основная роль в формировании духовного мира будущего поэ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10" descr=""/>
          <p:cNvPicPr/>
          <p:nvPr/>
        </p:nvPicPr>
        <p:blipFill>
          <a:blip r:embed="rId5"/>
          <a:stretch/>
        </p:blipFill>
        <p:spPr>
          <a:xfrm>
            <a:off x="4859280" y="1268280"/>
            <a:ext cx="3889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10"/>
          <p:cNvSpPr/>
          <p:nvPr/>
        </p:nvSpPr>
        <p:spPr>
          <a:xfrm>
            <a:off x="4500720" y="1844640"/>
            <a:ext cx="439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сталов рано потерял дедушку, бабушку, мать и с 8 лет жил в новой семье отца в хантыйском поселке Тег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школе обучение велось на русском язы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е первое стихотворение сложил в 12-летнем возрасте по-рус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2" descr=""/>
          <p:cNvPicPr/>
          <p:nvPr/>
        </p:nvPicPr>
        <p:blipFill>
          <a:blip r:embed="rId5"/>
          <a:stretch/>
        </p:blipFill>
        <p:spPr>
          <a:xfrm>
            <a:off x="468360" y="2205000"/>
            <a:ext cx="3816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8"/>
          <p:cNvSpPr/>
          <p:nvPr/>
        </p:nvSpPr>
        <p:spPr>
          <a:xfrm>
            <a:off x="539640" y="1052640"/>
            <a:ext cx="38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окончания Берёзовской средней школы Юван Шесталов по рекомендации окрисполкома поступил на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факультет народов Крайнего севера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6"/>
              </a:rPr>
              <a:t>Ленинградского педагогического института имени А. И. Герце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где, вдали от родных мест, полюбил красоту родного язы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4052880" y="52434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инградский институт имени А.И. Герцена для народов Крайнего Сев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11" descr=""/>
          <p:cNvPicPr/>
          <p:nvPr/>
        </p:nvPicPr>
        <p:blipFill>
          <a:blip r:embed="rId7"/>
          <a:stretch/>
        </p:blipFill>
        <p:spPr>
          <a:xfrm>
            <a:off x="4067280" y="620640"/>
            <a:ext cx="4608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6"/>
          <p:cNvSpPr/>
          <p:nvPr/>
        </p:nvSpPr>
        <p:spPr>
          <a:xfrm>
            <a:off x="971640" y="189000"/>
            <a:ext cx="7416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окончания института Шесталов вернулся в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Ханты-Мансий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где работал в редакциях газет, радио и телевидения округа, создавая статьи о людях и событиях своего края, короткие рассказы, зарис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62 году его приняли в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6"/>
              </a:rPr>
              <a:t>Союз писателей Росс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65 году окончил филологический факультет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7"/>
              </a:rPr>
              <a:t>Тюменского педагогического институ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11" descr=""/>
          <p:cNvPicPr/>
          <p:nvPr/>
        </p:nvPicPr>
        <p:blipFill>
          <a:blip r:embed="rId8"/>
          <a:stretch/>
        </p:blipFill>
        <p:spPr>
          <a:xfrm>
            <a:off x="1979640" y="2565360"/>
            <a:ext cx="4968720" cy="295128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11"/>
          <p:cNvSpPr/>
          <p:nvPr/>
        </p:nvSpPr>
        <p:spPr>
          <a:xfrm>
            <a:off x="2050920" y="566100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юменский педагогический инстит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8"/>
          <p:cNvSpPr/>
          <p:nvPr/>
        </p:nvSpPr>
        <p:spPr>
          <a:xfrm>
            <a:off x="684360" y="476280"/>
            <a:ext cx="792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ь творчества Шесталова Светлана Динисламова отметила, что писателю принадлежит основная роль в возрождении традиционных обрядовых представлений. Так, в 1985 году в поселке Сосьва Березовского района впервые после запрета он организовал «Тулыглап» -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двежьи игрищ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стоящее время обряд «Тулыглап» на территории Ханты-Мансийского автономного округа проводится регуляр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9" descr=""/>
          <p:cNvPicPr/>
          <p:nvPr/>
        </p:nvPicPr>
        <p:blipFill>
          <a:blip r:embed="rId5"/>
          <a:stretch/>
        </p:blipFill>
        <p:spPr>
          <a:xfrm>
            <a:off x="468360" y="3068640"/>
            <a:ext cx="3456000" cy="3313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"/>
          <p:cNvPicPr/>
          <p:nvPr/>
        </p:nvPicPr>
        <p:blipFill>
          <a:blip r:embed="rId6"/>
          <a:stretch/>
        </p:blipFill>
        <p:spPr>
          <a:xfrm>
            <a:off x="4140360" y="3068640"/>
            <a:ext cx="4608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4427640" y="1125360"/>
            <a:ext cx="396072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90-е гг. – он ответственный секретарь Ленинградской областной писательской организации, член и редактор издательства журнал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Стерх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91), газеты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Белый журавль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рофессор кафедры ЮНЕСКО «Теория образования в поликультурном обществе» Российского Государственного педагогического университета им. Герце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2" descr=""/>
          <p:cNvPicPr/>
          <p:nvPr/>
        </p:nvPicPr>
        <p:blipFill>
          <a:blip r:embed="rId5"/>
          <a:stretch/>
        </p:blipFill>
        <p:spPr>
          <a:xfrm>
            <a:off x="826920" y="692280"/>
            <a:ext cx="331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4:53:12Z</dcterms:created>
  <dc:creator>Женя</dc:creator>
  <dc:description/>
  <dc:language>en-US</dc:language>
  <cp:lastModifiedBy>user</cp:lastModifiedBy>
  <dcterms:modified xsi:type="dcterms:W3CDTF">2021-06-15T06:34:44Z</dcterms:modified>
  <cp:revision>76</cp:revision>
  <dc:subject/>
  <dc:title>Слайд 1</dc:title>
</cp:coreProperties>
</file>